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68D-3746-442B-BF42-F3A81269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F5F-7F29-413D-A1F2-4C418686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3EC-368E-4B8F-9C10-BFF6332F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89F-E9E0-4B58-B1C0-4F5C5B1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C297-DD04-4D31-8F92-2192EB93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9F6B-ADFE-4DA9-B280-B6F9B4C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5814-9C82-45DE-BF1C-8636531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DEEC-E0F2-463C-ABC5-AD8D044F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100-F2BD-4478-86E0-FA2ED63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4DA9-B3B6-44FE-AE99-32F1657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FD90-1156-467C-AD8F-7E9D56A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7DB-5AC2-4965-BB35-3E0F7A9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8CA-808D-4D9A-914C-FDF6E4C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EAE3-F768-4F44-B3E3-345EC36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D7BB-D2CC-4088-804B-31FBAA7F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5EA0-0DF7-4A0F-88A7-B152F47C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2D6C-75EA-4E1B-87DC-04BCE9C2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A8F3E-727D-4E97-B5DF-71337CCF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BE2A4-0A5D-475B-BB84-932CA51F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08075-9A8D-45EC-BE37-974186C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1F69D-C3E5-4A19-A57C-99B704E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CB8B1-3DC5-4153-92B5-4FEC3B5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8BF-227D-41B2-A01C-10ACB77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6EED7-25D1-4317-89BC-16F0699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8BA2D-2B5F-44D6-954D-72CD8C3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E14AD-5894-46FB-87CD-B51786FD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F6556-1670-4E99-A347-D39B573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5B5F3-B704-4DB5-8E2F-E5017F6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37F4B-12D4-4548-B2DB-47CDA53A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1F22B-8ED1-4D89-824C-E5E35CB1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D1A9-9901-43C8-A091-630C0090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E5ED-8CF2-41B5-9CF5-7C1BBCC4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EB89-CE81-45D8-8269-228DBD7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ED5-64B2-4C51-A7D3-0AF444E0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5040-0F04-4858-96BB-9B7B0E7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7F5D-A751-4EDE-84F6-E179083B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AF30-253E-4CB4-A42F-6B410AD0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734A2-3094-43AB-BE05-B961A46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C3F6-BD36-41FC-AE8A-CD1CD47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45FF-9AF3-4FE8-8BC2-4E12231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7C1D-1699-476E-B146-17209F2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10BB-E474-4A51-BA00-DC5D039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ABE9C-362F-4E88-8B18-B94726F3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699C5-35A0-4A00-966A-985931DC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487-9718-4C46-A09C-0784E6D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61C54-551A-49B3-96AD-FBF232E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A7318-600E-473C-BC6C-FC39A9CA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D288D-4E04-48D2-B6C2-3F80294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915A0-A95E-4A41-ACE7-9B86D7E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00D05-40E9-4793-980E-B5814CB1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789B2-CBF2-49B4-A5F8-0C8DFC2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594ED-2287-461D-B408-96255C6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270B1-322A-4BDE-B77A-263EC4D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0C629-BEC6-44AC-8468-D6EB30B2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1657B-9D9D-468C-A3D6-A984B47A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4C8-428E-4D41-9C25-E850CC1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252E0-56A8-4442-AC5A-5CB8A1C0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9063D-D4AC-4CAA-B2F3-1081102F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1BBB0-AB12-42D2-9F23-E97A13E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57901-DE81-4609-B326-CB1186D8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BF9A6-5357-4CE4-9337-09454E8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80FA3-1E67-40E7-A601-379639F6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CA644-D06E-4EC6-ADDA-AF48E16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32414-F023-4F17-BE37-FE8C722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81E06-A8C5-48AE-9025-CEF0607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A8698-2331-46D5-88D6-1D7FC19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339-3EEC-4F5D-A1E7-A2DC319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CF23D-78D9-4D4B-98E6-803F396E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8ECB4-C17B-47B5-8D8A-448D175F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36128-940B-418F-BD54-1EA27053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217D3-7BA1-4BEB-887F-005DCF3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5D6F5-C9E8-47D3-AE29-4F20913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E00C2-F671-4225-81B5-9266AF4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181B6-7ECF-4E1B-B9AF-0307F86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0B031-2538-40A7-932E-52166DE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CB840-DC1F-4171-97E8-BC81DED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C3AD8-29FB-466A-AC96-404BC15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686-363C-4B41-8FF2-15C7207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9ACAB-3133-4C0E-9C6A-ACDD075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E7428-CB6A-44E4-ACE1-86B79B6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1E4EE-4B1D-4184-BA8D-2F2C25E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90813-C5C4-4C22-9812-DB71A466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F3806-4439-4FB0-8FCF-2285525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04F-CE07-47A8-8DC2-2332DD2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A65-3500-4157-8C29-F87D7351AA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FF7-F4E1-4899-BCDA-2A8410C803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1D3-C50B-4527-925F-0E6788C3D8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D07D-F833-4E5F-8F6F-C51FD6CB9F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4C6-F97C-4FC0-9C8C-DC2D1D5B2E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4307-13C0-436A-81C7-DE69ACFA496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12F-A0AF-48D8-A9D5-1AC16537F8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980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Century Schoolbook"/>
              </a:rPr>
              <a:t>ВОЗМОЖНОСТИ ИСПОЛЬЗОВАНИЕ ИКТ В СПЕЦИАЛЬНОМ ОБРАЗОВАН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32000" y="3284640"/>
            <a:ext cx="39402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СПАСИБО ЗА ВНИМ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ВОЗМОЖНОСТИ ИКТ В КОРРЕКЦИОННО-ОБРАЗОВАТЕЛЬНОМ ПРОЦЕССЕ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ндивидуализация процесса изучения, воспитания и обуч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ализованный контроль действий дете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можность создания собственного дидактического материал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964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сширение сюжетного наполнения игровой деятельности дошк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расширение сферы будущей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несение новых игровых моментов в процесс коррекции нарушени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зможность многократного дублирования необходимых упражнений и речевого материал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зможность реализовывать принцип комплексности;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ПРОГРАММЫ, ИСПОЛЬЗУЕМЫЕ В СПЕЦИАЛЬНОМ ОБРАЗОВАНИ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имая речь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льфа-130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льфа-142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мосфен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Мир за твоим окном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абинет биологической обратной связи логотерапевтический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гры для тигр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ВИДИМАЯ РЕЧЬ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2c16"/>
                </a:solidFill>
                <a:latin typeface="Century Schoolbook"/>
              </a:rPr>
              <a:t>Предназначена дл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ы как с детьми, так и со взрослыми пациентами с нарушенным слух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ей с первичной речевой патологией в рамках дизартрии, дислалии, алалии, ринолалии и заик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2c16"/>
                </a:solidFill>
                <a:latin typeface="Century Schoolbook"/>
              </a:rPr>
              <a:t>Описание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и коррекция фонетической стороны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ДЕЛЬФА-130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Данная программа позволяет визуализировать такие компоненты звучащей речи как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 •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речевое дыхание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голосоведение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фонетическое оформление звучащей речи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темпо-ритмическая организация речи. При этом на экране отображается: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длительный, устойчивый плавный речевой выдох для слитного произнесения слов и фраз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активный, короткий выдох речевой выдох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наличие или отсутствие голос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ила и высота голос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громкость и длительность звук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логовая структура слов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ловесное и логическое уда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Century Schoolbook"/>
              </a:rPr>
              <a:t>«ДЕЛЬФА-142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125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правлена на коррекцию и совершенствование всех сторон речи школьника, в том числе тренажер может быть успешно использован в системе упражнений по коррекции письменной формы речи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800" spc="-1" strike="noStrike">
                <a:solidFill>
                  <a:srgbClr val="b32c16"/>
                </a:solidFill>
                <a:latin typeface="Century Schoolbook"/>
              </a:rPr>
              <a:t>«Демосфен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ррекция произносительной стороны речи у детей с заиканием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бота с системой «Демосфен» позволяет сознательно контролировать темп, ритм и эмоционально-интонационную окраску речи в ситуациях общения. Визуализация речевых компонентов в данной программе производится в виде открывающихся в процессе речи картинок, анимационного движения автомобиля, аудиограммы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МИР ЗА ТВОИМ ОКНОМ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48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мпьютерные программы Лаборатории компьютерных технологий ИКП РАО ориентированы на пошаговое развивающее обучение в различных содержательных областях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2c16"/>
                </a:solidFill>
                <a:latin typeface="Century Schoolbook"/>
              </a:rPr>
              <a:t>«Кабинет биологической обратной связи логотерапевтический»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нная технология может применяться при заикании, алалии, афазии, дисграфии и дислексии, дислалии, дизартрии, ринолалии, расстройстве фонации на почве парезов и параличей гортани, функциональных дисфониях, нарушениях темпа речи, так называемой речевой тревоге, расстройствах речи у детей и взрослых с нарушением слуха и зр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«ИГРЫ ДЛЯ ТИГР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лагает серии упражнений, входящих в четыре блока – Звукопроизношение, Просодика, Фонематика, Лексика, использование которых позволяет работать над формированием, развитием и коррекцией следующих характеристик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вукопроизношен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просодические компоненты устной реч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фонематический слух и восприят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лексические и грамматические средства язык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коммуникативные навык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артикуляционная моторик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обратные речевые кинестези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мелкая моторика пальцев рук (работа с манипулятором – мышь, клавиатурой)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слуховое и зрительное восприят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ниман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ербальная и зрительная память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оля и мотиваци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словесно-логическое мышление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2-09-08T12:21:35Z</dcterms:modified>
  <cp:revision>6</cp:revision>
  <dc:subject/>
  <dc:title>Использование ИКТ в специальном образовании</dc:title>
</cp:coreProperties>
</file>