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044-FF3E-4FEF-A54F-65E4DFA2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7B1-555F-4A86-BDCE-ECE0FE92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E5F-82B6-47E7-ACB2-29E8E05A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EB9-DD7A-47A2-98BB-CDD04CCF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8D07-86BD-456F-A932-DFD8EDC7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2371-F715-4BF0-BE9A-73CAD759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FB43-70C5-4B24-983B-F87BD871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F16-B4E4-4EC0-9473-A2113964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AE4-4858-4DCD-8954-FC91C4F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C17C-E364-47A9-89BF-41697197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1DA5-2D44-495D-BA01-D5119D3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7E4-25B9-4541-BF8D-D468E2FC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2B56-EF58-49C1-950E-8900D1A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B725-6BAB-473D-BE86-7F3B0D6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EDC-A890-4D8C-8D79-73C9EB1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DEE6-7193-4EA9-B59D-A8E34F1A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CC73-DCCC-4C8C-A754-7151EE4F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32981-193A-4CB6-947D-50CF8421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BB9C1-9F91-4E46-B48E-67938329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A040D-F368-41A3-B727-FAED8933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A521A-4B20-4FC2-8DD4-153058A5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B2A20-BBAC-4DD3-889D-609AA8CC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8D2-D831-4855-B75C-AA0DE5C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4C244-9755-4478-908D-529C7031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CF852-E882-4892-A7AC-892235F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6D377-EC03-49AE-AA74-E083A4EE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4F3C0-938D-4111-9878-B1504FE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B538D-9E44-495B-895F-A4F2930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017C1-B769-4951-A163-EB4CED36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B455E-23C4-4DD9-9172-E663BA0D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51AA-CB6D-492E-9999-A9D2ED06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4475-C605-402F-907B-E689FBDB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252D-3CAD-4CAB-A004-0657535F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D4F-731B-4453-8FC0-818B1A35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CB00-0246-444F-B96F-0C5168F7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1198-E2F0-43F7-A027-D8B128C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927A-D872-42D6-B0E0-98401F2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6F15-5566-47F0-95CB-B57BDAA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E2CE-E53D-48A8-A8B1-3FB0567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C2BB-C8BE-40C8-AEE3-7BF6217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5ECF-E9DE-492B-AFE1-9A45436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3DD9-DA9D-4EA4-AD5C-83856F91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253F-D6D7-4B06-85AF-75345DA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7351A-9C8C-47C8-8AEB-D5CFAAE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034-9261-4B20-84ED-B77BA7C4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5C049-C90A-45CE-9021-C9B9177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1DA39-843B-4F4A-BACD-B789EA46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C7B2C-D716-423D-9396-1288027B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18FCB-38EA-46E7-87FA-D8B944E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A5EA3-9B79-4A23-95FC-2E4CE95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3D28F-F8BE-459F-90DB-D76CFFC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20AE8-9D3B-494A-B727-795B9824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BE0EB-9CCB-407A-A374-57DAC38E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CCA26-15F1-4D06-8936-6531867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FBCBD-4648-4898-B34F-27E9FB29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1AA-7B9D-4B76-9FEC-9C28D98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A56D2-16E2-4644-84FA-9AEE1124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67C25-26D3-4D64-B416-A40D9ECA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C1441-5CA2-4F49-ADDB-DE388D3D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207A2-0E61-4FBA-B495-BA7B300D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81BD6-997E-4C11-889D-CAA5F92A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D5828-22A3-4F5B-B986-7170C24E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30764-A8D5-4DE2-AFC7-6A417AE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A2339-7593-40EC-B79D-8AE10DA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CBE3E-EDAC-43E6-AA73-2CE60EF9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E1B8F-994B-48E9-AD7A-28D863E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5FE-1B5E-41C3-9E97-6082139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A8DF1-ABDE-45C8-80CE-74AED15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D4349-9273-48DD-AD12-7EE96573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4ACB2-4F78-4861-A71C-5C5E4EB8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31DAA-8CB0-407F-B5C1-A7C06B13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A9425-644B-4A54-8676-3ED60A8B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417C1-5F79-419C-AB76-CAB97EF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30B46-6909-4E83-9736-C5AC175E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11B75-43EB-4443-AB11-D39D5F8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B6A82-F266-4260-B7B7-1D4C09F2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84CEE-AB47-409D-B95B-1E3EE97E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5AD-AE24-48DC-A5C6-E888EDE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C05C3-3F1B-4F03-864F-948AEFD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529EA-5A77-4D75-B002-A8013F5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E0A38-0C3B-4CDE-8BED-D8BE861D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B5383-E4DF-455D-A8C3-934DEF0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7BFB4-F5DE-4885-B67A-272569E4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DF8-3911-4C88-A042-4C16724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7238-55F8-465B-B991-03A7DC4818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FA7C-058A-4569-AB96-469993F5E0E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AAAD-BEED-41E1-88F0-34B8FDB7EC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42C-31EB-4B4E-8D78-DC090910A58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BD2-1578-4783-8004-743CBC9C06B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4C1-57E4-4293-B1CF-1C6AAD23A2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2414-0E39-4584-A779-37368204028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280" y="980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Century Schoolbook"/>
              </a:rPr>
              <a:t>ВОЗМОЖНОСТИ ИСПОЛЬЗОВАНИЕ ИКТ В СПЕЦИАЛЬНОМ ОБРАЗОВАН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932000" y="3284640"/>
            <a:ext cx="39402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СПАСИБО ЗА ВНИМ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ВОЗМОЖНОСТИ ИКТ В КОРРЕКЦИОННО-ОБРАЗОВАТЕЛЬНОМ ПРОЦЕССЕ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ндивидуализация процесса изучения, воспитания и обуч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ализованный контроль действий дете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можность создания собственного дидактического материал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964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сширение сюжетного наполнения игровой деятельности дошк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расширение сферы будущей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несение новых игровых моментов в процесс коррекции нарушени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зможность многократного дублирования необходимых упражнений и речевого материал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зможность реализовывать принцип комплексности;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ПРОГРАММЫ, ИСПОЛЬЗУЕМЫЕ В СПЕЦИАЛЬНОМ ОБРАЗОВАНИ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имая речь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льфа-130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льфа-142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емосфен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Мир за твоим окном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абинет биологической обратной связи логотерапевтический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гры для тигр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«ВИДИМАЯ РЕЧЬ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2c16"/>
                </a:solidFill>
                <a:latin typeface="Century Schoolbook"/>
              </a:rPr>
              <a:t>Предназначена дл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ы как с детьми, так и со взрослыми пациентами с нарушенным слух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тей с первичной речевой патологией в рамках дизартрии, дислалии, алалии, ринолалии и заик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2c16"/>
                </a:solidFill>
                <a:latin typeface="Century Schoolbook"/>
              </a:rPr>
              <a:t>Описание: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и коррекция фонетической стороны ре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«ДЕЛЬФА-130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Данная программа позволяет визуализировать такие компоненты звучащей речи как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 •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речевое дыхание,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голосоведение,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фонетическое оформление звучащей речи,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темпо-ритмическая организация речи. При этом на экране отображается: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длительный, устойчивый плавный речевой выдох для слитного произнесения слов и фраз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активный, короткий выдох речевой выдох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наличие или отсутствие голос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сила и высота голос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громкость и длительность звук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слоговая структура слова; 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• словесное и логическое удар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32c16"/>
                </a:solidFill>
                <a:latin typeface="Century Schoolbook"/>
              </a:rPr>
              <a:t>«ДЕЛЬФА-142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000" y="1125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правлена на коррекцию и совершенствование всех сторон речи школьника, в том числе тренажер может быть успешно использован в системе упражнений по коррекции письменной формы речи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800" spc="-1" strike="noStrike">
                <a:solidFill>
                  <a:srgbClr val="b32c16"/>
                </a:solidFill>
                <a:latin typeface="Century Schoolbook"/>
              </a:rPr>
              <a:t>«Демосфен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ррекция произносительной стороны речи у детей с заиканием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бота с системой «Демосфен» позволяет сознательно контролировать темп, ритм и эмоционально-интонационную окраску речи в ситуациях общения. Визуализация речевых компонентов в данной программе производится в виде открывающихся в процессе речи картинок, анимационного движения автомобиля, аудиограммы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32c16"/>
                </a:solidFill>
                <a:latin typeface="Century Schoolbook"/>
              </a:rPr>
              <a:t>«МИР ЗА ТВОИМ ОКНОМ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484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омпьютерные программы Лаборатории компьютерных технологий ИКП РАО ориентированы на пошаговое развивающее обучение в различных содержательных областях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2c16"/>
                </a:solidFill>
                <a:latin typeface="Century Schoolbook"/>
              </a:rPr>
              <a:t>«Кабинет биологической обратной связи логотерапевтический»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нная технология может применяться при заикании, алалии, афазии, дисграфии и дислексии, дислалии, дизартрии, ринолалии, расстройстве фонации на почве парезов и параличей гортани, функциональных дисфониях, нарушениях темпа речи, так называемой речевой тревоге, расстройствах речи у детей и взрослых с нарушением слуха и зр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«ИГРЫ ДЛЯ ТИГР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едлагает серии упражнений, входящих в четыре блока – Звукопроизношение, Просодика, Фонематика, Лексика, использование которых позволяет работать над формированием, развитием и коррекцией следующих характеристик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вукопроизношен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просодические компоненты устной реч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фонематический слух и восприят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лексические и грамматические средства язык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коммуникативные навык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артикуляционная моторик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обратные речевые кинестезии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мелкая моторика пальцев рук (работа с манипулятором – мышь, клавиатурой)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слуховое и зрительное восприят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внимани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вербальная и зрительная память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воля и мотивация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• словесно-логическое мышление.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2-09-08T12:21:35Z</dcterms:modified>
  <cp:revision>6</cp:revision>
  <dc:subject/>
  <dc:title>Использование ИКТ в специальном образовании</dc:title>
</cp:coreProperties>
</file>