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0CC-C81A-4FF1-924B-09FC0238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3AD-62B0-451E-8AF4-14EDB51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FD7-0297-41E3-969B-CABC4C71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3C9-CC40-404F-B2B1-A1693AA8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C9C0D-D88E-472D-9E37-6A06B3FDE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12701-BC5C-4789-8114-A0C402737C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FD05-94E9-45F3-BB64-9A626B5B13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05672-348B-400A-BF48-C96A2BC45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F39AC-2627-4E39-A35C-9C1D35FCDB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A6741-0614-41DF-9491-FEDFAABFD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EEC3C-5316-4ABE-8BAA-E527DD1D7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964-93B1-40ED-9B99-2A7F378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47CC3-B08E-4E5E-8E4B-190142113B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5241F-3A7B-4F97-8B95-F47701617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D56AA-FD37-45E7-A8E5-B9EDC05990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B1BB9-9C85-440E-9331-86E14312F2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4062D-409E-4583-96C8-F441A78D1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C2D-C9FA-4AA1-B334-DEBBC9AC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E0A-66E3-44BD-A5F9-B09E10F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0BA-DE79-43C9-B62B-90509E8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3EE-1A99-489E-9E80-D1CDA0CA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4FE-EBA6-49EE-A80F-2F26E65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744-A677-42D3-B6E2-20FCB51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889-B7FE-478F-AEA4-0FF2B9C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0D3-67C5-4686-9F28-82B9CBBAC58D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850F-EC8B-4AA9-B1B1-B0AED550569B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raevo.com/fotogallery/data/56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xsoft.org/uploads/posts/2008-04/1207777213_4057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sotovik.ru/catalog/phones/motorola/mc55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sotovik.ru/catalog/phones/motorola/zn300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sotovik.ru/catalog/phones/motorola/A3100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sotovik.ru/catalog/phones/motorola/W233_Renew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www.sotovik.ru/catalog/phones/motorola/w161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www.sotovik.ru/catalog/phones/motorola/rokr_e8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www.sotovik.ru/catalog/phones/motorola/w230.html" TargetMode="External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zhevsk.rfn.ru/rnews.html?id=7159" TargetMode="External"/><Relationship Id="rId2" Type="http://schemas.openxmlformats.org/officeDocument/2006/relationships/hyperlink" Target="http://www.pereplet.ru/pops/shirshov/shirshov.html" TargetMode="External"/><Relationship Id="rId3" Type="http://schemas.openxmlformats.org/officeDocument/2006/relationships/hyperlink" Target="http://www.polemics.ru/articles/?articleID=7451&amp;hideText=0&amp;itemPage=1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1599840"/>
            <a:ext cx="6296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бильный телефон – добро или зло?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втор ученик 7 В: Каратышкин Алексей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ные вопросы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Вред от мобилок выдумка или реальный факт?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Самые опасные телефоны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Самые безопасные телефоны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потеза, предмет и объект исследова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Объек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бильный телефон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телефона на здоровье человека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Гипотеза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билы не прожить, но он может навредить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ед от мобилок выдумка или реальный факт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2" descr="iCAQL3J4S.jpg"/>
          <p:cNvPicPr/>
          <p:nvPr/>
        </p:nvPicPr>
        <p:blipFill>
          <a:blip r:embed="rId1"/>
          <a:stretch/>
        </p:blipFill>
        <p:spPr>
          <a:xfrm>
            <a:off x="4191120" y="2209680"/>
            <a:ext cx="4647960" cy="3494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iCAPN2LPL.jpg"/>
          <p:cNvPicPr/>
          <p:nvPr/>
        </p:nvPicPr>
        <p:blipFill>
          <a:blip r:embed="rId2"/>
          <a:stretch/>
        </p:blipFill>
        <p:spPr>
          <a:xfrm>
            <a:off x="457200" y="2948040"/>
            <a:ext cx="23623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ые опасные телефоны.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447920"/>
          <a:ext cx="2727360" cy="4182840"/>
        </p:xfrm>
        <a:graphic>
          <a:graphicData uri="http://schemas.openxmlformats.org/drawingml/2006/table">
            <a:tbl>
              <a:tblPr/>
              <a:tblGrid>
                <a:gridCol w="1606680"/>
                <a:gridCol w="1120680"/>
              </a:tblGrid>
              <a:tr h="316800"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Elson SL37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Elson EL49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Elson EL37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W880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Z-5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Z-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210x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215x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80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Z10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1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N1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1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T10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9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A5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495680" y="1523880"/>
          <a:ext cx="2881440" cy="4064040"/>
        </p:xfrm>
        <a:graphic>
          <a:graphicData uri="http://schemas.openxmlformats.org/drawingml/2006/table">
            <a:tbl>
              <a:tblPr/>
              <a:tblGrid>
                <a:gridCol w="1652760"/>
                <a:gridCol w="1228680"/>
              </a:tblGrid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Philips 58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W950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enQ S830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C11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enQ S660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C1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C11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L2 SLV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L6 SLV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Ascom Elisto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200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Z610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i-main-pic" descr="Картинка 7 из 1142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95288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0 из 11511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90920"/>
            <a:ext cx="1805040" cy="1552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Motorola MC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48640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Motorola ZN3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562720"/>
            <a:ext cx="6094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Motorola A31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5638680"/>
            <a:ext cx="762120" cy="1105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Motorola W233 Renew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5638680"/>
            <a:ext cx="609480" cy="10670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3" descr="Motorola W16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33920" y="5562720"/>
            <a:ext cx="809640" cy="1104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4" descr="Motorola ROKR E8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800600" y="5562720"/>
            <a:ext cx="809640" cy="1104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Motorola W23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91320" y="5562720"/>
            <a:ext cx="809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ые безопасные телефоны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523880"/>
          <a:ext cx="2919240" cy="4267440"/>
        </p:xfrm>
        <a:graphic>
          <a:graphicData uri="http://schemas.openxmlformats.org/drawingml/2006/table">
            <a:tbl>
              <a:tblPr/>
              <a:tblGrid>
                <a:gridCol w="1674720"/>
                <a:gridCol w="1244520"/>
              </a:tblGrid>
              <a:tr h="363600"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</a:tr>
              <a:tr h="27612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agCom MagCom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LG KG800 Chocolate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wisscom XPA v161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Z56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Philips 36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X83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MPx2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LG KG320S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HP iPAQ hw69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Z6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lackberry 728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90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1600200"/>
          <a:ext cx="3190680" cy="4179960"/>
        </p:xfrm>
        <a:graphic>
          <a:graphicData uri="http://schemas.openxmlformats.org/drawingml/2006/table">
            <a:tbl>
              <a:tblPr/>
              <a:tblGrid>
                <a:gridCol w="1830240"/>
                <a:gridCol w="1360440"/>
              </a:tblGrid>
              <a:tr h="42552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Orange SPV-M50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T-Mobile MDA Pro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O2 Xda Atom Exe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80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lackberry 628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81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909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O2 Xda II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X7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T-Mobile MDA II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TelMe T9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Philips 660 Xenium 9@9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5" name="Рисунок 5" descr="iCAQCIMST.jpg"/>
          <p:cNvPicPr/>
          <p:nvPr/>
        </p:nvPicPr>
        <p:blipFill>
          <a:blip r:embed="rId1"/>
          <a:stretch/>
        </p:blipFill>
        <p:spPr>
          <a:xfrm>
            <a:off x="3809880" y="3201840"/>
            <a:ext cx="8780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. Вывод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28760" y="1981080"/>
            <a:ext cx="8334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В ходе работы с источниками, проведения исследования, был получен следующий ответ на основополагающий вопрос: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Не все мобилы являются злом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411120"/>
            <a:ext cx="842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. Вывод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21337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Гипотеза  исследования подтвердилась полностью: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00040" y="310500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Без мобилы не прожить, но он может навредить. 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410760"/>
            <a:ext cx="8358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ные ресурс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357120" y="1793880"/>
            <a:ext cx="86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В работе были использованы следующие Интернет-ресурсы: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1476360" y="2982600"/>
            <a:ext cx="646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zhevsk.rfn.ru/rnews.html?id=7159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pops/shirshov/shirshov.html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lemics.ru/articles/?articleID=7451&amp;hideText=0&amp;itemPage=1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sv.intbel.ru/N79/pg07-02/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www.december.ru/article/72/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samouchka.net/2007/02/01/ukhod_za_kompjuterom.htm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www.valinfo.ru/gallery/details.php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imtg.wl.dvgu.ru/sotr/vlasov.htm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news.excelion.ru/1/2006-07-22-28.html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16T08:59:0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