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F95-8621-4FFE-8B48-6E11A513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A6B7-2B09-4336-B5A0-40DB98F0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9430-7F89-4C97-8E28-1AFD1BD2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71DE-94D2-4D3D-BE70-DC32BAE7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C7B6C-6D6C-460E-8E81-875DBF958E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5C2A6-3E7E-4E1A-A717-4CCBEA7EA3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B1A3A-F8FE-4C96-AB29-BE11CC73E1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36952-E4C6-4704-98BF-948AAEAE4B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62C95-F3B5-4410-8CE0-8F7E96C058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C031F-2034-4776-BBD5-F0DD16CC9E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2DB60-3C96-441D-A535-995DBB8E58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C5D9-DF1F-4C4E-822E-D859A41D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2693A-0531-4B45-A57D-B76D612E4C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24336-6D69-4C1E-A232-8EFA680A04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C8067-0CBD-4E62-9CA7-121489B65B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04F9F-8098-4D17-A677-49393BF406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0C118-47FE-4AC9-BD3B-7D80DC16F3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EFB5-928F-4E7E-9631-12AD53FF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C3E1-79E7-45C7-974C-09C9348A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2666-5849-487F-A0CA-79B89F50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712D-DF2B-4E7E-886D-1C6896BB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02FF-4B98-4700-97F8-DEE2A8D5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5DBC-357C-47D9-8059-B3A283AC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D0EC-EEC0-4C17-898B-B160EC93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0400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2AE3-B74B-4B04-9301-411CBA32EB77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BF83-9CF9-4DBB-8523-67110976F280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uraevo.com/fotogallery/data/561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exsoft.org/uploads/posts/2008-04/1207777213_4057.jpg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www.sotovik.ru/catalog/phones/motorola/mc55.html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www.sotovik.ru/catalog/phones/motorola/zn300.html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www.sotovik.ru/catalog/phones/motorola/A3100.html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www.sotovik.ru/catalog/phones/motorola/W233_Renew.html" TargetMode="External"/><Relationship Id="rId12" Type="http://schemas.openxmlformats.org/officeDocument/2006/relationships/image" Target="../media/image10.jpeg"/><Relationship Id="rId13" Type="http://schemas.openxmlformats.org/officeDocument/2006/relationships/hyperlink" Target="http://www.sotovik.ru/catalog/phones/motorola/w161.html" TargetMode="External"/><Relationship Id="rId14" Type="http://schemas.openxmlformats.org/officeDocument/2006/relationships/image" Target="../media/image11.jpeg"/><Relationship Id="rId15" Type="http://schemas.openxmlformats.org/officeDocument/2006/relationships/hyperlink" Target="http://www.sotovik.ru/catalog/phones/motorola/rokr_e8.html" TargetMode="External"/><Relationship Id="rId16" Type="http://schemas.openxmlformats.org/officeDocument/2006/relationships/image" Target="../media/image12.jpeg"/><Relationship Id="rId17" Type="http://schemas.openxmlformats.org/officeDocument/2006/relationships/hyperlink" Target="http://www.sotovik.ru/catalog/phones/motorola/w230.html" TargetMode="External"/><Relationship Id="rId18" Type="http://schemas.openxmlformats.org/officeDocument/2006/relationships/image" Target="../media/image13.jpe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zhevsk.rfn.ru/rnews.html?id=7159" TargetMode="External"/><Relationship Id="rId2" Type="http://schemas.openxmlformats.org/officeDocument/2006/relationships/hyperlink" Target="http://www.pereplet.ru/pops/shirshov/shirshov.html" TargetMode="External"/><Relationship Id="rId3" Type="http://schemas.openxmlformats.org/officeDocument/2006/relationships/hyperlink" Target="http://www.polemics.ru/articles/?articleID=7451&amp;hideText=0&amp;itemPage=1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520" y="1599840"/>
            <a:ext cx="629604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обильный телефон – добро или зло?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втор ученик 7 В: Каратышкин Алексей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блемные вопросы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Вред от мобилок выдумка или реальный факт?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Самые опасные телефоны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Самые безопасные телефоны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ипотеза, предмет и объект исследовани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Объект исследования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бильный телефон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Предмет исследования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ияние телефона на здоровье человека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Гипотеза исследования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билы не прожить, но он может навредить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ред от мобилок выдумка или реальный факт?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Рисунок 2" descr="iCAQL3J4S.jpg"/>
          <p:cNvPicPr/>
          <p:nvPr/>
        </p:nvPicPr>
        <p:blipFill>
          <a:blip r:embed="rId1"/>
          <a:stretch/>
        </p:blipFill>
        <p:spPr>
          <a:xfrm>
            <a:off x="4191120" y="2209680"/>
            <a:ext cx="4647960" cy="34941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3" descr="iCAPN2LPL.jpg"/>
          <p:cNvPicPr/>
          <p:nvPr/>
        </p:nvPicPr>
        <p:blipFill>
          <a:blip r:embed="rId2"/>
          <a:stretch/>
        </p:blipFill>
        <p:spPr>
          <a:xfrm>
            <a:off x="457200" y="2948040"/>
            <a:ext cx="236232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амые опасные телефоны.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066680" y="1447920"/>
          <a:ext cx="2727360" cy="4182840"/>
        </p:xfrm>
        <a:graphic>
          <a:graphicData uri="http://schemas.openxmlformats.org/drawingml/2006/table">
            <a:tbl>
              <a:tblPr/>
              <a:tblGrid>
                <a:gridCol w="1606680"/>
                <a:gridCol w="1120680"/>
              </a:tblGrid>
              <a:tr h="316800">
                <a:tc>
                  <a:txBody>
                    <a:bodyPr lIns="15480" rIns="15480" tIns="15480" bIns="15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дель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75c0"/>
                    </a:solidFill>
                  </a:tcPr>
                </a:tc>
                <a:tc>
                  <a:txBody>
                    <a:bodyPr lIns="15480" rIns="15480" tIns="15480" bIns="15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R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75c0"/>
                    </a:solidFill>
                  </a:tcPr>
                </a:tc>
              </a:tr>
              <a:tr h="276120">
                <a:tc>
                  <a:txBody>
                    <a:bodyPr lIns="15480" rIns="15480" tIns="15480" bIns="15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Elson SL37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480" rIns="15480" tIns="15480" bIns="15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87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15480" rIns="15480" tIns="15480" bIns="15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Elson EL49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480" rIns="15480" tIns="15480" bIns="15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83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15480" rIns="15480" tIns="15480" bIns="15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Elson EL37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480" rIns="15480" tIns="15480" bIns="15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83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920">
                <a:tc>
                  <a:txBody>
                    <a:bodyPr lIns="15480" rIns="15480" tIns="15480" bIns="15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onyEricsson W880i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480" rIns="15480" tIns="15480" bIns="15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5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15480" rIns="15480" tIns="15480" bIns="15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agem myZ-55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480" rIns="15480" tIns="15480" bIns="15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4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15480" rIns="15480" tIns="15480" bIns="15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agem myZ-5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480" rIns="15480" tIns="15480" bIns="15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4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15480" rIns="15480" tIns="15480" bIns="15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agem my210x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480" rIns="15480" tIns="15480" bIns="15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3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15480" rIns="15480" tIns="15480" bIns="15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agem my215x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480" rIns="15480" tIns="15480" bIns="15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3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6800">
                <a:tc>
                  <a:txBody>
                    <a:bodyPr lIns="15480" rIns="15480" tIns="15480" bIns="15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onyEricsson Z101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480" rIns="15480" tIns="15480" bIns="15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1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5480" rIns="15480" tIns="15480" bIns="15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amsung SGH-N10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480" rIns="15480" tIns="15480" bIns="15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1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>
                  <a:txBody>
                    <a:bodyPr lIns="15480" rIns="15480" tIns="15480" bIns="15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onyEricsson T105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480" rIns="15480" tIns="15480" bIns="15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9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000">
                <a:tc>
                  <a:txBody>
                    <a:bodyPr lIns="15480" rIns="15480" tIns="15480" bIns="15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amsung SGH-A50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480" rIns="15480" tIns="15480" bIns="15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6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495680" y="1523880"/>
          <a:ext cx="2881440" cy="4064040"/>
        </p:xfrm>
        <a:graphic>
          <a:graphicData uri="http://schemas.openxmlformats.org/drawingml/2006/table">
            <a:tbl>
              <a:tblPr/>
              <a:tblGrid>
                <a:gridCol w="1652760"/>
                <a:gridCol w="1228680"/>
              </a:tblGrid>
              <a:tr h="316080">
                <a:tc>
                  <a:txBody>
                    <a:bodyPr lIns="18720" rIns="18720" tIns="18720" bIns="18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Philips 58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720" rIns="18720" tIns="18720" bIns="187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6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18720" rIns="18720" tIns="18720" bIns="18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onyEricsson W950i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720" rIns="18720" tIns="18720" bIns="187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5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6080">
                <a:tc>
                  <a:txBody>
                    <a:bodyPr lIns="18720" rIns="18720" tIns="18720" bIns="18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BenQ S830C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720" rIns="18720" tIns="18720" bIns="187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5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280">
                <a:tc>
                  <a:txBody>
                    <a:bodyPr lIns="18720" rIns="18720" tIns="18720" bIns="18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Motorola C115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720" rIns="18720" tIns="18720" bIns="187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4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18720" rIns="18720" tIns="18720" bIns="18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BenQ S660C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720" rIns="18720" tIns="18720" bIns="187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4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6080">
                <a:tc>
                  <a:txBody>
                    <a:bodyPr lIns="18720" rIns="18720" tIns="18720" bIns="18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Motorola C117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720" rIns="18720" tIns="18720" bIns="187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4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18720" rIns="18720" tIns="18720" bIns="18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Motorola C116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720" rIns="18720" tIns="18720" bIns="187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4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6080">
                <a:tc>
                  <a:txBody>
                    <a:bodyPr lIns="18720" rIns="18720" tIns="18720" bIns="18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Motorola L2 SLVR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720" rIns="18720" tIns="18720" bIns="187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3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280">
                <a:tc>
                  <a:txBody>
                    <a:bodyPr lIns="18720" rIns="18720" tIns="18720" bIns="18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Motorola L6 SLVR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720" rIns="18720" tIns="18720" bIns="187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3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6080">
                <a:tc>
                  <a:txBody>
                    <a:bodyPr lIns="18720" rIns="18720" tIns="18720" bIns="18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Ascom Elisto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720" rIns="18720" tIns="18720" bIns="187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3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18720" rIns="18720" tIns="18720" bIns="18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agem my200c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720" rIns="18720" tIns="18720" bIns="187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2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18720" rIns="18720" tIns="18720" bIns="187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onyEricsson Z610i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720" rIns="18720" tIns="18720" bIns="187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2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2" name="i-main-pic" descr="Картинка 7 из 11421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4952880"/>
            <a:ext cx="2133720" cy="1905120"/>
          </a:xfrm>
          <a:prstGeom prst="rect">
            <a:avLst/>
          </a:prstGeom>
          <a:ln w="0">
            <a:noFill/>
          </a:ln>
        </p:spPr>
      </p:pic>
      <p:pic>
        <p:nvPicPr>
          <p:cNvPr id="93" name="i-main-pic" descr="Картинка 0 из 115112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2590920"/>
            <a:ext cx="1805040" cy="15523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9" descr="Motorola MC5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280" y="5486400"/>
            <a:ext cx="838440" cy="12574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0" descr="Motorola ZN30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19320" y="5562720"/>
            <a:ext cx="60948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1" descr="Motorola A310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057400" y="5638680"/>
            <a:ext cx="762120" cy="11052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Motorola W233 Renew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971800" y="5638680"/>
            <a:ext cx="609480" cy="10670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3" descr="Motorola W161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733920" y="5562720"/>
            <a:ext cx="809640" cy="11048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4" descr="Motorola ROKR E8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800600" y="5562720"/>
            <a:ext cx="809640" cy="11048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5" descr="Motorola W230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791320" y="5562720"/>
            <a:ext cx="8096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амые безопасные телефоны.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62120" y="1523880"/>
          <a:ext cx="2919240" cy="4267440"/>
        </p:xfrm>
        <a:graphic>
          <a:graphicData uri="http://schemas.openxmlformats.org/drawingml/2006/table">
            <a:tbl>
              <a:tblPr/>
              <a:tblGrid>
                <a:gridCol w="1674720"/>
                <a:gridCol w="1244520"/>
              </a:tblGrid>
              <a:tr h="363600">
                <a:tc>
                  <a:txBody>
                    <a:bodyPr lIns="15120" rIns="15120" tIns="15120" bIns="15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дель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75c0"/>
                    </a:solidFill>
                  </a:tcPr>
                </a:tc>
                <a:tc>
                  <a:txBody>
                    <a:bodyPr lIns="15120" rIns="15120" tIns="15120" bIns="15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R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75c0"/>
                    </a:solidFill>
                  </a:tcPr>
                </a:tc>
              </a:tr>
              <a:tr h="276120">
                <a:tc>
                  <a:txBody>
                    <a:bodyPr lIns="15120" rIns="15120" tIns="15120" bIns="15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MagCom MagCom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15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920">
                <a:tc>
                  <a:txBody>
                    <a:bodyPr lIns="15120" rIns="15120" tIns="15120" bIns="15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LG KG800 Chocolate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15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08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15120" rIns="15120" tIns="15120" bIns="15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wisscom XPA v1615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15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1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>
                  <a:txBody>
                    <a:bodyPr lIns="15120" rIns="15120" tIns="15120" bIns="15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amsung SGH-Z56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15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1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400">
                <a:tc>
                  <a:txBody>
                    <a:bodyPr lIns="15120" rIns="15120" tIns="15120" bIns="15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Philips 362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15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15120" rIns="15120" tIns="15120" bIns="15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amsung SGH-X83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15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15120" rIns="15120" tIns="15120" bIns="15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Motorola MPx20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15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15120" rIns="15120" tIns="15120" bIns="15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LG KG320S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15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13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400">
                <a:tc>
                  <a:txBody>
                    <a:bodyPr lIns="15120" rIns="15120" tIns="15120" bIns="15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HP iPAQ hw691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15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>
                  <a:txBody>
                    <a:bodyPr lIns="15120" rIns="15120" tIns="15120" bIns="15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onyEricsson Z60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15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15120" rIns="15120" tIns="15120" bIns="15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Blackberry 728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15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17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400">
                <a:tc>
                  <a:txBody>
                    <a:bodyPr lIns="15120" rIns="15120" tIns="15120" bIns="15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Qtek 900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5120" rIns="15120" tIns="15120" bIns="15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17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105520" y="1600200"/>
          <a:ext cx="3190680" cy="4179960"/>
        </p:xfrm>
        <a:graphic>
          <a:graphicData uri="http://schemas.openxmlformats.org/drawingml/2006/table">
            <a:tbl>
              <a:tblPr/>
              <a:tblGrid>
                <a:gridCol w="1830240"/>
                <a:gridCol w="1360440"/>
              </a:tblGrid>
              <a:tr h="425520">
                <a:tc>
                  <a:txBody>
                    <a:bodyPr lIns="17640" rIns="1764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Orange SPV-M500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17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17640" rIns="1764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T-Mobile MDA Pro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17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17640" rIns="1764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O2 Xda Atom Exec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17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17640" rIns="1764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Qtek 802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18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17640" rIns="1764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Blackberry 628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18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17640" rIns="1764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Qtek 810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18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560">
                <a:tc>
                  <a:txBody>
                    <a:bodyPr lIns="17640" rIns="1764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Qtek 909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2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17640" rIns="1764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O2 Xda III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2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17640" rIns="1764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Samsung SGH-X70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2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17640" rIns="1764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T-Mobile MDA III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2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17640" rIns="1764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TelMe T910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21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5840">
                <a:tc>
                  <a:txBody>
                    <a:bodyPr lIns="17640" rIns="1764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9770a"/>
                          </a:solidFill>
                          <a:latin typeface="Times New Roman"/>
                          <a:ea typeface="Times New Roman"/>
                        </a:rPr>
                        <a:t>Philips 660 Xenium 9@9i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0.22</a:t>
                      </a:r>
                      <a:endParaRPr b="0" lang="en-US" sz="1400" spc="-1" strike="noStrike">
                        <a:solidFill>
                          <a:srgbClr val="e9770a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05" name="Рисунок 5" descr="iCAQCIMST.jpg"/>
          <p:cNvPicPr/>
          <p:nvPr/>
        </p:nvPicPr>
        <p:blipFill>
          <a:blip r:embed="rId1"/>
          <a:stretch/>
        </p:blipFill>
        <p:spPr>
          <a:xfrm>
            <a:off x="3809880" y="3201840"/>
            <a:ext cx="878040" cy="17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лючение. Выводы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28760" y="1981080"/>
            <a:ext cx="8334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Times New Roman"/>
              </a:rPr>
              <a:t>В ходе работы с источниками, проведения исследования, был получен следующий ответ на основополагающий вопрос: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</a:rPr>
              <a:t>Не все мобилы являются злом.</a:t>
            </a:r>
            <a:endParaRPr b="0" lang="en-US" sz="40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7120" y="411120"/>
            <a:ext cx="8429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лючение. Выводы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33520" y="21337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Times New Roman"/>
              </a:rPr>
              <a:t>Гипотеза  исследования подтвердилась полностью: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500040" y="3105000"/>
            <a:ext cx="82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</a:rPr>
              <a:t>Без мобилы не прожить, но он может навредить. </a:t>
            </a:r>
            <a:endParaRPr b="0" lang="en-US" sz="40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400" y="410760"/>
            <a:ext cx="8358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ные ресурсы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7"/>
          <p:cNvSpPr/>
          <p:nvPr/>
        </p:nvSpPr>
        <p:spPr>
          <a:xfrm>
            <a:off x="357120" y="1793880"/>
            <a:ext cx="86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Times New Roman"/>
              </a:rPr>
              <a:t>В работе были использованы следующие Интернет-ресурсы: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3" name="Rectangle 29"/>
          <p:cNvSpPr/>
          <p:nvPr/>
        </p:nvSpPr>
        <p:spPr>
          <a:xfrm>
            <a:off x="1476360" y="2982600"/>
            <a:ext cx="6467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zhevsk.rfn.ru/rnews.html?id=7159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ereplet.ru/pops/shirshov/shirshov.html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olemics.ru/articles/?articleID=7451&amp;hideText=0&amp;itemPage=1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http://sv.intbel.ru/N79/pg07-02/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http://www.december.ru/article/72/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http://samouchka.net/2007/02/01/ukhod_za_kompjuterom.htm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http://www.valinfo.ru/gallery/details.php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http://imtg.wl.dvgu.ru/sotr/vlasov.htm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http://news.excelion.ru/1/2006-07-22-28.html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4-16T08:59:0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