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7DA-F8C6-4FBF-BB13-5D299C1F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F25B-23A1-473A-8F69-B13C4D5E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4F45-0FEE-4A01-A7CC-DBC4B626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0355-D7AA-429B-9B18-E2276C5B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30E-9F0C-4D37-9AFB-9071BFBA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89C-7D2B-47B2-831E-4E028FDC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6DE5-8E0B-4A98-B82D-657D8590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BDA-28ED-4870-B322-2E3A2B0A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598-E61C-4086-B15C-AE37C509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AB24-D2B2-4527-8A84-64E349E0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A3D-C316-4E24-B4D6-B467DE91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EC51-6CCC-402B-9CA7-4D59C655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2EF2-092A-41CB-A88B-1A419DBFE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899640" y="3062160"/>
            <a:ext cx="767268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Итоговая раб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Реализация исследовательского подхода к обучению средствами внеклассной работы по теме «Моя побед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лексеева Екатерина Николае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БОУ СОШ «ЦО» пос. Варламо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00"/>
                </a:solidFill>
                <a:latin typeface="Times New Roman"/>
              </a:rPr>
              <a:t>КУРСЫ ПОВЫШЕНИЯ КВАЛИФИКАЦИИ</a:t>
            </a:r>
            <a:br>
              <a:rPr sz="1800"/>
            </a:br>
            <a:r>
              <a:rPr b="1" lang="en-US" sz="1800" spc="-1" strike="noStrike" u="sng">
                <a:solidFill>
                  <a:srgbClr val="007000"/>
                </a:solidFill>
                <a:uFillTx/>
                <a:latin typeface="Times New Roman"/>
              </a:rPr>
              <a:t>«Реализация исследовательского подхода</a:t>
            </a:r>
            <a:br>
              <a:rPr sz="1800"/>
            </a:br>
            <a:r>
              <a:rPr b="1" lang="en-US" sz="1800" spc="-1" strike="noStrike" u="sng">
                <a:solidFill>
                  <a:srgbClr val="007000"/>
                </a:solidFill>
                <a:uFillTx/>
                <a:latin typeface="Times New Roman"/>
              </a:rPr>
              <a:t>на уроках различных предметных областей</a:t>
            </a:r>
            <a:br>
              <a:rPr sz="1800"/>
            </a:br>
            <a:r>
              <a:rPr b="1" lang="en-US" sz="1800" spc="-1" strike="noStrike" u="sng">
                <a:solidFill>
                  <a:srgbClr val="007000"/>
                </a:solidFill>
                <a:uFillTx/>
                <a:latin typeface="Times New Roman"/>
              </a:rPr>
              <a:t>в начальной школе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672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00000"/>
                </a:solidFill>
                <a:uFillTx/>
                <a:latin typeface="Times New Roman"/>
              </a:rPr>
              <a:t>Оценка результатов и процесса исследовательской деятельности</a:t>
            </a:r>
            <a:r>
              <a:rPr b="0" lang="en-US" sz="2800" spc="-1" strike="noStrike">
                <a:solidFill>
                  <a:srgbClr val="b00000"/>
                </a:solidFill>
                <a:latin typeface="Times New Roman"/>
              </a:rPr>
              <a:t> (на заключительном классном часе по истечении 4 недель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b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00"/>
                </a:solidFill>
                <a:latin typeface="Times New Roman"/>
              </a:rPr>
              <a:t>Ребята, давайте вспомним нашу проблему и гипотез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b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00"/>
                </a:solidFill>
                <a:latin typeface="Times New Roman"/>
              </a:rPr>
              <a:t>Поделитесь выводами, к которым вы пришл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b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00"/>
                </a:solidFill>
                <a:latin typeface="Times New Roman"/>
              </a:rPr>
              <a:t>Поделитесь своими впечатлениями от исследовательской деятель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b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00"/>
                </a:solidFill>
                <a:latin typeface="Times New Roman"/>
              </a:rPr>
              <a:t>Что было самым трудным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00"/>
                </a:solidFill>
                <a:latin typeface="Times New Roman"/>
              </a:rPr>
              <a:t>Что удивило? Что понравилось больше всег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1257525725_29.jpeg"/>
          <p:cNvPicPr/>
          <p:nvPr/>
        </p:nvPicPr>
        <p:blipFill>
          <a:blip r:embed="rId2"/>
          <a:stretch/>
        </p:blipFill>
        <p:spPr>
          <a:xfrm>
            <a:off x="304920" y="433440"/>
            <a:ext cx="1815840" cy="12556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x_1419624c.jpg"/>
          <p:cNvPicPr/>
          <p:nvPr/>
        </p:nvPicPr>
        <p:blipFill>
          <a:blip r:embed="rId3"/>
          <a:stretch/>
        </p:blipFill>
        <p:spPr>
          <a:xfrm>
            <a:off x="378000" y="1579680"/>
            <a:ext cx="1712880" cy="13953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0e4fe1d96914.jpg"/>
          <p:cNvPicPr/>
          <p:nvPr/>
        </p:nvPicPr>
        <p:blipFill>
          <a:blip r:embed="rId4"/>
          <a:stretch/>
        </p:blipFill>
        <p:spPr>
          <a:xfrm>
            <a:off x="378000" y="2859120"/>
            <a:ext cx="1609560" cy="2255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Soviet_flag_on_the_Reichstag_roof_Khaldei.jpg"/>
          <p:cNvPicPr/>
          <p:nvPr/>
        </p:nvPicPr>
        <p:blipFill>
          <a:blip r:embed="rId5"/>
          <a:stretch/>
        </p:blipFill>
        <p:spPr>
          <a:xfrm>
            <a:off x="304920" y="5005440"/>
            <a:ext cx="1785960" cy="14745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9"/>
          <p:cNvSpPr/>
          <p:nvPr/>
        </p:nvSpPr>
        <p:spPr>
          <a:xfrm>
            <a:off x="2571840" y="928800"/>
            <a:ext cx="574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00000"/>
                </a:solidFill>
                <a:uFillTx/>
                <a:latin typeface="Times New Roman"/>
              </a:rPr>
              <a:t>Проблема</a:t>
            </a:r>
            <a:r>
              <a:rPr b="1" lang="en-US" sz="2400" spc="-1" strike="noStrike">
                <a:solidFill>
                  <a:srgbClr val="b00000"/>
                </a:solidFill>
                <a:latin typeface="Times New Roman"/>
              </a:rPr>
              <a:t> –</a:t>
            </a:r>
            <a:r>
              <a:rPr b="1" lang="en-US" sz="2400" spc="-1" strike="noStrike">
                <a:solidFill>
                  <a:srgbClr val="b00000"/>
                </a:solidFill>
                <a:latin typeface="Times New Roman"/>
              </a:rPr>
              <a:t> является ли праздник всего народа праздником и в моей сем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00000"/>
                </a:solidFill>
                <a:uFillTx/>
                <a:latin typeface="Times New Roman"/>
              </a:rPr>
              <a:t>Цель –</a:t>
            </a:r>
            <a:r>
              <a:rPr b="1" lang="en-US" sz="2400" spc="-1" strike="noStrike">
                <a:solidFill>
                  <a:srgbClr val="b00000"/>
                </a:solidFill>
                <a:latin typeface="Times New Roman"/>
              </a:rPr>
              <a:t> выяснить, как коснулась Великая Отечественная Война моей семь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00000"/>
                </a:solidFill>
                <a:uFillTx/>
                <a:latin typeface="Times New Roman"/>
              </a:rPr>
              <a:t>Гипотеза –</a:t>
            </a:r>
            <a:r>
              <a:rPr b="1" lang="en-US" sz="2400" spc="-1" strike="noStrike">
                <a:solidFill>
                  <a:srgbClr val="b00000"/>
                </a:solidFill>
                <a:latin typeface="Times New Roman"/>
              </a:rPr>
              <a:t> можно предположить, что в моей семье есть люди, которые участвовали в победе 1945 г. и, следовательно, эта победа является праздников нашей семь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1257525725_29.jpeg"/>
          <p:cNvPicPr/>
          <p:nvPr/>
        </p:nvPicPr>
        <p:blipFill>
          <a:blip r:embed="rId2"/>
          <a:stretch/>
        </p:blipFill>
        <p:spPr>
          <a:xfrm>
            <a:off x="304920" y="433440"/>
            <a:ext cx="1815840" cy="1255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x_1419624c.jpg"/>
          <p:cNvPicPr/>
          <p:nvPr/>
        </p:nvPicPr>
        <p:blipFill>
          <a:blip r:embed="rId3"/>
          <a:stretch/>
        </p:blipFill>
        <p:spPr>
          <a:xfrm>
            <a:off x="378000" y="1579680"/>
            <a:ext cx="1712880" cy="13953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0e4fe1d96914.jpg"/>
          <p:cNvPicPr/>
          <p:nvPr/>
        </p:nvPicPr>
        <p:blipFill>
          <a:blip r:embed="rId4"/>
          <a:stretch/>
        </p:blipFill>
        <p:spPr>
          <a:xfrm>
            <a:off x="378000" y="2859120"/>
            <a:ext cx="1609560" cy="22557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Soviet_flag_on_the_Reichstag_roof_Khaldei.jpg"/>
          <p:cNvPicPr/>
          <p:nvPr/>
        </p:nvPicPr>
        <p:blipFill>
          <a:blip r:embed="rId5"/>
          <a:stretch/>
        </p:blipFill>
        <p:spPr>
          <a:xfrm>
            <a:off x="304920" y="5005440"/>
            <a:ext cx="1785960" cy="1474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9"/>
          <p:cNvSpPr/>
          <p:nvPr/>
        </p:nvSpPr>
        <p:spPr>
          <a:xfrm>
            <a:off x="2411280" y="692280"/>
            <a:ext cx="5745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b00000"/>
                </a:solidFill>
                <a:uFillTx/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b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собрать информацию о Великой Отечественной Войн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- оформить сообщение по тем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- выяснить у взрослых есть ли в моей семье люди, которые участвовали в той войне, или есть те, кто мог бы рассказать об эт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- собрать информацию о членах своей семьи в годы войн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- оформить сообщение с использованием полученных данны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- нарисовать рисунки или распечатать понравившиеся фотографии, плакаты времен войн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- подобрать стихотворения на данную т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- оформление стенгазеты «Моя побед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" descr="1257525725_29.jpeg"/>
          <p:cNvPicPr/>
          <p:nvPr/>
        </p:nvPicPr>
        <p:blipFill>
          <a:blip r:embed="rId2"/>
          <a:stretch/>
        </p:blipFill>
        <p:spPr>
          <a:xfrm>
            <a:off x="304920" y="433440"/>
            <a:ext cx="1815840" cy="12556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x_1419624c.jpg"/>
          <p:cNvPicPr/>
          <p:nvPr/>
        </p:nvPicPr>
        <p:blipFill>
          <a:blip r:embed="rId3"/>
          <a:stretch/>
        </p:blipFill>
        <p:spPr>
          <a:xfrm>
            <a:off x="378000" y="1579680"/>
            <a:ext cx="1712880" cy="13953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0e4fe1d96914.jpg"/>
          <p:cNvPicPr/>
          <p:nvPr/>
        </p:nvPicPr>
        <p:blipFill>
          <a:blip r:embed="rId4"/>
          <a:stretch/>
        </p:blipFill>
        <p:spPr>
          <a:xfrm>
            <a:off x="378000" y="2859120"/>
            <a:ext cx="1609560" cy="2255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Soviet_flag_on_the_Reichstag_roof_Khaldei.jpg"/>
          <p:cNvPicPr/>
          <p:nvPr/>
        </p:nvPicPr>
        <p:blipFill>
          <a:blip r:embed="rId5"/>
          <a:stretch/>
        </p:blipFill>
        <p:spPr>
          <a:xfrm>
            <a:off x="304920" y="5005440"/>
            <a:ext cx="1785960" cy="14745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9"/>
          <p:cNvSpPr/>
          <p:nvPr/>
        </p:nvSpPr>
        <p:spPr>
          <a:xfrm>
            <a:off x="2411280" y="692280"/>
            <a:ext cx="5745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Планируемое время исследования – 4 недели (апрель-ма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b00000"/>
                </a:solidFill>
                <a:uFillTx/>
                <a:latin typeface="Times New Roman"/>
              </a:rPr>
              <a:t>1 неделя –</a:t>
            </a: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 собрать информацию о ВОВ и оформить сообщение (работа в группах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b00000"/>
                </a:solidFill>
                <a:uFillTx/>
                <a:latin typeface="Times New Roman"/>
              </a:rPr>
              <a:t>2 неделя –</a:t>
            </a: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 провести анкетирование - опрос родственников, обработка данных, и оформить сообще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3 неделя –</a:t>
            </a: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 собрать информацию о члене/членах семьи, которые жили во время В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4 неделя –</a:t>
            </a: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 оформление полученных результатов и представление итогов исследовательск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39640" y="620640"/>
          <a:ext cx="8136000" cy="5200560"/>
        </p:xfrm>
        <a:graphic>
          <a:graphicData uri="http://schemas.openxmlformats.org/drawingml/2006/table">
            <a:tbl>
              <a:tblPr/>
              <a:tblGrid>
                <a:gridCol w="803520"/>
                <a:gridCol w="4081320"/>
                <a:gridCol w="1774800"/>
                <a:gridCol w="14763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 план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ение деятельности по решению пробл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 результа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олжение беседы на этапе погружения в пробле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бята, чтобы наша работа исследовательская была интересной, предлагаю разделиться на группы. Решите, что вам хотелось бы узнать о войне (ответы групп – почему/как началась война, сколько она длилась, как закончилась, почему победа не была быстрой, кто руководил войсками, какой была армия/оснащение в период ВОВ, как праздновался день победы с 1945 г. и т.д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лагаю вам в течение недели ответить в группах на эти вопросы и представить оформленные сообщения на следующем классном часе и начать заполнение нашей стенгазеты «Побед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лиз, сравнение, обобщение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яется место в классе, где будут представлены все работы ребят по данной теме и в выбранном месте устанавливается название стенгазеты «Побед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2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Какие чувства/эмоции возникли у вас после сообщений ребят? (война жестокая, долгая, страшн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Хотели бы вы побывать в тех временах? А можно было скрыться от войны, спрятаться остальным людям? (если ответы будут положительными – Кого вы бы хотели встретить в те годы?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Что рассказывали вам папа и мама о той войне? Где были ваши родственники в то время? Их не коснулась вой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лагаю вам провести исследование в виде анкеты-опроса. Результаты представить на следующем классном часе и продолжить заполнение нашей стенгазеты «Побед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кета-опрос, обобщение данны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упление груп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тографии, печатные сообщения, тексты песен, рисунки, плакаты заполняют стенгазету «Побед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40960" y="1461600"/>
            <a:ext cx="7462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ке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,И, __________________________________вид родства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о самое важное предложение или слово о войне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имый фильм о войне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 чем или о ком этот фильм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я известного героя и его подвиг 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ть ли герои в нашей семье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на родственников, которые жили в годы ВОВ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и где жила наша семья в годы ВОВ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49960" y="1735920"/>
            <a:ext cx="744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ализ опроса в моей семь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казывания моих родственников о войне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ши любимые фильмы о войне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 знаем героев войны 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моей семье есть герои 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моей семье прошли всю войну 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9640" y="765000"/>
          <a:ext cx="7993080" cy="5328000"/>
        </p:xfrm>
        <a:graphic>
          <a:graphicData uri="http://schemas.openxmlformats.org/drawingml/2006/table">
            <a:tbl>
              <a:tblPr/>
              <a:tblGrid>
                <a:gridCol w="789120"/>
                <a:gridCol w="4010040"/>
                <a:gridCol w="1743120"/>
                <a:gridCol w="1450800"/>
              </a:tblGrid>
              <a:tr h="41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Давайте подведем итог. Поднимите руки те, у кого есть родственники, которые погибли в войне. Поднимите руки те, у кого родственники не помнят войны. Поднимите руки те, у кого есть родственники воевали или работали в тылу, приближая победу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бята, посмотрите на ваши руки – у каждого есть в семье родственники, которые жили, воевали в это время и приближали победу со всем русским народ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ю вам вспомнить нашу гипотезу, как вы считаете, наше предположение было верным или ошибочным? Предлагаю изменить название нашей стенгазеты. Как можно его дополнить? («Моя победа»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Что вам интересно узнать о родственниках, прошедших ВОВ или что вы узнали помимо анкеты, что еще не вместилось в ваше сообщение (фотографии, истории, орден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лагаю вам продолжить исследование и собрать информацию и интересные для вас факты по вашим родственникам и начать оформлять сообщения для нашей стенгазеты «Моя победа». Те, кто сможет закончить оформление первыми представят свои сообщения на следующем классном час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бор данны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упление ребят. Результаты опроса пополняют стенгазе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4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Ребята поделитесь результатами своей исследовательско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дем с нетерпением сообщения на следующем классном час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 полученных результа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упление ребя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ставление итогов исследовательско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4" descr="1257525725_29.jpeg"/>
          <p:cNvPicPr/>
          <p:nvPr/>
        </p:nvPicPr>
        <p:blipFill>
          <a:blip r:embed="rId2"/>
          <a:stretch/>
        </p:blipFill>
        <p:spPr>
          <a:xfrm>
            <a:off x="304920" y="433440"/>
            <a:ext cx="1815840" cy="12556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x_1419624c.jpg"/>
          <p:cNvPicPr/>
          <p:nvPr/>
        </p:nvPicPr>
        <p:blipFill>
          <a:blip r:embed="rId3"/>
          <a:stretch/>
        </p:blipFill>
        <p:spPr>
          <a:xfrm>
            <a:off x="378000" y="1579680"/>
            <a:ext cx="1712880" cy="1395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0e4fe1d96914.jpg"/>
          <p:cNvPicPr/>
          <p:nvPr/>
        </p:nvPicPr>
        <p:blipFill>
          <a:blip r:embed="rId4"/>
          <a:stretch/>
        </p:blipFill>
        <p:spPr>
          <a:xfrm>
            <a:off x="378000" y="2859120"/>
            <a:ext cx="1609560" cy="22557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Soviet_flag_on_the_Reichstag_roof_Khaldei.jpg"/>
          <p:cNvPicPr/>
          <p:nvPr/>
        </p:nvPicPr>
        <p:blipFill>
          <a:blip r:embed="rId5"/>
          <a:stretch/>
        </p:blipFill>
        <p:spPr>
          <a:xfrm>
            <a:off x="304920" y="5005440"/>
            <a:ext cx="1785960" cy="14745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9"/>
          <p:cNvSpPr/>
          <p:nvPr/>
        </p:nvSpPr>
        <p:spPr>
          <a:xfrm>
            <a:off x="2411280" y="692280"/>
            <a:ext cx="5745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00000"/>
                </a:solidFill>
                <a:uFillTx/>
                <a:latin typeface="Times New Roman"/>
              </a:rPr>
              <a:t>Оценка результатов и процесса исследовательской деятельности</a:t>
            </a:r>
            <a:r>
              <a:rPr b="1" lang="en-US" sz="2400" spc="-1" strike="noStrike">
                <a:solidFill>
                  <a:srgbClr val="b00000"/>
                </a:solidFill>
                <a:latin typeface="Times New Roman"/>
              </a:rPr>
              <a:t> (на заключительном классном часе по истечении 4 недел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b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00000"/>
                </a:solidFill>
                <a:latin typeface="Times New Roman"/>
              </a:rPr>
              <a:t>Ребята, давайте вспомним нашу проблему и гипотез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b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00000"/>
                </a:solidFill>
                <a:latin typeface="Times New Roman"/>
              </a:rPr>
              <a:t>Поделитесь выводами, к которым вы приш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b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00000"/>
                </a:solidFill>
                <a:latin typeface="Times New Roman"/>
              </a:rPr>
              <a:t>Поделитесь своими впечатлениями от исследовательской деятель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b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00000"/>
                </a:solidFill>
                <a:latin typeface="Times New Roman"/>
              </a:rPr>
              <a:t>Что было самым трудным? Что удивило? Что понравилось больше всег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Екатерина</cp:lastModifiedBy>
  <dcterms:modified xsi:type="dcterms:W3CDTF">2015-04-03T06:04:07Z</dcterms:modified>
  <cp:revision>31</cp:revision>
  <dc:subject/>
  <dc:title>Слайд 1</dc:title>
</cp:coreProperties>
</file>