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66ff66"/>
              </a:solidFill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66ff66"/>
                  </a:gs>
                  <a:gs pos="100000">
                    <a:srgbClr val="2f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66ff66"/>
              </a:solidFill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66ff66"/>
                  </a:gs>
                  <a:gs pos="100000">
                    <a:srgbClr val="2f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66ff66"/>
              </a:solidFill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66ff66"/>
                  </a:gs>
                  <a:gs pos="100000">
                    <a:srgbClr val="2f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66ff66"/>
              </a:solidFill>
              <a:ln cap="sq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66ff66"/>
                  </a:gs>
                  <a:gs pos="100000">
                    <a:srgbClr val="2f762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Руководитель Кубанского казачьего хора Виктор Захарченко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1" descr="kazakporog"/>
          <p:cNvPicPr/>
          <p:nvPr/>
        </p:nvPicPr>
        <p:blipFill>
          <a:blip r:embed="rId1"/>
          <a:stretch/>
        </p:blipFill>
        <p:spPr>
          <a:xfrm>
            <a:off x="5219640" y="2133720"/>
            <a:ext cx="2584440" cy="40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2667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есенная симфо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4" descr="12m"/>
          <p:cNvPicPr/>
          <p:nvPr/>
        </p:nvPicPr>
        <p:blipFill>
          <a:blip r:embed="rId1"/>
          <a:stretch/>
        </p:blipFill>
        <p:spPr>
          <a:xfrm>
            <a:off x="1403280" y="1125360"/>
            <a:ext cx="6485040" cy="4125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492000" y="5445000"/>
            <a:ext cx="20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еб всему го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Солисты хора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http://www.kkx.ru/gallery/img2/1.jpg"/>
          <p:cNvPicPr/>
          <p:nvPr/>
        </p:nvPicPr>
        <p:blipFill>
          <a:blip r:embed="rId1"/>
          <a:stretch/>
        </p:blipFill>
        <p:spPr>
          <a:xfrm>
            <a:off x="611280" y="1484280"/>
            <a:ext cx="2427120" cy="381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http://www.kkx.ru/gallery/img2/6.jpg"/>
          <p:cNvPicPr/>
          <p:nvPr/>
        </p:nvPicPr>
        <p:blipFill>
          <a:blip r:embed="rId2"/>
          <a:stretch/>
        </p:blipFill>
        <p:spPr>
          <a:xfrm>
            <a:off x="3059280" y="1484280"/>
            <a:ext cx="2427120" cy="381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0" y="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ttp://www.kkx.ru/gallery/img2/7.jpg"/>
          <p:cNvPicPr/>
          <p:nvPr/>
        </p:nvPicPr>
        <p:blipFill>
          <a:blip r:embed="rId3"/>
          <a:stretch/>
        </p:blipFill>
        <p:spPr>
          <a:xfrm>
            <a:off x="5508720" y="1484280"/>
            <a:ext cx="242712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000160" y="0"/>
          <a:ext cx="5143680" cy="517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4"/>
          <p:cNvSpPr/>
          <p:nvPr/>
        </p:nvSpPr>
        <p:spPr>
          <a:xfrm>
            <a:off x="684360" y="5754600"/>
            <a:ext cx="34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755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92200" y="53229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одный артист Росс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натолий Лизвинс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3203280" y="5300640"/>
            <a:ext cx="23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стка Кубанск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зачьего хо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рина Гольченк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5559480" y="53942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ст Кубан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зачьего хора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вел Кравчу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окально-хореографическая компози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«Встреча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Picture 4" descr="8"/>
          <p:cNvPicPr/>
          <p:nvPr/>
        </p:nvPicPr>
        <p:blipFill>
          <a:blip r:embed="rId1"/>
          <a:stretch/>
        </p:blipFill>
        <p:spPr>
          <a:xfrm>
            <a:off x="1116000" y="1773360"/>
            <a:ext cx="72025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анец «Крыло»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4" descr="9"/>
          <p:cNvPicPr/>
          <p:nvPr/>
        </p:nvPicPr>
        <p:blipFill>
          <a:blip r:embed="rId1"/>
          <a:stretch/>
        </p:blipFill>
        <p:spPr>
          <a:xfrm>
            <a:off x="468360" y="1484280"/>
            <a:ext cx="4680000" cy="2976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0"/>
          <p:cNvPicPr/>
          <p:nvPr/>
        </p:nvPicPr>
        <p:blipFill>
          <a:blip r:embed="rId2"/>
          <a:stretch/>
        </p:blipFill>
        <p:spPr>
          <a:xfrm>
            <a:off x="3924360" y="3860640"/>
            <a:ext cx="4608360" cy="29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Вербохлёст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Picture 4" descr="11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Гусеница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Picture 4" descr="12"/>
          <p:cNvPicPr/>
          <p:nvPr/>
        </p:nvPicPr>
        <p:blipFill>
          <a:blip r:embed="rId1"/>
          <a:stretch/>
        </p:blipFill>
        <p:spPr>
          <a:xfrm>
            <a:off x="2700360" y="1197000"/>
            <a:ext cx="37116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Кавказская сюита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Picture 4" descr="13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0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Подушечка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http://www.kkx.ru/gallery/img2/14.jpg"/>
          <p:cNvPicPr/>
          <p:nvPr/>
        </p:nvPicPr>
        <p:blipFill>
          <a:blip r:embed="rId1"/>
          <a:stretch/>
        </p:blipFill>
        <p:spPr>
          <a:xfrm>
            <a:off x="539640" y="1268280"/>
            <a:ext cx="7848720" cy="4992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Подушечка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Picture 4" descr="http://www.kkx.ru/gallery/img2/15.jpg"/>
          <p:cNvPicPr/>
          <p:nvPr/>
        </p:nvPicPr>
        <p:blipFill>
          <a:blip r:embed="rId1"/>
          <a:stretch/>
        </p:blipFill>
        <p:spPr>
          <a:xfrm>
            <a:off x="1116000" y="1484280"/>
            <a:ext cx="73454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анец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"Ковал кузнец казачью шашку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Picture 4" descr="17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Из истории Кубанского казачьего хора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2" name="Picture 8" descr="2"/>
          <p:cNvPicPr/>
          <p:nvPr/>
        </p:nvPicPr>
        <p:blipFill>
          <a:blip r:embed="rId1"/>
          <a:stretch/>
        </p:blipFill>
        <p:spPr>
          <a:xfrm>
            <a:off x="684360" y="1844640"/>
            <a:ext cx="7638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анец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"Ковал кузнец казачью шашку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Picture 4" descr="18"/>
          <p:cNvPicPr/>
          <p:nvPr/>
        </p:nvPicPr>
        <p:blipFill>
          <a:blip r:embed="rId1"/>
          <a:stretch/>
        </p:blipFill>
        <p:spPr>
          <a:xfrm>
            <a:off x="684360" y="1484280"/>
            <a:ext cx="777528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анец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"Ковал кузнец казачью шашку"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Picture 4" descr="19"/>
          <p:cNvPicPr/>
          <p:nvPr/>
        </p:nvPicPr>
        <p:blipFill>
          <a:blip r:embed="rId1"/>
          <a:stretch/>
        </p:blipFill>
        <p:spPr>
          <a:xfrm>
            <a:off x="755640" y="1773360"/>
            <a:ext cx="70563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Молодычка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нец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Гуляние в Кубанской станице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0" name="Picture 4" descr="5"/>
          <p:cNvPicPr/>
          <p:nvPr/>
        </p:nvPicPr>
        <p:blipFill>
          <a:blip r:embed="rId1"/>
          <a:stretch/>
        </p:blipFill>
        <p:spPr>
          <a:xfrm>
            <a:off x="971640" y="1557360"/>
            <a:ext cx="7489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нец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Гуляние в Кубанской станиц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Picture 4" descr="4"/>
          <p:cNvPicPr/>
          <p:nvPr/>
        </p:nvPicPr>
        <p:blipFill>
          <a:blip r:embed="rId1"/>
          <a:stretch/>
        </p:blipFill>
        <p:spPr>
          <a:xfrm>
            <a:off x="2916360" y="1916280"/>
            <a:ext cx="3254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ец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"На кордоне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4" descr="3"/>
          <p:cNvPicPr/>
          <p:nvPr/>
        </p:nvPicPr>
        <p:blipFill>
          <a:blip r:embed="rId1"/>
          <a:stretch/>
        </p:blipFill>
        <p:spPr>
          <a:xfrm>
            <a:off x="2916360" y="1341360"/>
            <a:ext cx="33559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Цитаты из пресс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азных стран мир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ранция: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азаки вновь завоевали Париж!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талия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«Песни сменяют зажигательные танцы. Казаки способны на чудеса!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спания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«Концерт сопровождался оглушительными аплодисментами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глашаю на концерт Кубанского казачьего хора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Из истории Кубанского казачьего хор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летоисчисление начинается с 1810 года, когда просветитель Кубани протоирей Черноморского казачьего войска К. Россинский обратился в канцелярию атамана Ф. Бурсака с прошением о создании Войскового певческого хора . Более ста лет (1811-1921 гг.) Кубанский войсковой певческий хор выполнял благородную миссию художественного просвещения на юге России, был предметом гордости, знаменем всей культуры казачьего края. В 1921 году в связи с социальными потрясениями и экономическими трудностями в стране деятельность хора была прекращена, а  в 1936 году был создан Кубанский казачий хор, а в 1938 году в нем появилась танцевальная группа, и коллектив был переименован в "Государственный ансамбль песни и пляски кубанских казаков"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уководители Кубанского казачьего хор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Концевич 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Тараненко Я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Лысконь П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ирошниченко П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алышев В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Чернобай С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1974 год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удожественный руководитель коллектива-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ВИКТОР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ЗАХАРЧЕНКО</a:t>
            </a:r>
            <a:endParaRPr b="0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РУКОВОДИТ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АНЦЕВАЛЬНОЙ ГРУППЫ ХОР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 танцевальной группой Кубанского казачьего хора работали многие балетмейстеры. В настоящее время главным балетмейстером коллектива является заслуженный деятель искусств России, Украины и Республики Адыгея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иколай Кубар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С его приходом почти полностью изменилось танцевальное искусство хора. По своей хореографической лексике коллектив не похож ни на один ансамбль подобного рода. Главное в танцах хора – историческая и этнографическая достоверность, фольклорная самобытность, правда национального характера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харченко Виктор Гаврил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" name="Picture 4" descr="2m"/>
          <p:cNvPicPr/>
          <p:nvPr/>
        </p:nvPicPr>
        <p:blipFill>
          <a:blip r:embed="rId1"/>
          <a:stretch/>
        </p:blipFill>
        <p:spPr>
          <a:xfrm>
            <a:off x="2556000" y="1341360"/>
            <a:ext cx="4103640" cy="2625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41440" y="3860640"/>
            <a:ext cx="815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ественный руковод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академического Кубанского казачь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а, генеральный директор ГН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Кубанский казачий хор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ессор, композит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лен Совета по культуре и искусств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резиденте Р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ата и место рождения 22 марта 1938 года в станице Дядьковской Краснодарского кра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бразование и ученые звания. Краснодарское музыкально-педагогическое училище, Новосибирская государственная консерватория им. Глинки, аспирантура в ГМПИ им. Гнесиных. Доктор искусствоведения, профессор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рьера. "Я — казак по рождению и воспитанию. Народные и духовные песни слышал с детства, впитал казачьи традиции…Невероятно сильное желание стать музыкантом было у меня всегда. Но жила во мне какая-то абсолютная внутренняя уверенность в том, что я им обязательно буду". Уже во время учебы в консерватории работал главным хормейстером Государственного Сибирского русского народного хора (1964-1974). С 1974 года — художественный руководитель Государственного академического Кубанского казачьего хора. Композитор, фольклорист, общественный деятель, ученый, исследователь народной песн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Награды, почетные звания</a:t>
            </a: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 Народный артист Росси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Народный артист РФ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Заслуженный деятель искусств РФ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"Знак Почета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Трудового Красного Знам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Герой труда Куба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"За доблестный труд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Лауреат Государственной премии Росси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Лауреат Международной премии Фонда Святого Всехвального Апостола Андрея Первозванного: орден "За веру и верность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Лауреат Международной премии славянского единства "Боян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Народный артист Украины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Заслуженный деятель искусств Республики Адыгея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Дружбы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Союза казаков России "За веру, волю и Отечество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Крест "За возрождение казачества" Союза казаков Росси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"За вклад в развитие Кубани - 60 лет Краснодарскому краю" 1 степ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"Человек года" и серебряный крест по номинации Русского биографического института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"Человек года" - Кубани 2001 и 2002 года по просу газеты "Вольная Кубань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очетный житель станицы Дядьковской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очетный гражданин города Краснодара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Герой труда Куба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очетная грамота Государственной Думы Федерального Собрания РФ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очетная грамота Министерства культуры РСФСР и ЦК профсоюза работников культуры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очетная грамота Правительства Российской Федераци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Знак МВД РФ "За верность долгу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амятный знак "За службу на Кавказе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"10 лет Возрождения Енисейского казачьего войска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Кавалер Ордена "Меценат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Русской православной церкви преподобного Сергия Радонежского III степ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степени (Патриарх Московский и всея Руси) г. Москва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Решением Совета "Георгиевского Совета" награжден Знаком Чести "Серебряный Крест Георгиевского Союза" Санкт-Петербург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"За заслуги перед отечеством" 4 степ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Грамота управления федеральной службы безопасности РФ по Краснодарскому краю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Наградный крест "За заслуги перед казачеством России" третьей степ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русской православной церкви преподобного Сергия Радонежского 3 степени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Знак чести "Серебряный крест георгиевского союза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за неоценимый вклад в дело возрождения казачества славянских государств "350 лет казачества на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Беларуси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Юбилейная медаль "100 лет профсоюзам России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"60 лет освобождения Республики Беларусь от немецко - фашистских захватчиков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Памятная медаль "60 лет Победы в Великой отечественной войне 1941-1945 годов" за активное участие в патриотическом воспитании граждан и большой вклад в подготовку и проведение юбелея Победы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Наградной Крест за заслуги перед Кубанским казачеством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Междунарные награды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Орден Дружбы Республики Вьетнам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Медаль "100-летие со дня освобождения от Османского ига"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Республики Болгария 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  <a:p>
            <a:pPr marL="3121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Публикации.</a:t>
            </a: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 Автор более двухсот музыкальных произведений и более тысячи обработок народных песен. Опубликовал ряд работ по истории народной песни.</a:t>
            </a:r>
            <a:endParaRPr b="0" lang="en-US" sz="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53:48Z</dcterms:created>
  <dc:creator>User</dc:creator>
  <dc:description/>
  <dc:language>en-US</dc:language>
  <cp:lastModifiedBy>user</cp:lastModifiedBy>
  <dcterms:modified xsi:type="dcterms:W3CDTF">2015-04-13T14:45:18Z</dcterms:modified>
  <cp:revision>5</cp:revision>
  <dc:subject/>
  <dc:title>Слайд 1</dc:title>
</cp:coreProperties>
</file>