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08E-5368-4C65-AEE0-C245E6ED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E05-BCF9-4C88-B2F0-BF50498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869-68FB-4C90-8497-00F9937D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754-99D5-477D-9CD5-73FBA9C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D4F-6B70-4202-90A7-A11401E1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A90-AE1C-44EB-A436-44C84D7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850-D8A5-4D26-8C96-668BA7E1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8F5-4D40-4085-A1DF-8506916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428-DEC9-4DF2-B06A-F99E4BD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ABB-15A0-4964-A50E-38CA535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B4-6C5B-4675-9A53-F00C31E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135-5033-4824-B297-EA72C82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7799-A126-4A6C-996E-92021B683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773280" y="-228600"/>
            <a:ext cx="10831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 учреждение – детский сад комбинированного вида №15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imes New Roman"/>
              </a:rPr>
              <a:t>Родительское собрание  на тему: «Безопасность жизнедеятельности детей старшего дошкольного возра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. Староминская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8"/>
          <p:cNvPicPr/>
          <p:nvPr/>
        </p:nvPicPr>
        <p:blipFill>
          <a:blip r:embed="rId1"/>
          <a:stretch/>
        </p:blipFill>
        <p:spPr>
          <a:xfrm>
            <a:off x="-849240" y="-351000"/>
            <a:ext cx="10691640" cy="746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72960" y="152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просвещение родителей в аспекте безопасного поведения в различных жизнен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ать педагогическую компетентность родителей по проблемам обеспечения безопасности жизнедеятельности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 ответственность родителей за создание условий для безопасной жизни ребенка, обучения детей соблюдению элементарных правил безопас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ть осознанное отношение к сохранению своего здоровья 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ие виды пешеходных переходов бывают и какие должны знать дошколь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следует переходить улицу, если отсутствует пешеходный пере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правила поведения при обнаружении запаха газа в кварт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зовите правила поведения при пожаре в  кварт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следует держать ребенка за руку при переходе улиц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де можно кататься на велосипедах, самокатах дошкольн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взрослый с ребенком должен входить в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 взрослый с ребенком должен выходить из автобу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-2289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финг «Безопасность ребёнка в различных ситуация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чему на автобусных остановках, особенно в сырую погоду, надо находиться на некотором удалении от проезжей части, наблюдая за приближающимся транспор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Где и как надо ожидать автобу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акие вы знаете стихийные явления, которые могут привести к разрушительным последствия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Каковы ваши действия, если землетрясение застало вас дома или в каком-либо ином зд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Что означает слово «светофор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Что вы предпримите, если во время прогулки по лесу началась гроза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"/>
          <p:cNvPicPr/>
          <p:nvPr/>
        </p:nvPicPr>
        <p:blipFill>
          <a:blip r:embed="rId1"/>
          <a:stretch/>
        </p:blipFill>
        <p:spPr>
          <a:xfrm>
            <a:off x="-773280" y="-351000"/>
            <a:ext cx="10692000" cy="756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57200" y="27795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752480" y="380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 Волшебный  сундуч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E:\КАРТИНКИ И АНИМАШКИ\0_6530d_c97098f0_L.jpg"/>
          <p:cNvPicPr/>
          <p:nvPr/>
        </p:nvPicPr>
        <p:blipFill>
          <a:blip r:embed="rId3"/>
          <a:stretch/>
        </p:blipFill>
        <p:spPr>
          <a:xfrm>
            <a:off x="3200400" y="1360440"/>
            <a:ext cx="2712960" cy="338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E:\КАРТИНКИ И АНИМАШКИ\0_6f3bd_6a3c7a63_L.png"/>
          <p:cNvPicPr/>
          <p:nvPr/>
        </p:nvPicPr>
        <p:blipFill>
          <a:blip r:embed="rId4"/>
          <a:stretch/>
        </p:blipFill>
        <p:spPr>
          <a:xfrm>
            <a:off x="1565280" y="3486240"/>
            <a:ext cx="1523880" cy="26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13.png"/>
          <p:cNvPicPr/>
          <p:nvPr/>
        </p:nvPicPr>
        <p:blipFill>
          <a:blip r:embed="rId5"/>
          <a:stretch/>
        </p:blipFill>
        <p:spPr>
          <a:xfrm>
            <a:off x="6948360" y="4446720"/>
            <a:ext cx="505080" cy="142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klej-pva.com.ua/wp-content/uploads/2012/08/%D0%9F%D0%92%D0%90-247x300.jpg"/>
          <p:cNvPicPr/>
          <p:nvPr/>
        </p:nvPicPr>
        <p:blipFill>
          <a:blip r:embed="rId6"/>
          <a:stretch/>
        </p:blipFill>
        <p:spPr>
          <a:xfrm>
            <a:off x="5913360" y="1444680"/>
            <a:ext cx="1036800" cy="125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E:\КАРТИНКИ И АНИМАШКИ\0_99a43_d13e7529_S.png"/>
          <p:cNvPicPr/>
          <p:nvPr/>
        </p:nvPicPr>
        <p:blipFill>
          <a:blip r:embed="rId7"/>
          <a:stretch/>
        </p:blipFill>
        <p:spPr>
          <a:xfrm>
            <a:off x="1832040" y="40878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E:\КАРТИНКИ И АНИМАШКИ\uksus.jpg"/>
          <p:cNvPicPr/>
          <p:nvPr/>
        </p:nvPicPr>
        <p:blipFill>
          <a:blip r:embed="rId8"/>
          <a:stretch/>
        </p:blipFill>
        <p:spPr>
          <a:xfrm>
            <a:off x="2212920" y="2109960"/>
            <a:ext cx="957240" cy="126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E:\КАРТИНКИ И АНИМАШКИ\0_7d319_c8ca09bd_S.jpg"/>
          <p:cNvPicPr/>
          <p:nvPr/>
        </p:nvPicPr>
        <p:blipFill>
          <a:blip r:embed="rId9"/>
          <a:stretch/>
        </p:blipFill>
        <p:spPr>
          <a:xfrm rot="3921000">
            <a:off x="6453360" y="2902320"/>
            <a:ext cx="1324080" cy="9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:\КАРТИНКИ И АНИМАШКИ\0_7d2d3_294df38a_S.jpg"/>
          <p:cNvPicPr/>
          <p:nvPr/>
        </p:nvPicPr>
        <p:blipFill>
          <a:blip r:embed="rId10"/>
          <a:stretch/>
        </p:blipFill>
        <p:spPr>
          <a:xfrm>
            <a:off x="7800840" y="3124080"/>
            <a:ext cx="763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E:\КАРТИНКИ И АНИМАШКИ\0_7b861_c33bb8ce_S.png"/>
          <p:cNvPicPr/>
          <p:nvPr/>
        </p:nvPicPr>
        <p:blipFill>
          <a:blip r:embed="rId11"/>
          <a:stretch/>
        </p:blipFill>
        <p:spPr>
          <a:xfrm rot="17638800">
            <a:off x="2372400" y="1513080"/>
            <a:ext cx="865080" cy="44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E:\КАРТИНКИ И АНИМАШКИ\1209.gif"/>
          <p:cNvPicPr/>
          <p:nvPr/>
        </p:nvPicPr>
        <p:blipFill>
          <a:blip r:embed="rId12"/>
          <a:stretch/>
        </p:blipFill>
        <p:spPr>
          <a:xfrm>
            <a:off x="3760920" y="5005440"/>
            <a:ext cx="1000080" cy="135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 Узнай автора и  название произведения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schlib.ru/uploads/posts/2011-08/1312540085_Putanica_1.jpg"/>
          <p:cNvPicPr/>
          <p:nvPr/>
        </p:nvPicPr>
        <p:blipFill>
          <a:blip r:embed="rId2"/>
          <a:stretch/>
        </p:blipFill>
        <p:spPr>
          <a:xfrm>
            <a:off x="1474920" y="1258920"/>
            <a:ext cx="1888920" cy="254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КАРТИНКИ И АНИМАШКИ\original.jpg"/>
          <p:cNvPicPr/>
          <p:nvPr/>
        </p:nvPicPr>
        <p:blipFill>
          <a:blip r:embed="rId3"/>
          <a:stretch/>
        </p:blipFill>
        <p:spPr>
          <a:xfrm>
            <a:off x="5791320" y="1066680"/>
            <a:ext cx="1900080" cy="248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g1.labirint.ru/books/127452/big.jpg"/>
          <p:cNvPicPr/>
          <p:nvPr/>
        </p:nvPicPr>
        <p:blipFill>
          <a:blip r:embed="rId4"/>
          <a:stretch/>
        </p:blipFill>
        <p:spPr>
          <a:xfrm>
            <a:off x="1601640" y="4149720"/>
            <a:ext cx="1633680" cy="25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ttp://sovmult.ru/Audio/M/3977.jpg"/>
          <p:cNvPicPr/>
          <p:nvPr/>
        </p:nvPicPr>
        <p:blipFill>
          <a:blip r:embed="rId5"/>
          <a:stretch/>
        </p:blipFill>
        <p:spPr>
          <a:xfrm>
            <a:off x="6019920" y="4149720"/>
            <a:ext cx="2247840" cy="245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8"/>
          <p:cNvPicPr/>
          <p:nvPr/>
        </p:nvPicPr>
        <p:blipFill>
          <a:blip r:embed="rId1"/>
          <a:stretch/>
        </p:blipFill>
        <p:spPr>
          <a:xfrm>
            <a:off x="-609480" y="-457200"/>
            <a:ext cx="10691640" cy="7559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1066680" y="1298520"/>
            <a:ext cx="7851960" cy="199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E:\КАРТИНКИ И АНИМАШКИ\дети\b7a3q6ulsnj3.png"/>
          <p:cNvPicPr/>
          <p:nvPr/>
        </p:nvPicPr>
        <p:blipFill>
          <a:blip r:embed="rId3"/>
          <a:stretch/>
        </p:blipFill>
        <p:spPr>
          <a:xfrm>
            <a:off x="2830680" y="3581280"/>
            <a:ext cx="3809880" cy="29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5-04-27T17:32:16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