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296-B5A0-44F0-BD6B-EB46B425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4FC-1726-4281-964C-CB431408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D8C-3A9A-400B-9565-62F72869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A15-381B-455B-9FFE-C4136931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79D-C5F2-4DB8-9581-E5D8653A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A52-14E8-4303-A9C8-8D391C5D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9AC-A180-491D-9C2E-073FE037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760-1562-450B-B870-76027F25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132-9A8D-4A0F-88D9-388CBCE9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B70-F2C6-4C0F-AAEA-A3CFFEB8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037-245E-44BD-98E1-BC9BA3D7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771-E462-4388-9EEB-E2743616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4680" y="-1440"/>
            <a:ext cx="9158040" cy="1036440"/>
          </a:xfrm>
          <a:custGeom>
            <a:avLst/>
            <a:gdLst>
              <a:gd name="textAreaLeft" fmla="*/ 0 w 9158040"/>
              <a:gd name="textAreaRight" fmla="*/ 9158400 w 915804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29e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1440"/>
            <a:ext cx="4762440" cy="63324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fa6"/>
              </a:gs>
              <a:gs pos="100000">
                <a:srgbClr val="0089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90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37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37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37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470A-E4E0-4315-A3F7-21285C27B345}" type="slidenum">
              <a:rPr b="0" lang="ru-RU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-24480" y="-15480"/>
            <a:ext cx="9195120" cy="1085040"/>
            <a:chOff x="-24480" y="-15480"/>
            <a:chExt cx="9195120" cy="1085040"/>
          </a:xfrm>
        </p:grpSpPr>
        <p:sp>
          <p:nvSpPr>
            <p:cNvPr id="8" name="Полилиния 11"/>
            <p:cNvSpPr/>
            <p:nvPr/>
          </p:nvSpPr>
          <p:spPr>
            <a:xfrm rot="21435600">
              <a:off x="-14040" y="202680"/>
              <a:ext cx="9160200" cy="648000"/>
            </a:xfrm>
            <a:custGeom>
              <a:avLst/>
              <a:gdLst>
                <a:gd name="textAreaLeft" fmla="*/ 0 w 9160200"/>
                <a:gd name="textAreaRight" fmla="*/ 9160560 w 916020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олилиния 12"/>
            <p:cNvSpPr/>
            <p:nvPr/>
          </p:nvSpPr>
          <p:spPr>
            <a:xfrm rot="21435600">
              <a:off x="-9360" y="276120"/>
              <a:ext cx="9172800" cy="529560"/>
            </a:xfrm>
            <a:custGeom>
              <a:avLst/>
              <a:gdLst>
                <a:gd name="textAreaLeft" fmla="*/ 0 w 9172800"/>
                <a:gd name="textAreaRight" fmla="*/ 9173160 w 917280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85440"/>
            <a:ext cx="76946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Презентация по </a:t>
            </a:r>
            <a:br>
              <a:rPr sz="5400"/>
            </a:b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английскому языку</a:t>
            </a:r>
            <a:br>
              <a:rPr sz="5400"/>
            </a:b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на тему:</a:t>
            </a:r>
            <a:br>
              <a:rPr sz="5400"/>
            </a:br>
            <a:r>
              <a:rPr b="1" lang="ru-RU" sz="4800" spc="-1" strike="noStrike">
                <a:solidFill>
                  <a:srgbClr val="ff9900"/>
                </a:solidFill>
                <a:latin typeface="Calibri"/>
              </a:rPr>
              <a:t>"Степени сравнения </a:t>
            </a:r>
            <a:br>
              <a:rPr sz="4800"/>
            </a:br>
            <a:r>
              <a:rPr b="1" lang="ru-RU" sz="4800" spc="-1" strike="noStrike">
                <a:solidFill>
                  <a:srgbClr val="ff9900"/>
                </a:solidFill>
                <a:latin typeface="Calibri"/>
              </a:rPr>
              <a:t>прилагательных"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1943280" y="5753160"/>
            <a:ext cx="101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 ученик 7 «Д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ы № 1392 им. Д.В. Рябинкина Гиенко Ар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720" y="736560"/>
            <a:ext cx="821376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месте с тем, степени сравнения некоторых прилагательных имеют особую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у. Эти прилагательные, как и их формы, рекомендуется знать наизусть: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95440" y="1865160"/>
          <a:ext cx="7978680" cy="4581720"/>
        </p:xfrm>
        <a:graphic>
          <a:graphicData uri="http://schemas.openxmlformats.org/drawingml/2006/table">
            <a:tbl>
              <a:tblPr/>
              <a:tblGrid>
                <a:gridCol w="2658960"/>
                <a:gridCol w="2657520"/>
                <a:gridCol w="26622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b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о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луч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у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плох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/ much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боль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old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стар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eld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ста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107" descr="rr"/>
          <p:cNvPicPr/>
          <p:nvPr/>
        </p:nvPicPr>
        <p:blipFill>
          <a:blip r:embed="rId1"/>
          <a:stretch/>
        </p:blipFill>
        <p:spPr>
          <a:xfrm>
            <a:off x="2065320" y="6078600"/>
            <a:ext cx="1036800" cy="681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8" descr="uy"/>
          <p:cNvPicPr/>
          <p:nvPr/>
        </p:nvPicPr>
        <p:blipFill>
          <a:blip r:embed="rId2"/>
          <a:stretch/>
        </p:blipFill>
        <p:spPr>
          <a:xfrm>
            <a:off x="7905600" y="1571760"/>
            <a:ext cx="1194120" cy="1046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79600" y="1174680"/>
          <a:ext cx="7994520" cy="515484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544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arth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ль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даль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даль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r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urth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лё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льней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далё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a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поз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поз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дних из дв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nea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жай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n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ду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126" descr="rrrr"/>
          <p:cNvPicPr/>
          <p:nvPr/>
        </p:nvPicPr>
        <p:blipFill>
          <a:blip r:embed="rId1"/>
          <a:stretch/>
        </p:blipFill>
        <p:spPr>
          <a:xfrm>
            <a:off x="7669080" y="5303880"/>
            <a:ext cx="1443240" cy="148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7" descr="yy"/>
          <p:cNvPicPr/>
          <p:nvPr/>
        </p:nvPicPr>
        <p:blipFill>
          <a:blip r:embed="rId2"/>
          <a:stretch/>
        </p:blipFill>
        <p:spPr>
          <a:xfrm>
            <a:off x="1838160" y="295200"/>
            <a:ext cx="1032120" cy="912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60320"/>
            <a:ext cx="8153280" cy="53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49"/>
              </a:spcBef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 algn="just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14400" y="28954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спс"/>
          <p:cNvPicPr/>
          <p:nvPr/>
        </p:nvPicPr>
        <p:blipFill>
          <a:blip r:embed="rId1"/>
          <a:stretch/>
        </p:blipFill>
        <p:spPr>
          <a:xfrm>
            <a:off x="7315200" y="1981080"/>
            <a:ext cx="95256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72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Degrees of adjectives comparison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(степени сравнения прилагательных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" y="1981080"/>
            <a:ext cx="3809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агательные в англий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е не изменяются по числ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адежу, они изменя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тепеням сравнени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сается качеств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агатель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агательные степе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ения не име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gg"/>
          <p:cNvPicPr/>
          <p:nvPr/>
        </p:nvPicPr>
        <p:blipFill>
          <a:blip r:embed="rId1"/>
          <a:stretch/>
        </p:blipFill>
        <p:spPr>
          <a:xfrm>
            <a:off x="4191120" y="1752480"/>
            <a:ext cx="4671720" cy="4764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8480"/>
            <a:ext cx="8229600" cy="53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53" name="Picture 3" descr="aa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304920" y="91440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304920" y="762120"/>
            <a:ext cx="8610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Степеней сравнения качественных прилагательных в английском языке т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ложительная (positive). Прилагательное в его обыч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big - 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равнительная (comparative). Показывает, что один объект облад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й степенью качества, чем другой. Образуется при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ффикс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er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частую используется с предлогом than (ч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bigger -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евосходная (superlative). Говорит о том, что объект име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высшую степень качества.Образуется при помощи суффикс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the biggest - самый большой/наиболь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295280" y="1066680"/>
            <a:ext cx="647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HGP明朝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59436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small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small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+er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small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+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hh"/>
          <p:cNvPicPr/>
          <p:nvPr/>
        </p:nvPicPr>
        <p:blipFill>
          <a:blip r:embed="rId1"/>
          <a:stretch/>
        </p:blipFill>
        <p:spPr>
          <a:xfrm>
            <a:off x="304920" y="1600200"/>
            <a:ext cx="2786040" cy="390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hhh"/>
          <p:cNvPicPr/>
          <p:nvPr/>
        </p:nvPicPr>
        <p:blipFill>
          <a:blip r:embed="rId2"/>
          <a:stretch/>
        </p:blipFill>
        <p:spPr>
          <a:xfrm>
            <a:off x="3917880" y="2440080"/>
            <a:ext cx="2057400" cy="309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hh"/>
          <p:cNvPicPr/>
          <p:nvPr/>
        </p:nvPicPr>
        <p:blipFill>
          <a:blip r:embed="rId3"/>
          <a:stretch/>
        </p:blipFill>
        <p:spPr>
          <a:xfrm>
            <a:off x="7162920" y="3352680"/>
            <a:ext cx="1395360" cy="2248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2057400" y="838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Let’s compare!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(Сравним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F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or example: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(Например: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09480" y="990720"/>
            <a:ext cx="815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low → lower →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the lowest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низкий - ниже - самый низ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red → redder →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the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reddest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   красный - краснее - самый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tall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→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taller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→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the tallest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высокий - выше - самый выс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short → shorter →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the shortest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   короткий - короче - самый корот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old → older →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the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oldest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старый - старше - самый ста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yy"/>
          <p:cNvPicPr/>
          <p:nvPr/>
        </p:nvPicPr>
        <p:blipFill>
          <a:blip r:embed="rId1"/>
          <a:stretch/>
        </p:blipFill>
        <p:spPr>
          <a:xfrm>
            <a:off x="2209680" y="3429000"/>
            <a:ext cx="4811760" cy="33717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82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Remember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  <a:ea typeface="Arial"/>
              </a:rPr>
              <a:t>!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 (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  <a:ea typeface="Arial"/>
              </a:rPr>
              <a:t>Запомни!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8760" y="838080"/>
            <a:ext cx="89121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илагательных с одним слогом, последняя буква удваиваетс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авляется суффикс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hot → hot</a:t>
            </a:r>
            <a:r>
              <a:rPr b="1" lang="ru-RU" sz="2000" spc="-1" strike="noStrike">
                <a:solidFill>
                  <a:srgbClr val="cc3300"/>
                </a:solidFill>
                <a:latin typeface="Constantia"/>
                <a:ea typeface="Constantia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er → the hot</a:t>
            </a:r>
            <a:r>
              <a:rPr b="1" lang="ru-RU" sz="2000" spc="-1" strike="noStrike">
                <a:solidFill>
                  <a:srgbClr val="cc3300"/>
                </a:solidFill>
                <a:latin typeface="Constantia"/>
                <a:ea typeface="Constantia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est             горячий - горячее - самый горя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big → big</a:t>
            </a:r>
            <a:r>
              <a:rPr b="1" lang="ru-RU" sz="2000" spc="-1" strike="noStrike">
                <a:solidFill>
                  <a:srgbClr val="cc3300"/>
                </a:solidFill>
                <a:latin typeface="Constantia"/>
                <a:ea typeface="Constantia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er →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the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big</a:t>
            </a:r>
            <a:r>
              <a:rPr b="1" lang="ru-RU" sz="2000" spc="-1" strike="noStrike">
                <a:solidFill>
                  <a:srgbClr val="cc3300"/>
                </a:solidFill>
                <a:latin typeface="Constantia"/>
                <a:ea typeface="Constantia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est            большой - больше - самый больш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f"/>
          <p:cNvPicPr/>
          <p:nvPr/>
        </p:nvPicPr>
        <p:blipFill>
          <a:blip r:embed="rId1"/>
          <a:stretch/>
        </p:blipFill>
        <p:spPr>
          <a:xfrm>
            <a:off x="2971800" y="4419720"/>
            <a:ext cx="6219720" cy="2816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676520"/>
            <a:ext cx="4953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onstant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илагательное оканчивается на          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предшествующей согласной, то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яется на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bus</a:t>
            </a:r>
            <a:r>
              <a:rPr b="1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→  bus</a:t>
            </a:r>
            <a:r>
              <a:rPr b="1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er  →  bus</a:t>
            </a:r>
            <a:r>
              <a:rPr b="1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est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занятый - более занятый - самый заня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happ</a:t>
            </a:r>
            <a:r>
              <a:rPr b="1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→  happ</a:t>
            </a:r>
            <a:r>
              <a:rPr b="1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er  → happ</a:t>
            </a:r>
            <a:r>
              <a:rPr b="1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счастливый - счастливее - самый счаст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nbn"/>
          <p:cNvPicPr/>
          <p:nvPr/>
        </p:nvPicPr>
        <p:blipFill>
          <a:blip r:embed="rId1"/>
          <a:stretch/>
        </p:blipFill>
        <p:spPr>
          <a:xfrm>
            <a:off x="5137200" y="1906560"/>
            <a:ext cx="3809880" cy="3610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886200" y="1068480"/>
            <a:ext cx="51055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Если прилагательное имеет два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слогов, то в сравнительной степ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 ним употребляется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mor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восходной -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the mos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beautiful  → </a:t>
            </a:r>
            <a:r>
              <a:rPr b="0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mor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beautiful 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the most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beauti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красивый - красивее - самый крас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difficult  → </a:t>
            </a:r>
            <a:r>
              <a:rPr b="0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mor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difficult  →  </a:t>
            </a:r>
            <a:r>
              <a:rPr b="0" lang="en-US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the most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diffi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трудный - труднее - самый тру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tt"/>
          <p:cNvPicPr/>
          <p:nvPr/>
        </p:nvPicPr>
        <p:blipFill>
          <a:blip r:embed="rId1"/>
          <a:stretch/>
        </p:blipFill>
        <p:spPr>
          <a:xfrm>
            <a:off x="228600" y="2287440"/>
            <a:ext cx="3276720" cy="342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aa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228600" y="762120"/>
            <a:ext cx="8686800" cy="6019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87240" y="763560"/>
            <a:ext cx="8153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оторые двусложные прилагательные могут образовы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и сравнения и с окончаниям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–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-es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о словам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mor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most/les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least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57200" y="2286000"/>
            <a:ext cx="41148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ab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способ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angry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серди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clever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ум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common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распространённый,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cruel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жест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frequen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ча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friendly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дружелюб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gent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не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181480" y="2286000"/>
            <a:ext cx="3733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handsom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солидный, крас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narrow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уз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pleasan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прия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polit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веж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quie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тих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serious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серье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simp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про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sour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кис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3:49:00Z</dcterms:created>
  <dc:creator>Наташа</dc:creator>
  <dc:description/>
  <cp:keywords/>
  <dc:language>en-US</dc:language>
  <cp:lastModifiedBy>Ирина</cp:lastModifiedBy>
  <dcterms:modified xsi:type="dcterms:W3CDTF">2015-04-27T06:26:25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674</vt:lpwstr>
  </property>
  <property fmtid="{D5CDD505-2E9C-101B-9397-08002B2CF9AE}" pid="3" name="Version">
    <vt:r8>1</vt:r8>
  </property>
</Properties>
</file>