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1DE-283B-4E7A-9F7A-E3C8CEDA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8C9-4EEB-4799-9975-1A3649A3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F7B-C1B5-4CCA-A3C1-370DDAA3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09C-C92B-423C-9AE4-FAC43125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EBB-5EA0-4A4C-8083-681D3499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B9F-43E4-4AAB-8317-9E917417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22A-53B4-4D22-91BD-5D50FBC0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F7F-D3C8-4022-BE11-322F0250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25B-D21C-4337-B8E2-06597A1A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C6C-CABF-4579-AAB2-5B92084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A5A-EFC1-4F03-9B75-FD5AF4B5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ECE-0D3E-465C-A88E-1ECAF43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4680" y="-1440"/>
            <a:ext cx="9158040" cy="103644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29e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1440"/>
            <a:ext cx="4762440" cy="63324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fa6"/>
              </a:gs>
              <a:gs pos="100000">
                <a:srgbClr val="0089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90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37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C803-C5A4-4DEF-A491-00F6BAA54D9D}" type="slidenum">
              <a:rPr b="0" lang="ru-RU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-24480" y="-15480"/>
            <a:ext cx="9195120" cy="1085040"/>
            <a:chOff x="-24480" y="-15480"/>
            <a:chExt cx="9195120" cy="1085040"/>
          </a:xfrm>
        </p:grpSpPr>
        <p:sp>
          <p:nvSpPr>
            <p:cNvPr id="8" name="Полилиния 11"/>
            <p:cNvSpPr/>
            <p:nvPr/>
          </p:nvSpPr>
          <p:spPr>
            <a:xfrm rot="21435600">
              <a:off x="-14040" y="202680"/>
              <a:ext cx="9160200" cy="648000"/>
            </a:xfrm>
            <a:custGeom>
              <a:avLst/>
              <a:gdLst>
                <a:gd name="textAreaLeft" fmla="*/ 0 w 9160200"/>
                <a:gd name="textAreaRight" fmla="*/ 9160560 w 91602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12"/>
            <p:cNvSpPr/>
            <p:nvPr/>
          </p:nvSpPr>
          <p:spPr>
            <a:xfrm rot="21435600">
              <a:off x="-9360" y="276120"/>
              <a:ext cx="9172800" cy="529560"/>
            </a:xfrm>
            <a:custGeom>
              <a:avLst/>
              <a:gdLst>
                <a:gd name="textAreaLeft" fmla="*/ 0 w 9172800"/>
                <a:gd name="textAreaRight" fmla="*/ 9173160 w 91728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685440"/>
            <a:ext cx="76946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Презентация по </a:t>
            </a:r>
            <a:br>
              <a:rPr sz="5400"/>
            </a:b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английскому языку</a:t>
            </a:r>
            <a:br>
              <a:rPr sz="5400"/>
            </a:b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на тему:</a:t>
            </a:r>
            <a:br>
              <a:rPr sz="5400"/>
            </a:br>
            <a:r>
              <a:rPr b="1" lang="ru-RU" sz="4800" spc="-1" strike="noStrike">
                <a:solidFill>
                  <a:srgbClr val="ff9900"/>
                </a:solidFill>
                <a:latin typeface="Calibri"/>
              </a:rPr>
              <a:t>"Степени сравнения </a:t>
            </a:r>
            <a:br>
              <a:rPr sz="4800"/>
            </a:br>
            <a:r>
              <a:rPr b="1" lang="ru-RU" sz="4800" spc="-1" strike="noStrike">
                <a:solidFill>
                  <a:srgbClr val="ff9900"/>
                </a:solidFill>
                <a:latin typeface="Calibri"/>
              </a:rPr>
              <a:t>прилагательных"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1943280" y="5753160"/>
            <a:ext cx="101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 ученик 7 «Д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ы № 1392 им. Д.В. Рябинкина Гиенко Ар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736560"/>
            <a:ext cx="821376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тем, степени сравнения некоторых прилагательных имеют особу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у. Эти прилагательные, как и их формы, рекомендуется знать наизусть: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95440" y="1865160"/>
          <a:ext cx="7978680" cy="4581720"/>
        </p:xfrm>
        <a:graphic>
          <a:graphicData uri="http://schemas.openxmlformats.org/drawingml/2006/table">
            <a:tbl>
              <a:tblPr/>
              <a:tblGrid>
                <a:gridCol w="2658960"/>
                <a:gridCol w="2657520"/>
                <a:gridCol w="26622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b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о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луч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плох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/ muc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боль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old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стар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eld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ста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107" descr="rr"/>
          <p:cNvPicPr/>
          <p:nvPr/>
        </p:nvPicPr>
        <p:blipFill>
          <a:blip r:embed="rId1"/>
          <a:stretch/>
        </p:blipFill>
        <p:spPr>
          <a:xfrm>
            <a:off x="2065320" y="6078600"/>
            <a:ext cx="1036800" cy="68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8" descr="uy"/>
          <p:cNvPicPr/>
          <p:nvPr/>
        </p:nvPicPr>
        <p:blipFill>
          <a:blip r:embed="rId2"/>
          <a:stretch/>
        </p:blipFill>
        <p:spPr>
          <a:xfrm>
            <a:off x="7905600" y="1571760"/>
            <a:ext cx="1194120" cy="1046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79600" y="1174680"/>
          <a:ext cx="7994520" cy="5154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544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arth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ь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даль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даль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r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urth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ё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ьней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далё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a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поз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й поз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дних из дв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nea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ай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a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n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д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126" descr="rrrr"/>
          <p:cNvPicPr/>
          <p:nvPr/>
        </p:nvPicPr>
        <p:blipFill>
          <a:blip r:embed="rId1"/>
          <a:stretch/>
        </p:blipFill>
        <p:spPr>
          <a:xfrm>
            <a:off x="7669080" y="5303880"/>
            <a:ext cx="1443240" cy="148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7" descr="yy"/>
          <p:cNvPicPr/>
          <p:nvPr/>
        </p:nvPicPr>
        <p:blipFill>
          <a:blip r:embed="rId2"/>
          <a:stretch/>
        </p:blipFill>
        <p:spPr>
          <a:xfrm>
            <a:off x="1838160" y="295200"/>
            <a:ext cx="1032120" cy="912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60320"/>
            <a:ext cx="815328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spcBef>
                <a:spcPts val="649"/>
              </a:spcBef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 algn="just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4400" y="28954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спс"/>
          <p:cNvPicPr/>
          <p:nvPr/>
        </p:nvPicPr>
        <p:blipFill>
          <a:blip r:embed="rId1"/>
          <a:stretch/>
        </p:blipFill>
        <p:spPr>
          <a:xfrm>
            <a:off x="7315200" y="198108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72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Degrees of adjectives comparison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(степени сравнения прилагательных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" y="1981080"/>
            <a:ext cx="3809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агательные в англий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е не изменяются по чис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адежу, они измен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тепеням сравнени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сается каче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агате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агательные степе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я не име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gg"/>
          <p:cNvPicPr/>
          <p:nvPr/>
        </p:nvPicPr>
        <p:blipFill>
          <a:blip r:embed="rId1"/>
          <a:stretch/>
        </p:blipFill>
        <p:spPr>
          <a:xfrm>
            <a:off x="4191120" y="1752480"/>
            <a:ext cx="4671720" cy="4764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8480"/>
            <a:ext cx="822960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9933"/>
              </a:solidFill>
              <a:latin typeface="Calibri"/>
            </a:endParaRPr>
          </a:p>
        </p:txBody>
      </p:sp>
      <p:pic>
        <p:nvPicPr>
          <p:cNvPr id="53" name="Picture 3" descr="aa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304920" y="914400"/>
            <a:ext cx="8610480" cy="5867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04920" y="762120"/>
            <a:ext cx="8610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Степеней сравнения качественных прилагательных в английском языке т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ложительная (positive). Прилагательное в его обыч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big - 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равнительная (comparative). Показывает, что один объект облад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й степенью качества, чем другой. Образуется при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ффикс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er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частую используется с предлогом than (ч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bigger -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евосходная (superlative). Говорит о том, что объект и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высшую степень качества.Образуется при помощи суффикс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the biggest - самый большой/наиболь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295280" y="1066680"/>
            <a:ext cx="647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HGP明朝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9436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small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small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er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small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+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hh"/>
          <p:cNvPicPr/>
          <p:nvPr/>
        </p:nvPicPr>
        <p:blipFill>
          <a:blip r:embed="rId1"/>
          <a:stretch/>
        </p:blipFill>
        <p:spPr>
          <a:xfrm>
            <a:off x="304920" y="1600200"/>
            <a:ext cx="2786040" cy="39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hhh"/>
          <p:cNvPicPr/>
          <p:nvPr/>
        </p:nvPicPr>
        <p:blipFill>
          <a:blip r:embed="rId2"/>
          <a:stretch/>
        </p:blipFill>
        <p:spPr>
          <a:xfrm>
            <a:off x="3917880" y="2440080"/>
            <a:ext cx="2057400" cy="309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hh"/>
          <p:cNvPicPr/>
          <p:nvPr/>
        </p:nvPicPr>
        <p:blipFill>
          <a:blip r:embed="rId3"/>
          <a:stretch/>
        </p:blipFill>
        <p:spPr>
          <a:xfrm>
            <a:off x="7162920" y="3352680"/>
            <a:ext cx="1395360" cy="2248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057400" y="838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Let’s compare!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(Сравним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F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or example: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(Например: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09480" y="990720"/>
            <a:ext cx="815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low → lower 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lowest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низкий - ниже - самый ни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red → redder 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reddest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красный - краснее - самый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all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→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taller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tallest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высокий - выше - самый 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short → shorter 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shortest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короткий - короче - самый корот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old → older →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the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oldest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старый - старше - самый ста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yy"/>
          <p:cNvPicPr/>
          <p:nvPr/>
        </p:nvPicPr>
        <p:blipFill>
          <a:blip r:embed="rId1"/>
          <a:stretch/>
        </p:blipFill>
        <p:spPr>
          <a:xfrm>
            <a:off x="2209680" y="3429000"/>
            <a:ext cx="4811760" cy="33717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82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Remember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Arial"/>
              </a:rPr>
              <a:t>!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 (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Arial"/>
              </a:rPr>
              <a:t>Запомни!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8760" y="838080"/>
            <a:ext cx="89121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илагательных с одним слогом, последняя буква удваиваетс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авляется суффикс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hot → hot</a:t>
            </a:r>
            <a:r>
              <a:rPr b="1" lang="ru-RU" sz="2000" spc="-1" strike="noStrike">
                <a:solidFill>
                  <a:srgbClr val="cc3300"/>
                </a:solidFill>
                <a:latin typeface="Constantia"/>
                <a:ea typeface="Constantia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er → the hot</a:t>
            </a:r>
            <a:r>
              <a:rPr b="1" lang="ru-RU" sz="2000" spc="-1" strike="noStrike">
                <a:solidFill>
                  <a:srgbClr val="cc3300"/>
                </a:solidFill>
                <a:latin typeface="Constantia"/>
                <a:ea typeface="Constantia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est             горячий - горячее - самый горя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big → big</a:t>
            </a:r>
            <a:r>
              <a:rPr b="1" lang="ru-RU" sz="2000" spc="-1" strike="noStrike">
                <a:solidFill>
                  <a:srgbClr val="cc3300"/>
                </a:solidFill>
                <a:latin typeface="Constantia"/>
                <a:ea typeface="Constanti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er →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the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big</a:t>
            </a:r>
            <a:r>
              <a:rPr b="1" lang="ru-RU" sz="2000" spc="-1" strike="noStrike">
                <a:solidFill>
                  <a:srgbClr val="cc3300"/>
                </a:solidFill>
                <a:latin typeface="Constantia"/>
                <a:ea typeface="Constanti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Constantia"/>
              </a:rPr>
              <a:t>est            большой - больше - самый больш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f"/>
          <p:cNvPicPr/>
          <p:nvPr/>
        </p:nvPicPr>
        <p:blipFill>
          <a:blip r:embed="rId1"/>
          <a:stretch/>
        </p:blipFill>
        <p:spPr>
          <a:xfrm>
            <a:off x="2971800" y="4419720"/>
            <a:ext cx="6219720" cy="2816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676520"/>
            <a:ext cx="4953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onstant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лагательное оканчивается на         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предшествующей согласной, т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яется на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bus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→  bus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er  →  bus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es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занятый - более занятый - самый заня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happ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 →  happ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er  → happ</a:t>
            </a:r>
            <a:r>
              <a:rPr b="1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частливый - счастливее - самый счас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nbn"/>
          <p:cNvPicPr/>
          <p:nvPr/>
        </p:nvPicPr>
        <p:blipFill>
          <a:blip r:embed="rId1"/>
          <a:stretch/>
        </p:blipFill>
        <p:spPr>
          <a:xfrm>
            <a:off x="5137200" y="1906560"/>
            <a:ext cx="3809880" cy="3610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886200" y="1068480"/>
            <a:ext cx="51055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Если прилагательное имеет два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слогов, то в сравнительной степ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 ним употребляется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mo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осходной -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the mo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beautiful  → </a:t>
            </a:r>
            <a:r>
              <a:rPr b="0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mor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beautiful 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the most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beauti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красивый - красивее - самый крас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difficult  → </a:t>
            </a:r>
            <a:r>
              <a:rPr b="0" lang="ru-RU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mor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difficult  →  </a:t>
            </a:r>
            <a:r>
              <a:rPr b="0" lang="en-US" sz="1800" spc="-1" strike="noStrike">
                <a:solidFill>
                  <a:srgbClr val="cc3300"/>
                </a:solidFill>
                <a:latin typeface="Constantia"/>
                <a:ea typeface="Constantia"/>
              </a:rPr>
              <a:t>the mos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 diffi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трудный - труднее - самый тру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tt"/>
          <p:cNvPicPr/>
          <p:nvPr/>
        </p:nvPicPr>
        <p:blipFill>
          <a:blip r:embed="rId1"/>
          <a:stretch/>
        </p:blipFill>
        <p:spPr>
          <a:xfrm>
            <a:off x="228600" y="2287440"/>
            <a:ext cx="3276720" cy="342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aa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228600" y="762120"/>
            <a:ext cx="8686800" cy="6019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87240" y="763560"/>
            <a:ext cx="815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двусложные прилагательные могут образовы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и сравнения и с окончаниям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–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-es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 словам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mo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most/les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least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2286000"/>
            <a:ext cx="41148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ab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посо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angry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ерди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clever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у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common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распространённый,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cruel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жест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freque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ча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friendly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дружелю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gent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н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181480" y="2286000"/>
            <a:ext cx="3733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handsom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олидный, крас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narrow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у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pleasa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прия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polit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веж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quie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тих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serious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серье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simp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про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sour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Constantia"/>
              </a:rPr>
              <a:t>ки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3:49:00Z</dcterms:created>
  <dc:creator>Наташа</dc:creator>
  <dc:description/>
  <cp:keywords/>
  <dc:language>en-US</dc:language>
  <cp:lastModifiedBy>Ирина</cp:lastModifiedBy>
  <dcterms:modified xsi:type="dcterms:W3CDTF">2015-04-27T06:26:25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674</vt:lpwstr>
  </property>
  <property fmtid="{D5CDD505-2E9C-101B-9397-08002B2CF9AE}" pid="3" name="Version">
    <vt:r8>1</vt:r8>
  </property>
</Properties>
</file>