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4FC-2352-47DD-966F-09614537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211-D9BD-4144-9D54-C454BAA6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CFF-28FF-4143-BB47-88B16FF1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494-7D1C-43DB-B507-724F49F8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21D-D9CC-424C-ABCC-00E1E601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5D45-CADE-4C46-AB20-C2DB7176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181C-2DAF-4239-BC88-CF41340E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506-3FB3-477C-B9FA-080D8F13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CD4-0C1F-4AB0-9D69-92B6E22D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F9CF-F1A1-47B8-BB47-3EE8FA75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BCF-9C22-40F2-B5AA-68D660A4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69C-17F5-483D-8B02-6C1E41C7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4166-DA50-4949-AB55-59AFF31CECE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31C4-CE67-4CE7-96B6-5BC265F374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mc.komi.com/02/17/img/027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88px-Finno-ugrian-map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5580000" y="375840"/>
            <a:ext cx="33638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но-угры зани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ширную территор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Северной Евразии (от Балтики и Дона до Урала. Москва — финно-угорское наименование по мнению некоторых лингвистов). Они жили в лесах и занимались в основном охотой, собирательством, рыбной лов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и добывали из болотистых руд железо, из которого изготавли-вали орудия труда. Это позволяло отвоевывать у леса значительные терр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финно-угоры"/>
          <p:cNvPicPr/>
          <p:nvPr/>
        </p:nvPicPr>
        <p:blipFill>
          <a:blip r:embed="rId1"/>
          <a:stretch/>
        </p:blipFill>
        <p:spPr>
          <a:xfrm>
            <a:off x="0" y="0"/>
            <a:ext cx="2654280" cy="371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5327640" y="2349360"/>
            <a:ext cx="3816360" cy="4508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2700360" y="404640"/>
            <a:ext cx="575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данным археологии, финно-угры жили в селищах и городищах, окруженных мощными валами, рвами и деревянным тыном. Под защитой укреплений наход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2627280" y="2276640"/>
            <a:ext cx="28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землянки, загоны для ско-та. Скотовод-ство было одн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250920" y="3860640"/>
            <a:ext cx="504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главных занятий, хотя зани-мались и мотыжным земледе-лием. Они знали ремесла – гончарное производство, ткачество, из цветных метал-лов изготавливали укра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6156360" y="2637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ез вала город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olsh_01"/>
          <p:cNvPicPr/>
          <p:nvPr/>
        </p:nvPicPr>
        <p:blipFill>
          <a:blip r:embed="rId1"/>
          <a:stretch/>
        </p:blipFill>
        <p:spPr>
          <a:xfrm>
            <a:off x="179280" y="15840"/>
            <a:ext cx="8640720" cy="6813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68360" y="3500280"/>
            <a:ext cx="410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оме угро-финнов на территории Восточно – Европейской равнине жили племена древних балтов. Их образ жизни не слишком отличался от их сосе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Картинка 4 из 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580000" cy="3689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0" y="3716280"/>
            <a:ext cx="49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Иванов. Торг в стане восточных слав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580000" y="260280"/>
            <a:ext cx="331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авяне зас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я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территории финно-угров и балтов мирным путем. Такое освоение приводило к смешению их с местными племе-нами и вело к добрососедским отношениям, осно-ванным на взаимо-влия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8"/>
          <p:cNvSpPr txBox="1"/>
          <p:nvPr/>
        </p:nvSpPr>
        <p:spPr>
          <a:xfrm>
            <a:off x="1042920" y="4653000"/>
            <a:ext cx="136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2268360" y="5229360"/>
            <a:ext cx="64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Как вы думаете, почему продвижение славян носило мирный характе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95280" y="4986360"/>
            <a:ext cx="8064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92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Колонизация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- процесс заселения и хозяйственного освоения пустующих окраинных земель своей страны ("внутренняя К."), а также основания поселений (связанных преимущественно с земледельческой деятельностью) за пределами своей страны ("внешняя К."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09:15:36Z</dcterms:created>
  <dc:creator>User</dc:creator>
  <dc:description>http://aida.ucoz.ru</dc:description>
  <dc:language>en-US</dc:language>
  <cp:lastModifiedBy>PortnovaI</cp:lastModifiedBy>
  <dcterms:modified xsi:type="dcterms:W3CDTF">2015-04-27T04:54:21Z</dcterms:modified>
  <cp:revision>140</cp:revision>
  <dc:subject/>
  <dc:title>Слайд 1</dc:title>
</cp:coreProperties>
</file>