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695-66F4-4D4D-90A2-DCEA2AF7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96-2D3F-4A9C-8942-2EFEC5F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58B-F965-48B1-BA57-6E136990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25E-D8C8-4C01-91E2-148DCDEE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007-D8EC-427B-812F-825CAA56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C29-7F12-4EBA-91CD-DE803E8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237-4FDD-4FBD-AE22-B51F7D5F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51EC-A785-4E31-B6CE-7C50C9E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447-7166-4DF3-998C-2E33F64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92D-D1CC-4DDA-A7E8-FED6677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A41-1D67-4462-A6F3-C26FD65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5CC-0961-4EB2-BB58-0C8B9CA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1CC-E5D6-4B2E-8BD5-1A7C51D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2DD-82C2-4483-9143-E4BF3C9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DD0D-D51D-4C35-B9F1-834E4A1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B96F-24B2-4B23-B376-29A6ED99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C79B-CC92-4BBE-9812-78241F5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708-58DB-496C-B80C-CA6D851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FB5-E26B-4B13-88AB-EB5FA45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529-4FAE-4AAB-A0BD-EC07B80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9CC-2B8F-4505-B210-1A2FF614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8C3-DAB1-40A0-948C-4610F26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8AF-560D-436C-8CF9-177A11F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8D9-90AE-42FB-9D4C-784604E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090-6B2D-487C-9358-9B7F6BAC32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278D-D3F5-44D0-8BCC-AAEFC38ED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Ценности  толерантности в  культуре  диалога  на  современном  этапе  школьных  преобразова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350028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к  - исследование по  курсу  литературы 6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з  А.П.Чех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очь  Альбион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ртреты «своих - чужи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ульминац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ассказа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1916280"/>
            <a:ext cx="3389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энергически  двигая  бровями…задви-гала  бровями  и  замигала  глазами…По  жёлтому  лицу  её  пробежала  надменная  презрительная  улыбка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4130640" cy="5259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91280" y="1484280"/>
            <a:ext cx="38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- 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916280"/>
          <a:ext cx="7772400" cy="4836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ведение//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й, невоспитанный, ленивый,  ведёт  себя  по- хамски, безответственный, хотя  и  упрекает  себя(«Сижу, как подлец  какой –нибудь…» Оскорбляет  окружающих, даже  не  понимая  этого. Глумится  над  англичанк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ведение// характ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внула, «измерила Грябова  презрительным  взглядом»- 3-жды  повторяется «с  презрением»// высокомерие; хладнокровие, самообладание, ограниченность(«Живет, дурища  в  России  10лет, и  хоть  бы  одно  слово  по-русски»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крат: « Скажи, и  я  тебя  увижу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95640" y="1988640"/>
            <a:ext cx="65577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ябов  об  англичанк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кимора, стерлядь, чертовка, чучело, дурища; не  женщина, а  девица; чёртова  кукла, каналья(пройдоха), человек, царь  природы, тритон, напоминает  длинный  гвоздь; всё-таки  дама; им, иностранцам; подл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159840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 -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чевая  характеристика//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, грубый, изобретателен в  придумывании  имён  для  англичанки, с воображение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юбимое занятие – рыбалка.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ечевая  характеристика// только  одна  английская  фраза  без  перевода, но  мимикой, жестами, манерой  поведения  героиня  выражает  своё  отношение  к  происходящ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юбимое  занятие- рыбал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Г.Фрейтаг:« В  душе  каждого  человека  находится  миниатюрный  портрет  его  народа»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убость, хамство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воспитанность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т  чувства  меры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моциональность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обретательность,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критич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 безвольность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сокомерие, хладнокровие, самообладани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ккурат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дантично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опор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476280"/>
            <a:ext cx="66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. Лакшин  писал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7577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« … самым  щадящим  оружием, но  и  самым надёжным  лекарством против  заносчивости, глупости, грубости  служит  чеховский  юмор. Для  Чехова  юмор – наиболее  изящная  форма  выражения  чувства  справедлив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22960" y="1989000"/>
            <a:ext cx="361152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Свой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чужой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417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одич, соотечественник, друг, родной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ужак, чужестранец, чужеземе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остранец, иноземец, нерод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323352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4573440" y="4752720"/>
            <a:ext cx="201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357300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2064960"/>
            <a:ext cx="65232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дантичный(строгий  в  выполнении  всех  требований),эмоциональный, аккуратный, упорны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зответстве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омерный, чопорный( строгий  в  соблюдении  правил  поведения, приличий), открытый, сдержанный,  консервативный (отстаивающий  традиции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ый, непредсказуемый, невозмутимый, щед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64760"/>
            <a:ext cx="64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берите  5 прилагательных, характеризу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нгличанина  и   русског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глича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68760" cy="552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1607760"/>
            <a:ext cx="509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дантичный (строгий  в  выполнении  всех  требований; чрезвычайно   точный  и  аккуратный) ,  высокомер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онсервативный(отстаивающий  традиции) , невозмутим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чопорный( строгий  в  соблюдении  правил  поведения, приличий),  сдержанный, аккура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446904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Эмоциональный, непредсказуемы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щедрый, открытый, безответственный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24360" y="1125360"/>
            <a:ext cx="3191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глича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йти по-английски – не  прощаясь, незаме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ты  характера - нежелание  обременять  себя и  других; отстранённость, желание  быть  незаметны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17560" y="3243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33560" y="34599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63560" y="4291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 размах – широко, не  стесняясь  в  средствах, расхода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ты  характера - широта  души, щедрость, легкомысл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арактеристика  имё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1341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файс –тьфу(русский человек произноси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 междометие, когда  чем-то  недоволен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рльзовна – распространённое английское  имя. Принц  Чарльз, Чарльз  Диккен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илька – Уи = В (вилька= вилка). Что-то  острое, сравни  гвоздь  в  речи  Грябо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-то  колющее, болезненное, см. у  Грябова « словно  я  локтем  о  перила  ударилс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ябов – грб –нечто  грубое  и  неблагозвучно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 - англича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).Портрет комический -дважды  употребляется прилагательное «большой», толстый; подчёркивается   небрежность  героя в одежде, его  нелепость,  он  не  задумывается  о  приличиях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).Портрет комический; героиня несимпатична.  Эпитеты:  «рачьим, птичьим»; сравнение «нос, похожий  на крючок» подчёркивают  в  ней что-то  хищное; тощие, жёлтые  пл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5:36:55Z</dcterms:created>
  <dc:creator>Tem</dc:creator>
  <dc:description/>
  <dc:language>en-US</dc:language>
  <cp:lastModifiedBy>Tem</cp:lastModifiedBy>
  <dcterms:modified xsi:type="dcterms:W3CDTF">2009-02-24T19:19:30Z</dcterms:modified>
  <cp:revision>8</cp:revision>
  <dc:subject/>
  <dc:title>Ценности  толерантности в  культуре  диалога  на  современном  этапе  школьных  преобразований</dc:title>
</cp:coreProperties>
</file>