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C267-8742-4DB4-BA9F-5268D7697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DDCB-6864-4D46-B09D-7951C06C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381D-7118-40D9-B465-61516B987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E4C2-1C6B-46ED-8BDC-60901D236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C69D-699E-4D76-88CB-BA419C532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2AB8-B684-448F-9920-B9E4D293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A4B8-B126-4E5C-8191-7EFEEA05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83A4-0D15-4A8D-A4E0-517A0FEB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F07E-C67B-40DD-BBF3-543FF5F0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2FAF-091E-4DA8-9625-69E22978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F572-0106-4B2F-9873-1FC7D485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863E-6AAC-4493-85D6-F45BFDD6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67E1-E302-4DCC-8198-B815056B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81DE-177D-4322-9D08-86D4EADE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9409-77B6-4AE0-8CCE-03C8B85A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D9B6-1FC2-48B6-95BB-117988740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BD9C-CA57-44A1-BCB8-E4B9E93B2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EC6D-B308-421B-8EAF-0108848E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DD4E-E4E3-41A3-AABB-EF82C759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92E4-991C-4E89-AB08-0D4F4969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BE76-FCF6-49F9-ACFE-826BDA6B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FA78-4C3A-4093-8921-F8D37D1A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D142-974F-41E3-88D5-77FFC845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96D1-12D1-4BEC-A8C4-E28930C3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E9ED-0E0C-4ABD-8B75-A6E225A422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6BE1-018A-4A97-ACEE-2E21BD043E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0000" y="134136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Monotype Corsiva"/>
              </a:rPr>
              <a:t>Ценности  толерантности в  культуре  диалога  на  современном  этапе  школьных  преобразований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03280" y="350028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рок  - исследование по  курсу  литературы 6 класс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сказ  А.П.Чехов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Дочь  Альбиона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ртреты «своих - чужих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Кульминация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рассказа</a:t>
            </a:r>
            <a:br>
              <a:rPr sz="28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240" y="1916280"/>
            <a:ext cx="33894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энергически  двигая  бровями…задви-гала  бровями  и  замигала  глазами…По  жёлтому  лицу  её  пробежала  надменная  презрительная  улыбка…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859280" y="549360"/>
            <a:ext cx="4130640" cy="52592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291280" y="1484280"/>
            <a:ext cx="38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усский- англичан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00000" y="1916280"/>
          <a:ext cx="7772400" cy="48369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84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оведение// харак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бый, невоспитанный, ленивый,  ведёт  себя  по- хамски, безответственный, хотя  и  упрекает  себя(«Сижу, как подлец  какой –нибудь…» Оскорбляет  окружающих, даже  не  понимая  этого. Глумится  над  англичанко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оведение// характе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внула, «измерила Грябова  презрительным  взглядом»- 3-жды  повторяется «с  презрением»// высокомерие; хладнокровие, самообладание, ограниченность(«Живет, дурища  в  России  10лет, и  хоть  бы  одно  слово  по-русски»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ократ: « Скажи, и  я  тебя  увижу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195640" y="1988640"/>
            <a:ext cx="655776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рябов  об  англичанк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икимора, стерлядь, чертовка, чучело, дурища; не  женщина, а  девица; чёртова  кукла, каналья(пройдоха), человек, царь  природы, тритон, напоминает  длинный  гвоздь; всё-таки  дама; им, иностранцам; подл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4000" y="2708280"/>
            <a:ext cx="1598400" cy="230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усский -англичан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182600" y="201780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Речевая  характеристика// харак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иональный, грубый, изобретателен в  придумывании  имён  для  англичанки, с воображением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Любимое занятие – рыбалка.            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Речевая  характеристика// только  одна  английская  фраза  без  перевода, но  мимикой, жестами, манерой  поведения  героиня  выражает  своё  отношение  к  происходящему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Любимое  занятие- рыбалк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Г.Фрейтаг:« В  душе  каждого  человека  находится  миниатюрный  портрет  его  народа»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Грубость, хамство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евоспитанность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ет  чувства  меры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эмоциональность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зобретательность,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амокритичность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о  безвольность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ысокомерие, хладнокровие, самообладание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ккуратность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едантичность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чопорнос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63280" y="476280"/>
            <a:ext cx="6676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. Лакшин  писал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47577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« … самым  щадящим  оружием, но  и  самым надёжным  лекарством против  заносчивости, глупости, грубости  служит  чеховский  юмор. Для  Чехова  юмор – наиболее  изящная  форма  выражения  чувства  справедливости»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322960" y="1989000"/>
            <a:ext cx="3611520" cy="42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«Свой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чужой»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26560" y="2276280"/>
            <a:ext cx="74170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родич, соотечественник, друг, родной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ужак, чужестранец, чужеземец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остранец, иноземец, неродно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651640" y="260280"/>
            <a:ext cx="3233520" cy="242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4573440" y="4752720"/>
            <a:ext cx="2016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7280" y="3573000"/>
            <a:ext cx="73454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042920" y="2064960"/>
            <a:ext cx="652320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дантичный(строгий  в  выполнении  всех  требований),эмоциональный, аккуратный, упорны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безответствен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сокомерный, чопорный( строгий  в  соблюдении  правил  поведения, приличий), открытый, сдержанный,  консервативный (отстаивающий  традиции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полнительный, непредсказуемый, невозмутимый, щедр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464760"/>
            <a:ext cx="646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ыберите  5 прилагательных, характеризующ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англичанина  и   русского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Англичани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084720" y="836640"/>
            <a:ext cx="2768760" cy="5527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55640" y="1607760"/>
            <a:ext cx="50976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Педантичный (строгий  в  выполнении  всех  требований; чрезвычайно   точный  и  аккуратный) ,  высокомерн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консервативный(отстаивающий  традиции) , невозмутим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чопорный( строгий  в  соблюдении  правил  поведения, приличий),  сдержанный, аккурат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усски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1916280"/>
            <a:ext cx="446904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Эмоциональный, непредсказуемый,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щедрый, открытый, безответственный.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724360" y="1125360"/>
            <a:ext cx="3191040" cy="476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Англичани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йти по-английски – не  прощаясь, незаметн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ерты  характера - нежелание  обременять  себя и  других; отстранённость, желание  быть  незаметным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4417560" y="32439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33560" y="34599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63560" y="42919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усски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усский  размах – широко, не  стесняясь  в  средствах, расходах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ерты  характера - широта  души, щедрость, легкомысли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Характеристика  имё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5640" y="1989000"/>
            <a:ext cx="713412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файс –тьфу(русский человек произносит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о  междометие, когда  чем-то  недоволен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арльзовна – распространённое английское  имя. Принц  Чарльз, Чарльз  Диккенс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илька – Уи = В (вилька= вилка). Что-то  острое, сравни  гвоздь  в  речи  Грябов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-то  колющее, болезненное, см. у  Грябова « словно  я  локтем  о  перила  ударился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рябов – грб –нечто  грубое  и  неблагозвучно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усский - англичан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182600" y="201780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).Портрет комический -дважды  употребляется прилагательное «большой», толстый; подчёркивается   небрежность  героя в одежде, его  нелепость,  он  не  задумывается  о  приличиях.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).Портрет комический; героиня несимпатична.  Эпитеты:  «рачьим, птичьим»; сравнение «нос, похожий  на крючок» подчёркивают  в  ней что-то  хищное; тощие, жёлтые  пле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5:36:55Z</dcterms:created>
  <dc:creator>Tem</dc:creator>
  <dc:description/>
  <dc:language>en-US</dc:language>
  <cp:lastModifiedBy>Tem</cp:lastModifiedBy>
  <dcterms:modified xsi:type="dcterms:W3CDTF">2009-02-24T19:19:30Z</dcterms:modified>
  <cp:revision>8</cp:revision>
  <dc:subject/>
  <dc:title>Ценности  толерантности в  культуре  диалога  на  современном  этапе  школьных  преобразований</dc:title>
</cp:coreProperties>
</file>