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jpeg" ContentType="image/jpeg"/>
  <Override PartName="/ppt/media/image12.jpeg" ContentType="image/jpeg"/>
  <Override PartName="/ppt/media/image13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5BCE-044C-4BC6-85AB-2C90DA518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7D21-2C65-4961-A4A3-89011CE0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369F-059A-497A-B1AC-2CA933918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F8DA-6ACB-451C-BCF2-2D286BD15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F3FC-F26B-416C-8792-6F769009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72C9-D743-44A8-9E36-E346F93F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AB7B-03FF-4AA5-9FBA-EFA9DCD5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36A0-6E9E-4359-A7D8-898CD0CE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2F4A-831D-4A22-A7F0-ECDE2065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DB89-110D-41DC-BE77-0EDBBEFB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D8D0-FCC9-4C31-B9C0-D5601913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92E1-05E0-4A45-81B2-79414C55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A318-C8DE-4B73-ADFF-F2C074FEB3D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604360" cy="18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лассный час на тему:</a:t>
            </a:r>
            <a:br>
              <a:rPr sz="4000"/>
            </a:br>
            <a:r>
              <a:rPr b="0" lang="ru-RU" sz="3600" spc="-1" strike="noStrike">
                <a:solidFill>
                  <a:srgbClr val="4d4d4d"/>
                </a:solidFill>
                <a:latin typeface="Arial"/>
              </a:rPr>
              <a:t>«ТОЛЕРАНТНОСТЬ»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2" name="Picture 4" descr="00002864"/>
          <p:cNvPicPr/>
          <p:nvPr/>
        </p:nvPicPr>
        <p:blipFill>
          <a:blip r:embed="rId1"/>
          <a:srcRect l="0" t="19222" r="0" b="8701"/>
          <a:stretch/>
        </p:blipFill>
        <p:spPr>
          <a:xfrm>
            <a:off x="2340000" y="2852640"/>
            <a:ext cx="3960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 </a:t>
            </a:r>
            <a:r>
              <a:rPr b="0" lang="ru-RU" sz="3600" spc="-1" strike="noStrike">
                <a:solidFill>
                  <a:srgbClr val="b7e7ff"/>
                </a:solidFill>
                <a:latin typeface="Arial"/>
              </a:rPr>
              <a:t> 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форизмы и изречения великих мыслителей помогают нам видеть мир глазами других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6" name="Picture 6" descr="p13_bezyimyannyiy1"/>
          <p:cNvPicPr/>
          <p:nvPr/>
        </p:nvPicPr>
        <p:blipFill>
          <a:blip r:embed="rId1"/>
          <a:stretch/>
        </p:blipFill>
        <p:spPr>
          <a:xfrm>
            <a:off x="468360" y="2276640"/>
            <a:ext cx="3166920" cy="33843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066920" y="1844280"/>
            <a:ext cx="48466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Поступай с другими так, как ты хотел бы, чтобы они поступали с тобой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 Золотое правило этик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Только тот истинно учён, кто хорошо поступа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Древнеиндийский афоризм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Трёх вещей нужно избегать (в жизни) : ненависти, зависти и презр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Восточная мудрост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 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1343160" y="7376760"/>
            <a:ext cx="78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2268360" y="3860280"/>
            <a:ext cx="60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форизмы и изречения великих мыслителей помогают нам видеть мир глазами других.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24000" y="1676160"/>
            <a:ext cx="491796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Пусть дела твои будут такими, какими ты хотел бы их вспоминать на склоне л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Марк Аврели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Смысл человеческой жизни – быть источником света и тепла для других людей. Быть сознанием Вселенной и совестью человече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Рубинштейн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7" descr="p13_bezyimyannyiy1"/>
          <p:cNvPicPr/>
          <p:nvPr/>
        </p:nvPicPr>
        <p:blipFill>
          <a:blip r:embed="rId1"/>
          <a:stretch/>
        </p:blipFill>
        <p:spPr>
          <a:xfrm>
            <a:off x="250920" y="1916280"/>
            <a:ext cx="35290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e941c"/>
                </a:solidFill>
                <a:latin typeface="Arial"/>
              </a:rPr>
              <a:t>Друзья, давайте жить дружно!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8510760" cy="24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акие непохожие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 в мнениях расхожие,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се абсолютно разные,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 свете мы живём.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510760" cy="276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учиться очень нужно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 этом мире жить нам дружно,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ыть терпимым к близким людям,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х любить и уважать.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510760" cy="28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e941c"/>
                </a:solidFill>
                <a:latin typeface="Arial"/>
              </a:rPr>
              <a:t>Доброта и пониманье,</a:t>
            </a:r>
            <a:br>
              <a:rPr sz="4400"/>
            </a:br>
            <a:r>
              <a:rPr b="0" lang="ru-RU" sz="4400" spc="-1" strike="noStrike">
                <a:solidFill>
                  <a:srgbClr val="ee941c"/>
                </a:solidFill>
                <a:latin typeface="Arial"/>
              </a:rPr>
              <a:t>К окружающим вниманье.</a:t>
            </a:r>
            <a:br>
              <a:rPr sz="4400"/>
            </a:br>
            <a:r>
              <a:rPr b="0" lang="ru-RU" sz="4400" spc="-1" strike="noStrike">
                <a:solidFill>
                  <a:srgbClr val="ee941c"/>
                </a:solidFill>
                <a:latin typeface="Arial"/>
              </a:rPr>
              <a:t>И тогда мы сможем с вами</a:t>
            </a:r>
            <a:br>
              <a:rPr sz="4400"/>
            </a:br>
            <a:r>
              <a:rPr b="0" lang="ru-RU" sz="4400" spc="-1" strike="noStrike">
                <a:solidFill>
                  <a:srgbClr val="ee941c"/>
                </a:solidFill>
                <a:latin typeface="Arial"/>
              </a:rPr>
              <a:t>Мирно сосуществовать!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img06"/>
          <p:cNvPicPr/>
          <p:nvPr/>
        </p:nvPicPr>
        <p:blipFill>
          <a:blip r:embed="rId1"/>
          <a:stretch/>
        </p:blipFill>
        <p:spPr>
          <a:xfrm>
            <a:off x="0" y="0"/>
            <a:ext cx="2200320" cy="1390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pic23"/>
          <p:cNvPicPr/>
          <p:nvPr/>
        </p:nvPicPr>
        <p:blipFill>
          <a:blip r:embed="rId2"/>
          <a:stretch/>
        </p:blipFill>
        <p:spPr>
          <a:xfrm>
            <a:off x="2195640" y="0"/>
            <a:ext cx="2232000" cy="1371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pic19"/>
          <p:cNvPicPr/>
          <p:nvPr/>
        </p:nvPicPr>
        <p:blipFill>
          <a:blip r:embed="rId3"/>
          <a:stretch/>
        </p:blipFill>
        <p:spPr>
          <a:xfrm>
            <a:off x="4500720" y="0"/>
            <a:ext cx="2160360" cy="1327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img03"/>
          <p:cNvPicPr/>
          <p:nvPr/>
        </p:nvPicPr>
        <p:blipFill>
          <a:blip r:embed="rId4"/>
          <a:stretch/>
        </p:blipFill>
        <p:spPr>
          <a:xfrm>
            <a:off x="6732720" y="0"/>
            <a:ext cx="2200320" cy="1390680"/>
          </a:xfrm>
          <a:prstGeom prst="rect">
            <a:avLst/>
          </a:prstGeom>
          <a:ln w="0">
            <a:noFill/>
          </a:ln>
        </p:spPr>
      </p:pic>
      <p:sp>
        <p:nvSpPr>
          <p:cNvPr id="101" name="WordArt 6"/>
          <p:cNvSpPr txBox="1"/>
          <p:nvPr/>
        </p:nvSpPr>
        <p:spPr>
          <a:xfrm>
            <a:off x="395280" y="2060640"/>
            <a:ext cx="3529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юбов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2" name="WordArt 7"/>
          <p:cNvSpPr txBox="1"/>
          <p:nvPr/>
        </p:nvSpPr>
        <p:spPr>
          <a:xfrm>
            <a:off x="2700360" y="3573360"/>
            <a:ext cx="431964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щени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3" name="WordArt 8"/>
          <p:cNvSpPr txBox="1"/>
          <p:nvPr/>
        </p:nvSpPr>
        <p:spPr>
          <a:xfrm>
            <a:off x="3924360" y="5229360"/>
            <a:ext cx="4464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рпени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26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05" name="Object 4"/>
          <p:cNvGraphicFramePr/>
          <p:nvPr/>
        </p:nvGraphicFramePr>
        <p:xfrm>
          <a:off x="2556000" y="2708280"/>
          <a:ext cx="3528720" cy="23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708280"/>
                    <a:ext cx="352872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Что такое 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толерантность?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Arial"/>
              </a:rPr>
              <a:t>Толерантность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– это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уважение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принятие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и правильное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понимание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богатого многообразия культур нашего мира, наших форм самовыражения и способов проявлений человеческой индивидуальност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d4d4d"/>
                </a:solidFill>
                <a:latin typeface="Arial"/>
              </a:rPr>
              <a:t>16 ноября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- Международный день толерантности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мысл этого слова очень важен для существования и развития человеческого общества.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Современный культурный человек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 не только образованный человек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 человек, обладающий чувством самоуважения и уважаемый окружающи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611280" y="189000"/>
            <a:ext cx="780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Engravers MT"/>
              </a:rPr>
              <a:t>Все люди на планете Земля разны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3" descr="nation02"/>
          <p:cNvPicPr/>
          <p:nvPr/>
        </p:nvPicPr>
        <p:blipFill>
          <a:blip r:embed="rId1"/>
          <a:stretch/>
        </p:blipFill>
        <p:spPr>
          <a:xfrm>
            <a:off x="6227640" y="1268280"/>
            <a:ext cx="2737080" cy="182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5861"/>
          <p:cNvPicPr/>
          <p:nvPr/>
        </p:nvPicPr>
        <p:blipFill>
          <a:blip r:embed="rId2"/>
          <a:stretch/>
        </p:blipFill>
        <p:spPr>
          <a:xfrm>
            <a:off x="324000" y="907920"/>
            <a:ext cx="2036520" cy="3041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lrg_120415_DSC00044"/>
          <p:cNvPicPr/>
          <p:nvPr/>
        </p:nvPicPr>
        <p:blipFill>
          <a:blip r:embed="rId3"/>
          <a:stretch/>
        </p:blipFill>
        <p:spPr>
          <a:xfrm>
            <a:off x="2556000" y="3500280"/>
            <a:ext cx="2912760" cy="218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3-1"/>
          <p:cNvPicPr/>
          <p:nvPr/>
        </p:nvPicPr>
        <p:blipFill>
          <a:blip r:embed="rId4"/>
          <a:stretch/>
        </p:blipFill>
        <p:spPr>
          <a:xfrm>
            <a:off x="2771640" y="1125360"/>
            <a:ext cx="3035520" cy="2276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468"/>
          <p:cNvPicPr/>
          <p:nvPr/>
        </p:nvPicPr>
        <p:blipFill>
          <a:blip r:embed="rId5"/>
          <a:srcRect l="0" t="0" r="0" b="9066"/>
          <a:stretch/>
        </p:blipFill>
        <p:spPr>
          <a:xfrm>
            <a:off x="5508720" y="4551480"/>
            <a:ext cx="3381120" cy="2306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4"/>
          <p:cNvPicPr/>
          <p:nvPr/>
        </p:nvPicPr>
        <p:blipFill>
          <a:blip r:embed="rId6"/>
          <a:stretch/>
        </p:blipFill>
        <p:spPr>
          <a:xfrm>
            <a:off x="5867280" y="270828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45"/>
          <p:cNvPicPr/>
          <p:nvPr/>
        </p:nvPicPr>
        <p:blipFill>
          <a:blip r:embed="rId7"/>
          <a:stretch/>
        </p:blipFill>
        <p:spPr>
          <a:xfrm>
            <a:off x="250920" y="4221000"/>
            <a:ext cx="2031840" cy="1524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чукча"/>
          <p:cNvPicPr/>
          <p:nvPr/>
        </p:nvPicPr>
        <p:blipFill>
          <a:blip r:embed="rId8"/>
          <a:stretch/>
        </p:blipFill>
        <p:spPr>
          <a:xfrm>
            <a:off x="2340000" y="520236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24000" y="476280"/>
            <a:ext cx="8115120" cy="43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Schoolbook"/>
              </a:rPr>
              <a:t>«Теперь, когда мы научились лет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entury Schoolbook"/>
              </a:rPr>
              <a:t>по воздуху, как птицы, плавать под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Schoolbook"/>
              </a:rPr>
              <a:t>водой, как рыбы, нам не хватае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Schoolbook"/>
              </a:rPr>
              <a:t>                </a:t>
            </a:r>
            <a:r>
              <a:rPr b="1" lang="ru-RU" sz="3200" spc="-1" strike="noStrike">
                <a:solidFill>
                  <a:srgbClr val="ffffff"/>
                </a:solidFill>
                <a:latin typeface="Century Schoolbook"/>
              </a:rPr>
              <a:t>только одног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Schoolbook"/>
              </a:rPr>
              <a:t>      </a:t>
            </a:r>
            <a:r>
              <a:rPr b="1" lang="ru-RU" sz="4000" spc="-1" strike="noStrike">
                <a:solidFill>
                  <a:srgbClr val="ffff00"/>
                </a:solidFill>
                <a:latin typeface="Century Schoolbook"/>
              </a:rPr>
              <a:t>научиться жить на земле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entury Schoolbook"/>
              </a:rPr>
              <a:t>                 </a:t>
            </a:r>
            <a:r>
              <a:rPr b="1" lang="ru-RU" sz="4000" spc="-1" strike="noStrike">
                <a:solidFill>
                  <a:srgbClr val="ffff00"/>
                </a:solidFill>
                <a:latin typeface="Century Schoolbook"/>
              </a:rPr>
              <a:t>как люди»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entury Schoolbook"/>
              </a:rPr>
              <a:t>                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Century Schoolbook"/>
              </a:rPr>
              <a:t>Б. Шо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4" descr="PE01846_"/>
          <p:cNvPicPr/>
          <p:nvPr/>
        </p:nvPicPr>
        <p:blipFill>
          <a:blip r:embed="rId1"/>
          <a:stretch/>
        </p:blipFill>
        <p:spPr>
          <a:xfrm>
            <a:off x="2268360" y="4292640"/>
            <a:ext cx="395928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2"/>
          <p:cNvSpPr/>
          <p:nvPr/>
        </p:nvSpPr>
        <p:spPr>
          <a:xfrm>
            <a:off x="2843280" y="2637000"/>
            <a:ext cx="3241440" cy="1152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WordArt 3"/>
          <p:cNvSpPr txBox="1"/>
          <p:nvPr/>
        </p:nvSpPr>
        <p:spPr>
          <a:xfrm>
            <a:off x="3203640" y="2924280"/>
            <a:ext cx="27241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Толерантность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59" name="Line 4"/>
          <p:cNvSpPr/>
          <p:nvPr/>
        </p:nvSpPr>
        <p:spPr>
          <a:xfrm>
            <a:off x="4500720" y="1125360"/>
            <a:ext cx="0" cy="14400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4500720" y="3860640"/>
            <a:ext cx="0" cy="13687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6227640" y="3213000"/>
            <a:ext cx="64944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Line 7"/>
          <p:cNvSpPr/>
          <p:nvPr/>
        </p:nvSpPr>
        <p:spPr>
          <a:xfrm flipV="1">
            <a:off x="6156360" y="1341360"/>
            <a:ext cx="1079640" cy="172728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Line 8"/>
          <p:cNvSpPr/>
          <p:nvPr/>
        </p:nvSpPr>
        <p:spPr>
          <a:xfrm>
            <a:off x="6156360" y="3429000"/>
            <a:ext cx="1008000" cy="136836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Line 9"/>
          <p:cNvSpPr/>
          <p:nvPr/>
        </p:nvSpPr>
        <p:spPr>
          <a:xfrm>
            <a:off x="2050920" y="3141720"/>
            <a:ext cx="64944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Line 10"/>
          <p:cNvSpPr/>
          <p:nvPr/>
        </p:nvSpPr>
        <p:spPr>
          <a:xfrm flipH="1" flipV="1">
            <a:off x="1331640" y="1267920"/>
            <a:ext cx="1439640" cy="172908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Line 11"/>
          <p:cNvSpPr/>
          <p:nvPr/>
        </p:nvSpPr>
        <p:spPr>
          <a:xfrm flipH="1">
            <a:off x="1834920" y="3357720"/>
            <a:ext cx="936360" cy="151128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3780000" y="54936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щ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3635280" y="5300640"/>
            <a:ext cx="17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лосерд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6947280" y="404640"/>
            <a:ext cx="209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важение пра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руги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6791400" y="2852640"/>
            <a:ext cx="2354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трудничество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 партнёр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6300720" y="4797360"/>
            <a:ext cx="2519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важ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стоин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7"/>
          <p:cNvSpPr/>
          <p:nvPr/>
        </p:nvSpPr>
        <p:spPr>
          <a:xfrm>
            <a:off x="303120" y="2847960"/>
            <a:ext cx="184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страд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8"/>
          <p:cNvSpPr/>
          <p:nvPr/>
        </p:nvSpPr>
        <p:spPr>
          <a:xfrm>
            <a:off x="463320" y="4941720"/>
            <a:ext cx="278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ятие друг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ким, какой он е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19"/>
          <p:cNvSpPr/>
          <p:nvPr/>
        </p:nvSpPr>
        <p:spPr>
          <a:xfrm>
            <a:off x="174960" y="189000"/>
            <a:ext cx="307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рпимость к чужи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нениям, верованиям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ведени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2"/>
          <p:cNvSpPr txBox="1"/>
          <p:nvPr/>
        </p:nvSpPr>
        <p:spPr>
          <a:xfrm>
            <a:off x="2050920" y="260280"/>
            <a:ext cx="4753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ичност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883440" y="949320"/>
            <a:ext cx="24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Толерант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4988880" y="949320"/>
            <a:ext cx="288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нтолерант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4284720" y="1125360"/>
            <a:ext cx="0" cy="4608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80000" y="2157480"/>
            <a:ext cx="4217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важение мнения други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брожелатель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Желание что-либо дела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мес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нимание и принят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уткость, любознатель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нисходитель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верие, гуманиз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429800" y="2133720"/>
            <a:ext cx="4662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поним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гнориров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гоиз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терпим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ражение пренебреж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дражитель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внодуш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иниз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мотивированная агресс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Arial"/>
              </a:rPr>
              <a:t>Основные правила толерантности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54064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Относись к окружающим с уважени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   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Никогда не думай, что твое мнение важнее мнения другого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    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Не суди о ценностях других, отталкиваясь от своих собственн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   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  Не навязывай свое мнение други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   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Arial"/>
              </a:rPr>
              <a:t>Основные правила толерантности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Никогда не думай, что твоя религия в чем-то превосходит другу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Помни, что каждый волен выбирать свой имидж и стиль, свои привычки и пристраст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.Умей видеть ценность и самобытность культуры каждой н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941c"/>
                </a:solidFill>
                <a:latin typeface="Arial"/>
              </a:rPr>
              <a:t>Помни, что мнение одного человека не может быть единственно верным.</a:t>
            </a:r>
            <a:r>
              <a:rPr b="1" lang="ru-RU" sz="2800" spc="-1" strike="noStrike">
                <a:solidFill>
                  <a:srgbClr val="ee941c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ee94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9T13:52:32Z</dcterms:created>
  <dc:creator>1</dc:creator>
  <dc:description/>
  <dc:language>en-US</dc:language>
  <cp:lastModifiedBy>начальный класс</cp:lastModifiedBy>
  <dcterms:modified xsi:type="dcterms:W3CDTF">2010-10-15T08:59:39Z</dcterms:modified>
  <cp:revision>10</cp:revision>
  <dc:subject/>
  <dc:title>    С началом нового учебного года!</dc:title>
</cp:coreProperties>
</file>