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CBFF-94DE-428F-B9CE-BFF87FBA85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8CB3-9E84-4FEB-B4C8-5CFC443B22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9E60-E1E9-4938-B857-23B360CE74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FE1-AE89-4BD8-9559-85AE04CD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D69-B5C3-44B6-B30D-395C1403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6FD-D718-4748-AA87-376CBA38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8BED-3B97-4A0F-A091-97747088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D93-F20A-420F-B8C9-BF1E002C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A6AC-CC5C-4ACD-A10E-B52F8A9A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FAB0-D423-4302-A06E-2D14F492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9131-71FD-41A8-B8C4-08A23AB0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9749-2AAF-411B-A38A-0BBDB289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B55-9AD2-47D3-9E77-28074DA4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97D-5E1C-4630-B1DD-A10D9DD7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69F-3E67-4489-BB34-EB6906D4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икурева А.А.,учитель английского языка МАОУ СОШ №38 г.Набережные Чел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B92C-E14E-4AE7-81C1-372C7FE6C898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laughforthehealthofit.org/wp-content/uploads/2012/09/head05.gif" TargetMode="External"/><Relationship Id="rId2" Type="http://schemas.openxmlformats.org/officeDocument/2006/relationships/hyperlink" Target="http://www.laughforthehealthofit.org/wp-content/uploads/2012/09/head05.gif" TargetMode="External"/><Relationship Id="rId3" Type="http://schemas.openxmlformats.org/officeDocument/2006/relationships/hyperlink" Target="http://www.laughforthehealthofit.org/wp-content/uploads/2012/09/head05.gif" TargetMode="External"/><Relationship Id="rId4" Type="http://schemas.openxmlformats.org/officeDocument/2006/relationships/hyperlink" Target="http://www.laughforthehealthofit.org/wp-content/uploads/2012/09/head05.gif" TargetMode="External"/><Relationship Id="rId5" Type="http://schemas.openxmlformats.org/officeDocument/2006/relationships/hyperlink" Target="http://www.laughforthehealthofit.org/wp-content/uploads/2012/09/head05.gif" TargetMode="External"/><Relationship Id="rId6" Type="http://schemas.openxmlformats.org/officeDocument/2006/relationships/hyperlink" Target="http://www.laughforthehealthofit.org/wp-content/uploads/2012/09/head05.gif" TargetMode="External"/><Relationship Id="rId7" Type="http://schemas.openxmlformats.org/officeDocument/2006/relationships/hyperlink" Target="http://www.laughforthehealthofit.org/wp-content/uploads/2012/09/head05.gif" TargetMode="External"/><Relationship Id="rId8" Type="http://schemas.openxmlformats.org/officeDocument/2006/relationships/hyperlink" Target="http://www.laughforthehealthofit.org/wp-content/uploads/2012/09/head05.gif" TargetMode="External"/><Relationship Id="rId9" Type="http://schemas.openxmlformats.org/officeDocument/2006/relationships/hyperlink" Target="http://www.laughforthehealthofit.org/wp-content/uploads/2012/09/head05.gif" TargetMode="External"/><Relationship Id="rId10" Type="http://schemas.openxmlformats.org/officeDocument/2006/relationships/hyperlink" Target="http://www.laughforthehealthofit.org/wp-content/uploads/2012/09/head05.gif" TargetMode="External"/><Relationship Id="rId11" Type="http://schemas.openxmlformats.org/officeDocument/2006/relationships/hyperlink" Target="http://www.laughforthehealthofit.org/wp-content/uploads/2012/09/head05.gif" TargetMode="External"/><Relationship Id="rId12" Type="http://schemas.openxmlformats.org/officeDocument/2006/relationships/hyperlink" Target="http://www.laughforthehealthofit.org/wp-content/uploads/2012/09/head05.gif" TargetMode="External"/><Relationship Id="rId13" Type="http://schemas.openxmlformats.org/officeDocument/2006/relationships/hyperlink" Target="http://www.laughforthehealthofit.org/wp-content/uploads/2012/09/head05.gif" TargetMode="External"/><Relationship Id="rId14" Type="http://schemas.openxmlformats.org/officeDocument/2006/relationships/hyperlink" Target="http://www.laughforthehealthofit.org/wp-content/uploads/2012/09/head05.gif" TargetMode="External"/><Relationship Id="rId15" Type="http://schemas.openxmlformats.org/officeDocument/2006/relationships/hyperlink" Target="http://www.laughforthehealthofit.org/wp-content/uploads/2012/09/head05.gif" TargetMode="External"/><Relationship Id="rId16" Type="http://schemas.openxmlformats.org/officeDocument/2006/relationships/hyperlink" Target="http://www.laughforthehealthofit.org/wp-content/uploads/2012/09/head05.gif" TargetMode="External"/><Relationship Id="rId17" Type="http://schemas.openxmlformats.org/officeDocument/2006/relationships/hyperlink" Target="http://www.laughforthehealthofit.org/wp-content/uploads/2012/09/head05.gif" TargetMode="External"/><Relationship Id="rId18" Type="http://schemas.openxmlformats.org/officeDocument/2006/relationships/hyperlink" Target="http://www.clker.com/cliparts/t/T/t/C/e/v/arm-hand-md.png" TargetMode="External"/><Relationship Id="rId19" Type="http://schemas.openxmlformats.org/officeDocument/2006/relationships/hyperlink" Target="http://www.clker.com/cliparts/t/T/t/C/e/v/arm-hand-md.png" TargetMode="External"/><Relationship Id="rId20" Type="http://schemas.openxmlformats.org/officeDocument/2006/relationships/hyperlink" Target="http://www.clker.com/cliparts/t/T/t/C/e/v/arm-hand-md.png" TargetMode="External"/><Relationship Id="rId21" Type="http://schemas.openxmlformats.org/officeDocument/2006/relationships/hyperlink" Target="http://www.clker.com/cliparts/t/T/t/C/e/v/arm-hand-md.png" TargetMode="External"/><Relationship Id="rId22" Type="http://schemas.openxmlformats.org/officeDocument/2006/relationships/hyperlink" Target="http://www.clker.com/cliparts/t/T/t/C/e/v/arm-hand-md.png" TargetMode="External"/><Relationship Id="rId23" Type="http://schemas.openxmlformats.org/officeDocument/2006/relationships/hyperlink" Target="http://www.clker.com/cliparts/t/T/t/C/e/v/arm-hand-md.png" TargetMode="External"/><Relationship Id="rId24" Type="http://schemas.openxmlformats.org/officeDocument/2006/relationships/hyperlink" Target="http://www.clker.com/cliparts/t/T/t/C/e/v/arm-hand-md.png" TargetMode="External"/><Relationship Id="rId25" Type="http://schemas.openxmlformats.org/officeDocument/2006/relationships/hyperlink" Target="http://www.clker.com/cliparts/t/T/t/C/e/v/arm-hand-md.png" TargetMode="External"/><Relationship Id="rId26" Type="http://schemas.openxmlformats.org/officeDocument/2006/relationships/hyperlink" Target="http://www.clker.com/cliparts/t/T/t/C/e/v/arm-hand-md.png" TargetMode="External"/><Relationship Id="rId27" Type="http://schemas.openxmlformats.org/officeDocument/2006/relationships/hyperlink" Target="http://www.clker.com/cliparts/t/T/t/C/e/v/arm-hand-md.png" TargetMode="External"/><Relationship Id="rId28" Type="http://schemas.openxmlformats.org/officeDocument/2006/relationships/hyperlink" Target="http://www.clker.com/cliparts/t/T/t/C/e/v/arm-hand-md.png" TargetMode="External"/><Relationship Id="rId29" Type="http://schemas.openxmlformats.org/officeDocument/2006/relationships/hyperlink" Target="http://www.clker.com/cliparts/t/T/t/C/e/v/arm-hand-md.png" TargetMode="External"/><Relationship Id="rId30" Type="http://schemas.openxmlformats.org/officeDocument/2006/relationships/hyperlink" Target="http://www.clker.com/cliparts/t/T/t/C/e/v/arm-hand-md.png" TargetMode="External"/><Relationship Id="rId31" Type="http://schemas.openxmlformats.org/officeDocument/2006/relationships/hyperlink" Target="http://www.clker.com/cliparts/t/T/t/C/e/v/arm-hand-md.png" TargetMode="External"/><Relationship Id="rId32" Type="http://schemas.openxmlformats.org/officeDocument/2006/relationships/hyperlink" Target="http://www.clker.com/cliparts/t/T/t/C/e/v/arm-hand-md.png" TargetMode="External"/><Relationship Id="rId33" Type="http://schemas.openxmlformats.org/officeDocument/2006/relationships/hyperlink" Target="http://www.clker.com/cliparts/t/T/t/C/e/v/arm-hand-md.png" TargetMode="External"/><Relationship Id="rId34" Type="http://schemas.openxmlformats.org/officeDocument/2006/relationships/hyperlink" Target="http://www.clker.com/cliparts/t/T/t/C/e/v/arm-hand-md.png" TargetMode="External"/><Relationship Id="rId35" Type="http://schemas.openxmlformats.org/officeDocument/2006/relationships/hyperlink" Target="http://www.clker.com/cliparts/t/T/t/C/e/v/arm-hand-md.png" TargetMode="External"/><Relationship Id="rId36" Type="http://schemas.openxmlformats.org/officeDocument/2006/relationships/hyperlink" Target="http://www.clker.com/cliparts/t/T/t/C/e/v/arm-hand-md.png" TargetMode="External"/><Relationship Id="rId37" Type="http://schemas.openxmlformats.org/officeDocument/2006/relationships/hyperlink" Target="http://www.clker.com/cliparts/t/T/t/C/e/v/arm-hand-md.png" TargetMode="External"/><Relationship Id="rId38" Type="http://schemas.openxmlformats.org/officeDocument/2006/relationships/hyperlink" Target="http://www.clker.com/cliparts/t/T/t/C/e/v/arm-hand-md.png" TargetMode="External"/><Relationship Id="rId39" Type="http://schemas.openxmlformats.org/officeDocument/2006/relationships/hyperlink" Target="http://www.clker.com/cliparts/t/T/t/C/e/v/arm-hand-md.png" TargetMode="External"/><Relationship Id="rId40" Type="http://schemas.openxmlformats.org/officeDocument/2006/relationships/hyperlink" Target="http://www.clker.com/cliparts/t/T/t/C/e/v/arm-hand-md.png" TargetMode="External"/><Relationship Id="rId41" Type="http://schemas.openxmlformats.org/officeDocument/2006/relationships/hyperlink" Target="http://www.clker.com/cliparts/t/T/t/C/e/v/arm-hand-md.png" TargetMode="External"/><Relationship Id="rId42" Type="http://schemas.openxmlformats.org/officeDocument/2006/relationships/hyperlink" Target="http://www.clker.com/cliparts/t/T/t/C/e/v/arm-hand-md.png" TargetMode="External"/><Relationship Id="rId43" Type="http://schemas.openxmlformats.org/officeDocument/2006/relationships/hyperlink" Target="http://www.clker.com/cliparts/t/T/t/C/e/v/arm-hand-md.png" TargetMode="External"/><Relationship Id="rId44" Type="http://schemas.openxmlformats.org/officeDocument/2006/relationships/hyperlink" Target="http://www.clker.com/cliparts/t/T/t/C/e/v/arm-hand-md.png" TargetMode="External"/><Relationship Id="rId45" Type="http://schemas.openxmlformats.org/officeDocument/2006/relationships/hyperlink" Target="http://www.clker.com/cliparts/t/T/t/C/e/v/arm-hand-md.png" TargetMode="External"/><Relationship Id="rId46" Type="http://schemas.openxmlformats.org/officeDocument/2006/relationships/hyperlink" Target="http://www.clker.com/cliparts/t/T/t/C/e/v/arm-hand-md.png" TargetMode="External"/><Relationship Id="rId47" Type="http://schemas.openxmlformats.org/officeDocument/2006/relationships/hyperlink" Target="http://t1.gstatic.com/images?q=tbn:ANd9GcRw0NQNndZnRI7OMi30jS9ioKfWuIzVeQrdutXjQhogZ8Ifv51o-A" TargetMode="External"/><Relationship Id="rId48" Type="http://schemas.openxmlformats.org/officeDocument/2006/relationships/hyperlink" Target="http://t1.gstatic.com/images?q=tbn:ANd9GcRw0NQNndZnRI7OMi30jS9ioKfWuIzVeQrdutXjQhogZ8Ifv51o-A" TargetMode="External"/><Relationship Id="rId49" Type="http://schemas.openxmlformats.org/officeDocument/2006/relationships/hyperlink" Target="http://t1.gstatic.com/images?q=tbn:ANd9GcRw0NQNndZnRI7OMi30jS9ioKfWuIzVeQrdutXjQhogZ8Ifv51o-A" TargetMode="External"/><Relationship Id="rId50" Type="http://schemas.openxmlformats.org/officeDocument/2006/relationships/hyperlink" Target="http://t1.gstatic.com/images?q=tbn:ANd9GcRw0NQNndZnRI7OMi30jS9ioKfWuIzVeQrdutXjQhogZ8Ifv51o-A" TargetMode="External"/><Relationship Id="rId51" Type="http://schemas.openxmlformats.org/officeDocument/2006/relationships/hyperlink" Target="http://t1.gstatic.com/images?q=tbn:ANd9GcRw0NQNndZnRI7OMi30jS9ioKfWuIzVeQrdutXjQhogZ8Ifv51o-A" TargetMode="External"/><Relationship Id="rId52" Type="http://schemas.openxmlformats.org/officeDocument/2006/relationships/hyperlink" Target="http://t1.gstatic.com/images?q=tbn:ANd9GcRw0NQNndZnRI7OMi30jS9ioKfWuIzVeQrdutXjQhogZ8Ifv51o-A" TargetMode="External"/><Relationship Id="rId53" Type="http://schemas.openxmlformats.org/officeDocument/2006/relationships/hyperlink" Target="http://t1.gstatic.com/images?q=tbn:ANd9GcRw0NQNndZnRI7OMi30jS9ioKfWuIzVeQrdutXjQhogZ8Ifv51o-A" TargetMode="External"/><Relationship Id="rId54" Type="http://schemas.openxmlformats.org/officeDocument/2006/relationships/hyperlink" Target="http://t1.gstatic.com/images?q=tbn:ANd9GcRw0NQNndZnRI7OMi30jS9ioKfWuIzVeQrdutXjQhogZ8Ifv51o-A" TargetMode="External"/><Relationship Id="rId55" Type="http://schemas.openxmlformats.org/officeDocument/2006/relationships/hyperlink" Target="http://t1.gstatic.com/images?q=tbn:ANd9GcRw0NQNndZnRI7OMi30jS9ioKfWuIzVeQrdutXjQhogZ8Ifv51o-A" TargetMode="External"/><Relationship Id="rId56" Type="http://schemas.openxmlformats.org/officeDocument/2006/relationships/hyperlink" Target="http://t1.gstatic.com/images?q=tbn:ANd9GcRw0NQNndZnRI7OMi30jS9ioKfWuIzVeQrdutXjQhogZ8Ifv51o-A" TargetMode="External"/><Relationship Id="rId57" Type="http://schemas.openxmlformats.org/officeDocument/2006/relationships/hyperlink" Target="http://t1.gstatic.com/images?q=tbn:ANd9GcRw0NQNndZnRI7OMi30jS9ioKfWuIzVeQrdutXjQhogZ8Ifv51o-A" TargetMode="External"/><Relationship Id="rId58" Type="http://schemas.openxmlformats.org/officeDocument/2006/relationships/hyperlink" Target="http://t1.gstatic.com/images?q=tbn:ANd9GcRw0NQNndZnRI7OMi30jS9ioKfWuIzVeQrdutXjQhogZ8Ifv51o-A" TargetMode="External"/><Relationship Id="rId59" Type="http://schemas.openxmlformats.org/officeDocument/2006/relationships/hyperlink" Target="http://t1.gstatic.com/images?q=tbn:ANd9GcRw0NQNndZnRI7OMi30jS9ioKfWuIzVeQrdutXjQhogZ8Ifv51o-A" TargetMode="External"/><Relationship Id="rId60" Type="http://schemas.openxmlformats.org/officeDocument/2006/relationships/hyperlink" Target="http://t1.gstatic.com/images?q=tbn:ANd9GcRw0NQNndZnRI7OMi30jS9ioKfWuIzVeQrdutXjQhogZ8Ifv51o-A" TargetMode="External"/><Relationship Id="rId61" Type="http://schemas.openxmlformats.org/officeDocument/2006/relationships/hyperlink" Target="http://t1.gstatic.com/images?q=tbn:ANd9GcRw0NQNndZnRI7OMi30jS9ioKfWuIzVeQrdutXjQhogZ8Ifv51o-A" TargetMode="External"/><Relationship Id="rId62" Type="http://schemas.openxmlformats.org/officeDocument/2006/relationships/hyperlink" Target="http://t1.gstatic.com/images?q=tbn:ANd9GcRw0NQNndZnRI7OMi30jS9ioKfWuIzVeQrdutXjQhogZ8Ifv51o-A" TargetMode="External"/><Relationship Id="rId63" Type="http://schemas.openxmlformats.org/officeDocument/2006/relationships/hyperlink" Target="http://t1.gstatic.com/images?q=tbn:ANd9GcRw0NQNndZnRI7OMi30jS9ioKfWuIzVeQrdutXjQhogZ8Ifv51o-A" TargetMode="External"/><Relationship Id="rId64" Type="http://schemas.openxmlformats.org/officeDocument/2006/relationships/hyperlink" Target="http://t1.gstatic.com/images?q=tbn:ANd9GcRw0NQNndZnRI7OMi30jS9ioKfWuIzVeQrdutXjQhogZ8Ifv51o-A" TargetMode="External"/><Relationship Id="rId65" Type="http://schemas.openxmlformats.org/officeDocument/2006/relationships/hyperlink" Target="http://t1.gstatic.com/images?q=tbn:ANd9GcRw0NQNndZnRI7OMi30jS9ioKfWuIzVeQrdutXjQhogZ8Ifv51o-A" TargetMode="External"/><Relationship Id="rId66" Type="http://schemas.openxmlformats.org/officeDocument/2006/relationships/hyperlink" Target="http://t1.gstatic.com/images?q=tbn:ANd9GcRw0NQNndZnRI7OMi30jS9ioKfWuIzVeQrdutXjQhogZ8Ifv51o-A" TargetMode="External"/><Relationship Id="rId67" Type="http://schemas.openxmlformats.org/officeDocument/2006/relationships/hyperlink" Target="http://t1.gstatic.com/images?q=tbn:ANd9GcRw0NQNndZnRI7OMi30jS9ioKfWuIzVeQrdutXjQhogZ8Ifv51o-A" TargetMode="External"/><Relationship Id="rId68" Type="http://schemas.openxmlformats.org/officeDocument/2006/relationships/hyperlink" Target="http://t1.gstatic.com/images?q=tbn:ANd9GcRw0NQNndZnRI7OMi30jS9ioKfWuIzVeQrdutXjQhogZ8Ifv51o-A" TargetMode="External"/><Relationship Id="rId69" Type="http://schemas.openxmlformats.org/officeDocument/2006/relationships/hyperlink" Target="http://t1.gstatic.com/images?q=tbn:ANd9GcRw0NQNndZnRI7OMi30jS9ioKfWuIzVeQrdutXjQhogZ8Ifv51o-A" TargetMode="External"/><Relationship Id="rId70" Type="http://schemas.openxmlformats.org/officeDocument/2006/relationships/hyperlink" Target="http://t1.gstatic.com/images?q=tbn:ANd9GcRw0NQNndZnRI7OMi30jS9ioKfWuIzVeQrdutXjQhogZ8Ifv51o-A" TargetMode="External"/><Relationship Id="rId71" Type="http://schemas.openxmlformats.org/officeDocument/2006/relationships/hyperlink" Target="http://t1.gstatic.com/images?q=tbn:ANd9GcRw0NQNndZnRI7OMi30jS9ioKfWuIzVeQrdutXjQhogZ8Ifv51o-A" TargetMode="External"/><Relationship Id="rId72" Type="http://schemas.openxmlformats.org/officeDocument/2006/relationships/hyperlink" Target="http://t1.gstatic.com/images?q=tbn:ANd9GcRw0NQNndZnRI7OMi30jS9ioKfWuIzVeQrdutXjQhogZ8Ifv51o-A" TargetMode="External"/><Relationship Id="rId73" Type="http://schemas.openxmlformats.org/officeDocument/2006/relationships/hyperlink" Target="http://t1.gstatic.com/images?q=tbn:ANd9GcRw0NQNndZnRI7OMi30jS9ioKfWuIzVeQrdutXjQhogZ8Ifv51o-A" TargetMode="External"/><Relationship Id="rId74" Type="http://schemas.openxmlformats.org/officeDocument/2006/relationships/hyperlink" Target="http://t1.gstatic.com/images?q=tbn:ANd9GcRw0NQNndZnRI7OMi30jS9ioKfWuIzVeQrdutXjQhogZ8Ifv51o-A" TargetMode="External"/><Relationship Id="rId75" Type="http://schemas.openxmlformats.org/officeDocument/2006/relationships/hyperlink" Target="http://t1.gstatic.com/images?q=tbn:ANd9GcRw0NQNndZnRI7OMi30jS9ioKfWuIzVeQrdutXjQhogZ8Ifv51o-A" TargetMode="External"/><Relationship Id="rId76" Type="http://schemas.openxmlformats.org/officeDocument/2006/relationships/hyperlink" Target="http://t1.gstatic.com/images?q=tbn:ANd9GcRw0NQNndZnRI7OMi30jS9ioKfWuIzVeQrdutXjQhogZ8Ifv51o-A" TargetMode="External"/><Relationship Id="rId77" Type="http://schemas.openxmlformats.org/officeDocument/2006/relationships/hyperlink" Target="http://t1.gstatic.com/images?q=tbn:ANd9GcRw0NQNndZnRI7OMi30jS9ioKfWuIzVeQrdutXjQhogZ8Ifv51o-A" TargetMode="External"/><Relationship Id="rId78" Type="http://schemas.openxmlformats.org/officeDocument/2006/relationships/hyperlink" Target="http://www.englishexercises.org/makeagame/my_documents/my_pictures/2009/jul/C4A_Body-Shoulders.gif" TargetMode="External"/><Relationship Id="rId79" Type="http://schemas.openxmlformats.org/officeDocument/2006/relationships/hyperlink" Target="http://www.englishexercises.org/makeagame/my_documents/my_pictures/2009/jul/C4A_Body-Shoulders.gif" TargetMode="External"/><Relationship Id="rId80" Type="http://schemas.openxmlformats.org/officeDocument/2006/relationships/hyperlink" Target="http://www.englishexercises.org/makeagame/my_documents/my_pictures/2009/jul/C4A_Body-Shoulders.gif" TargetMode="External"/><Relationship Id="rId81" Type="http://schemas.openxmlformats.org/officeDocument/2006/relationships/hyperlink" Target="http://www.englishexercises.org/makeagame/my_documents/my_pictures/2009/jul/C4A_Body-Shoulders.gif" TargetMode="External"/><Relationship Id="rId82" Type="http://schemas.openxmlformats.org/officeDocument/2006/relationships/hyperlink" Target="http://www.englishexercises.org/makeagame/my_documents/my_pictures/2009/jul/C4A_Body-Shoulders.gif" TargetMode="External"/><Relationship Id="rId83" Type="http://schemas.openxmlformats.org/officeDocument/2006/relationships/hyperlink" Target="http://www.englishexercises.org/makeagame/my_documents/my_pictures/2009/jul/C4A_Body-Shoulders.gif" TargetMode="External"/><Relationship Id="rId84" Type="http://schemas.openxmlformats.org/officeDocument/2006/relationships/hyperlink" Target="http://www.englishexercises.org/makeagame/my_documents/my_pictures/2009/jul/C4A_Body-Shoulders.gif" TargetMode="External"/><Relationship Id="rId85" Type="http://schemas.openxmlformats.org/officeDocument/2006/relationships/hyperlink" Target="http://www.englishexercises.org/makeagame/my_documents/my_pictures/2009/jul/C4A_Body-Shoulders.gif" TargetMode="External"/><Relationship Id="rId86" Type="http://schemas.openxmlformats.org/officeDocument/2006/relationships/hyperlink" Target="http://www.englishexercises.org/makeagame/my_documents/my_pictures/2009/jul/C4A_Body-Shoulders.gif" TargetMode="External"/><Relationship Id="rId87" Type="http://schemas.openxmlformats.org/officeDocument/2006/relationships/hyperlink" Target="http://www.englishexercises.org/makeagame/my_documents/my_pictures/2009/jul/C4A_Body-Shoulders.gif" TargetMode="External"/><Relationship Id="rId88" Type="http://schemas.openxmlformats.org/officeDocument/2006/relationships/hyperlink" Target="http://www.englishexercises.org/makeagame/my_documents/my_pictures/2009/jul/C4A_Body-Shoulders.gif" TargetMode="External"/><Relationship Id="rId89" Type="http://schemas.openxmlformats.org/officeDocument/2006/relationships/hyperlink" Target="http://www.englishexercises.org/makeagame/my_documents/my_pictures/2009/jul/C4A_Body-Shoulders.gif" TargetMode="External"/><Relationship Id="rId90" Type="http://schemas.openxmlformats.org/officeDocument/2006/relationships/hyperlink" Target="http://www.englishexercises.org/makeagame/my_documents/my_pictures/2009/jul/C4A_Body-Shoulders.gif" TargetMode="External"/><Relationship Id="rId91" Type="http://schemas.openxmlformats.org/officeDocument/2006/relationships/hyperlink" Target="http://www.englishexercises.org/makeagame/my_documents/my_pictures/2009/jul/C4A_Body-Shoulders.gif" TargetMode="External"/><Relationship Id="rId92" Type="http://schemas.openxmlformats.org/officeDocument/2006/relationships/hyperlink" Target="http://www.englishexercises.org/makeagame/my_documents/my_pictures/2009/jul/C4A_Body-Shoulders.gif" TargetMode="External"/><Relationship Id="rId93" Type="http://schemas.openxmlformats.org/officeDocument/2006/relationships/hyperlink" Target="http://www.englishexercises.org/makeagame/my_documents/my_pictures/2009/jul/C4A_Body-Shoulders.gif" TargetMode="External"/><Relationship Id="rId94" Type="http://schemas.openxmlformats.org/officeDocument/2006/relationships/hyperlink" Target="http://www.englishexercises.org/makeagame/my_documents/my_pictures/2009/jul/C4A_Body-Shoulders.gif" TargetMode="External"/><Relationship Id="rId95" Type="http://schemas.openxmlformats.org/officeDocument/2006/relationships/hyperlink" Target="http://www.englishexercises.org/makeagame/my_documents/my_pictures/2009/jul/C4A_Body-Shoulders.gif" TargetMode="External"/><Relationship Id="rId96" Type="http://schemas.openxmlformats.org/officeDocument/2006/relationships/hyperlink" Target="http://www.englishexercises.org/makeagame/my_documents/my_pictures/2009/jul/C4A_Body-Shoulders.gif" TargetMode="External"/><Relationship Id="rId97" Type="http://schemas.openxmlformats.org/officeDocument/2006/relationships/hyperlink" Target="http://www.englishexercises.org/makeagame/my_documents/my_pictures/2009/jul/C4A_Body-Shoulders.gif" TargetMode="External"/><Relationship Id="rId98" Type="http://schemas.openxmlformats.org/officeDocument/2006/relationships/hyperlink" Target="http://www.englishexercises.org/makeagame/my_documents/my_pictures/2009/jul/C4A_Body-Shoulders.gif" TargetMode="External"/><Relationship Id="rId99" Type="http://schemas.openxmlformats.org/officeDocument/2006/relationships/hyperlink" Target="http://www.englishexercises.org/makeagame/my_documents/my_pictures/2009/jul/C4A_Body-Shoulders.gif" TargetMode="External"/><Relationship Id="rId100" Type="http://schemas.openxmlformats.org/officeDocument/2006/relationships/hyperlink" Target="http://www.englishexercises.org/makeagame/my_documents/my_pictures/2009/jul/C4A_Body-Shoulders.gif" TargetMode="External"/><Relationship Id="rId101" Type="http://schemas.openxmlformats.org/officeDocument/2006/relationships/hyperlink" Target="http://www.englishexercises.org/makeagame/my_documents/my_pictures/2009/jul/C4A_Body-Shoulders.gif" TargetMode="External"/><Relationship Id="rId102" Type="http://schemas.openxmlformats.org/officeDocument/2006/relationships/hyperlink" Target="http://www.englishexercises.org/makeagame/my_documents/my_pictures/2009/jul/C4A_Body-Shoulders.gif" TargetMode="External"/><Relationship Id="rId103" Type="http://schemas.openxmlformats.org/officeDocument/2006/relationships/hyperlink" Target="http://www.englishexercises.org/makeagame/my_documents/my_pictures/2009/jul/C4A_Body-Shoulders.gif" TargetMode="External"/><Relationship Id="rId104" Type="http://schemas.openxmlformats.org/officeDocument/2006/relationships/hyperlink" Target="http://www.englishexercises.org/makeagame/my_documents/my_pictures/2009/jul/C4A_Body-Shoulders.gif" TargetMode="External"/><Relationship Id="rId105" Type="http://schemas.openxmlformats.org/officeDocument/2006/relationships/hyperlink" Target="http://www.englishexercises.org/makeagame/my_documents/my_pictures/2009/jul/C4A_Body-Shoulders.gif" TargetMode="External"/><Relationship Id="rId106" Type="http://schemas.openxmlformats.org/officeDocument/2006/relationships/hyperlink" Target="http://www.englishexercises.org/makeagame/my_documents/my_pictures/2009/jul/C4A_Body-Shoulders.gif" TargetMode="External"/><Relationship Id="rId107" Type="http://schemas.openxmlformats.org/officeDocument/2006/relationships/hyperlink" Target="http://www.influx.com.br/imgblog/image/mouth.png" TargetMode="External"/><Relationship Id="rId108" Type="http://schemas.openxmlformats.org/officeDocument/2006/relationships/hyperlink" Target="http://www.influx.com.br/imgblog/image/mouth.png" TargetMode="External"/><Relationship Id="rId109" Type="http://schemas.openxmlformats.org/officeDocument/2006/relationships/hyperlink" Target="http://www.influx.com.br/imgblog/image/mouth.png" TargetMode="External"/><Relationship Id="rId110" Type="http://schemas.openxmlformats.org/officeDocument/2006/relationships/hyperlink" Target="http://www.influx.com.br/imgblog/image/mouth.png" TargetMode="External"/><Relationship Id="rId111" Type="http://schemas.openxmlformats.org/officeDocument/2006/relationships/hyperlink" Target="http://www.influx.com.br/imgblog/image/mouth.png" TargetMode="External"/><Relationship Id="rId112" Type="http://schemas.openxmlformats.org/officeDocument/2006/relationships/hyperlink" Target="http://www.influx.com.br/imgblog/image/mouth.png" TargetMode="External"/><Relationship Id="rId113" Type="http://schemas.openxmlformats.org/officeDocument/2006/relationships/hyperlink" Target="http://www.influx.com.br/imgblog/image/mouth.png" TargetMode="External"/><Relationship Id="rId114" Type="http://schemas.openxmlformats.org/officeDocument/2006/relationships/hyperlink" Target="http://www.influx.com.br/imgblog/image/mouth.png" TargetMode="External"/><Relationship Id="rId115" Type="http://schemas.openxmlformats.org/officeDocument/2006/relationships/hyperlink" Target="http://www.influx.com.br/imgblog/image/mouth.png" TargetMode="External"/><Relationship Id="rId116" Type="http://schemas.openxmlformats.org/officeDocument/2006/relationships/hyperlink" Target="http://www.influx.com.br/imgblog/image/mouth.png" TargetMode="External"/><Relationship Id="rId117" Type="http://schemas.openxmlformats.org/officeDocument/2006/relationships/hyperlink" Target="http://www.influx.com.br/imgblog/image/mouth.png" TargetMode="External"/><Relationship Id="rId118" Type="http://schemas.openxmlformats.org/officeDocument/2006/relationships/hyperlink" Target="http://www.influx.com.br/imgblog/image/mouth.png" TargetMode="External"/><Relationship Id="rId119" Type="http://schemas.openxmlformats.org/officeDocument/2006/relationships/hyperlink" Target="http://www.influx.com.br/imgblog/image/mouth.png" TargetMode="External"/><Relationship Id="rId120" Type="http://schemas.openxmlformats.org/officeDocument/2006/relationships/hyperlink" Target="http://www.influx.com.br/imgblog/image/mouth.png" TargetMode="External"/><Relationship Id="rId121" Type="http://schemas.openxmlformats.org/officeDocument/2006/relationships/hyperlink" Target="http://www.influx.com.br/imgblog/image/mouth.png" TargetMode="External"/><Relationship Id="rId122" Type="http://schemas.openxmlformats.org/officeDocument/2006/relationships/hyperlink" Target="http://www.influx.com.br/imgblog/image/mouth.png" TargetMode="External"/><Relationship Id="rId123" Type="http://schemas.openxmlformats.org/officeDocument/2006/relationships/hyperlink" Target="http://www.influx.com.br/imgblog/image/mouth.png" TargetMode="External"/><Relationship Id="rId124" Type="http://schemas.openxmlformats.org/officeDocument/2006/relationships/hyperlink" Target="http://thumbs.dreamstime.com/z/cute-cartoon-tooth-thumb-up-illustration-33243018.jpg" TargetMode="External"/><Relationship Id="rId125" Type="http://schemas.openxmlformats.org/officeDocument/2006/relationships/hyperlink" Target="http://thumbs.dreamstime.com/z/cute-cartoon-tooth-thumb-up-illustration-33243018.jpg" TargetMode="External"/><Relationship Id="rId126" Type="http://schemas.openxmlformats.org/officeDocument/2006/relationships/hyperlink" Target="http://thumbs.dreamstime.com/z/cute-cartoon-tooth-thumb-up-illustration-33243018.jpg" TargetMode="External"/><Relationship Id="rId127" Type="http://schemas.openxmlformats.org/officeDocument/2006/relationships/hyperlink" Target="http://thumbs.dreamstime.com/z/cute-cartoon-tooth-thumb-up-illustration-33243018.jpg" TargetMode="External"/><Relationship Id="rId128" Type="http://schemas.openxmlformats.org/officeDocument/2006/relationships/hyperlink" Target="http://thumbs.dreamstime.com/z/cute-cartoon-tooth-thumb-up-illustration-33243018.jpg" TargetMode="External"/><Relationship Id="rId129" Type="http://schemas.openxmlformats.org/officeDocument/2006/relationships/hyperlink" Target="http://thumbs.dreamstime.com/z/cute-cartoon-tooth-thumb-up-illustration-33243018.jpg" TargetMode="External"/><Relationship Id="rId130" Type="http://schemas.openxmlformats.org/officeDocument/2006/relationships/hyperlink" Target="http://thumbs.dreamstime.com/z/cute-cartoon-tooth-thumb-up-illustration-33243018.jpg" TargetMode="External"/><Relationship Id="rId131" Type="http://schemas.openxmlformats.org/officeDocument/2006/relationships/hyperlink" Target="http://thumbs.dreamstime.com/z/cute-cartoon-tooth-thumb-up-illustration-33243018.jpg" TargetMode="External"/><Relationship Id="rId132" Type="http://schemas.openxmlformats.org/officeDocument/2006/relationships/hyperlink" Target="http://thumbs.dreamstime.com/z/cute-cartoon-tooth-thumb-up-illustration-33243018.jpg" TargetMode="External"/><Relationship Id="rId133" Type="http://schemas.openxmlformats.org/officeDocument/2006/relationships/hyperlink" Target="http://thumbs.dreamstime.com/z/cute-cartoon-tooth-thumb-up-illustration-33243018.jpg" TargetMode="External"/><Relationship Id="rId134" Type="http://schemas.openxmlformats.org/officeDocument/2006/relationships/hyperlink" Target="http://thumbs.dreamstime.com/z/cute-cartoon-tooth-thumb-up-illustration-33243018.jpg" TargetMode="External"/><Relationship Id="rId135" Type="http://schemas.openxmlformats.org/officeDocument/2006/relationships/hyperlink" Target="http://thumbs.dreamstime.com/z/cute-cartoon-tooth-thumb-up-illustration-33243018.jpg" TargetMode="External"/><Relationship Id="rId136" Type="http://schemas.openxmlformats.org/officeDocument/2006/relationships/hyperlink" Target="http://thumbs.dreamstime.com/z/cute-cartoon-tooth-thumb-up-illustration-33243018.jpg" TargetMode="External"/><Relationship Id="rId137" Type="http://schemas.openxmlformats.org/officeDocument/2006/relationships/hyperlink" Target="http://thumbs.dreamstime.com/z/cute-cartoon-tooth-thumb-up-illustration-33243018.jpg" TargetMode="External"/><Relationship Id="rId138" Type="http://schemas.openxmlformats.org/officeDocument/2006/relationships/hyperlink" Target="http://thumbs.dreamstime.com/z/cute-cartoon-tooth-thumb-up-illustration-33243018.jpg" TargetMode="External"/><Relationship Id="rId139" Type="http://schemas.openxmlformats.org/officeDocument/2006/relationships/hyperlink" Target="http://thumbs.dreamstime.com/z/cute-cartoon-tooth-thumb-up-illustration-33243018.jpg" TargetMode="External"/><Relationship Id="rId140" Type="http://schemas.openxmlformats.org/officeDocument/2006/relationships/hyperlink" Target="http://thumbs.dreamstime.com/z/cute-cartoon-tooth-thumb-up-illustration-33243018.jpg" TargetMode="External"/><Relationship Id="rId141" Type="http://schemas.openxmlformats.org/officeDocument/2006/relationships/hyperlink" Target="http://thumbs.dreamstime.com/z/cute-cartoon-tooth-thumb-up-illustration-33243018.jpg" TargetMode="External"/><Relationship Id="rId142" Type="http://schemas.openxmlformats.org/officeDocument/2006/relationships/hyperlink" Target="http://thumbs.dreamstime.com/z/cute-cartoon-tooth-thumb-up-illustration-33243018.jpg" TargetMode="External"/><Relationship Id="rId143" Type="http://schemas.openxmlformats.org/officeDocument/2006/relationships/hyperlink" Target="http://thumbs.dreamstime.com/z/cute-cartoon-tooth-thumb-up-illustration-33243018.jpg" TargetMode="External"/><Relationship Id="rId144" Type="http://schemas.openxmlformats.org/officeDocument/2006/relationships/hyperlink" Target="http://thumbs.dreamstime.com/z/cute-cartoon-tooth-thumb-up-illustration-33243018.jpg" TargetMode="External"/><Relationship Id="rId145" Type="http://schemas.openxmlformats.org/officeDocument/2006/relationships/hyperlink" Target="http://thumbs.dreamstime.com/z/cute-cartoon-tooth-thumb-up-illustration-33243018.jpg" TargetMode="External"/><Relationship Id="rId146" Type="http://schemas.openxmlformats.org/officeDocument/2006/relationships/hyperlink" Target="http://thumbs.dreamstime.com/z/cute-cartoon-tooth-thumb-up-illustration-33243018.jpg" TargetMode="External"/><Relationship Id="rId147" Type="http://schemas.openxmlformats.org/officeDocument/2006/relationships/hyperlink" Target="http://aginginocontowi.net/yahoo_site_admin/assets/images/foot.97174809_std.jpg" TargetMode="External"/><Relationship Id="rId148" Type="http://schemas.openxmlformats.org/officeDocument/2006/relationships/hyperlink" Target="http://aginginocontowi.net/yahoo_site_admin/assets/images/foot.97174809_std.jpg" TargetMode="External"/><Relationship Id="rId149" Type="http://schemas.openxmlformats.org/officeDocument/2006/relationships/hyperlink" Target="http://aginginocontowi.net/yahoo_site_admin/assets/images/foot.97174809_std.jpg" TargetMode="External"/><Relationship Id="rId150" Type="http://schemas.openxmlformats.org/officeDocument/2006/relationships/hyperlink" Target="http://aginginocontowi.net/yahoo_site_admin/assets/images/foot.97174809_std.jpg" TargetMode="External"/><Relationship Id="rId151" Type="http://schemas.openxmlformats.org/officeDocument/2006/relationships/hyperlink" Target="http://aginginocontowi.net/yahoo_site_admin/assets/images/foot.97174809_std.jpg" TargetMode="External"/><Relationship Id="rId152" Type="http://schemas.openxmlformats.org/officeDocument/2006/relationships/hyperlink" Target="http://aginginocontowi.net/yahoo_site_admin/assets/images/foot.97174809_std.jpg" TargetMode="External"/><Relationship Id="rId153" Type="http://schemas.openxmlformats.org/officeDocument/2006/relationships/hyperlink" Target="http://aginginocontowi.net/yahoo_site_admin/assets/images/foot.97174809_std.jpg" TargetMode="External"/><Relationship Id="rId154" Type="http://schemas.openxmlformats.org/officeDocument/2006/relationships/hyperlink" Target="http://aginginocontowi.net/yahoo_site_admin/assets/images/foot.97174809_std.jpg" TargetMode="External"/><Relationship Id="rId155" Type="http://schemas.openxmlformats.org/officeDocument/2006/relationships/hyperlink" Target="http://aginginocontowi.net/yahoo_site_admin/assets/images/foot.97174809_std.jpg" TargetMode="External"/><Relationship Id="rId156" Type="http://schemas.openxmlformats.org/officeDocument/2006/relationships/hyperlink" Target="http://aginginocontowi.net/yahoo_site_admin/assets/images/foot.97174809_std.jpg" TargetMode="External"/><Relationship Id="rId157" Type="http://schemas.openxmlformats.org/officeDocument/2006/relationships/hyperlink" Target="http://aginginocontowi.net/yahoo_site_admin/assets/images/foot.97174809_std.jpg" TargetMode="External"/><Relationship Id="rId158" Type="http://schemas.openxmlformats.org/officeDocument/2006/relationships/hyperlink" Target="http://aginginocontowi.net/yahoo_site_admin/assets/images/foot.97174809_std.jpg" TargetMode="External"/><Relationship Id="rId159" Type="http://schemas.openxmlformats.org/officeDocument/2006/relationships/hyperlink" Target="http://aginginocontowi.net/yahoo_site_admin/assets/images/foot.97174809_std.jpg" TargetMode="External"/><Relationship Id="rId160" Type="http://schemas.openxmlformats.org/officeDocument/2006/relationships/hyperlink" Target="http://aginginocontowi.net/yahoo_site_admin/assets/images/foot.97174809_std.jpg" TargetMode="External"/><Relationship Id="rId161" Type="http://schemas.openxmlformats.org/officeDocument/2006/relationships/hyperlink" Target="http://aginginocontowi.net/yahoo_site_admin/assets/images/foot.97174809_std.jpg" TargetMode="External"/><Relationship Id="rId162" Type="http://schemas.openxmlformats.org/officeDocument/2006/relationships/hyperlink" Target="http://aginginocontowi.net/yahoo_site_admin/assets/images/foot.97174809_std.jpg" TargetMode="External"/><Relationship Id="rId163" Type="http://schemas.openxmlformats.org/officeDocument/2006/relationships/hyperlink" Target="http://aginginocontowi.net/yahoo_site_admin/assets/images/foot.97174809_std.jpg" TargetMode="External"/><Relationship Id="rId164" Type="http://schemas.openxmlformats.org/officeDocument/2006/relationships/hyperlink" Target="http://aginginocontowi.net/yahoo_site_admin/assets/images/foot.97174809_std.jpg" TargetMode="External"/><Relationship Id="rId165" Type="http://schemas.openxmlformats.org/officeDocument/2006/relationships/hyperlink" Target="http://aginginocontowi.net/yahoo_site_admin/assets/images/foot.97174809_std.jpg" TargetMode="External"/><Relationship Id="rId166" Type="http://schemas.openxmlformats.org/officeDocument/2006/relationships/hyperlink" Target="http://aginginocontowi.net/yahoo_site_admin/assets/images/foot.97174809_std.jpg" TargetMode="External"/><Relationship Id="rId167" Type="http://schemas.openxmlformats.org/officeDocument/2006/relationships/hyperlink" Target="http://aginginocontowi.net/yahoo_site_admin/assets/images/foot.97174809_std.jpg" TargetMode="External"/><Relationship Id="rId168" Type="http://schemas.openxmlformats.org/officeDocument/2006/relationships/hyperlink" Target="http://www.hairsthebling.com/wp-content/uploads/keratin+.jpg" TargetMode="External"/><Relationship Id="rId169" Type="http://schemas.openxmlformats.org/officeDocument/2006/relationships/hyperlink" Target="http://www.hairsthebling.com/wp-content/uploads/keratin+.jpg" TargetMode="External"/><Relationship Id="rId170" Type="http://schemas.openxmlformats.org/officeDocument/2006/relationships/hyperlink" Target="http://www.hairsthebling.com/wp-content/uploads/keratin+.jpg" TargetMode="External"/><Relationship Id="rId171" Type="http://schemas.openxmlformats.org/officeDocument/2006/relationships/hyperlink" Target="http://www.hairsthebling.com/wp-content/uploads/keratin+.jpg" TargetMode="External"/><Relationship Id="rId172" Type="http://schemas.openxmlformats.org/officeDocument/2006/relationships/hyperlink" Target="http://www.hairsthebling.com/wp-content/uploads/keratin+.jpg" TargetMode="External"/><Relationship Id="rId173" Type="http://schemas.openxmlformats.org/officeDocument/2006/relationships/hyperlink" Target="http://www.hairsthebling.com/wp-content/uploads/keratin+.jpg" TargetMode="External"/><Relationship Id="rId174" Type="http://schemas.openxmlformats.org/officeDocument/2006/relationships/hyperlink" Target="http://www.hairsthebling.com/wp-content/uploads/keratin+.jpg" TargetMode="External"/><Relationship Id="rId175" Type="http://schemas.openxmlformats.org/officeDocument/2006/relationships/hyperlink" Target="http://www.hairsthebling.com/wp-content/uploads/keratin+.jpg" TargetMode="External"/><Relationship Id="rId176" Type="http://schemas.openxmlformats.org/officeDocument/2006/relationships/hyperlink" Target="http://www.hairsthebling.com/wp-content/uploads/keratin+.jpg" TargetMode="External"/><Relationship Id="rId177" Type="http://schemas.openxmlformats.org/officeDocument/2006/relationships/hyperlink" Target="http://www.hairsthebling.com/wp-content/uploads/keratin+.jpg" TargetMode="External"/><Relationship Id="rId178" Type="http://schemas.openxmlformats.org/officeDocument/2006/relationships/hyperlink" Target="http://www.hairsthebling.com/wp-content/uploads/keratin+.jpg" TargetMode="External"/><Relationship Id="rId179" Type="http://schemas.openxmlformats.org/officeDocument/2006/relationships/hyperlink" Target="http://www.hairsthebling.com/wp-content/uploads/keratin+.jpg" TargetMode="External"/><Relationship Id="rId180" Type="http://schemas.openxmlformats.org/officeDocument/2006/relationships/hyperlink" Target="http://www.hairsthebling.com/wp-content/uploads/keratin+.jpg" TargetMode="External"/><Relationship Id="rId181" Type="http://schemas.openxmlformats.org/officeDocument/2006/relationships/hyperlink" Target="http://www.hairsthebling.com/wp-content/uploads/keratin+.jpg" TargetMode="External"/><Relationship Id="rId182" Type="http://schemas.openxmlformats.org/officeDocument/2006/relationships/hyperlink" Target="http://www.hairsthebling.com/wp-content/uploads/keratin+.jpg" TargetMode="External"/><Relationship Id="rId183" Type="http://schemas.openxmlformats.org/officeDocument/2006/relationships/hyperlink" Target="http://www.hairsthebling.com/wp-content/uploads/keratin+.jpg" TargetMode="External"/><Relationship Id="rId184" Type="http://schemas.openxmlformats.org/officeDocument/2006/relationships/hyperlink" Target="http://www.hairsthebling.com/wp-content/uploads/keratin+.jpg" TargetMode="External"/><Relationship Id="rId185" Type="http://schemas.openxmlformats.org/officeDocument/2006/relationships/hyperlink" Target="http://www.clker.com/cliparts/S/C/0/s/f/x/nose-hi.png" TargetMode="External"/><Relationship Id="rId186" Type="http://schemas.openxmlformats.org/officeDocument/2006/relationships/hyperlink" Target="http://www.clker.com/cliparts/S/C/0/s/f/x/nose-hi.png" TargetMode="External"/><Relationship Id="rId187" Type="http://schemas.openxmlformats.org/officeDocument/2006/relationships/hyperlink" Target="http://www.clker.com/cliparts/S/C/0/s/f/x/nose-hi.png" TargetMode="External"/><Relationship Id="rId188" Type="http://schemas.openxmlformats.org/officeDocument/2006/relationships/hyperlink" Target="http://www.clker.com/cliparts/S/C/0/s/f/x/nose-hi.png" TargetMode="External"/><Relationship Id="rId189" Type="http://schemas.openxmlformats.org/officeDocument/2006/relationships/hyperlink" Target="http://www.clker.com/cliparts/S/C/0/s/f/x/nose-hi.png" TargetMode="External"/><Relationship Id="rId190" Type="http://schemas.openxmlformats.org/officeDocument/2006/relationships/hyperlink" Target="http://www.clker.com/cliparts/S/C/0/s/f/x/nose-hi.png" TargetMode="External"/><Relationship Id="rId191" Type="http://schemas.openxmlformats.org/officeDocument/2006/relationships/hyperlink" Target="http://www.clker.com/cliparts/S/C/0/s/f/x/nose-hi.png" TargetMode="External"/><Relationship Id="rId192" Type="http://schemas.openxmlformats.org/officeDocument/2006/relationships/hyperlink" Target="http://www.clker.com/cliparts/S/C/0/s/f/x/nose-hi.png" TargetMode="External"/><Relationship Id="rId193" Type="http://schemas.openxmlformats.org/officeDocument/2006/relationships/hyperlink" Target="http://www.clker.com/cliparts/S/C/0/s/f/x/nose-hi.png" TargetMode="External"/><Relationship Id="rId194" Type="http://schemas.openxmlformats.org/officeDocument/2006/relationships/hyperlink" Target="http://www.clker.com/cliparts/S/C/0/s/f/x/nose-hi.png" TargetMode="External"/><Relationship Id="rId195" Type="http://schemas.openxmlformats.org/officeDocument/2006/relationships/hyperlink" Target="http://www.clker.com/cliparts/S/C/0/s/f/x/nose-hi.png" TargetMode="External"/><Relationship Id="rId196" Type="http://schemas.openxmlformats.org/officeDocument/2006/relationships/hyperlink" Target="http://www.clker.com/cliparts/S/C/0/s/f/x/nose-hi.png" TargetMode="External"/><Relationship Id="rId197" Type="http://schemas.openxmlformats.org/officeDocument/2006/relationships/hyperlink" Target="http://www.clker.com/cliparts/S/C/0/s/f/x/nose-hi.png" TargetMode="External"/><Relationship Id="rId198" Type="http://schemas.openxmlformats.org/officeDocument/2006/relationships/hyperlink" Target="http://www.clker.com/cliparts/S/C/0/s/f/x/nose-hi.png" TargetMode="External"/><Relationship Id="rId199" Type="http://schemas.openxmlformats.org/officeDocument/2006/relationships/hyperlink" Target="http://www.clker.com/cliparts/S/C/0/s/f/x/nose-hi.png" TargetMode="External"/><Relationship Id="rId200" Type="http://schemas.openxmlformats.org/officeDocument/2006/relationships/hyperlink" Target="http://www.clker.com/cliparts/S/C/0/s/f/x/nose-hi.png" TargetMode="External"/><Relationship Id="rId201" Type="http://schemas.openxmlformats.org/officeDocument/2006/relationships/hyperlink" Target="http://www.clker.com/cliparts/S/C/0/s/f/x/nose-hi.png" TargetMode="External"/><Relationship Id="rId202" Type="http://schemas.openxmlformats.org/officeDocument/2006/relationships/hyperlink" Target="http://www.clker.com/cliparts/S/C/0/s/f/x/nose-hi.png" TargetMode="External"/><Relationship Id="rId203" Type="http://schemas.openxmlformats.org/officeDocument/2006/relationships/hyperlink" Target="http://www.clker.com/cliparts/S/C/0/s/f/x/nose-hi.png" TargetMode="External"/><Relationship Id="rId204" Type="http://schemas.openxmlformats.org/officeDocument/2006/relationships/hyperlink" Target="http://www.clker.com/cliparts/S/C/0/s/f/x/nose-hi.png" TargetMode="External"/><Relationship Id="rId205" Type="http://schemas.openxmlformats.org/officeDocument/2006/relationships/hyperlink" Target="http://www.clker.com/cliparts/S/C/0/s/f/x/nose-hi.png" TargetMode="External"/><Relationship Id="rId206" Type="http://schemas.openxmlformats.org/officeDocument/2006/relationships/hyperlink" Target="http://www.clker.com/cliparts/S/C/0/s/f/x/nose-hi.png" TargetMode="External"/><Relationship Id="rId207" Type="http://schemas.openxmlformats.org/officeDocument/2006/relationships/hyperlink" Target="http://www.clker.com/cliparts/S/C/0/s/f/x/nose-hi.png" TargetMode="External"/><Relationship Id="rId208" Type="http://schemas.openxmlformats.org/officeDocument/2006/relationships/hyperlink" Target="http://www.clker.com/cliparts/S/C/0/s/f/x/nose-hi.png" TargetMode="External"/><Relationship Id="rId209" Type="http://schemas.openxmlformats.org/officeDocument/2006/relationships/hyperlink" Target="http://www.clker.com/cliparts/S/C/0/s/f/x/nose-hi.png" TargetMode="External"/><Relationship Id="rId210" Type="http://schemas.openxmlformats.org/officeDocument/2006/relationships/hyperlink" Target="http://www.carmenlu.com/first/vocabulary/health1/body1_1/leg.jpg" TargetMode="External"/><Relationship Id="rId211" Type="http://schemas.openxmlformats.org/officeDocument/2006/relationships/hyperlink" Target="http://www.carmenlu.com/first/vocabulary/health1/body1_1/leg.jpg" TargetMode="External"/><Relationship Id="rId212" Type="http://schemas.openxmlformats.org/officeDocument/2006/relationships/hyperlink" Target="http://www.carmenlu.com/first/vocabulary/health1/body1_1/leg.jpg" TargetMode="External"/><Relationship Id="rId213" Type="http://schemas.openxmlformats.org/officeDocument/2006/relationships/hyperlink" Target="http://www.carmenlu.com/first/vocabulary/health1/body1_1/leg.jpg" TargetMode="External"/><Relationship Id="rId214" Type="http://schemas.openxmlformats.org/officeDocument/2006/relationships/hyperlink" Target="http://www.carmenlu.com/first/vocabulary/health1/body1_1/leg.jpg" TargetMode="External"/><Relationship Id="rId215" Type="http://schemas.openxmlformats.org/officeDocument/2006/relationships/hyperlink" Target="http://www.carmenlu.com/first/vocabulary/health1/body1_1/leg.jpg" TargetMode="External"/><Relationship Id="rId216" Type="http://schemas.openxmlformats.org/officeDocument/2006/relationships/hyperlink" Target="http://www.carmenlu.com/first/vocabulary/health1/body1_1/leg.jpg" TargetMode="External"/><Relationship Id="rId217" Type="http://schemas.openxmlformats.org/officeDocument/2006/relationships/hyperlink" Target="http://www.carmenlu.com/first/vocabulary/health1/body1_1/leg.jpg" TargetMode="External"/><Relationship Id="rId218" Type="http://schemas.openxmlformats.org/officeDocument/2006/relationships/hyperlink" Target="http://www.carmenlu.com/first/vocabulary/health1/body1_1/leg.jpg" TargetMode="External"/><Relationship Id="rId219" Type="http://schemas.openxmlformats.org/officeDocument/2006/relationships/hyperlink" Target="http://www.carmenlu.com/first/vocabulary/health1/body1_1/leg.jpg" TargetMode="External"/><Relationship Id="rId220" Type="http://schemas.openxmlformats.org/officeDocument/2006/relationships/hyperlink" Target="http://www.carmenlu.com/first/vocabulary/health1/body1_1/leg.jpg" TargetMode="External"/><Relationship Id="rId221" Type="http://schemas.openxmlformats.org/officeDocument/2006/relationships/hyperlink" Target="http://www.carmenlu.com/first/vocabulary/health1/body1_1/leg.jpg" TargetMode="External"/><Relationship Id="rId222" Type="http://schemas.openxmlformats.org/officeDocument/2006/relationships/hyperlink" Target="http://www.carmenlu.com/first/vocabulary/health1/body1_1/leg.jpg" TargetMode="External"/><Relationship Id="rId223" Type="http://schemas.openxmlformats.org/officeDocument/2006/relationships/hyperlink" Target="http://www.carmenlu.com/first/vocabulary/health1/body1_1/leg.jpg" TargetMode="External"/><Relationship Id="rId224" Type="http://schemas.openxmlformats.org/officeDocument/2006/relationships/hyperlink" Target="http://www.carmenlu.com/first/vocabulary/health1/body1_1/leg.jpg" TargetMode="External"/><Relationship Id="rId225" Type="http://schemas.openxmlformats.org/officeDocument/2006/relationships/hyperlink" Target="http://www.carmenlu.com/first/vocabulary/health1/body1_1/leg.jpg" TargetMode="External"/><Relationship Id="rId226" Type="http://schemas.openxmlformats.org/officeDocument/2006/relationships/hyperlink" Target="http://www.carmenlu.com/first/vocabulary/health1/body1_1/leg.jpg" TargetMode="External"/><Relationship Id="rId227" Type="http://schemas.openxmlformats.org/officeDocument/2006/relationships/hyperlink" Target="http://www.carmenlu.com/first/vocabulary/health1/body1_1/leg.jpg" TargetMode="External"/><Relationship Id="rId228" Type="http://schemas.openxmlformats.org/officeDocument/2006/relationships/hyperlink" Target="http://www.carmenlu.com/first/vocabulary/health1/body1_1/leg.jpg" TargetMode="External"/><Relationship Id="rId229" Type="http://schemas.openxmlformats.org/officeDocument/2006/relationships/hyperlink" Target="http://305bcoaches.files.wordpress.com/2010/04/toes-foot-toenails_willid1032r.jpg" TargetMode="External"/><Relationship Id="rId230" Type="http://schemas.openxmlformats.org/officeDocument/2006/relationships/hyperlink" Target="http://305bcoaches.files.wordpress.com/2010/04/toes-foot-toenails_willid1032r.jpg" TargetMode="External"/><Relationship Id="rId231" Type="http://schemas.openxmlformats.org/officeDocument/2006/relationships/hyperlink" Target="http://305bcoaches.files.wordpress.com/2010/04/toes-foot-toenails_willid1032r.jpg" TargetMode="External"/><Relationship Id="rId232" Type="http://schemas.openxmlformats.org/officeDocument/2006/relationships/hyperlink" Target="http://305bcoaches.files.wordpress.com/2010/04/toes-foot-toenails_willid1032r.jpg" TargetMode="External"/><Relationship Id="rId233" Type="http://schemas.openxmlformats.org/officeDocument/2006/relationships/hyperlink" Target="http://305bcoaches.files.wordpress.com/2010/04/toes-foot-toenails_willid1032r.jpg" TargetMode="External"/><Relationship Id="rId234" Type="http://schemas.openxmlformats.org/officeDocument/2006/relationships/hyperlink" Target="http://305bcoaches.files.wordpress.com/2010/04/toes-foot-toenails_willid1032r.jpg" TargetMode="External"/><Relationship Id="rId235" Type="http://schemas.openxmlformats.org/officeDocument/2006/relationships/hyperlink" Target="http://305bcoaches.files.wordpress.com/2010/04/toes-foot-toenails_willid1032r.jpg" TargetMode="External"/><Relationship Id="rId236" Type="http://schemas.openxmlformats.org/officeDocument/2006/relationships/hyperlink" Target="http://305bcoaches.files.wordpress.com/2010/04/toes-foot-toenails_willid1032r.jpg" TargetMode="External"/><Relationship Id="rId237" Type="http://schemas.openxmlformats.org/officeDocument/2006/relationships/hyperlink" Target="http://305bcoaches.files.wordpress.com/2010/04/toes-foot-toenails_willid1032r.jpg" TargetMode="External"/><Relationship Id="rId238" Type="http://schemas.openxmlformats.org/officeDocument/2006/relationships/hyperlink" Target="http://305bcoaches.files.wordpress.com/2010/04/toes-foot-toenails_willid1032r.jpg" TargetMode="External"/><Relationship Id="rId239" Type="http://schemas.openxmlformats.org/officeDocument/2006/relationships/hyperlink" Target="http://305bcoaches.files.wordpress.com/2010/04/toes-foot-toenails_willid1032r.jpg" TargetMode="External"/><Relationship Id="rId240" Type="http://schemas.openxmlformats.org/officeDocument/2006/relationships/hyperlink" Target="http://305bcoaches.files.wordpress.com/2010/04/toes-foot-toenails_willid1032r.jpg" TargetMode="External"/><Relationship Id="rId241" Type="http://schemas.openxmlformats.org/officeDocument/2006/relationships/hyperlink" Target="http://305bcoaches.files.wordpress.com/2010/04/toes-foot-toenails_willid1032r.jpg" TargetMode="External"/><Relationship Id="rId242" Type="http://schemas.openxmlformats.org/officeDocument/2006/relationships/hyperlink" Target="http://305bcoaches.files.wordpress.com/2010/04/toes-foot-toenails_willid1032r.jpg" TargetMode="External"/><Relationship Id="rId243" Type="http://schemas.openxmlformats.org/officeDocument/2006/relationships/hyperlink" Target="http://305bcoaches.files.wordpress.com/2010/04/toes-foot-toenails_willid1032r.jpg" TargetMode="External"/><Relationship Id="rId244" Type="http://schemas.openxmlformats.org/officeDocument/2006/relationships/hyperlink" Target="http://305bcoaches.files.wordpress.com/2010/04/toes-foot-toenails_willid1032r.jpg" TargetMode="External"/><Relationship Id="rId245" Type="http://schemas.openxmlformats.org/officeDocument/2006/relationships/hyperlink" Target="http://305bcoaches.files.wordpress.com/2010/04/toes-foot-toenails_willid1032r.jpg" TargetMode="External"/><Relationship Id="rId246" Type="http://schemas.openxmlformats.org/officeDocument/2006/relationships/hyperlink" Target="http://305bcoaches.files.wordpress.com/2010/04/toes-foot-toenails_willid1032r.jpg" TargetMode="External"/><Relationship Id="rId247" Type="http://schemas.openxmlformats.org/officeDocument/2006/relationships/hyperlink" Target="http://305bcoaches.files.wordpress.com/2010/04/toes-foot-toenails_willid1032r.jpg" TargetMode="External"/><Relationship Id="rId248" Type="http://schemas.openxmlformats.org/officeDocument/2006/relationships/hyperlink" Target="http://305bcoaches.files.wordpress.com/2010/04/toes-foot-toenails_willid1032r.jpg" TargetMode="External"/><Relationship Id="rId249" Type="http://schemas.openxmlformats.org/officeDocument/2006/relationships/hyperlink" Target="http://305bcoaches.files.wordpress.com/2010/04/toes-foot-toenails_willid1032r.jpg" TargetMode="External"/><Relationship Id="rId250" Type="http://schemas.openxmlformats.org/officeDocument/2006/relationships/hyperlink" Target="http://www.carmenlu.com/first/vocabulary/health1/body1_1/neck.jpg" TargetMode="External"/><Relationship Id="rId251" Type="http://schemas.openxmlformats.org/officeDocument/2006/relationships/hyperlink" Target="http://www.carmenlu.com/first/vocabulary/health1/body1_1/neck.jpg" TargetMode="External"/><Relationship Id="rId252" Type="http://schemas.openxmlformats.org/officeDocument/2006/relationships/hyperlink" Target="http://www.carmenlu.com/first/vocabulary/health1/body1_1/neck.jpg" TargetMode="External"/><Relationship Id="rId253" Type="http://schemas.openxmlformats.org/officeDocument/2006/relationships/hyperlink" Target="http://www.carmenlu.com/first/vocabulary/health1/body1_1/neck.jpg" TargetMode="External"/><Relationship Id="rId254" Type="http://schemas.openxmlformats.org/officeDocument/2006/relationships/hyperlink" Target="http://www.carmenlu.com/first/vocabulary/health1/body1_1/neck.jpg" TargetMode="External"/><Relationship Id="rId255" Type="http://schemas.openxmlformats.org/officeDocument/2006/relationships/hyperlink" Target="http://www.carmenlu.com/first/vocabulary/health1/body1_1/neck.jpg" TargetMode="External"/><Relationship Id="rId256" Type="http://schemas.openxmlformats.org/officeDocument/2006/relationships/hyperlink" Target="http://www.carmenlu.com/first/vocabulary/health1/body1_1/neck.jpg" TargetMode="External"/><Relationship Id="rId257" Type="http://schemas.openxmlformats.org/officeDocument/2006/relationships/hyperlink" Target="http://www.carmenlu.com/first/vocabulary/health1/body1_1/neck.jpg" TargetMode="External"/><Relationship Id="rId258" Type="http://schemas.openxmlformats.org/officeDocument/2006/relationships/hyperlink" Target="http://www.carmenlu.com/first/vocabulary/health1/body1_1/neck.jpg" TargetMode="External"/><Relationship Id="rId259" Type="http://schemas.openxmlformats.org/officeDocument/2006/relationships/hyperlink" Target="http://www.carmenlu.com/first/vocabulary/health1/body1_1/neck.jpg" TargetMode="External"/><Relationship Id="rId260" Type="http://schemas.openxmlformats.org/officeDocument/2006/relationships/hyperlink" Target="http://www.carmenlu.com/first/vocabulary/health1/body1_1/neck.jpg" TargetMode="External"/><Relationship Id="rId261" Type="http://schemas.openxmlformats.org/officeDocument/2006/relationships/hyperlink" Target="http://www.carmenlu.com/first/vocabulary/health1/body1_1/neck.jpg" TargetMode="External"/><Relationship Id="rId262" Type="http://schemas.openxmlformats.org/officeDocument/2006/relationships/hyperlink" Target="http://www.carmenlu.com/first/vocabulary/health1/body1_1/neck.jpg" TargetMode="External"/><Relationship Id="rId263" Type="http://schemas.openxmlformats.org/officeDocument/2006/relationships/hyperlink" Target="http://www.carmenlu.com/first/vocabulary/health1/body1_1/neck.jpg" TargetMode="External"/><Relationship Id="rId264" Type="http://schemas.openxmlformats.org/officeDocument/2006/relationships/hyperlink" Target="http://www.carmenlu.com/first/vocabulary/health1/body1_1/neck.jpg" TargetMode="External"/><Relationship Id="rId265" Type="http://schemas.openxmlformats.org/officeDocument/2006/relationships/hyperlink" Target="http://www.carmenlu.com/first/vocabulary/health1/body1_1/neck.jpg" TargetMode="External"/><Relationship Id="rId266" Type="http://schemas.openxmlformats.org/officeDocument/2006/relationships/hyperlink" Target="http://www.carmenlu.com/first/vocabulary/health1/body1_1/neck.jpg" TargetMode="External"/><Relationship Id="rId267" Type="http://schemas.openxmlformats.org/officeDocument/2006/relationships/hyperlink" Target="http://www.carmenlu.com/first/vocabulary/health1/body1_1/neck.jpg" TargetMode="External"/><Relationship Id="rId268" Type="http://schemas.openxmlformats.org/officeDocument/2006/relationships/hyperlink" Target="http://www.carmenlu.com/first/vocabulary/health1/body1_1/neck.jpg" TargetMode="External"/><Relationship Id="rId269" Type="http://schemas.openxmlformats.org/officeDocument/2006/relationships/hyperlink" Target="http://cs5129.vk.me/u31854239/-6/x_ec234230.jpg" TargetMode="External"/><Relationship Id="rId270" Type="http://schemas.openxmlformats.org/officeDocument/2006/relationships/hyperlink" Target="http://cs5129.vk.me/u31854239/-6/x_ec234230.jpg" TargetMode="External"/><Relationship Id="rId271" Type="http://schemas.openxmlformats.org/officeDocument/2006/relationships/hyperlink" Target="http://cs5129.vk.me/u31854239/-6/x_ec234230.jpg" TargetMode="External"/><Relationship Id="rId272" Type="http://schemas.openxmlformats.org/officeDocument/2006/relationships/hyperlink" Target="http://cs5129.vk.me/u31854239/-6/x_ec234230.jpg" TargetMode="External"/><Relationship Id="rId273" Type="http://schemas.openxmlformats.org/officeDocument/2006/relationships/hyperlink" Target="http://cs5129.vk.me/u31854239/-6/x_ec234230.jpg" TargetMode="External"/><Relationship Id="rId274" Type="http://schemas.openxmlformats.org/officeDocument/2006/relationships/hyperlink" Target="http://cs5129.vk.me/u31854239/-6/x_ec234230.jpg" TargetMode="External"/><Relationship Id="rId275" Type="http://schemas.openxmlformats.org/officeDocument/2006/relationships/hyperlink" Target="http://cs5129.vk.me/u31854239/-6/x_ec234230.jpg" TargetMode="External"/><Relationship Id="rId276" Type="http://schemas.openxmlformats.org/officeDocument/2006/relationships/hyperlink" Target="http://cs5129.vk.me/u31854239/-6/x_ec234230.jpg" TargetMode="External"/><Relationship Id="rId277" Type="http://schemas.openxmlformats.org/officeDocument/2006/relationships/hyperlink" Target="http://cs5129.vk.me/u31854239/-6/x_ec234230.jpg" TargetMode="External"/><Relationship Id="rId278" Type="http://schemas.openxmlformats.org/officeDocument/2006/relationships/hyperlink" Target="http://cs5129.vk.me/u31854239/-6/x_ec234230.jpg" TargetMode="External"/><Relationship Id="rId279" Type="http://schemas.openxmlformats.org/officeDocument/2006/relationships/hyperlink" Target="http://cs5129.vk.me/u31854239/-6/x_ec234230.jpg" TargetMode="External"/><Relationship Id="rId280" Type="http://schemas.openxmlformats.org/officeDocument/2006/relationships/hyperlink" Target="http://cs5129.vk.me/u31854239/-6/x_ec234230.jpg" TargetMode="External"/><Relationship Id="rId281" Type="http://schemas.openxmlformats.org/officeDocument/2006/relationships/slideLayout" Target="../slideLayouts/slideLayout1.xml"/><Relationship Id="rId28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142920"/>
            <a:ext cx="9144000" cy="659916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32a5"/>
                </a:solidFill>
                <a:latin typeface="Comic Sans MS"/>
              </a:rPr>
              <a:t>Презентация – игра «</a:t>
            </a:r>
            <a:r>
              <a:rPr b="0" lang="en-US" sz="4000" spc="-1" strike="noStrike">
                <a:solidFill>
                  <a:srgbClr val="c032a5"/>
                </a:solidFill>
                <a:latin typeface="Comic Sans MS"/>
              </a:rPr>
              <a:t>My body</a:t>
            </a:r>
            <a:r>
              <a:rPr b="0" lang="ru-RU" sz="4000" spc="-1" strike="noStrike">
                <a:solidFill>
                  <a:srgbClr val="c032a5"/>
                </a:solidFill>
                <a:latin typeface="Comic Sans MS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курева  Ан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Набережные Че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3" descr="head05.gif"/>
          <p:cNvPicPr/>
          <p:nvPr/>
        </p:nvPicPr>
        <p:blipFill>
          <a:blip r:embed="rId1"/>
          <a:stretch/>
        </p:blipFill>
        <p:spPr>
          <a:xfrm>
            <a:off x="642960" y="500040"/>
            <a:ext cx="1428840" cy="12826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4" descr="images (2).jpg"/>
          <p:cNvPicPr/>
          <p:nvPr/>
        </p:nvPicPr>
        <p:blipFill>
          <a:blip r:embed="rId2"/>
          <a:stretch/>
        </p:blipFill>
        <p:spPr>
          <a:xfrm>
            <a:off x="7286760" y="3714840"/>
            <a:ext cx="1299960" cy="14763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5" descr="images (1).jpg"/>
          <p:cNvPicPr/>
          <p:nvPr/>
        </p:nvPicPr>
        <p:blipFill>
          <a:blip r:embed="rId3"/>
          <a:stretch/>
        </p:blipFill>
        <p:spPr>
          <a:xfrm>
            <a:off x="1071720" y="3500280"/>
            <a:ext cx="985680" cy="12225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6" descr="images (6).jpg"/>
          <p:cNvPicPr/>
          <p:nvPr/>
        </p:nvPicPr>
        <p:blipFill>
          <a:blip r:embed="rId4"/>
          <a:stretch/>
        </p:blipFill>
        <p:spPr>
          <a:xfrm>
            <a:off x="7380360" y="428760"/>
            <a:ext cx="1068480" cy="13572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7" descr="загруженное (5).jpg"/>
          <p:cNvPicPr/>
          <p:nvPr/>
        </p:nvPicPr>
        <p:blipFill>
          <a:blip r:embed="rId5"/>
          <a:stretch/>
        </p:blipFill>
        <p:spPr>
          <a:xfrm>
            <a:off x="3857760" y="5214960"/>
            <a:ext cx="1658880" cy="928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8" descr="images (4).jpg"/>
          <p:cNvPicPr/>
          <p:nvPr/>
        </p:nvPicPr>
        <p:blipFill>
          <a:blip r:embed="rId6"/>
          <a:stretch/>
        </p:blipFill>
        <p:spPr>
          <a:xfrm>
            <a:off x="4199040" y="642960"/>
            <a:ext cx="1311120" cy="100008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>
            <a:hlinkClick r:id="" action="ppaction://hlinkshowjump?jump=nextslide"/>
          </p:cNvPr>
          <p:cNvSpPr/>
          <p:nvPr/>
        </p:nvSpPr>
        <p:spPr>
          <a:xfrm>
            <a:off x="7786800" y="5643720"/>
            <a:ext cx="936360" cy="792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42920" y="0"/>
            <a:ext cx="8856720" cy="671508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n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5643720" y="292896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5643720" y="2071800"/>
            <a:ext cx="2735280" cy="57600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fin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5643720" y="378612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n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15" descr="images (8).jpg"/>
          <p:cNvPicPr/>
          <p:nvPr/>
        </p:nvPicPr>
        <p:blipFill>
          <a:blip r:embed="rId1"/>
          <a:stretch/>
        </p:blipFill>
        <p:spPr>
          <a:xfrm>
            <a:off x="1357200" y="2143080"/>
            <a:ext cx="30909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30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8999640" cy="671508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5643720" y="39290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5643720" y="2071800"/>
            <a:ext cx="2735280" cy="57600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5643720" y="30002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17" descr="x_ec234230.jpg"/>
          <p:cNvPicPr/>
          <p:nvPr/>
        </p:nvPicPr>
        <p:blipFill>
          <a:blip r:embed="rId1"/>
          <a:stretch/>
        </p:blipFill>
        <p:spPr>
          <a:xfrm>
            <a:off x="1285920" y="2071800"/>
            <a:ext cx="321480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300"/>
                            </p:stCondLst>
                            <p:childTnLst>
                              <p:par>
                                <p:cTn id="3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42920" y="0"/>
            <a:ext cx="8856720" cy="685800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5643720" y="39290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5643720" y="2071800"/>
            <a:ext cx="2735280" cy="57600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n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5643720" y="30002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16" descr="загруженное (1).jpg"/>
          <p:cNvPicPr/>
          <p:nvPr/>
        </p:nvPicPr>
        <p:blipFill>
          <a:blip r:embed="rId1"/>
          <a:stretch/>
        </p:blipFill>
        <p:spPr>
          <a:xfrm>
            <a:off x="1500120" y="2143080"/>
            <a:ext cx="27860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400"/>
                            </p:stCondLst>
                            <p:childTnLst>
                              <p:par>
                                <p:cTn id="3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42920" y="0"/>
            <a:ext cx="8856720" cy="671508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le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5643720" y="39290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5643720" y="2071800"/>
            <a:ext cx="2735280" cy="57600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5643720" y="30002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14" descr="загруженное (4).jpg"/>
          <p:cNvPicPr/>
          <p:nvPr/>
        </p:nvPicPr>
        <p:blipFill>
          <a:blip r:embed="rId1"/>
          <a:stretch/>
        </p:blipFill>
        <p:spPr>
          <a:xfrm>
            <a:off x="1357200" y="2143080"/>
            <a:ext cx="301968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200"/>
                            </p:stCondLst>
                            <p:childTnLst>
                              <p:par>
                                <p:cTn id="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8999640" cy="685800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5643720" y="39290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5643720" y="2071800"/>
            <a:ext cx="2735280" cy="57600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643720" y="30002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16" descr="mata-kedutan.png"/>
          <p:cNvPicPr/>
          <p:nvPr/>
        </p:nvPicPr>
        <p:blipFill>
          <a:blip r:embed="rId1"/>
          <a:stretch/>
        </p:blipFill>
        <p:spPr>
          <a:xfrm>
            <a:off x="1285920" y="2143080"/>
            <a:ext cx="32637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3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8999640" cy="685800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7"/>
          <p:cNvSpPr/>
          <p:nvPr/>
        </p:nvSpPr>
        <p:spPr>
          <a:xfrm>
            <a:off x="8358120" y="485784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8"/>
          <p:cNvSpPr/>
          <p:nvPr/>
        </p:nvSpPr>
        <p:spPr>
          <a:xfrm>
            <a:off x="8072280" y="571500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9"/>
          <p:cNvSpPr/>
          <p:nvPr/>
        </p:nvSpPr>
        <p:spPr>
          <a:xfrm>
            <a:off x="214200" y="507204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142920" y="366120"/>
            <a:ext cx="8715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ьзуемые 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"/>
              </a:rPr>
              <a:t>ww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"/>
              </a:rPr>
              <a:t>laughforthehealthofi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"/>
              </a:rPr>
              <a:t>or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"/>
              </a:rPr>
              <a:t>w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"/>
              </a:rPr>
              <a:t>conten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"/>
              </a:rPr>
              <a:t>upload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"/>
              </a:rPr>
              <a:t>/2012/09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"/>
              </a:rPr>
              <a:t>hea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"/>
              </a:rPr>
              <a:t>05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"/>
              </a:rPr>
              <a:t>gif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го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"/>
              </a:rPr>
              <a:t>ww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"/>
              </a:rPr>
              <a:t>clker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"/>
              </a:rPr>
              <a:t>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"/>
              </a:rPr>
              <a:t>clipart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8"/>
              </a:rPr>
              <a:t>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9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0"/>
              </a:rPr>
              <a:t>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1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2"/>
              </a:rPr>
              <a:t>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3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4"/>
              </a:rPr>
              <a:t>C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5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6"/>
              </a:rPr>
              <a:t>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7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8"/>
              </a:rPr>
              <a:t>v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39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0"/>
              </a:rPr>
              <a:t>ar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1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2"/>
              </a:rPr>
              <a:t>han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3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4"/>
              </a:rPr>
              <a:t>m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5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6"/>
              </a:rPr>
              <a:t>pn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ру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8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49"/>
              </a:rPr>
              <a:t>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0"/>
              </a:rPr>
              <a:t>1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1"/>
              </a:rPr>
              <a:t>gstatic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2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3"/>
              </a:rPr>
              <a:t>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4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5"/>
              </a:rPr>
              <a:t>imag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6"/>
              </a:rPr>
              <a:t>?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7"/>
              </a:rPr>
              <a:t>q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8"/>
              </a:rPr>
              <a:t>=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59"/>
              </a:rPr>
              <a:t>tb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0"/>
              </a:rPr>
              <a:t>: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1"/>
              </a:rPr>
              <a:t>AN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2"/>
              </a:rPr>
              <a:t>9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3"/>
              </a:rPr>
              <a:t>GcR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4"/>
              </a:rPr>
              <a:t>0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5"/>
              </a:rPr>
              <a:t>NQNndZnR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6"/>
              </a:rPr>
              <a:t>7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7"/>
              </a:rPr>
              <a:t>OM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8"/>
              </a:rPr>
              <a:t>30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69"/>
              </a:rPr>
              <a:t>j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0"/>
              </a:rPr>
              <a:t>9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1"/>
              </a:rPr>
              <a:t>ioKfWuIzVeQrdutXjQhogZ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2"/>
              </a:rPr>
              <a:t>8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3"/>
              </a:rPr>
              <a:t>Ifv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4"/>
              </a:rPr>
              <a:t>51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5"/>
              </a:rPr>
              <a:t>o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6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7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ух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79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0"/>
              </a:rPr>
              <a:t>ww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1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2"/>
              </a:rPr>
              <a:t>englishexercis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4"/>
              </a:rPr>
              <a:t>or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5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6"/>
              </a:rPr>
              <a:t>makeagam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7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8"/>
              </a:rPr>
              <a:t>my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89"/>
              </a:rPr>
              <a:t>_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0"/>
              </a:rPr>
              <a:t>document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1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2"/>
              </a:rPr>
              <a:t>my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3"/>
              </a:rPr>
              <a:t>_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4"/>
              </a:rPr>
              <a:t>pictur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5"/>
              </a:rPr>
              <a:t>/2009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6"/>
              </a:rPr>
              <a:t>jul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7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8"/>
              </a:rPr>
              <a:t>C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99"/>
              </a:rPr>
              <a:t>4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0"/>
              </a:rPr>
              <a:t>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1"/>
              </a:rPr>
              <a:t>_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2"/>
              </a:rPr>
              <a:t>Body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3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4"/>
              </a:rPr>
              <a:t>Shoulder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5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6"/>
              </a:rPr>
              <a:t>gif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ле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8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09"/>
              </a:rPr>
              <a:t>ww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0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1"/>
              </a:rPr>
              <a:t>influx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2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3"/>
              </a:rPr>
              <a:t>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4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5"/>
              </a:rPr>
              <a:t>br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6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7"/>
              </a:rPr>
              <a:t>imgblo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8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19"/>
              </a:rPr>
              <a:t>imag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0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1"/>
              </a:rPr>
              <a:t>mouth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2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3"/>
              </a:rPr>
              <a:t>pn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4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5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6"/>
              </a:rPr>
              <a:t>thumb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7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8"/>
              </a:rPr>
              <a:t>dreamstim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29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0"/>
              </a:rPr>
              <a:t>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1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2"/>
              </a:rPr>
              <a:t>z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3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4"/>
              </a:rPr>
              <a:t>cut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5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6"/>
              </a:rPr>
              <a:t>cartoo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7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8"/>
              </a:rPr>
              <a:t>tooth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39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0"/>
              </a:rPr>
              <a:t>thumb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1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2"/>
              </a:rPr>
              <a:t>u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3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4"/>
              </a:rPr>
              <a:t>illustratio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5"/>
              </a:rPr>
              <a:t>-33243018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6"/>
              </a:rPr>
              <a:t>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з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8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49"/>
              </a:rPr>
              <a:t>aginginocontow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0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1"/>
              </a:rPr>
              <a:t>ne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2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3"/>
              </a:rPr>
              <a:t>yahoo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4"/>
              </a:rPr>
              <a:t>_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5"/>
              </a:rPr>
              <a:t>sit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6"/>
              </a:rPr>
              <a:t>_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7"/>
              </a:rPr>
              <a:t>admi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8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59"/>
              </a:rPr>
              <a:t>asset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0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1"/>
              </a:rPr>
              <a:t>imag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2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3"/>
              </a:rPr>
              <a:t>foo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4"/>
              </a:rPr>
              <a:t>.97174809_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5"/>
              </a:rPr>
              <a:t>st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6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7"/>
              </a:rPr>
              <a:t>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ст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69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0"/>
              </a:rPr>
              <a:t>ww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1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2"/>
              </a:rPr>
              <a:t>hairstheblin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4"/>
              </a:rPr>
              <a:t>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5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6"/>
              </a:rPr>
              <a:t>w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7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8"/>
              </a:rPr>
              <a:t>conten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79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0"/>
              </a:rPr>
              <a:t>upload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1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2"/>
              </a:rPr>
              <a:t>kerati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3"/>
              </a:rPr>
              <a:t>+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4"/>
              </a:rPr>
              <a:t>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воло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5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6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7"/>
              </a:rPr>
              <a:t>ww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8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89"/>
              </a:rPr>
              <a:t>clker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0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1"/>
              </a:rPr>
              <a:t>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2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3"/>
              </a:rPr>
              <a:t>clipart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4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5"/>
              </a:rPr>
              <a:t>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6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7"/>
              </a:rPr>
              <a:t>C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8"/>
              </a:rPr>
              <a:t>/0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199"/>
              </a:rPr>
              <a:t>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0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1"/>
              </a:rPr>
              <a:t>f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2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3"/>
              </a:rPr>
              <a:t>x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4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5"/>
              </a:rPr>
              <a:t>nos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6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7"/>
              </a:rPr>
              <a:t>h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8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09"/>
              </a:rPr>
              <a:t>pn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н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0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1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2"/>
              </a:rPr>
              <a:t>ww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4"/>
              </a:rPr>
              <a:t>carmenl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5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6"/>
              </a:rPr>
              <a:t>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7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8"/>
              </a:rPr>
              <a:t>firs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19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0"/>
              </a:rPr>
              <a:t>vocabulary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1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2"/>
              </a:rPr>
              <a:t>health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3"/>
              </a:rPr>
              <a:t>1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4"/>
              </a:rPr>
              <a:t>body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5"/>
              </a:rPr>
              <a:t>1_1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6"/>
              </a:rPr>
              <a:t>le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7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8"/>
              </a:rPr>
              <a:t>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29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0"/>
              </a:rPr>
              <a:t>://305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1"/>
              </a:rPr>
              <a:t>bcoach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2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3"/>
              </a:rPr>
              <a:t>fil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4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5"/>
              </a:rPr>
              <a:t>wordpres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6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7"/>
              </a:rPr>
              <a:t>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8"/>
              </a:rPr>
              <a:t>/2010/04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39"/>
              </a:rPr>
              <a:t>to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0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1"/>
              </a:rPr>
              <a:t>foo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2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3"/>
              </a:rPr>
              <a:t>toenail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4"/>
              </a:rPr>
              <a:t>_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5"/>
              </a:rPr>
              <a:t>willi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6"/>
              </a:rPr>
              <a:t>1032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7"/>
              </a:rPr>
              <a:t>r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8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49"/>
              </a:rPr>
              <a:t>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альцы на но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0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1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2"/>
              </a:rPr>
              <a:t>ww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4"/>
              </a:rPr>
              <a:t>carmenl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5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6"/>
              </a:rPr>
              <a:t>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7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8"/>
              </a:rPr>
              <a:t>firs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59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0"/>
              </a:rPr>
              <a:t>vocabulary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1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2"/>
              </a:rPr>
              <a:t>health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3"/>
              </a:rPr>
              <a:t>1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4"/>
              </a:rPr>
              <a:t>body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5"/>
              </a:rPr>
              <a:t>1_1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6"/>
              </a:rPr>
              <a:t>neck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7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8"/>
              </a:rPr>
              <a:t>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ш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69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0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1"/>
              </a:rPr>
              <a:t>c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2"/>
              </a:rPr>
              <a:t>5129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3"/>
              </a:rPr>
              <a:t>vk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4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5"/>
              </a:rPr>
              <a:t>m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6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7"/>
              </a:rPr>
              <a:t>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8"/>
              </a:rPr>
              <a:t>31854239/-6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79"/>
              </a:rPr>
              <a:t>x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alibri"/>
                <a:ea typeface="Times New Roman"/>
                <a:hlinkClick r:id="rId280"/>
              </a:rPr>
              <a:t>_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c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234230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ки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s://encrypted-tbn2.gstatic.com/images?q=tbn:ANd9GcRNhqFqOEiQIZKAH9IiTSewaOmnDy8CpV0X5z90z2lQbv4115kH гла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www.eslprintables.com/powerpoint.asp?id=24197#thetop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шаблон презен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79280" y="189000"/>
            <a:ext cx="8785440" cy="655308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5651640" y="20606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f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5651640" y="30686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5651640" y="40766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5" descr="F:\анюта\англ.яз\картинки\части тела картинки\head05.gif"/>
          <p:cNvPicPr/>
          <p:nvPr/>
        </p:nvPicPr>
        <p:blipFill>
          <a:blip r:embed="rId1"/>
          <a:stretch/>
        </p:blipFill>
        <p:spPr>
          <a:xfrm>
            <a:off x="1428840" y="2143080"/>
            <a:ext cx="292248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3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74208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shoul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5651640" y="20606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5715000" y="39290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5643720" y="30002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shou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4" descr="C4A_Body-Shoulders.gif"/>
          <p:cNvPicPr/>
          <p:nvPr/>
        </p:nvPicPr>
        <p:blipFill>
          <a:blip r:embed="rId1"/>
          <a:stretch/>
        </p:blipFill>
        <p:spPr>
          <a:xfrm>
            <a:off x="1357200" y="2071800"/>
            <a:ext cx="30718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8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142920"/>
            <a:ext cx="9144000" cy="659916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5651640" y="20606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5715000" y="39290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5643720" y="30002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15" descr="images (2).jpg"/>
          <p:cNvPicPr/>
          <p:nvPr/>
        </p:nvPicPr>
        <p:blipFill>
          <a:blip r:embed="rId1"/>
          <a:stretch/>
        </p:blipFill>
        <p:spPr>
          <a:xfrm>
            <a:off x="2143080" y="2071800"/>
            <a:ext cx="165744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2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42920" y="0"/>
            <a:ext cx="8856720" cy="685800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to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5643720" y="292896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5715000" y="39290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5643720" y="192888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4" descr="images (3).jpg"/>
          <p:cNvPicPr/>
          <p:nvPr/>
        </p:nvPicPr>
        <p:blipFill>
          <a:blip r:embed="rId1"/>
          <a:stretch/>
        </p:blipFill>
        <p:spPr>
          <a:xfrm>
            <a:off x="1643040" y="2143080"/>
            <a:ext cx="271476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4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42920" y="0"/>
            <a:ext cx="8856720" cy="685800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5643720" y="292896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5715000" y="392904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n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5643720" y="192888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5" descr="images (4).jpg"/>
          <p:cNvPicPr/>
          <p:nvPr/>
        </p:nvPicPr>
        <p:blipFill>
          <a:blip r:embed="rId1"/>
          <a:stretch/>
        </p:blipFill>
        <p:spPr>
          <a:xfrm>
            <a:off x="1428840" y="2143080"/>
            <a:ext cx="29289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3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42920" y="0"/>
            <a:ext cx="8856720" cy="685800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5643720" y="292896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5643720" y="378612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5643720" y="2071800"/>
            <a:ext cx="2735280" cy="57600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14" descr="images (5).jpg"/>
          <p:cNvPicPr/>
          <p:nvPr/>
        </p:nvPicPr>
        <p:blipFill>
          <a:blip r:embed="rId1"/>
          <a:stretch/>
        </p:blipFill>
        <p:spPr>
          <a:xfrm>
            <a:off x="2000160" y="21430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3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8999640" cy="671508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n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5643720" y="292896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5643720" y="2071800"/>
            <a:ext cx="2735280" cy="57600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5643720" y="378612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5" descr="images (6).jpg"/>
          <p:cNvPicPr/>
          <p:nvPr/>
        </p:nvPicPr>
        <p:blipFill>
          <a:blip r:embed="rId1"/>
          <a:stretch/>
        </p:blipFill>
        <p:spPr>
          <a:xfrm>
            <a:off x="2071800" y="2071800"/>
            <a:ext cx="18954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3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42920" y="0"/>
            <a:ext cx="8856720" cy="6715080"/>
          </a:xfrm>
          <a:prstGeom prst="rect">
            <a:avLst/>
          </a:prstGeom>
          <a:solidFill>
            <a:srgbClr val="cc99ff"/>
          </a:solidFill>
          <a:ln w="31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826920" y="5300640"/>
            <a:ext cx="4105440" cy="1079640"/>
          </a:xfrm>
          <a:prstGeom prst="flowChartTerminator">
            <a:avLst/>
          </a:prstGeom>
          <a:solidFill>
            <a:srgbClr val="ffffff"/>
          </a:solidFill>
          <a:ln w="10152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t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5643720" y="292896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5643720" y="2071800"/>
            <a:ext cx="2735280" cy="57600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shou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5643720" y="3786120"/>
            <a:ext cx="2735280" cy="57636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6">
            <a:hlinkClick r:id="" action="ppaction://hlinkshowjump?jump=nextslide"/>
          </p:cNvPr>
          <p:cNvSpPr/>
          <p:nvPr/>
        </p:nvSpPr>
        <p:spPr>
          <a:xfrm>
            <a:off x="8028000" y="260280"/>
            <a:ext cx="936720" cy="792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4788000" y="4869000"/>
            <a:ext cx="577800" cy="57600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4932360" y="5661000"/>
            <a:ext cx="79200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9"/>
          <p:cNvSpPr/>
          <p:nvPr/>
        </p:nvSpPr>
        <p:spPr>
          <a:xfrm>
            <a:off x="395280" y="472428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0"/>
          <p:cNvSpPr/>
          <p:nvPr/>
        </p:nvSpPr>
        <p:spPr>
          <a:xfrm>
            <a:off x="179280" y="5950080"/>
            <a:ext cx="792360" cy="72072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1"/>
          <p:cNvSpPr/>
          <p:nvPr/>
        </p:nvSpPr>
        <p:spPr>
          <a:xfrm>
            <a:off x="5076720" y="1125360"/>
            <a:ext cx="577800" cy="576360"/>
          </a:xfrm>
          <a:prstGeom prst="pie">
            <a:avLst/>
          </a:prstGeom>
          <a:solidFill>
            <a:srgbClr val="c032a5"/>
          </a:solidFill>
          <a:ln w="507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>
            <a:off x="826920" y="1628640"/>
            <a:ext cx="4105440" cy="3168720"/>
          </a:xfrm>
          <a:prstGeom prst="bevel">
            <a:avLst>
              <a:gd name="adj" fmla="val 12500"/>
            </a:avLst>
          </a:prstGeom>
          <a:solidFill>
            <a:srgbClr val="c032a5"/>
          </a:solidFill>
          <a:ln w="38160">
            <a:solidFill>
              <a:srgbClr val="3a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14" descr="images (7).jpg"/>
          <p:cNvPicPr/>
          <p:nvPr/>
        </p:nvPicPr>
        <p:blipFill>
          <a:blip r:embed="rId1"/>
          <a:stretch/>
        </p:blipFill>
        <p:spPr>
          <a:xfrm>
            <a:off x="1785960" y="2071800"/>
            <a:ext cx="242424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300"/>
                            </p:stCondLst>
                            <p:childTnLst>
                              <p:par>
                                <p:cTn id="2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22:05:10Z</dcterms:created>
  <dc:creator>nocas</dc:creator>
  <dc:description/>
  <dc:language>en-US</dc:language>
  <cp:lastModifiedBy>User</cp:lastModifiedBy>
  <dcterms:modified xsi:type="dcterms:W3CDTF">2001-12-31T23:40:15Z</dcterms:modified>
  <cp:revision>61</cp:revision>
  <dc:subject/>
  <dc:title>Diapositivo 1</dc:title>
</cp:coreProperties>
</file>