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832-F931-47D0-8D3D-D23A075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5CE-A994-453D-92B1-DB63F0F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1B8-A407-4BBC-97D0-EADC8C2E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705-F17E-46B1-B35A-4B93BE7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0EE0-701C-4D34-AD57-B334E731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A0D9-2339-455F-8E2C-A8BAF64D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548-FE8E-45FE-A506-3A4E272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BB2-F06D-4D2D-95BD-87DC9B1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AFB-FF53-4AB8-BB28-47D199A5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F7C9-416A-48F3-8A6E-60D72240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65D-5220-41D5-8256-B55E4EF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D78-D579-45B5-9C88-B6240CC1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C93E-C5C5-4232-8281-807F336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944-C856-4DB5-9B8B-DB93239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474-6E00-416B-8F31-3D432887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05A4-3846-41C3-808C-3CCD4731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7603-D8D7-4B52-91B1-80A2430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A45-28F3-4199-B94C-88881B3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50F-D3F7-4209-9408-4783398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28B-D608-4CF1-BCC6-BEDC8917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3E1-9F54-4965-95AE-8355BFC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F51-A9A2-43CE-B29E-AED0B41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9DD-E8E1-4F44-A00D-2089631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B12-128A-4465-863D-F90B117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64CC-7A00-4B78-904B-BCA6CB7035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B613-36FC-466A-9499-B81CEE882F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4340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ing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490920" cy="5105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9051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anc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048120" cy="2427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3768840"/>
            <a:ext cx="2743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runn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4255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mp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7135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play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894040" cy="31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7242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5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4T13:21:40Z</dcterms:created>
  <dc:creator>Валера</dc:creator>
  <dc:description/>
  <dc:language>en-US</dc:language>
  <cp:lastModifiedBy>Рязанова</cp:lastModifiedBy>
  <dcterms:modified xsi:type="dcterms:W3CDTF">2015-03-20T14:15:14Z</dcterms:modified>
  <cp:revision>108</cp:revision>
  <dc:subject/>
  <dc:title>Компьютер в мире профессий</dc:title>
</cp:coreProperties>
</file>