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046C-DFE8-4E4D-BC55-1122CF8B0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A7BA-A50E-4829-8DE6-F09EAF7B8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F09F-FA75-4879-A0B9-C2E0622DF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E3C4-8F98-4FB5-ADD1-0C8F1A23D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8BB55-9230-4DD2-AEC5-ED652C997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32886-D426-4DE7-BBD9-20D0C529C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3F69F-E989-482E-BAC9-DCE39B2C7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3DE82-CFA5-4A40-8E7C-DCA31AB49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3D2CE-4D77-4C09-8297-74403BA8D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FE535-1516-49BB-83AC-954E9BFFB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AB3A5-EB57-4347-85AA-A34DFBD83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8778-CE46-425B-9629-EE3EFF580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CEB74-651A-4B0D-9E99-2A9A3640B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96C6B-2060-4C77-B607-FEFC75774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E91CF-37D5-4FDD-B285-A8D2C8169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E8195-13A2-41CC-BC8E-CF42FA54D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B0F77-C9BF-4181-91D5-4FF3FD4C7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11D3-E1A4-45FE-82C1-D30FA3E82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45E7-56FD-4E7D-8DF2-2966F48E5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56E1-4BFA-45C2-A56A-5551EDC1D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8BFE-8502-494B-9F1C-3AD493B64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7B38-867E-46C0-96F3-9ADD6FAA4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D115-89C3-4A36-B162-AC71102D7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81CC-CFCC-4972-8FFB-3BD196372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E5F33-7050-4CF7-BF83-316075F094B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5068C-831E-4958-ABC8-96B5ED147DD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000000"/>
                </a:solidFill>
                <a:latin typeface="Comic Sans MS"/>
              </a:rPr>
              <a:t>worker</a:t>
            </a:r>
            <a:endParaRPr b="0" lang="en-US" sz="9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819520" y="1676520"/>
            <a:ext cx="434016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000000"/>
                </a:solidFill>
                <a:latin typeface="Comic Sans MS"/>
              </a:rPr>
              <a:t>singer</a:t>
            </a:r>
            <a:endParaRPr b="0" lang="en-US" sz="9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724280" y="1600200"/>
            <a:ext cx="3490920" cy="51055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685800" y="4419720"/>
            <a:ext cx="1905120" cy="185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000000"/>
                </a:solidFill>
                <a:latin typeface="Comic Sans MS"/>
              </a:rPr>
              <a:t>dancer</a:t>
            </a:r>
            <a:endParaRPr b="0" lang="en-US" sz="9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914400" y="2286000"/>
            <a:ext cx="3048120" cy="24271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5410080" y="3768840"/>
            <a:ext cx="2743200" cy="24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000000"/>
                </a:solidFill>
                <a:latin typeface="Comic Sans MS"/>
              </a:rPr>
              <a:t>runner</a:t>
            </a:r>
            <a:endParaRPr b="0" lang="en-US" sz="9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971800" y="1905120"/>
            <a:ext cx="42559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000000"/>
                </a:solidFill>
                <a:latin typeface="Comic Sans MS"/>
              </a:rPr>
              <a:t>jumper</a:t>
            </a:r>
            <a:endParaRPr b="0" lang="en-US" sz="9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981080" y="1752480"/>
            <a:ext cx="5713560" cy="39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000000"/>
                </a:solidFill>
                <a:latin typeface="Comic Sans MS"/>
              </a:rPr>
              <a:t>player</a:t>
            </a:r>
            <a:endParaRPr b="0" lang="en-US" sz="9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914400" y="3429000"/>
            <a:ext cx="2894040" cy="31240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191120" y="1752480"/>
            <a:ext cx="4724280" cy="32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000000"/>
                </a:solidFill>
                <a:latin typeface="Comic Sans MS"/>
              </a:rPr>
              <a:t>teacher</a:t>
            </a:r>
            <a:endParaRPr b="0" lang="en-US" sz="9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438280" y="1676520"/>
            <a:ext cx="405936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9-14T13:21:40Z</dcterms:created>
  <dc:creator>Валера</dc:creator>
  <dc:description/>
  <dc:language>en-US</dc:language>
  <cp:lastModifiedBy>Рязанова</cp:lastModifiedBy>
  <dcterms:modified xsi:type="dcterms:W3CDTF">2015-03-20T14:15:14Z</dcterms:modified>
  <cp:revision>108</cp:revision>
  <dc:subject/>
  <dc:title>Компьютер в мире профессий</dc:title>
</cp:coreProperties>
</file>