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004-9C27-4A5B-A04A-ED0C0D92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D0F-D33E-4CF1-9389-0A888E6F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D16-699B-46E7-B5D1-3DF16EA8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12F-E0B1-4BD1-9E88-3FD934DE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D1CE-B26E-4629-866A-081C374D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D416-8D5F-4439-8720-3A79D7FA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B4EA-EAFA-4F09-B67C-C41C579D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34DB-A815-451C-83AA-C3ED7B27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5340-0AA1-4010-A0A2-93174A60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E43C-FA6F-42AE-875E-C1D3A653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6A9E-0931-4286-9318-6785D883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FA8-F2CA-43A0-AC9A-0D2B1F3E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4C87-035A-4588-929F-A0B08D4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A09F-4E18-4ECC-B96E-71CB06B8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E913-C002-4808-AACC-968296AC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84C6-9B82-4E55-9AC8-866C50B7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CB3A-4167-490E-9FF5-AA60199A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3D3-7A41-4FDE-A95C-96E18897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ACD-E799-484A-979F-FBA644F8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EB2-2B52-4D66-BEE2-3F40FB99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F9D-CAAF-4BCF-8837-C1ACEF72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424-2527-4CF5-869F-E8EA0E81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136-E01C-4AD4-865D-A8F5B238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431-1DF1-4EB8-B430-6DE162E4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84A0-EC6C-4462-AF90-1DDC9C83D5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6413-43CF-4E08-828F-D72472B037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/index.php?title=&#1052;&#1077;&#1088;&#1086;&#1087;&#1088;&#1080;&#1103;&#1090;&#1080;&#1077;&amp;action=edit&amp;redlink=1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62856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Великая отечественная война на Кубани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 rot="20900400">
            <a:off x="1276200" y="2955600"/>
            <a:ext cx="64008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ная раб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ОУ СОШ № 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. Сен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РОШЕНКО И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" descr="Изображение 162"/>
          <p:cNvPicPr/>
          <p:nvPr/>
        </p:nvPicPr>
        <p:blipFill>
          <a:blip r:embed="rId1"/>
          <a:stretch/>
        </p:blipFill>
        <p:spPr>
          <a:xfrm>
            <a:off x="4000680" y="1714680"/>
            <a:ext cx="4914720" cy="3087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ккупация кра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17664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c2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d6c2ff"/>
                </a:solidFill>
                <a:latin typeface="Tahoma"/>
              </a:rPr>
              <a:t>Это самое страшное, что пережили  жители нашего края.                                        Нужно только вдуматься сколько страшных казней произошло за это время. И еще сотню лет мы будем с ужасом вспоминать «Душегубку», которую применяли нацисты в г. Краснодаре и смерть целого поселка Михизеева Поляна, где было убито более 200 человек (дети, старики и женщины)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c2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d6c2ff"/>
                </a:solidFill>
                <a:latin typeface="Tahoma"/>
              </a:rPr>
              <a:t>Вечная ва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c2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d6c2ff"/>
                </a:solidFill>
                <a:latin typeface="Tahoma"/>
              </a:rPr>
              <a:t>память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Прямоугольник 6"/>
          <p:cNvSpPr/>
          <p:nvPr/>
        </p:nvSpPr>
        <p:spPr>
          <a:xfrm>
            <a:off x="3714840" y="5000760"/>
            <a:ext cx="5143320" cy="1500120"/>
          </a:xfrm>
          <a:prstGeom prst="rect">
            <a:avLst/>
          </a:prstGeom>
          <a:gradFill rotWithShape="0">
            <a:gsLst>
              <a:gs pos="0">
                <a:srgbClr val="d5bfff"/>
              </a:gs>
              <a:gs pos="100000">
                <a:srgbClr val="f2ebff"/>
              </a:gs>
            </a:gsLst>
            <a:lin ang="16200000"/>
          </a:gradFill>
          <a:ln w="9360">
            <a:solidFill>
              <a:srgbClr val="c5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ahoma"/>
              </a:rPr>
              <a:t>        </a:t>
            </a:r>
            <a:r>
              <a:rPr b="1" lang="ru-RU" sz="1200" spc="-1" strike="noStrike">
                <a:solidFill>
                  <a:srgbClr val="00b050"/>
                </a:solidFill>
                <a:latin typeface="Tahoma"/>
              </a:rPr>
              <a:t>Оккупа́ция</a:t>
            </a:r>
            <a:r>
              <a:rPr b="0" lang="ru-RU" sz="1200" spc="-1" strike="noStrike">
                <a:solidFill>
                  <a:srgbClr val="00b050"/>
                </a:solidFill>
                <a:latin typeface="Tahoma"/>
              </a:rPr>
              <a:t> — занятие вооруженными силами государства не принадлежащей ему территории, не сопровождающееся обретением суверента над ней, обычно временное. Оккупацию следует отличать от аннексии, акта присоединения государством всей или части чужой территории в одностороннем поряд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f2a"/>
                </a:solidFill>
                <a:latin typeface="Tahoma"/>
              </a:rPr>
              <a:t>Оккуп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За время оккупации немцы установили в крае «Новый порядок», а эт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539640" y="2997360"/>
            <a:ext cx="1346400" cy="1041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611280" y="299736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468360" y="2924280"/>
            <a:ext cx="141768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270000" y="2852640"/>
            <a:ext cx="25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насил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684360" y="2924280"/>
            <a:ext cx="17776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367920" y="4437000"/>
            <a:ext cx="23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грабе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67840" y="3645000"/>
            <a:ext cx="27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уби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218160" y="5300640"/>
            <a:ext cx="42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угон в герм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4192560" y="5140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свобождение кра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месте с тем с каждым днем ширилась борьба с враг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ртизанское движение (86 партизанских отрядов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 июля-31 декабря 1942 г. оборонительный этап, битва за Кавк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-9 октября 1943 г. второй наступательный этап битвы за Кавк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1 января по 9 октября 1943 года прошли исторические сражения в которых враг оказывал ожесточенное сопротивление, но все же был сломлен и разб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рона Малой зем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и на «Голубой лини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результате упорных кровопролитных боев врагу не удалось захватить Закавказье, Кавказ был освобожде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ам дет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лаю вам, родные, дорог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видеть разрушительной вой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вдруг случится, скажут свое сл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 строй армейский встанут сн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бани нашей славные сыны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 Обойщ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Фашизм несет нам черный мра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вы рабства, смерть и гол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не пройдет коварный вра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будет стерт, разбит, размоло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Ф.Ф. Мал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илизация к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банцы на фронтах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куп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вобождение Куба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540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обилизац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999720"/>
            <a:ext cx="8485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обилизац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 — совокупность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мероприят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аправленных на приведение вооружённых сил  и государственной инфраструктуры государства на военное положение в связи с чрезвычайными обстоятельствами в нём или в мир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500040" y="1000080"/>
            <a:ext cx="2664000" cy="9144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2 июня 1941 г. нача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й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328608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4714920" y="1000080"/>
            <a:ext cx="208764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 июня в кра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ъявлено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643720" y="207180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4857840" y="3000240"/>
            <a:ext cx="2087640" cy="11304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январю 1942 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ее 370 ты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банцев би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званы на фро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571920" y="3143160"/>
            <a:ext cx="1079280" cy="486000"/>
          </a:xfrm>
          <a:prstGeom prst="leftArrow">
            <a:avLst>
              <a:gd name="adj1" fmla="val 50000"/>
              <a:gd name="adj2" fmla="val 55519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214280" y="2357280"/>
            <a:ext cx="2087640" cy="13464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 августу 1942 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изов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банцев достиг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00 ты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1643040" y="3857760"/>
            <a:ext cx="485640" cy="576000"/>
          </a:xfrm>
          <a:prstGeom prst="downArrow">
            <a:avLst>
              <a:gd name="adj1" fmla="val 50000"/>
              <a:gd name="adj2" fmla="val 29652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1214280" y="4500720"/>
            <a:ext cx="4826160" cy="9144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мышленность и сельское 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бани спешно перестраивались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ужды обор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Прямоугольник 14"/>
          <p:cNvSpPr/>
          <p:nvPr/>
        </p:nvSpPr>
        <p:spPr>
          <a:xfrm>
            <a:off x="642960" y="5572080"/>
            <a:ext cx="8072280" cy="78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ahoma"/>
              </a:rPr>
              <a:t>Мобилизация</a:t>
            </a: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 — совокупность мероприятий, направленных на приведение вооруженных или государственной инфраструктуры государства на военное положение в связи с чрезвычайными обстоятельствами в нём или в мир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банцы на фронтах вой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4" descr="Изображение 150"/>
          <p:cNvPicPr/>
          <p:nvPr/>
        </p:nvPicPr>
        <p:blipFill>
          <a:blip r:embed="rId1"/>
          <a:stretch/>
        </p:blipFill>
        <p:spPr>
          <a:xfrm>
            <a:off x="1763640" y="1557360"/>
            <a:ext cx="5759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ратья Степанов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воря о Героях-кубанцах нельзя не сказать о семье Степановых.  Это крестьянская семья, вырастившая девять сыновей. И все они отдали свои жизни за свободу и счастье Род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4" descr="Изображение 151"/>
          <p:cNvPicPr/>
          <p:nvPr/>
        </p:nvPicPr>
        <p:blipFill>
          <a:blip r:embed="rId1"/>
          <a:stretch/>
        </p:blipFill>
        <p:spPr>
          <a:xfrm>
            <a:off x="179280" y="5300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Изображение 152"/>
          <p:cNvPicPr/>
          <p:nvPr/>
        </p:nvPicPr>
        <p:blipFill>
          <a:blip r:embed="rId2"/>
          <a:stretch/>
        </p:blipFill>
        <p:spPr>
          <a:xfrm>
            <a:off x="1619280" y="530064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Изображение 153"/>
          <p:cNvPicPr/>
          <p:nvPr/>
        </p:nvPicPr>
        <p:blipFill>
          <a:blip r:embed="rId3"/>
          <a:stretch/>
        </p:blipFill>
        <p:spPr>
          <a:xfrm>
            <a:off x="2916360" y="530064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Изображение 154"/>
          <p:cNvPicPr/>
          <p:nvPr/>
        </p:nvPicPr>
        <p:blipFill>
          <a:blip r:embed="rId4"/>
          <a:stretch/>
        </p:blipFill>
        <p:spPr>
          <a:xfrm>
            <a:off x="4284720" y="5300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Изображение 155"/>
          <p:cNvPicPr/>
          <p:nvPr/>
        </p:nvPicPr>
        <p:blipFill>
          <a:blip r:embed="rId5"/>
          <a:stretch/>
        </p:blipFill>
        <p:spPr>
          <a:xfrm>
            <a:off x="5796000" y="530064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Изображение 156"/>
          <p:cNvPicPr/>
          <p:nvPr/>
        </p:nvPicPr>
        <p:blipFill>
          <a:blip r:embed="rId6"/>
          <a:stretch/>
        </p:blipFill>
        <p:spPr>
          <a:xfrm>
            <a:off x="7380360" y="530064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Изображение 157"/>
          <p:cNvPicPr/>
          <p:nvPr/>
        </p:nvPicPr>
        <p:blipFill>
          <a:blip r:embed="rId7"/>
          <a:stretch/>
        </p:blipFill>
        <p:spPr>
          <a:xfrm>
            <a:off x="324000" y="3500280"/>
            <a:ext cx="1223640" cy="1609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Изображение 158"/>
          <p:cNvPicPr/>
          <p:nvPr/>
        </p:nvPicPr>
        <p:blipFill>
          <a:blip r:embed="rId8"/>
          <a:stretch/>
        </p:blipFill>
        <p:spPr>
          <a:xfrm>
            <a:off x="3635280" y="3429000"/>
            <a:ext cx="1297080" cy="1655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3" descr="Изображение 159"/>
          <p:cNvPicPr/>
          <p:nvPr/>
        </p:nvPicPr>
        <p:blipFill>
          <a:blip r:embed="rId9"/>
          <a:stretch/>
        </p:blipFill>
        <p:spPr>
          <a:xfrm>
            <a:off x="7740720" y="3573360"/>
            <a:ext cx="1152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2.22222E-006 0.33333 E">
                                      <p:cBhvr>
                                        <p:cTn id="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69 L 0.00399 0.26644 E">
                                      <p:cBhvr>
                                        <p:cTn id="16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-0.11024 0.33333 E">
                                      <p:cBhvr>
                                        <p:cTn id="2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21643 L 0.00035 -0.6206 E">
                                      <p:cBhvr>
                                        <p:cTn id="3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ы будем помнить вечно их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адший лейтенант Ф.М. Степанов был награжден медалью «За отвагу», посмерт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ем Александра Михайловича Степанова названа улица в городе Тимашевске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ле вечного огня установлен бюст геро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ороде Тимашевске открыт музей семьи Степанов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ть Е. Ф. Степанова была награждена орденом отечественной войны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ван Федорович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уси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76720" y="2060640"/>
            <a:ext cx="586728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сной 1941 года был призван в Красную Армию. Начало войны встретил в Литве, в пяти – шести километрах от границы. Узнал горечь отступления, боль потерь. Был ранен. Воевал сначала в пехоте, потом сел за руль автомобиля. И тут проявились его лучшие качества: несгибаемая воля, смелость, знание техники, умение найти выход из любого поло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4" descr="Изображение 160"/>
          <p:cNvPicPr/>
          <p:nvPr/>
        </p:nvPicPr>
        <p:blipFill>
          <a:blip r:embed="rId1"/>
          <a:stretch/>
        </p:blipFill>
        <p:spPr>
          <a:xfrm>
            <a:off x="468360" y="1052640"/>
            <a:ext cx="2952720" cy="216036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6"/>
          <p:cNvSpPr/>
          <p:nvPr/>
        </p:nvSpPr>
        <p:spPr>
          <a:xfrm>
            <a:off x="3463560" y="155736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лся в станице Казан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6773040" y="15717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13 г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468360" y="47318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6 октября 1944 года, по решению командования корпуса, Иван Федорович удостоен высокого звания Героя Советского Союза. Наградные документы на Русина подписали Маршал Советского Союза Рокоссовский и генерал Плиев. Потом были еще бои. К Золотой Звезде и ордену Ленина добавились орден Красной звезды и многие мед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ши Геро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на наших земляков-героев они н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ислимы вот только некоторые из ни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тья Степанов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тья Игнатов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.Ф. Рус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.И. Селезне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.Ф. Тюле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ь о них будет хранится вечно, их именами названы улицы, написаны книги, им посвящены стихи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1:45:26Z</dcterms:created>
  <dc:creator>Пользователь</dc:creator>
  <dc:description/>
  <dc:language>en-US</dc:language>
  <cp:lastModifiedBy>Sidorskaya</cp:lastModifiedBy>
  <dcterms:modified xsi:type="dcterms:W3CDTF">2015-04-27T07:25:37Z</dcterms:modified>
  <cp:revision>9</cp:revision>
  <dc:subject/>
  <dc:title>Великая отечественная война на Кубани</dc:title>
</cp:coreProperties>
</file>