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70A-310A-42E6-A279-4D8A8FC1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591-A5CB-462F-A21B-60956C3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E62-47C8-4F34-93BF-8668B19A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010-373F-43F3-B7E9-8BCB4B9D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F463-8DBE-46F0-B66F-C7F82FE3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83E-88A7-480B-BCE9-51647776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034B-30BA-4C8E-ABFA-F6147572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4249-5A3E-44E3-A1EB-FE3CA6E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7F2F-A301-4E67-A0C7-BAE08FE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42B7-46FB-44E5-94E3-954C009A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4ED4-4F28-4FF1-A281-06A6649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BA8-60E7-40F6-AFA8-4BA955AC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85D-1552-4218-BEC0-93864B1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91A1-B9C9-4C91-A750-04A0AE6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963-8C47-4552-9418-C2AFB784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C938-AD96-48DE-9129-DA33D0E6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B760-66F3-4B18-991B-BE03354B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A99-C918-431A-B630-7DCEDFE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42E-A135-4D16-9BCF-4C77A01A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3D1-1A2F-40E6-9175-8536FA0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22D-0F35-444C-A602-1B755731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6CC-84E2-4A4F-A8B6-1B3DB64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384-3BCD-46A9-A950-A3EEF915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39D-DD33-4789-A059-B0F14F1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C243-7FB9-4D58-8B1D-615E13F564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A269-81AD-496F-9B52-0789EEB3D9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/index.php?title=&#1052;&#1077;&#1088;&#1086;&#1087;&#1088;&#1080;&#1103;&#1090;&#1080;&#1077;&amp;action=edit&amp;redlink=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62856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Великая отечественная война на Кубани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 rot="20900400">
            <a:off x="1276200" y="2955600"/>
            <a:ext cx="64008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ектная раб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СОШ № 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. Сен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РОШЕНКО И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Изображение 162"/>
          <p:cNvPicPr/>
          <p:nvPr/>
        </p:nvPicPr>
        <p:blipFill>
          <a:blip r:embed="rId1"/>
          <a:stretch/>
        </p:blipFill>
        <p:spPr>
          <a:xfrm>
            <a:off x="4000680" y="1714680"/>
            <a:ext cx="4914720" cy="3087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ккупация кра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1766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c2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d6c2ff"/>
                </a:solidFill>
                <a:latin typeface="Tahoma"/>
              </a:rPr>
              <a:t>Это самое страшное, что пережили  жители нашего края.                                        Нужно только вдуматься сколько страшных казней произошло за это время. И еще сотню лет мы будем с ужасом вспоминать «Душегубку», которую применяли нацисты в г. Краснодаре и смерть целого поселка Михизеева Поляна, где было убито более 200 человек (дети, старики и женщины)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Вечная в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d6c2ff"/>
                </a:solidFill>
                <a:latin typeface="Tahoma"/>
              </a:rPr>
              <a:t>памя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3714840" y="5000760"/>
            <a:ext cx="5143320" cy="1500120"/>
          </a:xfrm>
          <a:prstGeom prst="rect">
            <a:avLst/>
          </a:prstGeom>
          <a:gradFill rotWithShape="0">
            <a:gsLst>
              <a:gs pos="0">
                <a:srgbClr val="d5bfff"/>
              </a:gs>
              <a:gs pos="100000">
                <a:srgbClr val="f2ebff"/>
              </a:gs>
            </a:gsLst>
            <a:lin ang="16200000"/>
          </a:gradFill>
          <a:ln w="9360">
            <a:solidFill>
              <a:srgbClr val="c5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ahoma"/>
              </a:rPr>
              <a:t>        </a:t>
            </a:r>
            <a:r>
              <a:rPr b="1" lang="ru-RU" sz="1200" spc="-1" strike="noStrike">
                <a:solidFill>
                  <a:srgbClr val="00b050"/>
                </a:solidFill>
                <a:latin typeface="Tahoma"/>
              </a:rPr>
              <a:t>Оккупа́ция</a:t>
            </a:r>
            <a:r>
              <a:rPr b="0" lang="ru-RU" sz="1200" spc="-1" strike="noStrike">
                <a:solidFill>
                  <a:srgbClr val="00b050"/>
                </a:solidFill>
                <a:latin typeface="Tahoma"/>
              </a:rPr>
              <a:t> — занятие вооруженными силами государства не принадлежащей ему территории, не сопровождающееся обретением суверента над ней, обычно временное. Оккупацию следует отличать от аннексии, акта присоединения государством всей или части чужой территории в одностороннем поряд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1f2a"/>
                </a:solidFill>
                <a:latin typeface="Tahoma"/>
              </a:rPr>
              <a:t>Оккуп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За время оккупации немцы установили в крае «Новый порядок», а эт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539640" y="2997360"/>
            <a:ext cx="1346400" cy="1041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611280" y="29973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68360" y="2924280"/>
            <a:ext cx="141768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70000" y="2852640"/>
            <a:ext cx="25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насил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684360" y="2924280"/>
            <a:ext cx="1777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367920" y="4437000"/>
            <a:ext cx="23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грабе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67840" y="3645000"/>
            <a:ext cx="27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уби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218160" y="5300640"/>
            <a:ext cx="42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f2a"/>
                </a:solidFill>
                <a:latin typeface="Tahoma"/>
              </a:rPr>
              <a:t>угон в герм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4192560" y="5140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свобождение кра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сте с тем с каждым днем ширилась борьба с враг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ртизанское движение (86 партизанских отрядов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 июля-31 декабря 1942 г. оборонительный этап, битва за Кавк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-9 октября 1943 г. второй наступательный этап битвы за Кавк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1 января по 9 октября 1943 года прошли исторические сражения в которых враг оказывал ожесточенное сопротивление, но все же был сломлен и разб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она Малой зем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и на «Голубой лини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результате упорных кровопролитных боев врагу не удалось захватить Закавказье, Кавказ был освобожде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ам дет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лаю вам, родные, дорог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видеть разрушительной вой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вдруг случится, скажут свое сло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 строй армейский встанут сн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бани нашей славные сыны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 Обойщ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Фашизм несет нам черный мра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вы рабства, смерть и гол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не пройдет коварный вра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будет стерт, разбит, размоло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Ф.Ф. Ма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илизация к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банцы на фронтах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куп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бождение Куба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40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обилизац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999720"/>
            <a:ext cx="8485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обилизац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 — совокупность </a:t>
            </a:r>
            <a:r>
              <a:rPr b="0" lang="ru-RU" sz="1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ероприят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аправленных на приведение вооружённых сил  и государственной инфраструктуры государства на военное положение в связи с чрезвычайными обстоятельствами в нём или в мир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500040" y="1000080"/>
            <a:ext cx="2664000" cy="914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 июня 1941 г. нача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3286080" y="114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714920" y="1000080"/>
            <a:ext cx="208764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 июня в кра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ъявлено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643720" y="207180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4857840" y="3000240"/>
            <a:ext cx="2087640" cy="1130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январю 1942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ее 370 ты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банцев б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званы на фро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571920" y="3143160"/>
            <a:ext cx="1079280" cy="486000"/>
          </a:xfrm>
          <a:prstGeom prst="leftArrow">
            <a:avLst>
              <a:gd name="adj1" fmla="val 50000"/>
              <a:gd name="adj2" fmla="val 5551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214280" y="2357280"/>
            <a:ext cx="2087640" cy="1346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 августу 1942 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с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изов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банцев достиг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00 ты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1643040" y="385776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1214280" y="4500720"/>
            <a:ext cx="4826160" cy="9144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мышленность и сельское 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бани спешно перестраивались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ужды об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Прямоугольник 14"/>
          <p:cNvSpPr/>
          <p:nvPr/>
        </p:nvSpPr>
        <p:spPr>
          <a:xfrm>
            <a:off x="642960" y="5572080"/>
            <a:ext cx="8072280" cy="78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ahoma"/>
              </a:rPr>
              <a:t>Мобилизация</a:t>
            </a:r>
            <a:r>
              <a:rPr b="0" lang="ru-RU" sz="1400" spc="-1" strike="noStrike">
                <a:solidFill>
                  <a:srgbClr val="7030a0"/>
                </a:solidFill>
                <a:latin typeface="Tahoma"/>
              </a:rPr>
              <a:t> — совокупность мероприятий, направленных на приведение вооруженных или государственной инфраструктуры государства на военное положение в связи с чрезвычайными обстоятельствами в нём или в мир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банцы на фронтах вой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4" descr="Изображение 150"/>
          <p:cNvPicPr/>
          <p:nvPr/>
        </p:nvPicPr>
        <p:blipFill>
          <a:blip r:embed="rId1"/>
          <a:stretch/>
        </p:blipFill>
        <p:spPr>
          <a:xfrm>
            <a:off x="1763640" y="1557360"/>
            <a:ext cx="5759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ратья Степано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воря о Героях-кубанцах нельзя не сказать о семье Степановых.  Это крестьянская семья, вырастившая девять сыновей. И все они отдали свои жизни за свободу и счастье Род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Изображение 151"/>
          <p:cNvPicPr/>
          <p:nvPr/>
        </p:nvPicPr>
        <p:blipFill>
          <a:blip r:embed="rId1"/>
          <a:stretch/>
        </p:blipFill>
        <p:spPr>
          <a:xfrm>
            <a:off x="179280" y="5300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Изображение 152"/>
          <p:cNvPicPr/>
          <p:nvPr/>
        </p:nvPicPr>
        <p:blipFill>
          <a:blip r:embed="rId2"/>
          <a:stretch/>
        </p:blipFill>
        <p:spPr>
          <a:xfrm>
            <a:off x="1619280" y="5300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Изображение 153"/>
          <p:cNvPicPr/>
          <p:nvPr/>
        </p:nvPicPr>
        <p:blipFill>
          <a:blip r:embed="rId3"/>
          <a:stretch/>
        </p:blipFill>
        <p:spPr>
          <a:xfrm>
            <a:off x="2916360" y="5300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Изображение 154"/>
          <p:cNvPicPr/>
          <p:nvPr/>
        </p:nvPicPr>
        <p:blipFill>
          <a:blip r:embed="rId4"/>
          <a:stretch/>
        </p:blipFill>
        <p:spPr>
          <a:xfrm>
            <a:off x="4284720" y="5300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Изображение 155"/>
          <p:cNvPicPr/>
          <p:nvPr/>
        </p:nvPicPr>
        <p:blipFill>
          <a:blip r:embed="rId5"/>
          <a:stretch/>
        </p:blipFill>
        <p:spPr>
          <a:xfrm>
            <a:off x="579600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Изображение 156"/>
          <p:cNvPicPr/>
          <p:nvPr/>
        </p:nvPicPr>
        <p:blipFill>
          <a:blip r:embed="rId6"/>
          <a:stretch/>
        </p:blipFill>
        <p:spPr>
          <a:xfrm>
            <a:off x="7380360" y="530064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Изображение 157"/>
          <p:cNvPicPr/>
          <p:nvPr/>
        </p:nvPicPr>
        <p:blipFill>
          <a:blip r:embed="rId7"/>
          <a:stretch/>
        </p:blipFill>
        <p:spPr>
          <a:xfrm>
            <a:off x="324000" y="3500280"/>
            <a:ext cx="1223640" cy="1609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Изображение 158"/>
          <p:cNvPicPr/>
          <p:nvPr/>
        </p:nvPicPr>
        <p:blipFill>
          <a:blip r:embed="rId8"/>
          <a:stretch/>
        </p:blipFill>
        <p:spPr>
          <a:xfrm>
            <a:off x="3635280" y="3429000"/>
            <a:ext cx="1297080" cy="1655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Изображение 159"/>
          <p:cNvPicPr/>
          <p:nvPr/>
        </p:nvPicPr>
        <p:blipFill>
          <a:blip r:embed="rId9"/>
          <a:stretch/>
        </p:blipFill>
        <p:spPr>
          <a:xfrm>
            <a:off x="7740720" y="357336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2.22222E-006 0.33333 E">
                                      <p:cBhvr>
                                        <p:cTn id="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669 L 0.00399 0.26644 E">
                                      <p:cBhvr>
                                        <p:cTn id="1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11024 0.33333 E">
                                      <p:cBhvr>
                                        <p:cTn id="2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21643 L 0.00035 -0.6206 E">
                                      <p:cBhvr>
                                        <p:cTn id="3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ы будем помнить вечно их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адший лейтенант Ф.М. Степанов был награжден медалью «За отвагу», посмер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ем Александра Михайловича Степанова названа улица в городе Тимашевске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ле вечного огня установлен бюст геро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роде Тимашевске открыт музей семьи Степанов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ть Е. Ф. Степанова была награждена орденом отечественной войн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ван Федоров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уси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76720" y="2060640"/>
            <a:ext cx="586728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1941 года был призван в Красную Армию. Начало войны встретил в Литве, в пяти – шести километрах от границы. Узнал горечь отступления, боль потерь. Был ранен. Воевал сначала в пехоте, потом сел за руль автомобиля. И тут проявились его лучшие качества: несгибаемая воля, смелость, знание техники, умение найти выход из любого по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4" descr="Изображение 160"/>
          <p:cNvPicPr/>
          <p:nvPr/>
        </p:nvPicPr>
        <p:blipFill>
          <a:blip r:embed="rId1"/>
          <a:stretch/>
        </p:blipFill>
        <p:spPr>
          <a:xfrm>
            <a:off x="468360" y="1052640"/>
            <a:ext cx="2952720" cy="216036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6"/>
          <p:cNvSpPr/>
          <p:nvPr/>
        </p:nvSpPr>
        <p:spPr>
          <a:xfrm>
            <a:off x="3463560" y="155736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лся в станице Казан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6773040" y="15717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13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468360" y="47318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6 октября 1944 года, по решению командования корпуса, Иван Федорович удостоен высокого звания Героя Советского Союза. Наградные документы на Русина подписали Маршал Советского Союза Рокоссовский и генерал Плиев. Потом были еще бои. К Золотой Звезде и ордену Ленина добавились орден Красной звезды и многие мед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и Геро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а наших земляков-героев они н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ислимы вот только некоторые из ни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тья Степанов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тья Игнатов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.Ф. Рус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.И. Селезне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.Ф. Тюле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ь о них будет хранится вечно, их именами названы улицы, написаны книги, им посвящены стихи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1:45:26Z</dcterms:created>
  <dc:creator>Пользователь</dc:creator>
  <dc:description/>
  <dc:language>en-US</dc:language>
  <cp:lastModifiedBy>Sidorskaya</cp:lastModifiedBy>
  <dcterms:modified xsi:type="dcterms:W3CDTF">2015-04-27T07:25:37Z</dcterms:modified>
  <cp:revision>9</cp:revision>
  <dc:subject/>
  <dc:title>Великая отечественная война на Кубани</dc:title>
</cp:coreProperties>
</file>