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E598-1D85-403A-B127-68A56F0F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EB03-7D5B-4D3F-B358-E44283C5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7ED8-479D-426A-8F19-CFC36BD6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15A7-8E92-4EA9-A288-82D4649FE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B07A-D75F-47A0-9354-837309AE7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A9C6-FE20-4D29-BB36-8757C76E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0AE9-37D5-49FF-B6BF-28970A9F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A2D0-9382-49DC-A170-3026A875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0941-D548-4789-99C8-5DF74811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9B9B-3023-4281-A8B1-931EFF0E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83EA-B46C-4353-B72A-AD42BE8A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2A9E-8743-448A-A8B3-170CDBCC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408B-9DEE-4364-97AB-FDC54E2C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9CF7-8A18-40B6-8FCC-E7A7433C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C203-6AE7-4E9A-9652-5B8088F2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81DA-B967-4152-B7F8-FC229AC7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DDFD-D8E9-406D-AD2A-A18BFE15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4CD4-4406-444A-8078-DC81AF8C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B374-A6E2-46DB-B405-6055287D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B0FF-1D0A-4DA1-B4DD-56A70E3D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F845-BA74-402A-81EC-6E3A9FCD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C481-8172-4377-91A2-2AA4086B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79FB-B38A-49F5-8E2E-CA840B9B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5205-A4BF-4EE7-8ADF-B87AF6D8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E462-3876-4311-B8ED-28A52229F0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5F86-79BE-4A67-AD08-91212FEAC1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to  write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63760" y="1981080"/>
            <a:ext cx="4834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cleaner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2057400" cy="1676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086600" y="4800600"/>
            <a:ext cx="1886040" cy="1886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971800" y="1676520"/>
            <a:ext cx="3124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to swim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057400" y="1668600"/>
            <a:ext cx="4952880" cy="5189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52280" y="5126040"/>
            <a:ext cx="1676520" cy="1407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7162920" y="3962520"/>
            <a:ext cx="182880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swimmer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057400" y="1668600"/>
            <a:ext cx="4952880" cy="5189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52280" y="5126040"/>
            <a:ext cx="1676520" cy="1407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7162920" y="3962520"/>
            <a:ext cx="182880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writer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363760" y="1981080"/>
            <a:ext cx="4834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to drive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16292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driver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16292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to build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0" y="3490920"/>
            <a:ext cx="4572000" cy="3367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4343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builder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0" y="3490920"/>
            <a:ext cx="4572000" cy="3367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4343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to paint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614840" cy="5181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867280" y="2209680"/>
            <a:ext cx="31179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paint</a:t>
            </a:r>
            <a:r>
              <a:rPr b="1" lang="en-US" sz="9600" spc="-1" strike="noStrike">
                <a:solidFill>
                  <a:srgbClr val="000000"/>
                </a:solidFill>
                <a:latin typeface="Comic Sans MS"/>
              </a:rPr>
              <a:t>er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614840" cy="5181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67280" y="2209680"/>
            <a:ext cx="31179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omic Sans MS"/>
              </a:rPr>
              <a:t>to clean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2057400" cy="1676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86600" y="4800600"/>
            <a:ext cx="1886040" cy="1886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971800" y="1676520"/>
            <a:ext cx="3124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14T13:21:40Z</dcterms:created>
  <dc:creator>Валера</dc:creator>
  <dc:description/>
  <dc:language>en-US</dc:language>
  <cp:lastModifiedBy>Рязанова</cp:lastModifiedBy>
  <dcterms:modified xsi:type="dcterms:W3CDTF">2009-08-04T17:05:46Z</dcterms:modified>
  <cp:revision>105</cp:revision>
  <dc:subject/>
  <dc:title>Компьютер в мире профессий</dc:title>
</cp:coreProperties>
</file>