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E19F-8393-49AD-ACC6-F33789F59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88A5-0F70-41DD-80C2-68D0168B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14CA-1059-495B-9A3A-BE5F1AD7F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B3CD-F6E5-4662-9550-21003DC8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8682-F664-4960-B000-73F5B864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F636-7FBE-46CE-9EC6-9041F835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B517-E1F9-44F9-86E7-8773C8A6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E3A6-6193-4BBA-A6F2-8FE55F67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2FFD-4D5F-47A4-AC0A-4149456C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02BD-F948-4187-A48B-5F3ADFFB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E464-58F5-4130-9B61-9220AC4E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0321-56D1-4B18-816F-5EB58A92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79E7-7278-46AD-9E6A-30394538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FBC8-56F0-400D-90EC-EB485316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2120-6CD9-472D-B65D-639EE44C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E246-331D-4ADB-8659-2E97CF7A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F65F-6F73-4184-8283-B5917602D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87CE-AAA1-4009-B941-7B0B37E4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11E1-4A03-421B-8FD3-332D7008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0595-972B-47D1-815E-7573F37E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6333-9FBA-4A25-BAF9-61F58B6C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84F4-4728-4D9A-AB7A-14576D14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5B42-4A62-447D-925C-7BBE4D1D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7BC2-0097-4C05-A67B-D33CD562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9A9D-0F72-4339-B648-FD68202A58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FF1E-77C1-4DBD-9740-0FD0427CDE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to  write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63760" y="1981080"/>
            <a:ext cx="4834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cleaner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2057400" cy="1676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086600" y="4800600"/>
            <a:ext cx="1886040" cy="1886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971800" y="1676520"/>
            <a:ext cx="3124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to swim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057400" y="1668600"/>
            <a:ext cx="4952880" cy="5189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52280" y="5126040"/>
            <a:ext cx="1676520" cy="1407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7162920" y="3962520"/>
            <a:ext cx="182880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swimmer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057400" y="1668600"/>
            <a:ext cx="4952880" cy="5189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52280" y="5126040"/>
            <a:ext cx="1676520" cy="1407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7162920" y="3962520"/>
            <a:ext cx="182880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writer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363760" y="1981080"/>
            <a:ext cx="4834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to drive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16292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driver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16292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to build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0" y="3490920"/>
            <a:ext cx="4572000" cy="3367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4343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builder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0" y="3490920"/>
            <a:ext cx="4572000" cy="3367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4343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to paint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614840" cy="5181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867280" y="2209680"/>
            <a:ext cx="31179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paint</a:t>
            </a:r>
            <a:r>
              <a:rPr b="1" lang="en-US" sz="9600" spc="-1" strike="noStrike">
                <a:solidFill>
                  <a:srgbClr val="000000"/>
                </a:solidFill>
                <a:latin typeface="Comic Sans MS"/>
              </a:rPr>
              <a:t>er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614840" cy="5181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67280" y="2209680"/>
            <a:ext cx="31179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to clean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2057400" cy="1676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86600" y="4800600"/>
            <a:ext cx="1886040" cy="1886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971800" y="1676520"/>
            <a:ext cx="3124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14T13:21:40Z</dcterms:created>
  <dc:creator>Валера</dc:creator>
  <dc:description/>
  <dc:language>en-US</dc:language>
  <cp:lastModifiedBy>Рязанова</cp:lastModifiedBy>
  <dcterms:modified xsi:type="dcterms:W3CDTF">2009-08-04T17:05:46Z</dcterms:modified>
  <cp:revision>105</cp:revision>
  <dc:subject/>
  <dc:title>Компьютер в мире профессий</dc:title>
</cp:coreProperties>
</file>