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BAB-3124-4A99-8018-B69197A9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361-BC24-4B49-B510-F9879C10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E9C-9166-496B-97D7-E38A42D1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E89-9139-4344-9778-0C10565B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36E-88B6-4ECF-920A-7D6B17C3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ADD-4CB8-4F58-831E-4D96728C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46A-0DD1-4D6E-A1E2-2FC8138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106-C624-4709-9D6D-5E6D9615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853-D310-4BAA-852E-A8AE9E0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544-0190-4DAC-BCB8-2CEF7B3C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46E-A990-4F27-952D-E7A6A1E1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533-D469-4692-BF50-3CDAA96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D43B-0BF6-4E95-A12E-DBF20A2D7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Исследование скорлупы куриного яй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ОПЫТ№3 «ГОРЕНИЕ  ЯИЧНОЙ СКОРЛУПЫ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4" descr="DSC05507.JPG"/>
          <p:cNvPicPr/>
          <p:nvPr/>
        </p:nvPicPr>
        <p:blipFill>
          <a:blip r:embed="rId1"/>
          <a:stretch/>
        </p:blipFill>
        <p:spPr>
          <a:xfrm>
            <a:off x="3657600" y="16765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762120" y="4343400"/>
            <a:ext cx="85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яичная скорлупа горит, обугливается и становится хруп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составе яичной скорлупы высокое содержание неорганических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ходе нескольких экспериментов мы убедились, что в составе яичной скорлупы находится карбонат кальция, который для нашего организма является природным источником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втор рабо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атюшенко Дании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бучающийся 3-В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БОУ СОШ№14 г.А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уководи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бухова Н.В.,учитель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ПОЛЬЗА ЯИЧНОЙ СКОРЛУ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440" y="12949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) Яичная скорлупа является источником природного каль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175716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1143000" y="3276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) Она стимулирует выработку крови красным костным моз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629400" y="3200400"/>
            <a:ext cx="162576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1143000" y="4800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) Скорлупа яиц помогает выводить из организма радиоактивные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6705720" y="5334120"/>
            <a:ext cx="18604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038480" y="68544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4)Полезна яичная скорлупа для маленьк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97180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2729160" cy="1814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4572000" y="236232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5)Употребление яичной скорлупы помогает в борьбе с кариесом, укрепляет волосы и ногти, помогает в борьбе с остеопорозом, проблемами с позвоночником, кровоточивостью десен, раздражительностью, алл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648320" y="4800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)Женщинам, которые собираются в скором времени заводить детей, также полезно восполнить запасы кальция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1676520" y="4495680"/>
            <a:ext cx="14936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РЕД ЯИЧНОЙ СКОРЛУ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инимать яичную скорлупу категорически противопоказано в случае онкологическ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еобходимо очень тщательно провести дезинфекцию яичных скорлупок — промыть их, просушить, очистить от внутренней пленки. В случае недостаточного очищения риск заболеть сальмонеллезом будет очень вы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2336760" cy="17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ИМЕНЕНИЕ ЯИЧНОЙ СКОРЛУ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адоводы добавляли измельченную яичную скорлупу в землю в качестве замечательного удоб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19320" y="4724280"/>
            <a:ext cx="1627200" cy="1285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1143000" y="2286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ермеры прикармливали кур толченной скорлупой, что повышало их яйценос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114800" y="472428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1143000" y="32004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омохозяйки использовали яичную скорлупу для того, чтобы отбеливать белье во время сти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6858000" y="4876920"/>
            <a:ext cx="1716120" cy="13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ookman Old Style"/>
              </a:rPr>
              <a:t>ЭКСПЕРИМЕНТАЛЬН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DSCN8182.JPG"/>
          <p:cNvPicPr/>
          <p:nvPr/>
        </p:nvPicPr>
        <p:blipFill>
          <a:blip r:embed="rId1"/>
          <a:stretch/>
        </p:blipFill>
        <p:spPr>
          <a:xfrm>
            <a:off x="2286000" y="1905120"/>
            <a:ext cx="1908000" cy="2544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914400" y="1371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b6bcf"/>
                </a:solidFill>
                <a:latin typeface="Arial"/>
              </a:rPr>
              <a:t>ОПЫТ№1 «РАСТВОРЕНИЕ ЯИЧНОЙ СКОРЛУПЫ В УКСУС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DSCN8145.JPG"/>
          <p:cNvPicPr/>
          <p:nvPr/>
        </p:nvPicPr>
        <p:blipFill>
          <a:blip r:embed="rId2"/>
          <a:stretch/>
        </p:blipFill>
        <p:spPr>
          <a:xfrm>
            <a:off x="5410080" y="1905120"/>
            <a:ext cx="1946520" cy="25956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7"/>
          <p:cNvSpPr/>
          <p:nvPr/>
        </p:nvSpPr>
        <p:spPr>
          <a:xfrm>
            <a:off x="2286000" y="4876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поверхности яйца появились пузырьки, количество которых постепенно увеличивалось. Это углекислый г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48320" y="4343400"/>
            <a:ext cx="2286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DSCN8149.JPG"/>
          <p:cNvPicPr/>
          <p:nvPr/>
        </p:nvPicPr>
        <p:blipFill>
          <a:blip r:embed="rId1"/>
          <a:stretch/>
        </p:blipFill>
        <p:spPr>
          <a:xfrm>
            <a:off x="1066680" y="533520"/>
            <a:ext cx="2921040" cy="2190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343400" y="609480"/>
            <a:ext cx="457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через сутки на поверхности уксуса  появилась тонкая коричневая пл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5" descr="DSCN8170.JPG"/>
          <p:cNvPicPr/>
          <p:nvPr/>
        </p:nvPicPr>
        <p:blipFill>
          <a:blip r:embed="rId3"/>
          <a:stretch/>
        </p:blipFill>
        <p:spPr>
          <a:xfrm>
            <a:off x="1143000" y="32767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7"/>
          <p:cNvSpPr/>
          <p:nvPr/>
        </p:nvSpPr>
        <p:spPr>
          <a:xfrm>
            <a:off x="4572000" y="335268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ощупь яйцо стало очень мяг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льций растворился в уксусе в ходе химической реакции, которая протекала между карбонатом кальция и уксу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ОПЫТ№2 «РАСТВОРЕНИЕ ЯИЧНОЙ СКОРЛУПЫ В СОЛЯНОЙ КИСЛОТЕ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4" descr="DSC05489.JPG"/>
          <p:cNvPicPr/>
          <p:nvPr/>
        </p:nvPicPr>
        <p:blipFill>
          <a:blip r:embed="rId1"/>
          <a:stretch/>
        </p:blipFill>
        <p:spPr>
          <a:xfrm>
            <a:off x="2286000" y="21337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5" descr="DSC05506.JPG"/>
          <p:cNvPicPr/>
          <p:nvPr/>
        </p:nvPicPr>
        <p:blipFill>
          <a:blip r:embed="rId2"/>
          <a:stretch/>
        </p:blipFill>
        <p:spPr>
          <a:xfrm>
            <a:off x="5562720" y="2057400"/>
            <a:ext cx="1527120" cy="20368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1143000" y="4813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блюдение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тенсивное выделение газа. Это углекислый г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15200" y="4800600"/>
            <a:ext cx="13716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ша</cp:lastModifiedBy>
  <dcterms:modified xsi:type="dcterms:W3CDTF">2015-04-27T14:09:2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