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5C8-6DB0-48E5-93D7-A87F670E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159-810B-4778-B144-DF833F3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E95-627C-4B94-80B5-B2532B86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58A-A3DF-4710-A718-383BCB23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5E4-6296-49AA-BF38-0ED2E2F0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D63-1D1A-408A-891B-1D0222C4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5DB-B808-450E-9F13-7018E599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DAE-BDD3-470D-B523-7D861DDB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11B-65D3-4348-B9A5-F59ECF93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49D-D1D7-4439-B3E5-4390BF3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65D-1FB1-4AE2-A5CA-FCCF703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3BE-8E37-4AFA-81CA-A4FD6BE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2E7-B82C-4761-8A7D-2758A65F5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тский сад компенсирующего вида №16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b17d8f879d67"/>
          <p:cNvPicPr/>
          <p:nvPr/>
        </p:nvPicPr>
        <p:blipFill>
          <a:blip r:embed="rId1"/>
          <a:stretch/>
        </p:blipFill>
        <p:spPr>
          <a:xfrm>
            <a:off x="609480" y="4413240"/>
            <a:ext cx="7318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лификационный уров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е количество педагогичес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ников – 3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них с высшей категорией – 19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ервой категорией – 11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тветствуют занима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лжности –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5-04-28T10:05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