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D43-6479-4752-8C0B-5BDDFE75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F58-6B5D-4618-9FC6-65956D4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21C-FBEC-480E-AB19-0CE5D700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2DB-4510-4129-A965-745505B7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D72-12FF-4FD4-8E4B-1398BA6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BD0-8BB7-485A-8AB1-6CD3A34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9CF-35EA-4B94-B75C-0B51C8C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48F-2EC7-4A63-9F67-AC7AAA00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D79-C067-4554-ABC9-551226C1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17B-ABFD-4826-8D4F-1D31819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C51-4680-4C81-9270-3D77FD6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41F-79BF-476D-A564-35FECF1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1155-52CB-4446-9B09-10F0AA436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ский сад компенсирующего вида №16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17d8f879d67"/>
          <p:cNvPicPr/>
          <p:nvPr/>
        </p:nvPicPr>
        <p:blipFill>
          <a:blip r:embed="rId1"/>
          <a:stretch/>
        </p:blipFill>
        <p:spPr>
          <a:xfrm>
            <a:off x="609480" y="4413240"/>
            <a:ext cx="7318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лификационный уров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е количество педагогиче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ников – 3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них с высшей категорией – 19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ервой категорией – 11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тветствуют занима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лжности –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4-28T10:05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