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441-1D60-4D53-AE00-1888012E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729-96C1-4DD0-862A-AC613763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A4C-00B8-444B-ACAB-7CDB5462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15C-7DFE-47E5-96B2-4F3D5944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BB0-DE65-4DD8-A921-0824D49E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F6E-F75A-45E7-9976-4D551C63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EEE-8D02-41E5-8086-1B7E01EF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D7D-09CB-4738-920B-4B71601B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171-AC0A-48D4-9469-E20CF6B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056-5CE2-4C45-97DA-05A987E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001-9484-4223-92A3-80553B75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B64-55D4-4EAC-9E2D-EDACC88B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302A-5652-4B07-AB44-6D3ECE8FF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:\Documents and Settings\Admin\Рабочий стол\Рисунок1.gif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:\Documents and Settings\Admin\Рабочий стол\bee_2asm.gif"/>
          <p:cNvPicPr/>
          <p:nvPr/>
        </p:nvPicPr>
        <p:blipFill>
          <a:blip r:embed="rId2"/>
          <a:stretch/>
        </p:blipFill>
        <p:spPr>
          <a:xfrm>
            <a:off x="6286680" y="4143240"/>
            <a:ext cx="46656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Documents and Settings\Admin\Рабочий стол\0_56941_24e30b3a_XL.gif"/>
          <p:cNvPicPr/>
          <p:nvPr/>
        </p:nvPicPr>
        <p:blipFill>
          <a:blip r:embed="rId3"/>
          <a:stretch/>
        </p:blipFill>
        <p:spPr>
          <a:xfrm>
            <a:off x="539640" y="333360"/>
            <a:ext cx="7417080" cy="2149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Documents and Settings\Admin\Рабочий стол\coleoptere_006.gif"/>
          <p:cNvPicPr/>
          <p:nvPr/>
        </p:nvPicPr>
        <p:blipFill>
          <a:blip r:embed="rId4"/>
          <a:stretch/>
        </p:blipFill>
        <p:spPr>
          <a:xfrm>
            <a:off x="142920" y="5572080"/>
            <a:ext cx="76212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Documents and Settings\Admin\Рабочий стол\2008360-c82b1fe33ebb548d.gif"/>
          <p:cNvPicPr/>
          <p:nvPr/>
        </p:nvPicPr>
        <p:blipFill>
          <a:blip r:embed="rId5"/>
          <a:stretch/>
        </p:blipFill>
        <p:spPr>
          <a:xfrm>
            <a:off x="714240" y="357192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ествоз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урока: Насеком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ГБС(к)ОУ Цирдава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5408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всех животных на Земле больше всего насекомых. Их более 1 млн.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 rot="21253200">
            <a:off x="228240" y="304560"/>
            <a:ext cx="3191040" cy="2395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6400800" y="2514600"/>
            <a:ext cx="2428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 rot="529200">
            <a:off x="3268800" y="27302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380880" y="2895480"/>
            <a:ext cx="304812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3429000" y="22860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6"/>
          <a:stretch/>
        </p:blipFill>
        <p:spPr>
          <a:xfrm rot="20956800">
            <a:off x="5943600" y="380880"/>
            <a:ext cx="28954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7"/>
          <p:cNvPicPr/>
          <p:nvPr/>
        </p:nvPicPr>
        <p:blipFill>
          <a:blip r:embed="rId1"/>
          <a:stretch/>
        </p:blipFill>
        <p:spPr>
          <a:xfrm>
            <a:off x="250920" y="189000"/>
            <a:ext cx="2808360" cy="25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оса"/>
          <p:cNvPicPr/>
          <p:nvPr/>
        </p:nvPicPr>
        <p:blipFill>
          <a:blip r:embed="rId2"/>
          <a:stretch/>
        </p:blipFill>
        <p:spPr>
          <a:xfrm>
            <a:off x="3276720" y="189000"/>
            <a:ext cx="258444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шмель"/>
          <p:cNvPicPr/>
          <p:nvPr/>
        </p:nvPicPr>
        <p:blipFill>
          <a:blip r:embed="rId3"/>
          <a:stretch/>
        </p:blipFill>
        <p:spPr>
          <a:xfrm>
            <a:off x="179280" y="2924280"/>
            <a:ext cx="3024360" cy="27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TREKOZA"/>
          <p:cNvPicPr/>
          <p:nvPr/>
        </p:nvPicPr>
        <p:blipFill>
          <a:blip r:embed="rId4"/>
          <a:stretch/>
        </p:blipFill>
        <p:spPr>
          <a:xfrm>
            <a:off x="3276720" y="2997360"/>
            <a:ext cx="2590560" cy="2665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900000" y="558972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эти животные имеют название «насекомы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bo_pict_042"/>
          <p:cNvPicPr/>
          <p:nvPr/>
        </p:nvPicPr>
        <p:blipFill>
          <a:blip r:embed="rId5"/>
          <a:stretch/>
        </p:blipFill>
        <p:spPr>
          <a:xfrm>
            <a:off x="6156360" y="18900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ANd9GcRFsScC_Ygab8Ggi1iNjK4GIon56kU0Pk889zoPPLJh5yz0nEPI4IeEy3sG8w"/>
          <p:cNvPicPr/>
          <p:nvPr/>
        </p:nvPicPr>
        <p:blipFill>
          <a:blip r:embed="rId6"/>
          <a:stretch/>
        </p:blipFill>
        <p:spPr>
          <a:xfrm>
            <a:off x="6084720" y="2997360"/>
            <a:ext cx="2808360" cy="2662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395280" y="191628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348000" y="1916280"/>
            <a:ext cx="4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300720" y="1844640"/>
            <a:ext cx="3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324000" y="47973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3492360" y="47973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227640" y="4797360"/>
            <a:ext cx="4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nhy3hyt66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4943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95280" y="33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с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1835280" y="3716280"/>
            <a:ext cx="649080" cy="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940360" y="620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5148360" y="981000"/>
            <a:ext cx="792000" cy="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116000" y="692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124000" y="1197000"/>
            <a:ext cx="1511280" cy="309564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50920" y="4221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обо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124000" y="4581360"/>
            <a:ext cx="1368360" cy="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55640" y="50133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V="1">
            <a:off x="2268360" y="4581360"/>
            <a:ext cx="1584360" cy="71928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 flipH="1" flipV="1">
            <a:off x="4284360" y="4797360"/>
            <a:ext cx="142920" cy="93672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851280" y="5589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рюш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042920" y="5589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 flipV="1">
            <a:off x="2195640" y="5084280"/>
            <a:ext cx="1655640" cy="79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екомые – это животные, у которых 6 н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83c640e1aac1913fc4737442ecc98f7f"/>
          <p:cNvPicPr/>
          <p:nvPr/>
        </p:nvPicPr>
        <p:blipFill>
          <a:blip r:embed="rId1"/>
          <a:stretch/>
        </p:blipFill>
        <p:spPr>
          <a:xfrm>
            <a:off x="395280" y="1916280"/>
            <a:ext cx="4897440" cy="4643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198144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72-1"/>
          <p:cNvPicPr/>
          <p:nvPr/>
        </p:nvPicPr>
        <p:blipFill>
          <a:blip r:embed="rId3"/>
          <a:stretch/>
        </p:blipFill>
        <p:spPr>
          <a:xfrm>
            <a:off x="6858000" y="4419720"/>
            <a:ext cx="1981080" cy="1523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акой картинке жук нарисован правиль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8035" t="69600" r="1289" b="6404"/>
          <a:stretch/>
        </p:blipFill>
        <p:spPr>
          <a:xfrm>
            <a:off x="468360" y="1844640"/>
            <a:ext cx="8381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rcRect l="15046" t="42302" r="2313" b="38501"/>
          <a:stretch/>
        </p:blipFill>
        <p:spPr>
          <a:xfrm>
            <a:off x="304920" y="1981080"/>
            <a:ext cx="868680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из этих животны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н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еком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1233000" y="5272920"/>
            <a:ext cx="6735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опыляют раст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омогает повысить урожа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C:\Documents and Settings\Admin\Рабочий стол\Рисунок1.gif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C:\Documents and Settings\Admin\Рабочий стол\bee_2asm.gif"/>
          <p:cNvPicPr/>
          <p:nvPr/>
        </p:nvPicPr>
        <p:blipFill>
          <a:blip r:embed="rId2"/>
          <a:stretch/>
        </p:blipFill>
        <p:spPr>
          <a:xfrm>
            <a:off x="6286680" y="4143240"/>
            <a:ext cx="46656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Documents and Settings\Admin\Рабочий стол\0_56941_24e30b3a_XL.gif"/>
          <p:cNvPicPr/>
          <p:nvPr/>
        </p:nvPicPr>
        <p:blipFill>
          <a:blip r:embed="rId3"/>
          <a:stretch/>
        </p:blipFill>
        <p:spPr>
          <a:xfrm>
            <a:off x="1547640" y="333360"/>
            <a:ext cx="5715000" cy="2149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Documents and Settings\Admin\Рабочий стол\coleoptere_006.gif"/>
          <p:cNvPicPr/>
          <p:nvPr/>
        </p:nvPicPr>
        <p:blipFill>
          <a:blip r:embed="rId4"/>
          <a:stretch/>
        </p:blipFill>
        <p:spPr>
          <a:xfrm>
            <a:off x="142920" y="5572080"/>
            <a:ext cx="762120" cy="52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Documents and Settings\Admin\Рабочий стол\2008360-c82b1fe33ebb548d.gif"/>
          <p:cNvPicPr/>
          <p:nvPr/>
        </p:nvPicPr>
        <p:blipFill>
          <a:blip r:embed="rId5"/>
          <a:stretch/>
        </p:blipFill>
        <p:spPr>
          <a:xfrm>
            <a:off x="714240" y="357192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1981440" y="2205000"/>
            <a:ext cx="541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40:26Z</dcterms:created>
  <dc:creator>user</dc:creator>
  <dc:description/>
  <dc:language>en-US</dc:language>
  <cp:lastModifiedBy>Учитель</cp:lastModifiedBy>
  <dcterms:modified xsi:type="dcterms:W3CDTF">2015-04-28T08:48:49Z</dcterms:modified>
  <cp:revision>20</cp:revision>
  <dc:subject/>
  <dc:title>Настроение у нас отличное, А улыбки- дело привычное Пожелаем друг другу добра  Ведь начинать урок пора!</dc:title>
</cp:coreProperties>
</file>