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7CF-D5D5-4CB9-9416-F927F76F28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423-1CF0-47DE-87C1-786C6D9DD1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4F3-7C44-4664-8D40-CF0BAE12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FF9-D052-4074-A9EC-8968A4E0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16B-BEBC-4CE1-B7D1-760CB8B3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252-FAF9-4AEF-99E5-0132E2CD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5ED-D8E6-43F3-B52B-9BA7C855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A76-36BD-43AC-903C-A181EC8E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14AE-FCDE-49BD-BD72-9EFBF35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86F-184B-44C7-999E-859D949A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1BB-6E4D-47B7-B01C-F83419B8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954F-FB90-42A5-AC2F-B5B265D9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4C25-790B-48D6-AF06-B83C5667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E00-B079-4192-B143-8703B69C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06AC-4466-445C-AB12-1B91A4E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E6D9-1BAE-4FCB-8025-6E83896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C946-38F3-4E85-BCF5-0CFAEC2C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D2A-D147-4425-9ACC-8FA72859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557B-25B0-4C6A-AA99-96D5C2F6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63D-8C8F-405A-A5A3-ABDF8B3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D6A-9B23-4A9F-B544-8AE09C19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614-DE4E-43D8-8A86-6A5126E3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2B3-8129-4B93-BCED-D434686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7DF-716A-4A74-B01D-367206A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FE1-16B1-4301-B003-84D7CCC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92E-449F-4599-A319-52C85B7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F580-0DB1-401C-A170-5AFC86FE9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5AED-F53B-4AE9-904D-9E7743B4E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00080" y="1714680"/>
            <a:ext cx="714384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ФР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71680" y="3500280"/>
            <a:ext cx="82152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 flipH="1" flipV="1" rot="10800000">
            <a:off x="714240" y="285732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географическое положение, 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ий и исследований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928800" y="41432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ированный урок истории и географии учителей Лебедевой А.И. и Гричачина Е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 ГБОУ школа  № 409, г.Санкт-Петербур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нтур"/>
          <p:cNvPicPr/>
          <p:nvPr/>
        </p:nvPicPr>
        <p:blipFill>
          <a:blip r:embed="rId1"/>
          <a:stretch/>
        </p:blipFill>
        <p:spPr>
          <a:xfrm>
            <a:off x="1749600" y="92160"/>
            <a:ext cx="5070240" cy="652464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 flipH="1" flipV="1">
            <a:off x="3780000" y="1197000"/>
            <a:ext cx="504720" cy="4896000"/>
          </a:xfrm>
          <a:prstGeom prst="line">
            <a:avLst/>
          </a:prstGeom>
          <a:ln w="414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708360" y="836640"/>
            <a:ext cx="224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.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4284720" y="6021360"/>
            <a:ext cx="224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ю.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908000" y="2637000"/>
            <a:ext cx="4464360" cy="360360"/>
          </a:xfrm>
          <a:prstGeom prst="line">
            <a:avLst/>
          </a:prstGeom>
          <a:ln w="414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8000" y="2133720"/>
            <a:ext cx="2243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6300720" y="2997360"/>
            <a:ext cx="2243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411280" y="309600"/>
            <a:ext cx="46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тяженность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4533840" y="41450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запад – восток: 5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+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= 7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лина дуги в 1 градус равна 110 км., то длина материка будет равна: 110 км. 70 = 7700 к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4788000" y="765000"/>
            <a:ext cx="413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вер — юг: 3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+ 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= 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  Длина дуги меридиана в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равна 111 км., то протяженность материка составит: 111 км. х 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= 7992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"/>
          <p:cNvPicPr/>
          <p:nvPr/>
        </p:nvPicPr>
        <p:blipFill>
          <a:blip r:embed="rId1"/>
          <a:stretch/>
        </p:blipFill>
        <p:spPr>
          <a:xfrm>
            <a:off x="785880" y="857160"/>
            <a:ext cx="4392720" cy="57675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4857840" y="1928880"/>
            <a:ext cx="3960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каких климатических поясах расположен матер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контур"/>
          <p:cNvPicPr/>
          <p:nvPr/>
        </p:nvPicPr>
        <p:blipFill>
          <a:blip r:embed="rId1"/>
          <a:stretch/>
        </p:blipFill>
        <p:spPr>
          <a:xfrm>
            <a:off x="1835280" y="187200"/>
            <a:ext cx="5184720" cy="6670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 rot="2913000">
            <a:off x="1620000" y="429156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лантиче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 rot="19865400">
            <a:off x="5148000" y="5734080"/>
            <a:ext cx="25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йски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348000" y="836640"/>
            <a:ext cx="21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изем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 rot="2966400">
            <a:off x="5004720" y="2243520"/>
            <a:ext cx="180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сн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 rot="2797200">
            <a:off x="2412000" y="3643560"/>
            <a:ext cx="20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винейский за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 rot="19673400">
            <a:off x="6156000" y="2349360"/>
            <a:ext cx="172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денский за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 rot="3343800">
            <a:off x="1908720" y="134064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бралтарский про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156360" y="494172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. Мадагаск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300720" y="3068640"/>
            <a:ext cx="20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-ов Сом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 rot="18342000">
            <a:off x="4537080" y="4687560"/>
            <a:ext cx="237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замбикский прол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5295960" y="13971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эцкий 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верь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фрика по середине пересекается экватор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улевой меридиан пересекает Африку с запа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фрику омывают океаны:Атлантический и Индийск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севера материк омывается Средиземным мор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точной крайней точкой материка считается м. Рас-Хафу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льше всех материков от Африки расположен материк Австрал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винейский залив расположен с запада матер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ый большой остров близ берегов Африки – Мадагаска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135400" y="836640"/>
            <a:ext cx="1943280" cy="28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046920" y="1316160"/>
            <a:ext cx="1582560" cy="28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3922560" y="1643040"/>
            <a:ext cx="4248360" cy="6080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383000" y="2211480"/>
            <a:ext cx="3326040" cy="460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864480" y="2657520"/>
            <a:ext cx="18842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11280" y="3500280"/>
            <a:ext cx="158436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770360" y="3936960"/>
            <a:ext cx="9874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994440" y="4440240"/>
            <a:ext cx="17542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Устные источники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28400"/>
            <a:ext cx="4040280" cy="41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щест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вани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лаженного механизма передачи информации о прошлом (правителях, военных походах)  является характерной чертой бесписьменных об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0" y="3929040"/>
            <a:ext cx="4284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При правителе был специальный назначенец, отвечающий за функции хранения и передач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устной информ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Эти функции часто исполня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d0324"/>
                </a:solidFill>
                <a:latin typeface="Calibri"/>
              </a:rPr>
              <a:t>гриоты - бродячие певц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d03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525840" cy="2143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Африка до нашей эры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Admin\Мои документы\геродот.jpg"/>
          <p:cNvPicPr/>
          <p:nvPr/>
        </p:nvPicPr>
        <p:blipFill>
          <a:blip r:embed="rId1"/>
          <a:stretch/>
        </p:blipFill>
        <p:spPr>
          <a:xfrm>
            <a:off x="6804000" y="1413000"/>
            <a:ext cx="1577880" cy="18730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64" name=""/>
          <p:cNvSpPr txBox="1"/>
          <p:nvPr/>
        </p:nvSpPr>
        <p:spPr>
          <a:xfrm>
            <a:off x="-360" y="1773360"/>
            <a:ext cx="493236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ичные письменные источники сообщают только о северо-восточных областях Африки. Геродот в своей «Истории»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к до н.э.) повествует о территориях Африки к северу от экватора. Земли  историк называет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Ливией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180040" y="3429000"/>
            <a:ext cx="3963960" cy="30970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66" name="Прямоугольник 7"/>
          <p:cNvSpPr/>
          <p:nvPr/>
        </p:nvSpPr>
        <p:spPr>
          <a:xfrm>
            <a:off x="1928880" y="4143240"/>
            <a:ext cx="2071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Арабские 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2920" y="2204640"/>
            <a:ext cx="352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170080" cy="216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170" name="Прямоугольник 8"/>
          <p:cNvSpPr/>
          <p:nvPr/>
        </p:nvSpPr>
        <p:spPr>
          <a:xfrm>
            <a:off x="684360" y="17002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абские авторы в рамках существующей традиции составления дорожных справочников, в которые также включались сведения по этнографии и экономике, оставили существенное количество сведений о северном, западном и восточном регионе    африканского контин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Арабские источник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1844640"/>
            <a:ext cx="41767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нее описание внутренних областей Африканского континента принадлежит Аль-Якуби, который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X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ке совершил путешествие в Египет. Увиденное  записано в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ниге стра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3280" y="55004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ль-Якуби – арабский географ и путешествен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Admin\Мои документы\ал идриси.gif"/>
          <p:cNvPicPr/>
          <p:nvPr/>
        </p:nvPicPr>
        <p:blipFill>
          <a:blip r:embed="rId1"/>
          <a:stretch/>
        </p:blipFill>
        <p:spPr>
          <a:xfrm>
            <a:off x="5214960" y="1857240"/>
            <a:ext cx="2583000" cy="3214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214200"/>
            <a:ext cx="85694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Египет – древнейшая  цивилизация Аф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74800" y="1285560"/>
            <a:ext cx="5111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ятьдесят пять веков тому назад здесь появились, и быстро достигли расцвета сельское хозяйство, градостроительство, письменность, наука, литература, география, астрономия, изобразительное искусство, скульптура, государственное устройство и культ личности божественного правителя-фараона. Знания, накопленные египетскими жрецами незадолго до нашей эры, перетекли в Грецию и Ри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гипетская цивилизация – основа европейской цивилиз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1434600"/>
            <a:ext cx="31431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л был и является источник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ил – источник неиссякаемого плодородия, основой хозяйственной деятельности населения, так как почти вся территория Египта лежит в зоне тропических пусты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826200" y="1051920"/>
            <a:ext cx="3071880" cy="40194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Финикийские мореплав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600 году до н.э.финикийские мореходы совершили по поручению египетского фараона Нехо плавание вокруг Африки, продолжавшееся три 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 истории Геродо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571920" cy="21304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429000" cy="2143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28760" y="642960"/>
            <a:ext cx="8429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Цели  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учащихся физико-географическим положением матер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ся давать характеристику физико-географического положения Аф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ить формировать умение работать с контурной кар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ладеть умениями отбора нужной исторической информации, связанной с Великими географическими открытиями  ее дальнейшей систематиз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чь целостного представления об изучаемом континенте в многообразии исторических и географически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практические умения работать с картой, с интерактивной доской, определять географические коорди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условия для воспитания у учащихся силы духа, ответственности, физического совершенствования на примере  мужества путешественников и исследователей контин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Карта полушарий; физическая карта Африки; интерактивная доска, атласы,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Европейские путешествен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42960" y="1571400"/>
            <a:ext cx="4500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вропейским мореплавателям удалось обойти материк лишь в XV веке. Стремясь найти морской путь в Индию, португальские мореплаватели постепенно исследовали Африканский континент  с начал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57480" y="5571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орабль европейцев - каравел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357880" y="1500120"/>
            <a:ext cx="3136680" cy="37861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Генрих Мореплавател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571760"/>
            <a:ext cx="364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рганизатор многих португальских морских экспедиций на юг вдоль западноафриканского побереж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исследование Атлантического океана («море Мрака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открытие о. Мадейр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асти  Азорских островов и остров Зеленого  Мы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3280" y="5428800"/>
            <a:ext cx="404208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енрих мореплавател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принц Энрик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394-14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929120" y="1357200"/>
            <a:ext cx="348480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Бартоломеу Диаш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5520" y="1428480"/>
            <a:ext cx="404028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юго-западное побережье Африки к югу от устья реки Конго, открыл мыс Доброй Надеж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143160" cy="422604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28760" y="60717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Бартоломеу Диаш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(1450-1500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аско да Г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428840"/>
            <a:ext cx="4257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1498 г. Васко да Гама обогнув Южную Африку впервые пересек Индийский океан  и  достиг   берегов Индостана.  С  ХVI  столетия европейские торговцы начали вывозить из Африки чернокожих рабов в Америку. Они знали лишь отдельные места на западном побережье — невольничьи рынки (Берег Слоновой Кости, Золотой Бере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14560" y="5714640"/>
            <a:ext cx="404172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ско де Г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1469-152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2932200" cy="3951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сследование внутренних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районов Аф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68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нутренние районы Африки европейцы начали исследовать только в конце XVIII — начале XIX столетия, когда быстро развивающимся по капиталистическому пути странам Европы потребовались земли, где можно получить дешевое минеральное сырье, заложить плантации тропических сельскохозяйственных культур, выгодно сбывать товары легкой промышл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Дэвид Ливингсто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928520"/>
            <a:ext cx="40402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следовал бассейн реки Замбези,  дал описание верхнего течения реки Конго (Заир), озера Ньяса и ряда других. Ливингстон пытался найти истоки Нила — великой африканской ре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4560" y="5714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Давид Ливингсто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1813-187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37000" y="1857240"/>
            <a:ext cx="2949840" cy="36626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6434640" y="5857920"/>
            <a:ext cx="16210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1841 – 1904г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28760" y="2071800"/>
            <a:ext cx="52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л озеро Танганьика и            проследил течение реки Конго, завершая пересечение Африки с востока на за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786280" y="1714680"/>
            <a:ext cx="2698920" cy="36097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енри Стенли Мор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6001560" y="56437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ри Стенли Мор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асилий Юнке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6760" y="1642680"/>
            <a:ext cx="43578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1876-1886 гг. путешествовал по Центральной и Восточной Африке и собрал интересные сведения о природе и жизни населения этих частей материка. Проводил топографические работы, ввел гидрологические и метеорологические наблюдения, искал полезные ископаемые. Изучал бассейны рек Конго и Замбези, открыл водопад Виктор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57480" y="5714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силий Юнкер (1840 – 189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857760" cy="30398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900" spc="-1" strike="noStrike">
                <a:solidFill>
                  <a:srgbClr val="800000"/>
                </a:solidFill>
                <a:latin typeface="Calibri"/>
              </a:rPr>
              <a:t>Заполните таблицу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760" y="1644480"/>
          <a:ext cx="7818480" cy="5213520"/>
        </p:xfrm>
        <a:graphic>
          <a:graphicData uri="http://schemas.openxmlformats.org/drawingml/2006/table">
            <a:tbl>
              <a:tblPr/>
              <a:tblGrid>
                <a:gridCol w="3514680"/>
                <a:gridCol w="4303800"/>
              </a:tblGrid>
              <a:tr h="14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Путешестве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Исследованная / открытая террито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Прямоугольник 4"/>
          <p:cNvSpPr/>
          <p:nvPr/>
        </p:nvSpPr>
        <p:spPr>
          <a:xfrm>
            <a:off x="857160" y="3571920"/>
            <a:ext cx="3214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ртоломеу Диаш 1488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857160" y="4143240"/>
            <a:ext cx="321480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аско да Гама 149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684360" y="558972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енри Стенли Мортон 1871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684360" y="62373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асилий Юнкер 187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4214880" y="3500280"/>
            <a:ext cx="41022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Открыл юго-западное побережье Африки к югу от устья реки Конго, открыл мы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Доброй Надеж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4214880" y="2786040"/>
            <a:ext cx="40291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Открытие о. Мадейра,     части  Азорских островов  и  остров      Зеленого  Мы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1"/>
          <p:cNvSpPr/>
          <p:nvPr/>
        </p:nvSpPr>
        <p:spPr>
          <a:xfrm>
            <a:off x="4140360" y="4076640"/>
            <a:ext cx="4103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Пересек Индийский океан, достиг берегов Индост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2"/>
          <p:cNvSpPr/>
          <p:nvPr/>
        </p:nvSpPr>
        <p:spPr>
          <a:xfrm>
            <a:off x="4140360" y="6165720"/>
            <a:ext cx="407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Исследование Центральной и Восточной Африки; открытие водопад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3"/>
          <p:cNvSpPr/>
          <p:nvPr/>
        </p:nvSpPr>
        <p:spPr>
          <a:xfrm>
            <a:off x="4211640" y="5445000"/>
            <a:ext cx="40323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Исследовал озеро Таньгаинь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4"/>
          <p:cNvSpPr/>
          <p:nvPr/>
        </p:nvSpPr>
        <p:spPr>
          <a:xfrm>
            <a:off x="4140360" y="4797360"/>
            <a:ext cx="41767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Исследовал  бассейн  р. Замбези и р. Кон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5"/>
          <p:cNvSpPr/>
          <p:nvPr/>
        </p:nvSpPr>
        <p:spPr>
          <a:xfrm>
            <a:off x="785880" y="4786200"/>
            <a:ext cx="321480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вид  Левингстон 1841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857160" y="2857680"/>
            <a:ext cx="3214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енрих Мореплаватель 144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971640" y="342900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Многовековое прошлое народов Африки изучено н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Быть может, вам, ребята, предстоит пополнить мировую копилку знаний об этом удивительном матер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02840" cy="2449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231" name="Прямоугольник 4"/>
          <p:cNvSpPr/>
          <p:nvPr/>
        </p:nvSpPr>
        <p:spPr>
          <a:xfrm>
            <a:off x="1143000" y="4857840"/>
            <a:ext cx="69292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468360" y="428760"/>
            <a:ext cx="867564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бщие сведения о мат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-  29,2 тыс. кв.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островов – 1,1 тыс. кв.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 с островами – 30,3 тыс.  кв. к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ина береговой линии – 30,5 тыс.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ысота над уровнем океа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редняя - 750 м (преобладают возвышенности и плоскогорь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альная - 5895 м  ( влк.Килиманджаро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инимальная  -   - 157 м  ( оз. Ассаль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ленность населения достигла 1 млрд. 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особенностями ФГП материка (в том числе с номенклатурой: моря, проливы, заливы и др. географические объекты, окружающие Африку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определения географических координ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бщение знаний по теме Великие географические открытия «Исследование Афри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машнее зада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 географи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п.24, знать особенности ФГП материка и номенклатуру по уро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 истории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2, раскрыть значение исследования Африки для дальнейших географических открытий (в тетрад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ебно-методический комплек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 Новая история 7 класс, авторы:  А.Я.Юдовской, П.А.Баранова, Л.М.Ванюшкиной, 2012 г., Атлас «Новое врем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 География материков и океа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 класс, авторы: В.А.Коринская и др., 2012 г., Атлас «Материки и океаны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642960" y="100008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Этимология наз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0" y="150012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звание материка относят к финикийскому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«afar» 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ыль. Римляне после завоевания Карфагена назвали провинцию Африк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зднее так стали назыв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 сам контине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ругая теория гласит, что название народа афри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исходит от берберского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«ifri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«пещера», имея в виду пещерных ж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3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3500280" cy="24433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лан описания ФГП матер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асположение материка относительно экватора, тропиков и нулевого мериди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. Определение координат крайних точек материка в градусах и протяженности материка в километрах с севера на юг и с востока на запа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3. Климатические пояса  расположенные на матери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4. Моря и океаны, омывающие матер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5.  Расположение материка относительно других матер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900000" y="299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922560" y="6351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 rot="1954800">
            <a:off x="4822920" y="6922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500120" y="5300640"/>
            <a:ext cx="71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иболее удалена от Африк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Австрали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онтур"/>
          <p:cNvPicPr/>
          <p:nvPr/>
        </p:nvPicPr>
        <p:blipFill>
          <a:blip r:embed="rId1"/>
          <a:stretch/>
        </p:blipFill>
        <p:spPr>
          <a:xfrm>
            <a:off x="1763640" y="549360"/>
            <a:ext cx="5653080" cy="613872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1908000" y="3860640"/>
            <a:ext cx="53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3046320" y="836640"/>
            <a:ext cx="446040" cy="3816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1908000" y="2205000"/>
            <a:ext cx="5437440" cy="144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3672000" y="5349960"/>
            <a:ext cx="3348000" cy="1666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 flipH="1">
            <a:off x="5912640" y="33685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 flipH="1">
            <a:off x="3994920" y="19098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в. тро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148280" y="49449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жн.тро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 rot="16591800">
            <a:off x="991800" y="2172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лев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риди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928800" y="928800"/>
            <a:ext cx="71737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 Африка находится в полушариях - (северном, южном, западном, восточн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Африка самый жаркий материк т. к. она в значительной части расположена в тепловом поясе ( жар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16000" y="2349360"/>
            <a:ext cx="6048360" cy="1008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643200" y="4286160"/>
            <a:ext cx="2808360" cy="50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онтур"/>
          <p:cNvPicPr/>
          <p:nvPr/>
        </p:nvPicPr>
        <p:blipFill>
          <a:blip r:embed="rId1"/>
          <a:stretch/>
        </p:blipFill>
        <p:spPr>
          <a:xfrm>
            <a:off x="1446120" y="142920"/>
            <a:ext cx="5499360" cy="6715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0520" y="336240"/>
            <a:ext cx="53402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айние точки Афр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7280" y="6165720"/>
            <a:ext cx="25905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. Иго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6360" y="836640"/>
            <a:ext cx="22431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. Бен-Сек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619280" y="2421000"/>
            <a:ext cx="259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м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156360" y="2637000"/>
            <a:ext cx="2590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. Рас-Хаф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2085840" y="31100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еверная — мыс Б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к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3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жная — мыс Иголь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 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ападная — мыс Альмад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осточная  мыс Ра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Хафу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(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 5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7:54:36Z</dcterms:created>
  <dc:creator>Настя,Евгений</dc:creator>
  <dc:description/>
  <dc:language>en-US</dc:language>
  <cp:lastModifiedBy>Admin</cp:lastModifiedBy>
  <dcterms:modified xsi:type="dcterms:W3CDTF">2014-12-23T14:16:54Z</dcterms:modified>
  <cp:revision>90</cp:revision>
  <dc:subject/>
  <dc:title>Презентация PowerPoint</dc:title>
</cp:coreProperties>
</file>