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44FB-1617-42A7-AC13-819F9A29A8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2D6C-48D7-4B87-A371-516256049B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418-3B29-4AF8-B8CF-45CD7589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A5C-DEF6-496B-8BDF-5E686DDB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599-C9AF-4B2E-B9B0-24251EEA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474-1322-48C5-9962-37F1E55B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97B9-6045-4505-806C-EBFEC387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AE79-3CB4-436A-8E58-362E2374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27FC-E000-4EB3-8FFD-B365A6D3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0765-DFDE-4B55-BBB9-9B8C0ECF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8BC6-FFD6-44B6-B75F-D0B92460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ADD1-FCA2-4C04-84A2-CEBAAA93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D60D-1E3E-4C3D-8991-C075EB87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D51-6C99-45E7-A7EE-C509C64C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71DF-C33B-48B6-B94C-69013EEF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59E9-C116-44C1-ACE1-1C0159B6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D60B-14FE-4C2D-9334-58102886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7BEC-0084-457D-96B1-49AD2415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C693-BAE4-4EB2-B230-CBA2AF32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176-0061-47EF-9513-141ABCCB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17C-693F-44FB-B7E9-9828D5C0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094-85F2-4E2D-8215-3453BC2B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C7E-4B67-4E42-A349-C56DCABA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099-013B-4E02-93A9-339AEC20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831-7085-4723-A69C-DCF33743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BA6-BECD-4007-98C3-B72B434A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F24E-BFE8-44B0-B117-A6F8ED9487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C0C2-6611-421C-B154-EE5DB9031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00080" y="1714680"/>
            <a:ext cx="714384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АФР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571680" y="3500280"/>
            <a:ext cx="82152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 flipH="1" flipV="1" rot="10800000">
            <a:off x="714240" y="2857320"/>
            <a:ext cx="771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 географическое положение, 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ий и исследований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928800" y="414324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грированный урок истории и географии учителей Лебедевой А.И. и Гричачина Е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 ГБОУ школа  № 409, г.Санкт-Петербур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контур"/>
          <p:cNvPicPr/>
          <p:nvPr/>
        </p:nvPicPr>
        <p:blipFill>
          <a:blip r:embed="rId1"/>
          <a:stretch/>
        </p:blipFill>
        <p:spPr>
          <a:xfrm>
            <a:off x="1749600" y="92160"/>
            <a:ext cx="5070240" cy="652464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 flipH="1" flipV="1">
            <a:off x="3780000" y="1197000"/>
            <a:ext cx="504720" cy="4896000"/>
          </a:xfrm>
          <a:prstGeom prst="line">
            <a:avLst/>
          </a:prstGeom>
          <a:ln w="414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708360" y="836640"/>
            <a:ext cx="2243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.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4284720" y="6021360"/>
            <a:ext cx="2243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ю.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1908000" y="2637000"/>
            <a:ext cx="4464360" cy="360360"/>
          </a:xfrm>
          <a:prstGeom prst="line">
            <a:avLst/>
          </a:prstGeom>
          <a:ln w="414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908000" y="2133720"/>
            <a:ext cx="2243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6300720" y="2997360"/>
            <a:ext cx="2243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2411280" y="309600"/>
            <a:ext cx="46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тяженность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4533840" y="41450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запад – восток: 5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+ 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= 7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Длина дуги в 1 градус равна 110 км., то длина материка будет равна: 110 км. 70 = 7700 к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4788000" y="765000"/>
            <a:ext cx="413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вер — юг: 3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+ 3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= 7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  Длина дуги меридиана в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равна 111 км., то протяженность материка составит: 111 км. х 7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= 7992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2"/>
          <p:cNvPicPr/>
          <p:nvPr/>
        </p:nvPicPr>
        <p:blipFill>
          <a:blip r:embed="rId1"/>
          <a:stretch/>
        </p:blipFill>
        <p:spPr>
          <a:xfrm>
            <a:off x="785880" y="857160"/>
            <a:ext cx="4392720" cy="57675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4857840" y="1928880"/>
            <a:ext cx="3960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каких климатических поясах расположен матер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контур"/>
          <p:cNvPicPr/>
          <p:nvPr/>
        </p:nvPicPr>
        <p:blipFill>
          <a:blip r:embed="rId1"/>
          <a:stretch/>
        </p:blipFill>
        <p:spPr>
          <a:xfrm>
            <a:off x="1835280" y="187200"/>
            <a:ext cx="5184720" cy="66708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 rot="2913000">
            <a:off x="1620000" y="4291560"/>
            <a:ext cx="24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 rot="19865400">
            <a:off x="5148000" y="5734080"/>
            <a:ext cx="25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дий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348000" y="836640"/>
            <a:ext cx="21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 rot="2966400">
            <a:off x="5004720" y="2243520"/>
            <a:ext cx="180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ас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 rot="2797200">
            <a:off x="2412000" y="3643560"/>
            <a:ext cx="201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винейский зал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 rot="19673400">
            <a:off x="6156000" y="2349360"/>
            <a:ext cx="172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денский зал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 rot="3343800">
            <a:off x="1908720" y="1340640"/>
            <a:ext cx="24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бралтарский прол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6156360" y="4941720"/>
            <a:ext cx="23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. Мадагаск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300720" y="3068640"/>
            <a:ext cx="208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-ов Сом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 rot="18342000">
            <a:off x="4537080" y="4687560"/>
            <a:ext cx="237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замбикский прол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5295960" y="139716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эцкий ка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верь себ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фрика по середине пересекается экватор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улевой меридиан пересекает Африку с запад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фрику омывают океаны:Атлантический и Индийск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севера материк омывается Средиземным мор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сточной крайней точкой материка считается м. Рас-Хафу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льше всех материков от Африки расположен материк Австрал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винейский залив расположен с запада матери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мый большой остров близ берегов Африки – Мадагаскар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135400" y="836640"/>
            <a:ext cx="1943280" cy="288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046920" y="1316160"/>
            <a:ext cx="1582560" cy="287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3922560" y="1643040"/>
            <a:ext cx="4248360" cy="6080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383000" y="2211480"/>
            <a:ext cx="3326040" cy="460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864480" y="2657520"/>
            <a:ext cx="18842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11280" y="3500280"/>
            <a:ext cx="158436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770360" y="3936960"/>
            <a:ext cx="98748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6994440" y="4440240"/>
            <a:ext cx="17542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Устные источники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428400"/>
            <a:ext cx="4040280" cy="414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щест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вани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тлаженного механизма передачи информации о прошлом (правителях, военных походах)  является характерной чертой бесписьменных об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0" y="3929040"/>
            <a:ext cx="4284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d0324"/>
                </a:solidFill>
                <a:latin typeface="Calibri"/>
              </a:rPr>
              <a:t>При правителе был специальный назначенец, отвечающий за функции хранения и передач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d0324"/>
                </a:solidFill>
                <a:latin typeface="Calibri"/>
              </a:rPr>
              <a:t>устной информ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d0324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9d0324"/>
                </a:solidFill>
                <a:latin typeface="Calibri"/>
              </a:rPr>
              <a:t>Эти функции часто исполня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d0324"/>
                </a:solidFill>
                <a:latin typeface="Calibri"/>
              </a:rPr>
              <a:t>гриоты - бродячие певц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d03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857840" y="1857240"/>
            <a:ext cx="3525840" cy="21434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Африка до нашей эры</a:t>
            </a: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C:\Documents and Settings\Admin\Мои документы\геродот.jpg"/>
          <p:cNvPicPr/>
          <p:nvPr/>
        </p:nvPicPr>
        <p:blipFill>
          <a:blip r:embed="rId1"/>
          <a:stretch/>
        </p:blipFill>
        <p:spPr>
          <a:xfrm>
            <a:off x="6804000" y="1413000"/>
            <a:ext cx="1577880" cy="18730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164" name=""/>
          <p:cNvSpPr txBox="1"/>
          <p:nvPr/>
        </p:nvSpPr>
        <p:spPr>
          <a:xfrm>
            <a:off x="-360" y="1773360"/>
            <a:ext cx="493236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тичные письменные источники сообщают только о северо-восточных областях Африки. Геродот в своей «Истории»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к до н.э.) повествует о территориях Африки к северу от экватора. Земли  историк называет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Ливией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5180040" y="3429000"/>
            <a:ext cx="3963960" cy="30970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166" name="Прямоугольник 7"/>
          <p:cNvSpPr/>
          <p:nvPr/>
        </p:nvSpPr>
        <p:spPr>
          <a:xfrm>
            <a:off x="1928880" y="4143240"/>
            <a:ext cx="20718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Арабские 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2920" y="2204640"/>
            <a:ext cx="3529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170080" cy="21607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170" name="Прямоугольник 8"/>
          <p:cNvSpPr/>
          <p:nvPr/>
        </p:nvSpPr>
        <p:spPr>
          <a:xfrm>
            <a:off x="684360" y="17002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рабские авторы в рамках существующей традиции составления дорожных справочников, в которые также включались сведения по этнографии и экономике, оставили существенное количество сведений о северном, западном и восточном регионе    африканского контин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900" spc="-1" strike="noStrike">
                <a:solidFill>
                  <a:srgbClr val="800000"/>
                </a:solidFill>
                <a:latin typeface="Calibri"/>
              </a:rPr>
              <a:t>Арабские источник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55640" y="1844640"/>
            <a:ext cx="417672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нее описание внутренних областей Африканского континента принадлежит Аль-Якуби, который в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X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ке совершил путешествие в Египет. Увиденное  записано в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Книге стран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3280" y="550044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Аль-Якуби – арабский географ и путешественн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C:\Documents and Settings\Admin\Мои документы\ал идриси.gif"/>
          <p:cNvPicPr/>
          <p:nvPr/>
        </p:nvPicPr>
        <p:blipFill>
          <a:blip r:embed="rId1"/>
          <a:stretch/>
        </p:blipFill>
        <p:spPr>
          <a:xfrm>
            <a:off x="5214960" y="1857240"/>
            <a:ext cx="2583000" cy="32148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-214200"/>
            <a:ext cx="85694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Египет – древнейшая  цивилизация Афр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74800" y="1285560"/>
            <a:ext cx="51116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ятьдесят пять веков тому назад здесь появились, и быстро достигли расцвета сельское хозяйство, градостроительство, письменность, наука, литература, география, астрономия, изобразительное искусство, скульптура, государственное устройство и культ личности божественного правителя-фараона. Знания, накопленные египетскими жрецами незадолго до нашей эры, перетекли в Грецию и Ри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Египетская цивилизация – основа европейской цивилиз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320" y="1434600"/>
            <a:ext cx="31431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ил был и является источнико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ил – источник неиссякаемого плодородия, основой хозяйственной деятельности населения, так как почти вся территория Египта лежит в зоне тропических пустын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826200" y="1051920"/>
            <a:ext cx="3071880" cy="40194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Финикийские мореплава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600 году до н.э.финикийские мореходы совершили по поручению египетского фараона Нехо плавание вокруг Африки, продолжавшееся три 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з истории Геродо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571920" cy="213048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429000" cy="21434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428760" y="642960"/>
            <a:ext cx="8429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Цели  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разо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комить учащихся физико-географическим положением матери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ся давать характеристику физико-географического положения Аф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олжить формировать умение работать с контурной кар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ладеть умениями отбора нужной исторической информации, связанной с Великими географическими открытиями  ее дальнейшей систематиз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ичь целостного представления об изучаемом континенте в многообразии исторических и географических проце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ть практические умения работать с картой, с интерактивной доской, определять географические координ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условия для воспитания у учащихся силы духа, ответственности, физического совершенствования на примере  мужества путешественников и исследователей контин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орудов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Карта полушарий; физическая карта Африки; интерактивная доска, атласы,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Европейские путешествен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42960" y="1571400"/>
            <a:ext cx="4500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вропейским мореплавателям удалось обойти материк лишь в XV веке. Стремясь найти морской путь в Индию, португальские мореплаватели постепенно исследовали Африканский континент  с начал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57480" y="55717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Корабль европейцев - каравел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357880" y="1500120"/>
            <a:ext cx="3136680" cy="37861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900" spc="-1" strike="noStrike">
                <a:solidFill>
                  <a:srgbClr val="800000"/>
                </a:solidFill>
                <a:latin typeface="Calibri"/>
              </a:rPr>
              <a:t>Генрих Мореплавател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571760"/>
            <a:ext cx="3643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рганизатор многих португальских морских экспедиций на юг вдоль западноафриканского побереж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исследование Атлантического океана («море Мрак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открытие о. Мадейр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части  Азорских островов и остров Зеленого  Мы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3280" y="5428800"/>
            <a:ext cx="404208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Генрих мореплаватель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(принц Энрик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394-14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4929120" y="1357200"/>
            <a:ext cx="348480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Бартоломеу Диаш</a:t>
            </a: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85520" y="1428480"/>
            <a:ext cx="404028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крыл юго-западное побережье Африки к югу от устья реки Конго, открыл мыс Доброй Надеж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5143680" y="1500120"/>
            <a:ext cx="3143160" cy="422604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28760" y="60717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Бартоломеу Диаш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(1450-1500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Васко да Г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428840"/>
            <a:ext cx="4257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1498 г. Васко да Гама обогнув Южную Африку впервые пересек Индийский океан  и  достиг   берегов Индостана.  С  ХVI  столетия европейские торговцы начали вывозить из Африки чернокожих рабов в Америку. Они знали лишь отдельные места на западном побережье — невольничьи рынки (Берег Слоновой Кости, Золотой Бере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14560" y="5714640"/>
            <a:ext cx="404172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аско де Г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1469-152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2932200" cy="39510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Исследование внутренних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районов Афр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68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нутренние районы Африки европейцы начали исследовать только в конце XVIII — начале XIX столетия, когда быстро развивающимся по капиталистическому пути странам Европы потребовались земли, где можно получить дешевое минеральное сырье, заложить плантации тропических сельскохозяйственных культур, выгодно сбывать товары легкой промышле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900" spc="-1" strike="noStrike">
                <a:solidFill>
                  <a:srgbClr val="800000"/>
                </a:solidFill>
                <a:latin typeface="Calibri"/>
              </a:rPr>
              <a:t>Дэвид Ливингстон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928520"/>
            <a:ext cx="40402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следовал бассейн реки Замбези,  дал описание верхнего течения реки Конго (Заир), озера Ньяса и ряда других. Ливингстон пытался найти истоки Нила — великой африканской ре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4560" y="5714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Давид Ливингсто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(1813-1873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5337000" y="1857240"/>
            <a:ext cx="2949840" cy="36626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6434640" y="5857920"/>
            <a:ext cx="16210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1841 – 1904г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28760" y="2071800"/>
            <a:ext cx="52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учил озеро Танганьика и            проследил течение реки Конго, завершая пересечение Африки с востока на зап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786280" y="1714680"/>
            <a:ext cx="2698920" cy="360972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Генри Стенли Морт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6001560" y="564372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енри Стенли Мор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Василий Юнкер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56760" y="1642680"/>
            <a:ext cx="43578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1876-1886 гг. путешествовал по Центральной и Восточной Африке и собрал интересные сведения о природе и жизни населения этих частей материка. Проводил топографические работы, ввел гидрологические и метеорологические наблюдения, искал полезные ископаемые. Изучал бассейны рек Конго и Замбези, открыл водопад Виктор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57480" y="5714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асилий Юнкер (1840 – 189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857760" cy="30398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900" spc="-1" strike="noStrike">
                <a:solidFill>
                  <a:srgbClr val="800000"/>
                </a:solidFill>
                <a:latin typeface="Calibri"/>
              </a:rPr>
              <a:t>Заполните таблицу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28760" y="1644480"/>
          <a:ext cx="7818480" cy="5213520"/>
        </p:xfrm>
        <a:graphic>
          <a:graphicData uri="http://schemas.openxmlformats.org/drawingml/2006/table">
            <a:tbl>
              <a:tblPr/>
              <a:tblGrid>
                <a:gridCol w="3514680"/>
                <a:gridCol w="4303800"/>
              </a:tblGrid>
              <a:tr h="14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Путешестве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Исследованная / открытая террито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Прямоугольник 4"/>
          <p:cNvSpPr/>
          <p:nvPr/>
        </p:nvSpPr>
        <p:spPr>
          <a:xfrm>
            <a:off x="857160" y="3571920"/>
            <a:ext cx="3214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ртоломеу Диаш 1488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857160" y="4143240"/>
            <a:ext cx="321480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аско да Гама 1497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7"/>
          <p:cNvSpPr/>
          <p:nvPr/>
        </p:nvSpPr>
        <p:spPr>
          <a:xfrm>
            <a:off x="684360" y="558972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енри Стенли Мортон 1871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8"/>
          <p:cNvSpPr/>
          <p:nvPr/>
        </p:nvSpPr>
        <p:spPr>
          <a:xfrm>
            <a:off x="684360" y="623736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асилий Юнкер 1876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9"/>
          <p:cNvSpPr/>
          <p:nvPr/>
        </p:nvSpPr>
        <p:spPr>
          <a:xfrm>
            <a:off x="4214880" y="3500280"/>
            <a:ext cx="41022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Открыл юго-западное побережье Африки к югу от устья реки Конго, открыл мы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Доброй Надеж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0"/>
          <p:cNvSpPr/>
          <p:nvPr/>
        </p:nvSpPr>
        <p:spPr>
          <a:xfrm>
            <a:off x="4214880" y="2786040"/>
            <a:ext cx="402912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Открытие о. Мадейра,     части  Азорских островов  и  остров      Зеленого  Мы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1"/>
          <p:cNvSpPr/>
          <p:nvPr/>
        </p:nvSpPr>
        <p:spPr>
          <a:xfrm>
            <a:off x="4140360" y="4076640"/>
            <a:ext cx="41036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Пересек Индийский океан, достиг берегов Индост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2"/>
          <p:cNvSpPr/>
          <p:nvPr/>
        </p:nvSpPr>
        <p:spPr>
          <a:xfrm>
            <a:off x="4140360" y="6165720"/>
            <a:ext cx="4070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Исследование Центральной и Восточной Африки; открытие водопада Вик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3"/>
          <p:cNvSpPr/>
          <p:nvPr/>
        </p:nvSpPr>
        <p:spPr>
          <a:xfrm>
            <a:off x="4211640" y="5445000"/>
            <a:ext cx="403236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Исследовал озеро Таньгаинь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4"/>
          <p:cNvSpPr/>
          <p:nvPr/>
        </p:nvSpPr>
        <p:spPr>
          <a:xfrm>
            <a:off x="4140360" y="4797360"/>
            <a:ext cx="417672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Исследовал  бассейн  р. Замбези и р. Кон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5"/>
          <p:cNvSpPr/>
          <p:nvPr/>
        </p:nvSpPr>
        <p:spPr>
          <a:xfrm>
            <a:off x="785880" y="4786200"/>
            <a:ext cx="321480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вид  Левингстон 1841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857160" y="2857680"/>
            <a:ext cx="3214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енрих Мореплаватель 144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971640" y="342900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Многовековое прошлое народов Африки изучено не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Быть может, вам, ребята, предстоит пополнить мировую копилку знаний об этом удивительном матери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02840" cy="24498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231" name="Прямоугольник 4"/>
          <p:cNvSpPr/>
          <p:nvPr/>
        </p:nvSpPr>
        <p:spPr>
          <a:xfrm>
            <a:off x="1143000" y="4857840"/>
            <a:ext cx="69292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468360" y="428760"/>
            <a:ext cx="867564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бщие сведения о матер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ощадь -  29,2 тыс. кв.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ощадь островов – 1,1 тыс. кв.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ощадь  с островами – 30,3 тыс.  кв. к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ина береговой линии – 30,5 тыс.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Высота над уровнем океа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редняя - 750 м (преобладают возвышенности и плоскогорь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симальная - 5895 м  ( влк.Килиманджаро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инимальная  -   - 157 м  ( оз. Ассаль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ленность населения достигла 1 млрд.  челове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тоги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комство с особенностями ФГП материка (в том числе с номенклатурой: моря, проливы, заливы и др. географические объекты, окружающие Африку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торение определения географических координа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общение знаний по теме Великие географические открытия «Исследование Афри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машнее зада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 географи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 п.24, знать особенности ФГП материка и номенклатуру по урок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 истории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2, раскрыть значение исследования Африки для дальнейших географических открытий (в тетрад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чебно-методический комплек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5712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бник Новая история 7 класс, авторы:  А.Я.Юдовской, П.А.Баранова, Л.М.Ванюшкиной, 2012 г., Атлас «Новое врем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бник География материков и океан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 класс, авторы: В.А.Коринская и др., 2012 г., Атлас «Материки и океаны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642960" y="10000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Этимология наз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0" y="1500120"/>
            <a:ext cx="4114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звание материка относят к финикийскому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«afar» -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ыль. Римляне после завоевания Карфагена назвали провинцию Африк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озднее так стали назыв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 сам контине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ругая теория гласит, что название народа афри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исходит от берберского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«ifri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«пещера», имея в виду пещерных жите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3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3500280" cy="244332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лан описания ФГП матер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Расположение материка относительно экватора, тропиков и нулевого мериди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2. Определение координат крайних точек материка в градусах и протяженности материка в километрах с севера на юг и с востока на запа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3. Климатические пояса  расположенные на матери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4. Моря и океаны, омывающие матери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5.  Расположение материка относительно других материк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11600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900000" y="2997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ме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3922560" y="63514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таркт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 rot="1954800">
            <a:off x="4822920" y="6922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500120" y="5300640"/>
            <a:ext cx="71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иболее удалена от Африки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Австрали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контур"/>
          <p:cNvPicPr/>
          <p:nvPr/>
        </p:nvPicPr>
        <p:blipFill>
          <a:blip r:embed="rId1"/>
          <a:stretch/>
        </p:blipFill>
        <p:spPr>
          <a:xfrm>
            <a:off x="1763640" y="549360"/>
            <a:ext cx="5653080" cy="613872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1908000" y="3860640"/>
            <a:ext cx="53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3046320" y="836640"/>
            <a:ext cx="446040" cy="3816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"/>
          <p:cNvSpPr/>
          <p:nvPr/>
        </p:nvSpPr>
        <p:spPr>
          <a:xfrm>
            <a:off x="1908000" y="2205000"/>
            <a:ext cx="5437440" cy="1443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0"/>
          <p:cNvSpPr/>
          <p:nvPr/>
        </p:nvSpPr>
        <p:spPr>
          <a:xfrm>
            <a:off x="3672000" y="5349960"/>
            <a:ext cx="3348000" cy="1666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 flipH="1">
            <a:off x="5912640" y="33685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в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 flipH="1">
            <a:off x="3994920" y="19098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в. троп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148280" y="49449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южн.троп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 rot="16591800">
            <a:off x="991800" y="21729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лев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риди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928800" y="928800"/>
            <a:ext cx="71737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верь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. Африка находится в полушариях - (северном, южном, западном, восточн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2. Африка самый жаркий материк т. к. она в значительной части расположена в тепловом поясе ( жарк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116000" y="2349360"/>
            <a:ext cx="6048360" cy="1008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643200" y="4286160"/>
            <a:ext cx="2808360" cy="50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контур"/>
          <p:cNvPicPr/>
          <p:nvPr/>
        </p:nvPicPr>
        <p:blipFill>
          <a:blip r:embed="rId1"/>
          <a:stretch/>
        </p:blipFill>
        <p:spPr>
          <a:xfrm>
            <a:off x="1446120" y="142920"/>
            <a:ext cx="5499360" cy="6715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60520" y="336240"/>
            <a:ext cx="534024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райние точки Афр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7280" y="6165720"/>
            <a:ext cx="259056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. Иго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6360" y="836640"/>
            <a:ext cx="224316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. Бен-Сек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619280" y="2421000"/>
            <a:ext cx="259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льм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156360" y="2637000"/>
            <a:ext cx="2590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. Рас-Хаф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2085840" y="31100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еверная — мыс Бе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к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(3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 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)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жная — мыс Игольн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(3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 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 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)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ападная — мыс Альмад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(1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 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)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осточная  мыс Ра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Хафу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(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 5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07:54:36Z</dcterms:created>
  <dc:creator>Настя,Евгений</dc:creator>
  <dc:description/>
  <dc:language>en-US</dc:language>
  <cp:lastModifiedBy>Admin</cp:lastModifiedBy>
  <dcterms:modified xsi:type="dcterms:W3CDTF">2014-12-23T14:16:54Z</dcterms:modified>
  <cp:revision>90</cp:revision>
  <dc:subject/>
  <dc:title>Презентация PowerPoint</dc:title>
</cp:coreProperties>
</file>