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72D-1C85-4894-A794-14719B5F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9D7-7A89-47E1-A686-F788A244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725-5BF1-4E59-B7E4-77870D87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134-2412-4C53-94F4-CB47FB04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675D-D236-4726-9DDC-150E7A4F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6A2E-A17A-442B-9538-7BBC6052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A67B-7510-4EB3-932D-9D6D2292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643D-F8B2-4413-9934-F5225ABB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C67C-7E83-49FC-B025-DE23BCEC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16C8-C666-4914-B0A6-B44B05D5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24F1-7D49-4827-B3B7-5A0E96A2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80E-0C4C-42A2-BAD5-679A824C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2D33-1009-44BA-BD5F-105BA90E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253F-097A-4EED-970D-934FF816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854E-5943-4C2C-8C9A-B5F6DDD9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6AEC-31BD-45E6-8B1A-C0FC713E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816E-1EE1-40C5-BCD1-BE5E7F94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2BCF4-3EDF-4B4E-8924-079D68C0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08742-BCB3-4B9B-9A67-17F29C55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964D0-44CA-42EC-8641-4F6F0B45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D2BC4-95AB-450C-9FD1-C02B06CC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022AA-CA80-4638-B598-420858D5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A68-FDDA-4E9A-9F12-2EF87F16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032F7-D78C-42C2-9EB8-A64079C7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1CD87-F51C-4D89-A287-1E8BDE16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5E0E0-100B-4AF8-B7A6-312ABAA3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679A4-8928-4392-A275-881C3588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2B55F-CD17-4BF6-94BE-8A9F2E0C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932BA-E418-4640-BB5F-85AD3E2C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D86E1-54B9-42FB-9C8F-44DDB802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78458D-342A-4AF6-8796-F930B53A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BDFA7-17DB-44F8-AAC2-98909139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A5262-E32E-47B0-8279-31A45030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764-748F-40FC-9FC5-79DA823D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D51D87-DB09-46DE-9198-E029B1CF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98C601-203D-4C17-BD1F-4516C9E5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EF96D5-95E1-4487-83D0-4AB7D1DA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81B4F8-3FB0-4C97-9F3C-213F47B4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68AB3A-AF3E-4901-861F-9A479F11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8E898-431B-4136-B5F1-497E638F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CA7CFE-26D0-4F87-B097-5ACAB727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E6F7EA-963A-45C0-9F7F-C941DF93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AA7FF-4802-4111-BAF9-13633AE3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DCA95-9E69-4A6F-9E7A-9D6788CA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79B-30D8-4C3B-85E6-0BBA1905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59890-159F-4D79-B657-60518ADC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3D2AE3-F5EE-477F-A328-D4CDB856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67D03A-CF4C-49F7-B9E7-969A5EA3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A48BE5-EA5F-4141-8422-238A6DB2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B86854-0880-4E96-9896-A78B80FE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5DE2F2-8199-434B-AF67-31CF5654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6A4BD-15AE-4405-A03A-A147B999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F2985-BF01-41C3-A56B-2C6D8373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7DF59B-9B7E-442F-B84E-1C7E83D9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D67BC5-4EE2-4487-A9A8-03F3A89B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52DF-5C24-4EB3-B7D7-3610375E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2B412-FB79-4A3B-9278-53E51C9B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A60D7-A278-4045-87EB-3E4271D8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60302-B4EA-4AA2-98E3-17D593D0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379C1-1302-4734-B2DB-C5E69FE5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F0CEC-3493-4F4E-810A-AF319396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DEBD2-B6EC-4F3E-ACCD-CEC86B19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26EB9-509F-4598-8560-BCA66AD3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A0B89-86B1-4D4D-9036-B238EDB1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F4D9D-7DE5-4ADA-9223-6F7A1B4E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DE239-7C9D-4E1B-9F1B-4CFB02F8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656-6A2D-4EEE-98A8-DF15BBEC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89718-4B7A-48E5-B2D8-F0EAF1AC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58EFE-A88A-4800-91C3-2F48139C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6B693-FD26-433A-BC40-0631E1F7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5F8BB4-3E80-4751-B749-5BDF3259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F26728-23C1-426B-933C-99721560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B3F27-B836-4EFE-B581-5F6078D3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75FB5B-3DA2-4ACA-8045-BAD95B42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E3AB4A-7CE9-4AB8-B591-2957B543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87C5F1-AA94-4C9A-B9E0-646B7197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C17C8A-7E46-438C-88B8-1103AE1F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29D-6D11-41FE-B29C-B943E6F4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4364E8-D7F6-472E-8CD3-B765BC3B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864317-89AA-4B2A-8777-2E6214C9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040BC0-13BE-4097-B51F-BC25BFD9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B261D8-4FE7-4854-9CFE-C8105801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599DF2-5E25-4686-A34E-B7DFE377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52F42-7D03-4C38-B773-60998785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0ECB1-719D-4FEF-A22A-BD1D5A5F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88161-5523-4B76-85BF-94685455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90A3F-55EE-41DD-B9F7-73087341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9656B-083F-4FEE-B6D0-CE848CB7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7ED-7632-4328-B68E-D13568A5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381BF-2F62-4AFC-98F8-3954E9A5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A1392-2C37-41AD-A1DD-211F9664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9CAA6-5628-49F4-9858-8FB9C9BE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048C8-3B26-4A09-84F7-A2D7432D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F2FF0-07EB-4A9B-A426-240E9332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CB0DB-1FF0-446B-9F42-1E6B30B7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B0B7D-9589-451A-98C0-152FD57E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9065-E303-4EEA-9BBB-41A87D009C16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3202-B130-4080-919C-0098DCE6B424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0AF0-7872-41C8-A54B-081356BD8261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950A-A7DC-4ABD-8A1C-9E131B5F98D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C94A-811C-469F-B8E2-C95FDA36EC28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2E5E-5783-4D45-9199-98F66BDF110B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3D1C-4EB4-4D78-97C2-8643A49E4C7D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5237-8956-4895-A6DA-7FDF2B49E808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ХОББИ В РАДОСТЬ СЕМЬ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1" name="Детские_песни_-_Ой,_блины_(-).mp3" descr=""/>
          <p:cNvPicPr/>
          <p:nvPr/>
        </p:nvPicPr>
        <p:blipFill>
          <a:blip r:embed="rId1"/>
          <a:stretch/>
        </p:blipFill>
        <p:spPr>
          <a:xfrm>
            <a:off x="684360" y="558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&amp;Pcy;&amp;rcy;&amp;ocy;&amp;chcy;&amp;iecy;&amp;iecy; &amp;Vcy;&amp;icy;&amp;tcy;&amp;acy;&amp;lcy;&amp;icy;&amp;jcy; &amp;Tcy;&amp;yucy;&amp;mcy;&amp;iecy;&amp;ncy;&amp;tscy;&amp;iecy;&amp;vcy; - &amp;scy;&amp;rcy;&amp;acy;&amp;ncy;&amp;icy;&amp;tscy;&amp;acy; 21"/>
          <p:cNvPicPr/>
          <p:nvPr/>
        </p:nvPicPr>
        <p:blipFill>
          <a:blip r:embed="rId2"/>
          <a:stretch/>
        </p:blipFill>
        <p:spPr>
          <a:xfrm>
            <a:off x="539640" y="1557360"/>
            <a:ext cx="7920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68360" y="549000"/>
            <a:ext cx="81360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зентация учител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БОУ СОШ № 8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оваловой Н.Н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 своем увлече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свободное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с. Сенн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Домашние пирожки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490760" y="1057320"/>
            <a:ext cx="61610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Любимый пирог муж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9391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1467000" y="1557360"/>
            <a:ext cx="6210000" cy="4824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             </a:t>
            </a: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ирог  «Летний»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много фантазии и пирог готов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954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ирог «мама в хорошем настроении»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8208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7:16:45Z</dcterms:created>
  <dc:creator>bastangieva</dc:creator>
  <dc:description/>
  <dc:language>en-US</dc:language>
  <cp:lastModifiedBy>USER</cp:lastModifiedBy>
  <dcterms:modified xsi:type="dcterms:W3CDTF">2015-04-28T08:29:25Z</dcterms:modified>
  <cp:revision>14</cp:revision>
  <dc:subject/>
  <dc:title>Презентация PowerPoint</dc:title>
</cp:coreProperties>
</file>