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4B0-DC77-411A-BF93-DEDD7C1A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AAA-3C92-476F-B4DA-737327F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BFD-6B77-488C-B749-402B1D40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BCE-3961-45B2-9897-54836992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17FA-CA37-4F82-8A18-419ABB3C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89F3-1DAF-47E3-8F70-F304700E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8693-86FF-469B-AAF0-413B0A2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EA74-9511-40E6-8B14-8871257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93E-3EA2-4D7D-8E67-8E7E53D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6199-A0FB-4CF8-BB14-7F39BF7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8501-7260-4A52-80BC-39B5BF8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002-93C9-4853-9128-8080F4C6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E912-ADE9-4672-B9BC-D59DDB37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0CDE-ABA8-4820-94A0-8AE31F2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97B4-24DC-4ECE-BDB5-7EB04C9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F96F-E075-480F-8116-44C846C7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A03-6C1F-4D92-ADA2-14ED91BC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8B5CB-9FB8-4D92-AA68-A4D1CBBC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7A88E-A049-48FC-9510-390DF56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E3354-E341-4B8C-834D-A25AF2F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B6F13-78CD-4609-92E2-5594EB82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4891B-7671-4BD5-A2BB-3A1349D9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6E6-E66B-4663-B9BA-8A1288B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43E30-59FC-46C4-9EA5-5A178D5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8AD81-F87F-413F-A162-FAE832F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1D7E0-59E1-4154-ACA3-6129CB1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D8906-60D2-47CC-8112-52E867E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AEA56-41F4-48EF-8142-78A43DCA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9C62F-B280-405B-89CB-FF1F24FF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96B28-6CB3-4A63-8340-C0A5F1CF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34954-D783-4F27-8D9E-B1D9D728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C6D9B-B1DF-4DF2-9C4C-C01CDFE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B47A5-B99D-4E6A-B770-4F9452FA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B16-FF37-470E-A9B5-D2C8DC71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6E467-1787-4ABA-ACA0-6064999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343BA-BCD3-432A-8715-A72D0A3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9BA71-E22B-4CA4-B21D-9D507DC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67A0E-6019-4F28-9BF1-579A8CE1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4B0B3-0FCF-4478-9E98-91BB9CF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E2C36-EED1-4618-8533-F5D240A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CD00C-A303-40F1-9200-47FD1C3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2C74D-9848-4152-B33F-40917D04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DDBBE-E833-4814-9BE0-9A3FF019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DB219-E6A1-40C1-A607-F3A746B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8C2-CCEB-4361-B189-AF2071FA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FD1C2-1FFC-4163-8F04-4DC8D409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50141-6CEB-4E33-B19A-55267E8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51280-02C2-40CA-997E-BA40F3CD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53A43-102E-43CD-B2DA-60304795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7CB9B-2542-42D9-8E2F-8B8DE554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72AA1-BF98-467B-89DA-150D6BC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6D2F5-A11C-4530-986F-682174A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99135-BB1B-4FD1-857D-3FD79A2A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DA669-0BD1-41FC-B57B-54B0BC0A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DA8F9-ECD5-4029-B67B-7B18F263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600-5B2E-4861-BF5F-E055394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44E95-D6D3-4EA3-83F1-A5383D98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BFF4A-585F-4C6D-9134-11B8056B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C7E7-3D0D-4BCA-9586-25C363AC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1B35-90F9-47F6-87CD-A9872050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9EA1-5120-4774-88FE-0CF91825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A9CB-7E02-4A6F-B954-A0F64284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4F05-C7EC-4AFA-91B2-286F93F9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1944-181F-4741-9D2A-67ECB7C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7CF3-3189-4847-8346-5925F543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CA3FC-E033-4677-B348-25C199A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FEA-CB88-46EB-AE85-B7CC0ACC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A2D9-CBFB-4F6F-AC2E-91D3DE7F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7CAA-1A64-463A-9784-16C6FB4C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550F1-7228-462F-A09E-B944B709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4CD14-70CC-4866-9C13-54FD3B8E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5A81B-6B23-4781-8FB6-D5445961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6EC05-9D39-493C-8129-4ED1887D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328BB-FADF-4F57-B599-CB774BA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54EEA-0A88-4A59-A192-52CE87D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BF1BB-BBA1-42A7-928E-3569FBF3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BB370-13EF-4447-AA36-0B503FB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07B-18EE-4928-8A2A-E0F5AE0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F6280-C435-4E85-8A2B-022FC97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3BE12-0A72-403A-A3AE-94EEAE0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823F4-4E4F-4FD0-B4FB-37D5539A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93555-20FA-4504-97AF-1EC54271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48C2A-843D-4BDC-B0D2-93EC9135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B2769-1673-42B5-8479-6856CFED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DD5F0-3472-47A5-A925-6565840E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07E5-1361-4C6A-ACB1-35688539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F572-5F7D-4B5B-8B4E-B9C2F7FE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F902-B9F1-46FB-9A8A-608AD13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CF3-FDB5-45CE-B76E-C105FB8C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B7C3F-6956-4225-B4BE-F602115E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8709-9458-4A53-906F-581D4F83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E84A1-BFF8-49D2-BE5D-89BF2A1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7555-8D20-47E6-AF1C-DDBB072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2695E-592D-477C-93D9-C51830C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63129-ACBF-4C53-AAB3-B479BD8B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EE41-BA0E-4EDF-A9DA-5AA90849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8C9-C027-4E7F-8903-2F485E476CC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1FB-FF43-4079-BA24-953F3E664462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1B49-C8B6-439D-8BDE-3474ABE012B8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7B1-A7A0-47FC-AA73-9068605B1C9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2F05-628C-4668-A299-2187B733F97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B2C9-D34C-4356-9896-AB431D05FFF9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CB0B-78D3-4239-99EC-0A202B56A48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F43A-D8FC-44DA-923E-748BA2F5F6F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ХОББИ В РАДОСТЬ СЕМЬ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1" name="Детские_песни_-_Ой,_блины_(-).mp3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&amp;Pcy;&amp;rcy;&amp;ocy;&amp;chcy;&amp;iecy;&amp;iecy; &amp;Vcy;&amp;icy;&amp;tcy;&amp;acy;&amp;lcy;&amp;icy;&amp;jcy; &amp;Tcy;&amp;yucy;&amp;mcy;&amp;iecy;&amp;ncy;&amp;tscy;&amp;iecy;&amp;vcy; - &amp;scy;&amp;rcy;&amp;acy;&amp;ncy;&amp;icy;&amp;tscy;&amp;acy; 21"/>
          <p:cNvPicPr/>
          <p:nvPr/>
        </p:nvPicPr>
        <p:blipFill>
          <a:blip r:embed="rId2"/>
          <a:stretch/>
        </p:blipFill>
        <p:spPr>
          <a:xfrm>
            <a:off x="539640" y="1557360"/>
            <a:ext cx="7920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68360" y="549000"/>
            <a:ext cx="8136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учител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БОУ СОШ № 8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оваловой Н.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своем увлеч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вободное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. Сен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Домашние пирожк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490760" y="1057320"/>
            <a:ext cx="6161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Любимый пирог муж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9391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467000" y="1557360"/>
            <a:ext cx="6210000" cy="4824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ирог  «Летний»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много фантазии и пирог готов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5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ирог «мама в хорошем настроении»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0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7:16:45Z</dcterms:created>
  <dc:creator>bastangieva</dc:creator>
  <dc:description/>
  <dc:language>en-US</dc:language>
  <cp:lastModifiedBy>USER</cp:lastModifiedBy>
  <dcterms:modified xsi:type="dcterms:W3CDTF">2015-04-28T08:29:25Z</dcterms:modified>
  <cp:revision>14</cp:revision>
  <dc:subject/>
  <dc:title>Презентация PowerPoint</dc:title>
</cp:coreProperties>
</file>