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1E2-1E4F-4DD1-AB2A-1A13DDB9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570-61F7-40BC-B0E0-0C810EE5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D3E-68C1-4F81-B2D4-3B6C3839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EF3-52A9-4573-AA79-152D2E27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D813-B883-4A1B-AB62-3A0E3129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17E9-8BFF-4D1E-86C8-2A8AFCFF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8C44-7CE8-469B-B90B-704ECA2C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CD8D-7638-42A6-B774-1E44787A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6B3A-9211-463D-A601-22870D55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7794-868B-47A6-BA42-1B275395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98DA-5F98-42A2-9A3D-DBFF6923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30D-C4FE-47A1-B008-997489B8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C051-7CF8-4335-8D84-53758D84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13B1-6D34-424C-864A-7624D381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2182-1616-4766-851E-DB9A89D3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40C7-CC37-4E50-9674-B1B4F594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50B8-1447-4D74-9771-4ADF4968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3DA51-EA84-4FC3-987F-9F3BE042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49721-637C-4371-BD0A-5A96DE0B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D70F4-C60F-48FC-8655-31FF8DF8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E8019-EA3F-4E3C-811C-661E8057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E5F48-EC62-4866-8481-A45B0943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2FC-2028-4AD6-A3CB-7664C8D2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A3B1C-E055-40EC-AF4E-1C28730F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948ED-0484-4FB8-876E-D36E41D0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16D03-C407-400E-9F9B-88AF4696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2FAAF-6D67-4308-A546-C1596C1F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2E8AD-593D-4A36-90AA-85E2CC40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CC23F-800C-4B5E-8D1D-B33DEA07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10275-49D3-46B6-81E7-678BDACD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EE401-7CAD-4C8D-AFDA-2172D537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E0108-C8FD-4DD5-B24F-575ADC2F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8981C-0CEE-4C97-9862-FE862538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48C-4577-495E-B548-64BA529F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979C2-B2AA-4B5D-A9BE-F483E240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35D88-3336-490A-9D69-4DED47E9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759BC-B23C-4F8E-BB3F-F484CDE1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7A5E7E-C872-478C-97D7-CF704555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F32F2-0DFB-45D8-9B6C-E5F4D7F4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47310-2780-4A0E-87A4-9ECD13F8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54DCA-260C-4048-B032-A63F0641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EF8E7-6AE3-4666-B932-E822D996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B4A9C-EA0E-48CD-9BA8-F20E4087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32C35-3AF9-4074-B3C4-A9231991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F1F-8D82-4C0C-AEA6-F6BAB706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6EA32-F97B-4C0F-BB3E-191AD10C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F2A81-2153-44F1-9F29-2111FDAB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7AF48-3A29-4A00-BB3E-BC7B2F71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F5C49-3D57-4A7B-9552-8F3A2842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84EF0-A62D-4623-BA5B-4E21EACE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F0354-4879-4D3F-8BAD-7AD31948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81360-7E18-4289-B945-462429FB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B6C84-E3A3-452B-9177-46574ECB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C7951-9C81-4464-9125-B24D4E70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63712-31DB-43F6-8932-CCC71386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DE8-A578-4192-A001-866B85EA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A44D5B-F287-4489-BCA6-5D13B88D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3C2FE-7E47-412E-8DC6-944AFE7E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57ED-D7AE-48C0-B871-8EDB75D9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0F1BB-C742-4CB4-A3CB-034CA0A7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0A804-8F53-4E1D-9B03-DBD80AC2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D8F32-6377-4F40-A273-59CB8203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99A66-C268-4C8C-A2CF-D1808034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AF6AC-2EBD-40A2-BCA5-BAE31718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E4AC2-DDDD-4A22-B574-89EDEC0E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3ED96-01CC-4F69-A01D-93340126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C6F-2B9D-4E3D-B5F2-CD0B495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61921-A629-4CC8-9269-04D355A6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76E09-AF66-4C2D-B732-058891A8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8C0C5-F51F-4A7D-9481-9387AF0C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B68046-3A9A-4E53-B9F0-06D35592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DE501-F32C-4C62-9A25-F434FCD7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0865BD-DD64-408B-90AC-2F22DBBA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C596E-7F9C-49CC-AC94-0E3FC227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93D15C-8A33-4396-81E7-89AEA4D6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F98AE-A7E4-4698-A379-179F7748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FDFD9-B0F4-4E62-856F-C69242BA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86C-707F-4EF0-B463-E28F19A8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D1A7E-F820-4636-B767-EFF505D6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5408D-B1E2-4839-B08C-D70DBAB0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9F2CDF-CA23-4403-87FE-F31B7A60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92D68-5CBB-4AD6-94F9-5F7A50CB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9E61C-85A6-42AE-8FA8-3BFFBCE2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EDE94-1B28-484F-81F3-7650B1BA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1EEE8-497C-484F-BB21-29DD17D3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7AE4F-F6C5-4B8C-956D-F156F5AB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9E338-649E-4DC5-BC39-9C6DAD9B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B6020-2D70-454C-8B01-77B61B96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7A0-A800-4B6F-8693-5FAF3F0F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2AC45-2F07-41A2-BC35-F21BB148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A1730-E251-4C90-A6D2-EED5CBFB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A3D8D-DCF4-4063-A772-C9E7EF2F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D8B28-D03E-47CB-89FE-75F69907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D92DF-B114-4214-A0BD-3E1A7119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31823-54AE-4743-A56B-0A1D8360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2B4A8-3148-4D63-AA85-06FF8FB7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895E-B781-4932-971C-D9ABACE515E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DE21-7BEF-43E0-8ADB-41BD54A99DCE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7709-E642-46D7-873C-AD937759BCD1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43C3-0FA6-4CD3-9666-F94C47F3D99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1E46-0095-467E-8BCB-CB46127BC05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5197-461D-4AC9-8A9D-39B6AF1DED10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FF5A-A5BE-4C1D-9CCA-C99EB6038ECC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0967-16CC-47C4-8350-91F860B7C3E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24560" cy="47530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МЕД И БЛИНЫ:МЕДОВЫЙ СПА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rcRect l="0" t="2918" r="0" b="16624"/>
          <a:stretch/>
        </p:blipFill>
        <p:spPr>
          <a:xfrm>
            <a:off x="900000" y="1523880"/>
            <a:ext cx="7016760" cy="50562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5f55"/>
                </a:solidFill>
                <a:latin typeface="Calibri"/>
              </a:rPr>
              <a:t>Начини блины своим настроением и добавь чуть- чуть икры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762120" y="1268280"/>
            <a:ext cx="7488000" cy="52563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              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Блинчики с творогом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982800" y="1143000"/>
            <a:ext cx="7484760" cy="56959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             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Блинчики с мясом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7:16:45Z</dcterms:created>
  <dc:creator>bastangieva</dc:creator>
  <dc:description/>
  <dc:language>en-US</dc:language>
  <cp:lastModifiedBy>USER</cp:lastModifiedBy>
  <dcterms:modified xsi:type="dcterms:W3CDTF">2015-04-28T08:27:17Z</dcterms:modified>
  <cp:revision>13</cp:revision>
  <dc:subject/>
  <dc:title>Презентация PowerPoint</dc:title>
</cp:coreProperties>
</file>