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3BB-BA07-4325-B2F6-DA5B4B09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8BE-3D8B-4361-BDAF-3CD0D6D2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8D2-6A6D-4888-BD2A-02CA73D4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702-1BBC-4093-82C3-8529B3AB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B0A7-335C-4443-A59A-BCF7113A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0573-61A2-42B0-9E02-3B97DF63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85A5-C6E1-4EDE-BCEA-D9290045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736B-5EF7-4FDF-A84C-87628909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C616-87FF-4EFA-8E31-EAE1F4F4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DF66-6525-4029-8E32-A007CD9B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FD32-AB1F-47FB-AC1E-1B8A912B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11F-7678-4284-8AB5-755D2766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895C-BE36-40DB-B365-444C22DD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6E62-E3AC-4446-8500-85677C7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EB0F-0766-4F75-83A9-44B3146A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EE79-9F1F-46F3-B089-6D7BBA4A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80E0-41A0-437F-8D2C-F5E02B8F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F86AF-B508-48BC-9754-3268E4BC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12706-F580-43A7-8C27-8C5D9506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6F453-1D25-4436-83D8-52B76D3B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6E381-CDDF-47D1-908E-E89C1212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269E5-A553-454A-839B-C04D7059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89A-E27C-428F-84BF-EA3ED076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1F03D-1FCD-4223-B7F8-27618159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E0EC6-FC27-4DF4-89E8-CA210DD2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996FD-248C-4756-B385-85FFF07F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CB585-3F52-47A4-AE56-F7CD04C0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9DBE5-ABFB-4554-9F25-328301D1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BC5ED-BE30-4EA2-A7FF-DE6AA7C0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C3E9F-44D1-45FB-9B1F-5FEDE59D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8E93F-F6A1-4210-8AF6-EAD8E972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28A316-E653-4ADF-A848-6FA8AF08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7045B-31E5-4B49-BE08-8F7144BF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4BE-ACB8-4AC5-9CE5-2428D07E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C523E-1DCE-4C83-9B92-3FD68CD5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49F58-41F0-46F7-9B9E-52CC4635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E35F8-EDED-4EF5-9666-C4D43193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18631-FE99-454B-9DDE-777A094D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CBD44F-BA27-4685-9CE9-B1C467D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FCEED-9161-4255-AFFD-8200C75C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9DCF1-D806-4470-B280-43D9D0E5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3A075-8694-445C-9A6A-54198F4A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667FE-CF8B-43A7-B8C8-00B4A46A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A6732-0357-45F4-AF79-7B265762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A2E-62E3-413C-A30A-3DA9500B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E9AE7-597A-435F-B02C-B7225A9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D3795-210A-4432-B6A5-C51F9DD6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EFA43-C621-4E05-BFF0-04A0A73E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F555B-804E-48F7-AD5C-E3BDFD17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8058E-C513-4E7B-AAE6-8BF95E4B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31EF0-0772-478F-8934-A560D3AD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3DE29-F619-414D-9B60-458F73C1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7E60F-BB63-4B8F-9D8D-FBF0FA7A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695EB-AA4C-45A9-A0CA-5FAC9657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F828A-BB95-4D85-9D66-C4B317E7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143-5A1C-42EF-9C18-8D6D7FB7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B05B7-7878-403B-B2C8-5EE75FC7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63BCE-F963-4E9A-B24C-FFE14EA2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81F5-6A06-4E51-8D25-44DE02D9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46D0E-1204-467E-953C-34D1602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591AE-54D4-4B5B-B3C1-74FE1C2C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EF594-8032-4B2F-87A1-28153D8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2A69C-560B-4DD7-964C-86B1F886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A0FFE-2745-4A68-893C-89723365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32D49-A27D-4A9D-AA45-A474440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38A2-2F21-4CF2-8686-7D90993B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75E-8B8C-426F-A2EE-BB3EF8A6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70ED4-104B-4604-871F-0B9C2923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1D0C6-7D9B-4787-8D12-AF376AA7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2A4C8-390E-472D-BCAA-1E8D7A2D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F4158-17AF-4BC9-92EF-7268AEA6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D39AE-EF93-46AF-8CD2-06954FB3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F90B0-F5CD-449F-A033-408AE360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37BE2-F870-42BC-87DF-76FFCDE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E8308-B503-4159-829D-6B5B1703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34883-448D-4A73-840E-C0CCC1DD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FB88D-D3FE-4951-B7A7-A259182B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A77-D5C5-4C67-B3CB-B1E27D4A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5044A-6E3B-40B5-9D9F-0197E4C5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1E270-C359-4FAA-8859-77E2F599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C6BC2-E6ED-4B37-852A-A824313E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71F69-2DED-42AB-94A1-8964B53E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4083A2-F180-49D8-A437-4DE92F40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73C24-699C-4E67-9C32-77AE8D20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F2ABD-0F16-4EEF-9AB3-46AA6461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8FDA-B93D-4D07-8A49-031AA3DD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37433-B534-4E44-82FE-09E080C8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B028-285F-4D32-A9A7-AAE6F5CB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860-4A94-4DD5-B959-ADB43CEB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7948E-1280-4DD3-A380-84B5CEA0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C087C-D040-439D-9A9E-E0B33F68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ADDC5-E5AC-4469-97BE-DAACC56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CF899-9ADC-4521-936C-EC93259F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EECD4-2DAD-4570-8203-C9687D73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AB757-FEBA-4809-9BDA-39924EBE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52AEB-DD6B-4F8F-97BC-8B97963B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A3DD-2291-457E-B4BD-EBF0B35629C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D176-C2E0-4AE2-9F1F-640A75912A63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0AD7-36ED-499E-B874-BB46290EB776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B43D-928E-410B-A0C4-40B90874EB5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57C3-DB8B-453A-93E9-F23AFB16FFB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703E-0838-47C9-95BF-8D3799683090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64C8-91DC-49F3-A5EC-59D15D7F9921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480F-1871-4A4F-8482-5A7B96B7A4A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24560" cy="47530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МЕД И БЛИНЫ:МЕДОВЫЙ СПА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rcRect l="0" t="2918" r="0" b="16624"/>
          <a:stretch/>
        </p:blipFill>
        <p:spPr>
          <a:xfrm>
            <a:off x="900000" y="1523880"/>
            <a:ext cx="7016760" cy="50562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5f55"/>
                </a:solidFill>
                <a:latin typeface="Calibri"/>
              </a:rPr>
              <a:t>Начини блины своим настроением и добавь чуть- чуть икры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762120" y="1268280"/>
            <a:ext cx="7488000" cy="52563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              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Блинчики с творогом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982800" y="1143000"/>
            <a:ext cx="7484760" cy="56959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             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Блинчики с мясом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7:16:45Z</dcterms:created>
  <dc:creator>bastangieva</dc:creator>
  <dc:description/>
  <dc:language>en-US</dc:language>
  <cp:lastModifiedBy>USER</cp:lastModifiedBy>
  <dcterms:modified xsi:type="dcterms:W3CDTF">2015-04-28T08:27:17Z</dcterms:modified>
  <cp:revision>13</cp:revision>
  <dc:subject/>
  <dc:title>Презентация PowerPoint</dc:title>
</cp:coreProperties>
</file>