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DD12-A5A0-4110-B49C-55D3B734F5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1640-A277-4A96-9AD6-63373A15BC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84E6-C802-4946-80A7-47963CEF78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7EBF-B880-4B91-A5A2-9469E9740C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B97D-E852-413B-96E6-53B7BFBEEA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DAB6-2B41-458A-B29B-DF45F96DD1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9667-5653-4EF3-944D-06B5133074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D0E-36FD-43D5-AA1D-197B719D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D2B-C17B-44B3-9267-657F5F3C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F958-3F04-4840-9C4A-A464772D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50E-16EE-48AA-A4BB-4032D42E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06B6-A75F-4BC9-9DB1-00B1AA4D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427E-DA25-48B9-A6A1-E3AEA835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F32-647B-41F2-B740-C1C2584C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781-9739-4815-997A-2D7CCB65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AB3-76D6-4EDF-969F-C83FF7C7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5CBB-F5D7-435E-9116-29B077CD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C63-43E7-4E6B-8809-309C8880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738E-9D2C-4A35-8E84-6286350F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205B-5E60-4CB2-B2D3-CBF0E3C140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514600" y="2057400"/>
            <a:ext cx="43243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Урок математики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1 класс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льиной Елены  Владимировны,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учителя начальных классов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МБОУ  “Гимназия №125” г. Казань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447920" y="457200"/>
            <a:ext cx="6324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"ДЕЦИМЕТР"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50" name="Picture 4" descr="an00790_"/>
          <p:cNvPicPr/>
          <p:nvPr/>
        </p:nvPicPr>
        <p:blipFill>
          <a:blip r:embed="rId1"/>
          <a:stretch/>
        </p:blipFill>
        <p:spPr>
          <a:xfrm>
            <a:off x="0" y="5181480"/>
            <a:ext cx="160812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289075"/>
          <p:cNvPicPr/>
          <p:nvPr/>
        </p:nvPicPr>
        <p:blipFill>
          <a:blip r:embed="rId1"/>
          <a:stretch/>
        </p:blipFill>
        <p:spPr>
          <a:xfrm>
            <a:off x="2057400" y="685800"/>
            <a:ext cx="5791320" cy="5486400"/>
          </a:xfrm>
          <a:prstGeom prst="rect">
            <a:avLst/>
          </a:prstGeom>
          <a:ln w="0">
            <a:noFill/>
          </a:ln>
        </p:spPr>
      </p:pic>
      <p:sp>
        <p:nvSpPr>
          <p:cNvPr id="121" name="Oval 7"/>
          <p:cNvSpPr/>
          <p:nvPr/>
        </p:nvSpPr>
        <p:spPr>
          <a:xfrm>
            <a:off x="2209680" y="2971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2362320" y="3048120"/>
            <a:ext cx="2590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4876920" y="2971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7"/>
          <p:cNvSpPr/>
          <p:nvPr/>
        </p:nvSpPr>
        <p:spPr>
          <a:xfrm>
            <a:off x="1120320" y="304920"/>
            <a:ext cx="674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1 дм = 10 с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Арка 7"/>
          <p:cNvSpPr/>
          <p:nvPr/>
        </p:nvSpPr>
        <p:spPr>
          <a:xfrm>
            <a:off x="2286000" y="2666880"/>
            <a:ext cx="2743200" cy="609840"/>
          </a:xfrm>
          <a:custGeom>
            <a:avLst/>
            <a:gdLst>
              <a:gd name="textAreaLeft" fmla="*/ 1080 w 2743200"/>
              <a:gd name="textAreaRight" fmla="*/ 2743560 w 2743200"/>
              <a:gd name="textAreaTop" fmla="*/ 0 h 609840"/>
              <a:gd name="textAreaBottom" fmla="*/ 304920 h 609840"/>
            </a:gdLst>
            <a:ahLst/>
            <a:rect l="textAreaLeft" t="textAreaTop" r="textAreaRight" b="textAreaBottom"/>
            <a:pathLst>
              <a:path w="2743200" h="609600">
                <a:moveTo>
                  <a:pt x="1106" y="292561"/>
                </a:moveTo>
                <a:lnTo>
                  <a:pt x="1106" y="292561"/>
                </a:lnTo>
                <a:arcTo wR="1371600" hR="304800" stAng="-10769301" swAng="10769308"/>
                <a:lnTo>
                  <a:pt x="2590800" y="304800"/>
                </a:lnTo>
                <a:lnTo>
                  <a:pt x="2590800" y="304800"/>
                </a:lnTo>
                <a:arcTo wR="1219200" hR="152400" stAng="0" swAng="-10769307"/>
                <a:close/>
              </a:path>
            </a:pathLst>
          </a:custGeom>
          <a:solidFill>
            <a:srgbClr val="ff0000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04920" y="2819520"/>
            <a:ext cx="3504960" cy="20574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Что такое дециметр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5029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 единиц- это 1 десяток, а 10 см –это 1 д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0 см= 1д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 дм = 10 с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5791320" y="1752480"/>
          <a:ext cx="19652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752480"/>
                    <a:ext cx="1965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2"/>
          <p:cNvSpPr/>
          <p:nvPr/>
        </p:nvSpPr>
        <p:spPr>
          <a:xfrm flipV="1">
            <a:off x="179280" y="189000"/>
            <a:ext cx="8713800" cy="6408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3"/>
          <p:cNvSpPr/>
          <p:nvPr/>
        </p:nvSpPr>
        <p:spPr>
          <a:xfrm flipH="1" flipV="1">
            <a:off x="178920" y="189000"/>
            <a:ext cx="8713800" cy="6408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79280" y="189000"/>
            <a:ext cx="8713800" cy="64800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684360" y="404640"/>
            <a:ext cx="7559640" cy="5905800"/>
          </a:xfrm>
          <a:prstGeom prst="ellipse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179280" y="26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4067280" y="18900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179280" y="2491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8893080" y="306864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H="1">
            <a:off x="3995640" y="6669000"/>
            <a:ext cx="9352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1"/>
          <p:cNvSpPr/>
          <p:nvPr/>
        </p:nvSpPr>
        <p:spPr>
          <a:xfrm flipH="1" flipV="1">
            <a:off x="4788000" y="404640"/>
            <a:ext cx="1008000" cy="144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2"/>
          <p:cNvSpPr/>
          <p:nvPr/>
        </p:nvSpPr>
        <p:spPr>
          <a:xfrm flipH="1">
            <a:off x="971640" y="1484280"/>
            <a:ext cx="50472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2771640" y="6021360"/>
            <a:ext cx="648000" cy="216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6" descr="ATOM"/>
          <p:cNvPicPr/>
          <p:nvPr/>
        </p:nvPicPr>
        <p:blipFill>
          <a:blip r:embed="rId1"/>
          <a:stretch/>
        </p:blipFill>
        <p:spPr>
          <a:xfrm>
            <a:off x="6326280" y="1752480"/>
            <a:ext cx="2817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416 -0.36667 C -0.12465 -0.36667 0.0625 -0.19283 0.0625 0.02222 C 0.0625 0.23634 -0.12465 0.41111 -0.35416 0.41111 C -0.58402 0.41111 -0.77083 0.23634 -0.77083 0.02222 C -0.77083 -0.19283 -0.58402 -0.36667 -0.35416 -0.36667 Z">
                                      <p:cBhvr>
                                        <p:cTn id="258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9583 -0.20116 C -0.79583 -0.31088 -0.70555 -0.4 -0.59514 -0.4 L -0.13055 -0.4 C -0.01944 -0.4 0.07084 -0.31088 0.07084 -0.20116 L 0.07084 0.25208 C 0.07084 0.3625 -0.01944 0.45555 -0.13055 0.45555 L -0.59514 0.45555 C -0.70555 0.45555 -0.79583 0.3625 -0.79583 0.25208 Z">
                                      <p:cBhvr>
                                        <p:cTn id="262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125 -0.42223 L 0.12084 0.48889 E">
                                      <p:cBhvr>
                                        <p:cTn id="266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84 0.48889 L -0.8125 -0.42223 E">
                                      <p:cBhvr>
                                        <p:cTn id="270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1249 -0.42223 L -0.82916 0.48889 E">
                                      <p:cBhvr>
                                        <p:cTn id="27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2916 0.48889 L 0.12917 -0.43334 E">
                                      <p:cBhvr>
                                        <p:cTn id="278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17 -0.43334 L -0.8125 0.47778 E">
                                      <p:cBhvr>
                                        <p:cTn id="28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762120" y="380880"/>
            <a:ext cx="57150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 урок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990720" y="1828800"/>
            <a:ext cx="5486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знакоми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 новой единице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измерения длины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дециметром,  учить измеря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длины отрезк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53" name="Picture 4" descr="an00790_"/>
          <p:cNvPicPr/>
          <p:nvPr/>
        </p:nvPicPr>
        <p:blipFill>
          <a:blip r:embed="rId14"/>
          <a:stretch/>
        </p:blipFill>
        <p:spPr>
          <a:xfrm>
            <a:off x="7372440" y="228600"/>
            <a:ext cx="160812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380880"/>
            <a:ext cx="8283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tt-RU" sz="9600" spc="-1" strike="noStrike">
                <a:solidFill>
                  <a:srgbClr val="000000"/>
                </a:solidFill>
                <a:latin typeface="Times New Roman"/>
              </a:rPr>
              <a:t>5  10  30  50  . .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tt-RU" sz="11000" spc="-1" strike="noStrike">
                <a:solidFill>
                  <a:srgbClr val="000000"/>
                </a:solidFill>
                <a:latin typeface="Times New Roman"/>
              </a:rPr>
              <a:t>10  30  50 .  .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95280" y="549000"/>
            <a:ext cx="856944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0" spc="-1" strike="noStrike">
                <a:solidFill>
                  <a:srgbClr val="000000"/>
                </a:solidFill>
                <a:latin typeface="Times New Roman"/>
              </a:rPr>
              <a:t>10 30 50 70 90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Логическая задач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гадайте, в какой клетке живёт каждый звер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сли в 12-й клетке живёт ле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лева от него – бегемот, а справа слон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172200" y="1828800"/>
            <a:ext cx="2362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095880" y="1828800"/>
            <a:ext cx="2362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6248520" y="1905120"/>
            <a:ext cx="2361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7"/>
          <p:cNvGrpSpPr/>
          <p:nvPr/>
        </p:nvGrpSpPr>
        <p:grpSpPr>
          <a:xfrm>
            <a:off x="762120" y="1676520"/>
            <a:ext cx="2209680" cy="1904760"/>
            <a:chOff x="762120" y="1676520"/>
            <a:chExt cx="2209680" cy="1904760"/>
          </a:xfrm>
        </p:grpSpPr>
        <p:sp>
          <p:nvSpPr>
            <p:cNvPr id="63" name="Rectangle 8"/>
            <p:cNvSpPr/>
            <p:nvPr/>
          </p:nvSpPr>
          <p:spPr>
            <a:xfrm>
              <a:off x="762120" y="1676520"/>
              <a:ext cx="220968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762120" y="30481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12952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>
              <a:off x="190512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>
              <a:off x="24382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13"/>
          <p:cNvGrpSpPr/>
          <p:nvPr/>
        </p:nvGrpSpPr>
        <p:grpSpPr>
          <a:xfrm>
            <a:off x="3505320" y="1676520"/>
            <a:ext cx="2209680" cy="1904760"/>
            <a:chOff x="3505320" y="1676520"/>
            <a:chExt cx="2209680" cy="1904760"/>
          </a:xfrm>
        </p:grpSpPr>
        <p:sp>
          <p:nvSpPr>
            <p:cNvPr id="69" name="Rectangle 14"/>
            <p:cNvSpPr/>
            <p:nvPr/>
          </p:nvSpPr>
          <p:spPr>
            <a:xfrm>
              <a:off x="3505320" y="1676520"/>
              <a:ext cx="220968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5"/>
            <p:cNvSpPr/>
            <p:nvPr/>
          </p:nvSpPr>
          <p:spPr>
            <a:xfrm>
              <a:off x="3505320" y="30481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6"/>
            <p:cNvSpPr/>
            <p:nvPr/>
          </p:nvSpPr>
          <p:spPr>
            <a:xfrm>
              <a:off x="40384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7"/>
            <p:cNvSpPr/>
            <p:nvPr/>
          </p:nvSpPr>
          <p:spPr>
            <a:xfrm>
              <a:off x="464832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8"/>
            <p:cNvSpPr/>
            <p:nvPr/>
          </p:nvSpPr>
          <p:spPr>
            <a:xfrm>
              <a:off x="51814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095880" y="1676520"/>
            <a:ext cx="2209680" cy="1904760"/>
            <a:chOff x="6095880" y="1676520"/>
            <a:chExt cx="2209680" cy="1904760"/>
          </a:xfrm>
        </p:grpSpPr>
        <p:sp>
          <p:nvSpPr>
            <p:cNvPr id="75" name="Rectangle 20"/>
            <p:cNvSpPr/>
            <p:nvPr/>
          </p:nvSpPr>
          <p:spPr>
            <a:xfrm>
              <a:off x="6095880" y="1676520"/>
              <a:ext cx="220968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>
              <a:off x="6095880" y="30481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2"/>
            <p:cNvSpPr/>
            <p:nvPr/>
          </p:nvSpPr>
          <p:spPr>
            <a:xfrm>
              <a:off x="662904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3"/>
            <p:cNvSpPr/>
            <p:nvPr/>
          </p:nvSpPr>
          <p:spPr>
            <a:xfrm>
              <a:off x="72388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24"/>
            <p:cNvSpPr/>
            <p:nvPr/>
          </p:nvSpPr>
          <p:spPr>
            <a:xfrm>
              <a:off x="777204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" name="Object 25"/>
          <p:cNvGraphicFramePr/>
          <p:nvPr/>
        </p:nvGraphicFramePr>
        <p:xfrm>
          <a:off x="7772400" y="3886200"/>
          <a:ext cx="11318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886200"/>
                    <a:ext cx="11318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26" descr="images"/>
          <p:cNvPicPr/>
          <p:nvPr/>
        </p:nvPicPr>
        <p:blipFill>
          <a:blip r:embed="rId3"/>
          <a:stretch/>
        </p:blipFill>
        <p:spPr>
          <a:xfrm>
            <a:off x="755640" y="1700280"/>
            <a:ext cx="2232000" cy="1297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0" descr="лев"/>
          <p:cNvPicPr/>
          <p:nvPr/>
        </p:nvPicPr>
        <p:blipFill>
          <a:blip r:embed="rId4"/>
          <a:stretch/>
        </p:blipFill>
        <p:spPr>
          <a:xfrm>
            <a:off x="3492360" y="162864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4" descr="слон"/>
          <p:cNvPicPr/>
          <p:nvPr/>
        </p:nvPicPr>
        <p:blipFill>
          <a:blip r:embed="rId5"/>
          <a:stretch/>
        </p:blipFill>
        <p:spPr>
          <a:xfrm>
            <a:off x="6372360" y="1700280"/>
            <a:ext cx="158436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Логическая задач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колько десятков и единиц в каждом из этих чисе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172200" y="1828800"/>
            <a:ext cx="2362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095880" y="1828800"/>
            <a:ext cx="2362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6248520" y="1905120"/>
            <a:ext cx="2361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762120" y="1676520"/>
            <a:ext cx="2209680" cy="1904760"/>
            <a:chOff x="762120" y="1676520"/>
            <a:chExt cx="2209680" cy="1904760"/>
          </a:xfrm>
        </p:grpSpPr>
        <p:sp>
          <p:nvSpPr>
            <p:cNvPr id="91" name="Rectangle 8"/>
            <p:cNvSpPr/>
            <p:nvPr/>
          </p:nvSpPr>
          <p:spPr>
            <a:xfrm>
              <a:off x="762120" y="1676520"/>
              <a:ext cx="220968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9"/>
            <p:cNvSpPr/>
            <p:nvPr/>
          </p:nvSpPr>
          <p:spPr>
            <a:xfrm>
              <a:off x="762120" y="30481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>
              <a:off x="12952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>
              <a:off x="190512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2"/>
            <p:cNvSpPr/>
            <p:nvPr/>
          </p:nvSpPr>
          <p:spPr>
            <a:xfrm>
              <a:off x="24382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13"/>
          <p:cNvGrpSpPr/>
          <p:nvPr/>
        </p:nvGrpSpPr>
        <p:grpSpPr>
          <a:xfrm>
            <a:off x="3505320" y="1676520"/>
            <a:ext cx="2209680" cy="1904760"/>
            <a:chOff x="3505320" y="1676520"/>
            <a:chExt cx="2209680" cy="1904760"/>
          </a:xfrm>
        </p:grpSpPr>
        <p:sp>
          <p:nvSpPr>
            <p:cNvPr id="97" name="Rectangle 14"/>
            <p:cNvSpPr/>
            <p:nvPr/>
          </p:nvSpPr>
          <p:spPr>
            <a:xfrm>
              <a:off x="3505320" y="1676520"/>
              <a:ext cx="220968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5"/>
            <p:cNvSpPr/>
            <p:nvPr/>
          </p:nvSpPr>
          <p:spPr>
            <a:xfrm>
              <a:off x="3505320" y="30481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>
              <a:off x="40384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7"/>
            <p:cNvSpPr/>
            <p:nvPr/>
          </p:nvSpPr>
          <p:spPr>
            <a:xfrm>
              <a:off x="464832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8"/>
            <p:cNvSpPr/>
            <p:nvPr/>
          </p:nvSpPr>
          <p:spPr>
            <a:xfrm>
              <a:off x="51814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19"/>
          <p:cNvGrpSpPr/>
          <p:nvPr/>
        </p:nvGrpSpPr>
        <p:grpSpPr>
          <a:xfrm>
            <a:off x="6095880" y="1676520"/>
            <a:ext cx="2209680" cy="1904760"/>
            <a:chOff x="6095880" y="1676520"/>
            <a:chExt cx="2209680" cy="1904760"/>
          </a:xfrm>
        </p:grpSpPr>
        <p:sp>
          <p:nvSpPr>
            <p:cNvPr id="103" name="Rectangle 20"/>
            <p:cNvSpPr/>
            <p:nvPr/>
          </p:nvSpPr>
          <p:spPr>
            <a:xfrm>
              <a:off x="6095880" y="1676520"/>
              <a:ext cx="220968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1"/>
            <p:cNvSpPr/>
            <p:nvPr/>
          </p:nvSpPr>
          <p:spPr>
            <a:xfrm>
              <a:off x="6095880" y="30481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22"/>
            <p:cNvSpPr/>
            <p:nvPr/>
          </p:nvSpPr>
          <p:spPr>
            <a:xfrm>
              <a:off x="662904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3"/>
            <p:cNvSpPr/>
            <p:nvPr/>
          </p:nvSpPr>
          <p:spPr>
            <a:xfrm>
              <a:off x="723888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4"/>
            <p:cNvSpPr/>
            <p:nvPr/>
          </p:nvSpPr>
          <p:spPr>
            <a:xfrm>
              <a:off x="7772040" y="1676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25"/>
          <p:cNvSpPr/>
          <p:nvPr/>
        </p:nvSpPr>
        <p:spPr>
          <a:xfrm>
            <a:off x="1373040" y="365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4267080" y="3657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70102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28"/>
          <p:cNvGraphicFramePr/>
          <p:nvPr/>
        </p:nvGraphicFramePr>
        <p:xfrm>
          <a:off x="7853400" y="3733920"/>
          <a:ext cx="129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3400" y="3733920"/>
                    <a:ext cx="129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29" descr="слон"/>
          <p:cNvPicPr/>
          <p:nvPr/>
        </p:nvPicPr>
        <p:blipFill>
          <a:blip r:embed="rId3"/>
          <a:stretch/>
        </p:blipFill>
        <p:spPr>
          <a:xfrm>
            <a:off x="6372360" y="1700280"/>
            <a:ext cx="1512720" cy="136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3" descr="лев"/>
          <p:cNvPicPr/>
          <p:nvPr/>
        </p:nvPicPr>
        <p:blipFill>
          <a:blip r:embed="rId4"/>
          <a:stretch/>
        </p:blipFill>
        <p:spPr>
          <a:xfrm>
            <a:off x="3780000" y="1700280"/>
            <a:ext cx="1644480" cy="1368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7" descr="images"/>
          <p:cNvPicPr/>
          <p:nvPr/>
        </p:nvPicPr>
        <p:blipFill>
          <a:blip r:embed="rId5"/>
          <a:stretch/>
        </p:blipFill>
        <p:spPr>
          <a:xfrm>
            <a:off x="1042920" y="1700280"/>
            <a:ext cx="151308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Решите задачу и подберите к нему схему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лина первого отрезка 6 см, а второго на 4 см больше. Чему равна длина второго отрезк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3610080" cy="43578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solidFill>
            <a:srgbClr val="0f06ba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5181480" y="3429000"/>
            <a:ext cx="3733920" cy="380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0:12:28Z</dcterms:created>
  <dc:creator>Колечёнок Н.В.</dc:creator>
  <dc:description/>
  <dc:language>en-US</dc:language>
  <cp:lastModifiedBy>Administrator</cp:lastModifiedBy>
  <dcterms:modified xsi:type="dcterms:W3CDTF">2015-04-09T22:08:12Z</dcterms:modified>
  <cp:revision>20</cp:revision>
  <dc:subject/>
  <dc:title>Запись чисел второго десятка</dc:title>
</cp:coreProperties>
</file>