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D0D-5159-452D-AD16-2FECC82CFA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8E5-4004-4E17-B58D-E6327D3C0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C7BF-F82C-4426-84BF-4822B7DE3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CAC7-DDB0-4428-B3BE-E12AB87851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202-E95F-40C4-BC63-58B182A763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862E-172F-491A-8506-9C0F71ECEB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85C-B23C-4A35-9657-9935F21025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9DF-30C9-4BBD-AA61-7A713E95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5C6-2979-4493-82A5-1421FC4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CE5-2724-4715-8817-08AA4A1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27D-F63E-49E7-9AD2-33A58B5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EDD-86C7-4EE3-A15F-C6E75BD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FA1-D752-4BA0-906A-D89797B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657-3189-4A2A-9F4B-09EF0F2A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EC0-D49C-441E-B4FE-DA502B49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A63-F926-4297-AE7D-634D725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0A2-D89A-43D3-82F3-65D01C4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04B-B93F-44DA-8661-CA0BBE3E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589-712F-456B-A422-155C740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3E6-E695-40FF-8770-E5A5EF0F3B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514600" y="2057400"/>
            <a:ext cx="4324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рок математик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 клас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льиной Елены  Владимировн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чителя начальных класс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БОУ  “Гимназия №125” г. Казань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447920" y="45720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"ДЕЦИМЕТР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0" y="5181480"/>
            <a:ext cx="16081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289075"/>
          <p:cNvPicPr/>
          <p:nvPr/>
        </p:nvPicPr>
        <p:blipFill>
          <a:blip r:embed="rId1"/>
          <a:stretch/>
        </p:blipFill>
        <p:spPr>
          <a:xfrm>
            <a:off x="2057400" y="685800"/>
            <a:ext cx="5791320" cy="548640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362320" y="3048120"/>
            <a:ext cx="259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876920" y="2971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120320" y="304920"/>
            <a:ext cx="67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Арка 7"/>
          <p:cNvSpPr/>
          <p:nvPr/>
        </p:nvSpPr>
        <p:spPr>
          <a:xfrm>
            <a:off x="2286000" y="2666880"/>
            <a:ext cx="2743200" cy="609840"/>
          </a:xfrm>
          <a:custGeom>
            <a:avLst/>
            <a:gdLst>
              <a:gd name="textAreaLeft" fmla="*/ 1080 w 2743200"/>
              <a:gd name="textAreaRight" fmla="*/ 2743560 w 2743200"/>
              <a:gd name="textAreaTop" fmla="*/ 0 h 609840"/>
              <a:gd name="textAreaBottom" fmla="*/ 304920 h 609840"/>
            </a:gdLst>
            <a:ahLst/>
            <a:rect l="textAreaLeft" t="textAreaTop" r="textAreaRight" b="textAreaBottom"/>
            <a:pathLst>
              <a:path w="2743200" h="609600">
                <a:moveTo>
                  <a:pt x="1106" y="292561"/>
                </a:moveTo>
                <a:lnTo>
                  <a:pt x="1106" y="292561"/>
                </a:lnTo>
                <a:arcTo wR="1371600" hR="304800" stAng="-10769301" swAng="10769308"/>
                <a:lnTo>
                  <a:pt x="2590800" y="304800"/>
                </a:lnTo>
                <a:lnTo>
                  <a:pt x="2590800" y="304800"/>
                </a:lnTo>
                <a:arcTo wR="1219200" hR="152400" stAng="0" swAng="-10769307"/>
                <a:close/>
              </a:path>
            </a:pathLst>
          </a:custGeom>
          <a:solidFill>
            <a:srgbClr val="ff00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819520"/>
            <a:ext cx="3504960" cy="20574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Что такое децимет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029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единиц- это 1 десяток, а 10 см –это 1 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0 см= 1д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791320" y="1752480"/>
          <a:ext cx="1965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752480"/>
                    <a:ext cx="1965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 flipV="1">
            <a:off x="17928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 flipH="1" flipV="1">
            <a:off x="17892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684360" y="404640"/>
            <a:ext cx="7559640" cy="59058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7928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067280" y="18900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79280" y="2491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889308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H="1">
            <a:off x="3995640" y="666900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H="1" flipV="1">
            <a:off x="4788000" y="404640"/>
            <a:ext cx="1008000" cy="144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971640" y="1484280"/>
            <a:ext cx="50472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771640" y="6021360"/>
            <a:ext cx="6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6" descr="ATOM"/>
          <p:cNvPicPr/>
          <p:nvPr/>
        </p:nvPicPr>
        <p:blipFill>
          <a:blip r:embed="rId1"/>
          <a:stretch/>
        </p:blipFill>
        <p:spPr>
          <a:xfrm>
            <a:off x="6326280" y="1752480"/>
            <a:ext cx="2817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16 -0.36667 C -0.12465 -0.36667 0.0625 -0.19283 0.0625 0.02222 C 0.0625 0.23634 -0.12465 0.41111 -0.35416 0.41111 C -0.58402 0.41111 -0.77083 0.23634 -0.77083 0.02222 C -0.77083 -0.19283 -0.58402 -0.36667 -0.35416 -0.36667 Z">
                                      <p:cBhvr>
                                        <p:cTn id="258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583 -0.20116 C -0.79583 -0.31088 -0.70555 -0.4 -0.59514 -0.4 L -0.13055 -0.4 C -0.01944 -0.4 0.07084 -0.31088 0.07084 -0.20116 L 0.07084 0.25208 C 0.07084 0.3625 -0.01944 0.45555 -0.13055 0.45555 L -0.59514 0.45555 C -0.70555 0.45555 -0.79583 0.3625 -0.79583 0.25208 Z">
                                      <p:cBhvr>
                                        <p:cTn id="262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25 -0.42223 L 0.12084 0.48889 E">
                                      <p:cBhvr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4 0.48889 L -0.8125 -0.42223 E">
                                      <p:cBhvr>
                                        <p:cTn id="27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249 -0.42223 L -0.82916 0.48889 E">
                                      <p:cBhvr>
                                        <p:cTn id="27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916 0.48889 L 0.12917 -0.43334 E">
                                      <p:cBhvr>
                                        <p:cTn id="27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43334 L -0.8125 0.47778 E">
                                      <p:cBhvr>
                                        <p:cTn id="28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762120" y="380880"/>
            <a:ext cx="57150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уро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990720" y="1828800"/>
            <a:ext cx="5486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знаком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 новой единиц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измерения длины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дециметром,  учить измер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длины отрезк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3" name="Picture 4" descr="an00790_"/>
          <p:cNvPicPr/>
          <p:nvPr/>
        </p:nvPicPr>
        <p:blipFill>
          <a:blip r:embed="rId14"/>
          <a:stretch/>
        </p:blipFill>
        <p:spPr>
          <a:xfrm>
            <a:off x="7372440" y="228600"/>
            <a:ext cx="16081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380880"/>
            <a:ext cx="828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t-RU" sz="9600" spc="-1" strike="noStrike">
                <a:solidFill>
                  <a:srgbClr val="000000"/>
                </a:solidFill>
                <a:latin typeface="Times New Roman"/>
              </a:rPr>
              <a:t>5  10  30  50  . 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t-RU" sz="11000" spc="-1" strike="noStrike">
                <a:solidFill>
                  <a:srgbClr val="000000"/>
                </a:solidFill>
                <a:latin typeface="Times New Roman"/>
              </a:rPr>
              <a:t>10  30  50 .  .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549000"/>
            <a:ext cx="85694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0" spc="-1" strike="noStrike">
                <a:solidFill>
                  <a:srgbClr val="000000"/>
                </a:solidFill>
                <a:latin typeface="Times New Roman"/>
              </a:rPr>
              <a:t>10 30 50 70 90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Логическая задач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гадайте, в какой клетке живёт каждый звер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сли в 12-й клетке живёт ле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ева от него – бегемот, а справа сл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17220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588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248520" y="1905120"/>
            <a:ext cx="2361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762120" y="1676520"/>
            <a:ext cx="2209680" cy="1904760"/>
            <a:chOff x="762120" y="1676520"/>
            <a:chExt cx="2209680" cy="1904760"/>
          </a:xfrm>
        </p:grpSpPr>
        <p:sp>
          <p:nvSpPr>
            <p:cNvPr id="63" name="Rectangle 8"/>
            <p:cNvSpPr/>
            <p:nvPr/>
          </p:nvSpPr>
          <p:spPr>
            <a:xfrm>
              <a:off x="7621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7621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1295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19051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2438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3505320" y="1676520"/>
            <a:ext cx="2209680" cy="1904760"/>
            <a:chOff x="3505320" y="1676520"/>
            <a:chExt cx="2209680" cy="1904760"/>
          </a:xfrm>
        </p:grpSpPr>
        <p:sp>
          <p:nvSpPr>
            <p:cNvPr id="69" name="Rectangle 14"/>
            <p:cNvSpPr/>
            <p:nvPr/>
          </p:nvSpPr>
          <p:spPr>
            <a:xfrm>
              <a:off x="35053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35053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4038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>
              <a:off x="46483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>
              <a:off x="5181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095880" y="1676520"/>
            <a:ext cx="2209680" cy="1904760"/>
            <a:chOff x="6095880" y="1676520"/>
            <a:chExt cx="2209680" cy="1904760"/>
          </a:xfrm>
        </p:grpSpPr>
        <p:sp>
          <p:nvSpPr>
            <p:cNvPr id="75" name="Rectangle 20"/>
            <p:cNvSpPr/>
            <p:nvPr/>
          </p:nvSpPr>
          <p:spPr>
            <a:xfrm>
              <a:off x="609588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>
              <a:off x="609588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2"/>
            <p:cNvSpPr/>
            <p:nvPr/>
          </p:nvSpPr>
          <p:spPr>
            <a:xfrm>
              <a:off x="6629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72388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>
              <a:off x="7772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25"/>
          <p:cNvGraphicFramePr/>
          <p:nvPr/>
        </p:nvGraphicFramePr>
        <p:xfrm>
          <a:off x="7772400" y="3886200"/>
          <a:ext cx="1131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86200"/>
                    <a:ext cx="1131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6" descr="images"/>
          <p:cNvPicPr/>
          <p:nvPr/>
        </p:nvPicPr>
        <p:blipFill>
          <a:blip r:embed="rId3"/>
          <a:stretch/>
        </p:blipFill>
        <p:spPr>
          <a:xfrm>
            <a:off x="755640" y="1700280"/>
            <a:ext cx="223200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лев"/>
          <p:cNvPicPr/>
          <p:nvPr/>
        </p:nvPicPr>
        <p:blipFill>
          <a:blip r:embed="rId4"/>
          <a:stretch/>
        </p:blipFill>
        <p:spPr>
          <a:xfrm>
            <a:off x="3492360" y="162864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слон"/>
          <p:cNvPicPr/>
          <p:nvPr/>
        </p:nvPicPr>
        <p:blipFill>
          <a:blip r:embed="rId5"/>
          <a:stretch/>
        </p:blipFill>
        <p:spPr>
          <a:xfrm>
            <a:off x="6372360" y="170028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Логическая задач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колько десятков и единиц в каждом из этих чис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7220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09588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248520" y="1905120"/>
            <a:ext cx="2361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762120" y="1676520"/>
            <a:ext cx="2209680" cy="1904760"/>
            <a:chOff x="762120" y="1676520"/>
            <a:chExt cx="2209680" cy="1904760"/>
          </a:xfrm>
        </p:grpSpPr>
        <p:sp>
          <p:nvSpPr>
            <p:cNvPr id="91" name="Rectangle 8"/>
            <p:cNvSpPr/>
            <p:nvPr/>
          </p:nvSpPr>
          <p:spPr>
            <a:xfrm>
              <a:off x="7621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7621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1295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19051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438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3505320" y="1676520"/>
            <a:ext cx="2209680" cy="1904760"/>
            <a:chOff x="3505320" y="1676520"/>
            <a:chExt cx="2209680" cy="1904760"/>
          </a:xfrm>
        </p:grpSpPr>
        <p:sp>
          <p:nvSpPr>
            <p:cNvPr id="97" name="Rectangle 14"/>
            <p:cNvSpPr/>
            <p:nvPr/>
          </p:nvSpPr>
          <p:spPr>
            <a:xfrm>
              <a:off x="35053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35053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4038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>
              <a:off x="46483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>
              <a:off x="5181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6095880" y="1676520"/>
            <a:ext cx="2209680" cy="1904760"/>
            <a:chOff x="6095880" y="1676520"/>
            <a:chExt cx="2209680" cy="1904760"/>
          </a:xfrm>
        </p:grpSpPr>
        <p:sp>
          <p:nvSpPr>
            <p:cNvPr id="103" name="Rectangle 20"/>
            <p:cNvSpPr/>
            <p:nvPr/>
          </p:nvSpPr>
          <p:spPr>
            <a:xfrm>
              <a:off x="609588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1"/>
            <p:cNvSpPr/>
            <p:nvPr/>
          </p:nvSpPr>
          <p:spPr>
            <a:xfrm>
              <a:off x="609588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2"/>
            <p:cNvSpPr/>
            <p:nvPr/>
          </p:nvSpPr>
          <p:spPr>
            <a:xfrm>
              <a:off x="6629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"/>
            <p:cNvSpPr/>
            <p:nvPr/>
          </p:nvSpPr>
          <p:spPr>
            <a:xfrm>
              <a:off x="72388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4"/>
            <p:cNvSpPr/>
            <p:nvPr/>
          </p:nvSpPr>
          <p:spPr>
            <a:xfrm>
              <a:off x="7772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5"/>
          <p:cNvSpPr/>
          <p:nvPr/>
        </p:nvSpPr>
        <p:spPr>
          <a:xfrm>
            <a:off x="137304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2670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70102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8"/>
          <p:cNvGraphicFramePr/>
          <p:nvPr/>
        </p:nvGraphicFramePr>
        <p:xfrm>
          <a:off x="7853400" y="3733920"/>
          <a:ext cx="129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3400" y="3733920"/>
                    <a:ext cx="129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9" descr="слон"/>
          <p:cNvPicPr/>
          <p:nvPr/>
        </p:nvPicPr>
        <p:blipFill>
          <a:blip r:embed="rId3"/>
          <a:stretch/>
        </p:blipFill>
        <p:spPr>
          <a:xfrm>
            <a:off x="6372360" y="170028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лев"/>
          <p:cNvPicPr/>
          <p:nvPr/>
        </p:nvPicPr>
        <p:blipFill>
          <a:blip r:embed="rId4"/>
          <a:stretch/>
        </p:blipFill>
        <p:spPr>
          <a:xfrm>
            <a:off x="3780000" y="1700280"/>
            <a:ext cx="164448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images"/>
          <p:cNvPicPr/>
          <p:nvPr/>
        </p:nvPicPr>
        <p:blipFill>
          <a:blip r:embed="rId5"/>
          <a:stretch/>
        </p:blipFill>
        <p:spPr>
          <a:xfrm>
            <a:off x="1042920" y="1700280"/>
            <a:ext cx="15130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 и подберите к нему схему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лина первого отрезка 6 см, а второго на 4 см больше. Чему равна длина второго отрез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3610080" cy="4357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solidFill>
            <a:srgbClr val="0f06b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181480" y="3429000"/>
            <a:ext cx="373392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12:28Z</dcterms:created>
  <dc:creator>Колечёнок Н.В.</dc:creator>
  <dc:description/>
  <dc:language>en-US</dc:language>
  <cp:lastModifiedBy>Administrator</cp:lastModifiedBy>
  <dcterms:modified xsi:type="dcterms:W3CDTF">2015-04-09T22:08:12Z</dcterms:modified>
  <cp:revision>20</cp:revision>
  <dc:subject/>
  <dc:title>Запись чисел второго десятка</dc:title>
</cp:coreProperties>
</file>