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E91-458F-449F-A9EB-C16C7475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29C-F65E-4817-AF77-3CF95035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5B5-1CDD-44B6-9318-94D8B4E2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5FB-B63F-4F91-94FC-2FBA8A67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9D43-1AC9-4E59-BFB3-6104CBE2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358-8868-481F-9555-5D16956C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88D0-D566-4D17-90E3-637349E0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B6A0-9E12-431A-BA47-E3F287D6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C394-3D98-4C34-A2DA-907F5526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3D6C-EB8C-4DA6-A691-CF2C2D78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BE9D-6E4F-4FA7-866D-36441D6E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9AC-FE2B-4229-A592-0EC5CAC1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7945-2FE4-492F-B928-CECB6A7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E71F-6033-44C2-8019-94850C49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6D68-86D4-44B8-9EE4-1396F392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DA0C-818A-4A7E-AC8C-C8A22868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3918-7173-4864-BD05-130733EB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43F-0585-4D37-8E6C-83D42823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D0C-B11E-426B-8A50-6FCD2D31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06F-D810-4225-8B89-AC89B500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FAD-F4E7-4183-B39E-0FD2D87C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329-4110-4CB5-A1E2-8E1DC95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63D-651E-46CD-A5B3-378DB5B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0DA-5BB5-47F5-856E-977DDBD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CB8B-29AF-42DA-A445-399EA91AA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6DA8-1434-4973-8789-6AAB34DD2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Другое - сша суд рисунки"/>
          <p:cNvPicPr/>
          <p:nvPr/>
        </p:nvPicPr>
        <p:blipFill>
          <a:blip r:embed="rId1"/>
          <a:stretch/>
        </p:blipFill>
        <p:spPr>
          <a:xfrm>
            <a:off x="-61920" y="380880"/>
            <a:ext cx="9126720" cy="63802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1378080" y="3828960"/>
            <a:ext cx="6424560" cy="28209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04920" y="380880"/>
            <a:ext cx="87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всех добродетелей и достоинств души величайшее достоинство - доброта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энсис Бэ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04920" y="61628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 по теме «Нравственные основы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Сочинение на тему хороший поступок"/>
          <p:cNvPicPr/>
          <p:nvPr/>
        </p:nvPicPr>
        <p:blipFill>
          <a:blip r:embed="rId1"/>
          <a:srcRect l="0" t="5514" r="3106" b="3120"/>
          <a:stretch/>
        </p:blipFill>
        <p:spPr>
          <a:xfrm>
            <a:off x="152280" y="457200"/>
            <a:ext cx="5361120" cy="36720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" descr=""/>
          <p:cNvPicPr/>
          <p:nvPr/>
        </p:nvPicPr>
        <p:blipFill>
          <a:blip r:embed="rId2"/>
          <a:stretch/>
        </p:blipFill>
        <p:spPr>
          <a:xfrm>
            <a:off x="4035600" y="-1468440"/>
            <a:ext cx="5535360" cy="67467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5715000" y="30481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должите фра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80880" y="464832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ота – это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07880" y="541008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одетель – это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Трудная задачка Смайлик за партой чешет затылок и смотрит..."/>
          <p:cNvPicPr/>
          <p:nvPr/>
        </p:nvPicPr>
        <p:blipFill>
          <a:blip r:embed="rId1"/>
          <a:stretch/>
        </p:blipFill>
        <p:spPr>
          <a:xfrm>
            <a:off x="228600" y="307800"/>
            <a:ext cx="24289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612720" y="1666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зывчивость, душевное расположение к людям, стремление делать добро друг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толковый словар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2"/>
          <a:stretch/>
        </p:blipFill>
        <p:spPr>
          <a:xfrm>
            <a:off x="3255840" y="225360"/>
            <a:ext cx="4681800" cy="182268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5" descr=""/>
          <p:cNvPicPr/>
          <p:nvPr/>
        </p:nvPicPr>
        <p:blipFill>
          <a:blip r:embed="rId3"/>
          <a:stretch/>
        </p:blipFill>
        <p:spPr>
          <a:xfrm>
            <a:off x="1444680" y="2840040"/>
            <a:ext cx="6315120" cy="18176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228600" y="4322880"/>
            <a:ext cx="75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деятельное добро, делание добра;  готовность и способность личности сознательно и твердо следовать добру; цельная совокупность внутренних качеств личности, воплощающих человеческий идеал в его моральном совершенств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философский 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Добродетель - Психологос"/>
          <p:cNvPicPr/>
          <p:nvPr/>
        </p:nvPicPr>
        <p:blipFill>
          <a:blip r:embed="rId1"/>
          <a:stretch/>
        </p:blipFill>
        <p:spPr>
          <a:xfrm>
            <a:off x="1081080" y="2344680"/>
            <a:ext cx="657216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-712800" y="-622440"/>
            <a:ext cx="3254400" cy="3951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183528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ими качествами обладает добродетельный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3"/>
          <a:stretch/>
        </p:blipFill>
        <p:spPr>
          <a:xfrm>
            <a:off x="768240" y="1006560"/>
            <a:ext cx="74678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2" descr=""/>
          <p:cNvPicPr/>
          <p:nvPr/>
        </p:nvPicPr>
        <p:blipFill>
          <a:blip r:embed="rId1"/>
          <a:stretch/>
        </p:blipFill>
        <p:spPr>
          <a:xfrm>
            <a:off x="-712800" y="-622440"/>
            <a:ext cx="3254400" cy="3951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83528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ие  добродетели человека добавили 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4191120" y="1676520"/>
            <a:ext cx="4516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удолю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ботоспособ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ружелю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еж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чув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брота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cdn.bolshoyvopros.ru/files/users/images/c2/db/c2db589fe2679a1d6b6fdbe60bf9540e.jpg"/>
          <p:cNvPicPr/>
          <p:nvPr/>
        </p:nvPicPr>
        <p:blipFill>
          <a:blip r:embed="rId2"/>
          <a:stretch/>
        </p:blipFill>
        <p:spPr>
          <a:xfrm>
            <a:off x="-1303200" y="920880"/>
            <a:ext cx="69055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Маленькие дети, картинки с малышами - 14 Сентября 2011 - Коты и кошки."/>
          <p:cNvPicPr/>
          <p:nvPr/>
        </p:nvPicPr>
        <p:blipFill>
          <a:blip r:embed="rId1"/>
          <a:stretch/>
        </p:blipFill>
        <p:spPr>
          <a:xfrm>
            <a:off x="-152280" y="6480"/>
            <a:ext cx="2743200" cy="31384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3390840" y="1165320"/>
            <a:ext cx="535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нужно делать, чтобы стать доброде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4" descr=""/>
          <p:cNvPicPr/>
          <p:nvPr/>
        </p:nvPicPr>
        <p:blipFill>
          <a:blip r:embed="rId2"/>
          <a:stretch/>
        </p:blipFill>
        <p:spPr>
          <a:xfrm>
            <a:off x="4516560" y="-517680"/>
            <a:ext cx="2286000" cy="2773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228600" y="3038400"/>
            <a:ext cx="38098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шите делать добр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ария Ног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!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ка вы живы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ради выгоды своей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не  ради наживы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!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о так мало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б его больше стало 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176720" y="2286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гда ты делаешь что- то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орошее другим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р становится проще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новится иным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авайте делать мир лучше 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едь -это прекрасно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станет все проще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станет все яс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!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кореняя зло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ка не поздно люди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шите делать добр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Спешите делать добро и оно обязательно к вам вернется Чебоксары и Чувашия От и До XXI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635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1219320" y="54212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бота по групп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ajestic"/>
              </a:rPr>
              <a:t>Вы можете использовать данный шаблон для создания своих презентаций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ajestic"/>
              </a:rPr>
              <a:t>но в своей презентации вы должны указать источник шаблона: </a:t>
            </a:r>
            <a:endParaRPr b="0" lang="en-US" sz="4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нина Светлана Александров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униципального образовательного учре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общеобразовательной школы №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Волго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pedsovet.su/</a:t>
            </a:r>
            <a:r>
              <a:rPr b="0" lang="ru-RU" sz="24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4-28T01:05:3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