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gif" ContentType="image/gif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6.png" ContentType="image/png"/>
  <Override PartName="/ppt/media/image11.png" ContentType="image/pn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ABB2-A4F7-4FA7-93C9-38E276D79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3E24-51F7-4F65-8975-BE6DE9E4D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D314-860B-4315-9B23-DFC18BFE7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0FC3-9D3F-4023-B981-CF795E10F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D691B-27BD-4C71-98EC-400BCF485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EC1A4-069A-44DD-8CFC-B897B5ECC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B3B8D-5F15-41EB-9EB4-68D9B4CA2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1F965-637A-405A-AEB0-DEBF4D970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0E128-7A42-4B65-A4C4-987DEFA94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9D38A-CB1F-4C2D-9087-77845ECF8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8A05E-3290-4811-9294-3E9B423D7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6328-EB60-4F61-829D-023C8A898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6DEB5-4A88-45DF-B523-0D8AB90D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BA10B-1A8F-4319-960B-30F1593D4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B9A08-EFEB-4A34-A12B-9E0E81509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49DF2-3A6D-4E1E-921C-B3BFC0F73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98F44-D0E8-40A3-BBDD-854E7025A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F0DA-16A6-4A59-A703-5D1FF53C6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CE61-E2EB-4D75-BC74-4ACC554A0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8942-6CF7-4BC6-BF10-E77946B30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2E9E-1784-4D04-8408-55ACFDDC1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8261-C7B0-45ED-B23C-CDC8CC28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A1B2-D571-4687-B184-BE0C9FDA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0B60-0B73-433B-9F16-4B6F00EAF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Majestic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F0D3E-5E9A-4C3A-8422-86473D74C8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Majestic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8FDDA-A17E-4286-8495-3B9F2DB03C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pedsovet.su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Другое - сша суд рисунки"/>
          <p:cNvPicPr/>
          <p:nvPr/>
        </p:nvPicPr>
        <p:blipFill>
          <a:blip r:embed="rId1"/>
          <a:stretch/>
        </p:blipFill>
        <p:spPr>
          <a:xfrm>
            <a:off x="-61920" y="380880"/>
            <a:ext cx="9126720" cy="6380280"/>
          </a:xfrm>
          <a:prstGeom prst="rect">
            <a:avLst/>
          </a:prstGeom>
          <a:ln w="0">
            <a:noFill/>
          </a:ln>
        </p:spPr>
      </p:pic>
      <p:pic>
        <p:nvPicPr>
          <p:cNvPr id="83" name="Прямоугольник 3" descr=""/>
          <p:cNvPicPr/>
          <p:nvPr/>
        </p:nvPicPr>
        <p:blipFill>
          <a:blip r:embed="rId2"/>
          <a:stretch/>
        </p:blipFill>
        <p:spPr>
          <a:xfrm>
            <a:off x="1378080" y="3828960"/>
            <a:ext cx="6424560" cy="282096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4"/>
          <p:cNvSpPr/>
          <p:nvPr/>
        </p:nvSpPr>
        <p:spPr>
          <a:xfrm>
            <a:off x="304920" y="380880"/>
            <a:ext cx="875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 всех добродетелей и достоинств души величайшее достоинство - доброта.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рэнсис Бэк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304920" y="616284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ктикум по теме «Нравственные основы жизн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Сочинение на тему хороший поступок"/>
          <p:cNvPicPr/>
          <p:nvPr/>
        </p:nvPicPr>
        <p:blipFill>
          <a:blip r:embed="rId1"/>
          <a:srcRect l="0" t="5514" r="3106" b="3120"/>
          <a:stretch/>
        </p:blipFill>
        <p:spPr>
          <a:xfrm>
            <a:off x="152280" y="457200"/>
            <a:ext cx="5361120" cy="3672000"/>
          </a:xfrm>
          <a:prstGeom prst="rect">
            <a:avLst/>
          </a:prstGeom>
          <a:ln w="0">
            <a:noFill/>
          </a:ln>
        </p:spPr>
      </p:pic>
      <p:pic>
        <p:nvPicPr>
          <p:cNvPr id="87" name="Прямоугольник 1" descr=""/>
          <p:cNvPicPr/>
          <p:nvPr/>
        </p:nvPicPr>
        <p:blipFill>
          <a:blip r:embed="rId2"/>
          <a:stretch/>
        </p:blipFill>
        <p:spPr>
          <a:xfrm>
            <a:off x="4035600" y="-1468440"/>
            <a:ext cx="5535360" cy="6746760"/>
          </a:xfrm>
          <a:prstGeom prst="rect">
            <a:avLst/>
          </a:prstGeom>
          <a:ln w="0">
            <a:noFill/>
          </a:ln>
        </p:spPr>
      </p:pic>
      <p:sp>
        <p:nvSpPr>
          <p:cNvPr id="88" name="TextBox 2"/>
          <p:cNvSpPr/>
          <p:nvPr/>
        </p:nvSpPr>
        <p:spPr>
          <a:xfrm>
            <a:off x="5715000" y="3048120"/>
            <a:ext cx="3429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одолжите фраз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380880" y="4648320"/>
            <a:ext cx="728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брота – это …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5"/>
          <p:cNvSpPr/>
          <p:nvPr/>
        </p:nvSpPr>
        <p:spPr>
          <a:xfrm>
            <a:off x="407880" y="5410080"/>
            <a:ext cx="728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бродетель – это …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9" descr="Трудная задачка Смайлик за партой чешет затылок и смотрит..."/>
          <p:cNvPicPr/>
          <p:nvPr/>
        </p:nvPicPr>
        <p:blipFill>
          <a:blip r:embed="rId1"/>
          <a:stretch/>
        </p:blipFill>
        <p:spPr>
          <a:xfrm>
            <a:off x="228600" y="307800"/>
            <a:ext cx="2428920" cy="137160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2"/>
          <p:cNvSpPr/>
          <p:nvPr/>
        </p:nvSpPr>
        <p:spPr>
          <a:xfrm>
            <a:off x="612720" y="166680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тзывчивость, душевное расположение к людям, стремление делать добро други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                       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толковый словар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Прямоугольник 4" descr=""/>
          <p:cNvPicPr/>
          <p:nvPr/>
        </p:nvPicPr>
        <p:blipFill>
          <a:blip r:embed="rId2"/>
          <a:stretch/>
        </p:blipFill>
        <p:spPr>
          <a:xfrm>
            <a:off x="3255840" y="225360"/>
            <a:ext cx="4681800" cy="1822680"/>
          </a:xfrm>
          <a:prstGeom prst="rect">
            <a:avLst/>
          </a:prstGeom>
          <a:ln w="0">
            <a:noFill/>
          </a:ln>
        </p:spPr>
      </p:pic>
      <p:pic>
        <p:nvPicPr>
          <p:cNvPr id="94" name="Прямоугольник 5" descr=""/>
          <p:cNvPicPr/>
          <p:nvPr/>
        </p:nvPicPr>
        <p:blipFill>
          <a:blip r:embed="rId3"/>
          <a:stretch/>
        </p:blipFill>
        <p:spPr>
          <a:xfrm>
            <a:off x="1444680" y="2840040"/>
            <a:ext cx="6315120" cy="181764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6"/>
          <p:cNvSpPr/>
          <p:nvPr/>
        </p:nvSpPr>
        <p:spPr>
          <a:xfrm>
            <a:off x="228600" y="4322880"/>
            <a:ext cx="7531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деятельное добро, делание добра;  готовность и способность личности сознательно и твердо следовать добру; цельная совокупность внутренних качеств личности, воплощающих человеческий идеал в его моральном совершенстве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                     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философский словар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Добродетель - Психологос"/>
          <p:cNvPicPr/>
          <p:nvPr/>
        </p:nvPicPr>
        <p:blipFill>
          <a:blip r:embed="rId1"/>
          <a:stretch/>
        </p:blipFill>
        <p:spPr>
          <a:xfrm>
            <a:off x="1081080" y="2344680"/>
            <a:ext cx="6572160" cy="4419720"/>
          </a:xfrm>
          <a:prstGeom prst="rect">
            <a:avLst/>
          </a:prstGeom>
          <a:ln w="0">
            <a:noFill/>
          </a:ln>
        </p:spPr>
      </p:pic>
      <p:pic>
        <p:nvPicPr>
          <p:cNvPr id="97" name="Прямоугольник 2" descr=""/>
          <p:cNvPicPr/>
          <p:nvPr/>
        </p:nvPicPr>
        <p:blipFill>
          <a:blip r:embed="rId2"/>
          <a:stretch/>
        </p:blipFill>
        <p:spPr>
          <a:xfrm>
            <a:off x="-712800" y="-622440"/>
            <a:ext cx="3254400" cy="3951360"/>
          </a:xfrm>
          <a:prstGeom prst="rect">
            <a:avLst/>
          </a:prstGeom>
          <a:ln w="0">
            <a:noFill/>
          </a:ln>
        </p:spPr>
      </p:pic>
      <p:sp>
        <p:nvSpPr>
          <p:cNvPr id="98" name="TextBox 1"/>
          <p:cNvSpPr/>
          <p:nvPr/>
        </p:nvSpPr>
        <p:spPr>
          <a:xfrm>
            <a:off x="1835280" y="457200"/>
            <a:ext cx="65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акими качествами обладает добродетельный челове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Прямоугольник 4" descr=""/>
          <p:cNvPicPr/>
          <p:nvPr/>
        </p:nvPicPr>
        <p:blipFill>
          <a:blip r:embed="rId3"/>
          <a:stretch/>
        </p:blipFill>
        <p:spPr>
          <a:xfrm>
            <a:off x="768240" y="1006560"/>
            <a:ext cx="7467840" cy="18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Прямоугольник 2" descr=""/>
          <p:cNvPicPr/>
          <p:nvPr/>
        </p:nvPicPr>
        <p:blipFill>
          <a:blip r:embed="rId1"/>
          <a:stretch/>
        </p:blipFill>
        <p:spPr>
          <a:xfrm>
            <a:off x="-712800" y="-622440"/>
            <a:ext cx="3254400" cy="3951360"/>
          </a:xfrm>
          <a:prstGeom prst="rect">
            <a:avLst/>
          </a:prstGeom>
          <a:ln w="0">
            <a:noFill/>
          </a:ln>
        </p:spPr>
      </p:pic>
      <p:sp>
        <p:nvSpPr>
          <p:cNvPr id="101" name="TextBox 1"/>
          <p:cNvSpPr/>
          <p:nvPr/>
        </p:nvSpPr>
        <p:spPr>
          <a:xfrm>
            <a:off x="1835280" y="457200"/>
            <a:ext cx="65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акие  добродетели человека добавили в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3"/>
          <p:cNvSpPr/>
          <p:nvPr/>
        </p:nvSpPr>
        <p:spPr>
          <a:xfrm>
            <a:off x="4191120" y="1676520"/>
            <a:ext cx="45162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Трудолюб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аботоспособ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тветствен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Дружелюб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ежлив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очувств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Доброта</a:t>
            </a:r>
            <a:br>
              <a:rPr sz="3200"/>
            </a:b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http://cdn.bolshoyvopros.ru/files/users/images/c2/db/c2db589fe2679a1d6b6fdbe60bf9540e.jpg"/>
          <p:cNvPicPr/>
          <p:nvPr/>
        </p:nvPicPr>
        <p:blipFill>
          <a:blip r:embed="rId2"/>
          <a:stretch/>
        </p:blipFill>
        <p:spPr>
          <a:xfrm>
            <a:off x="-1303200" y="920880"/>
            <a:ext cx="690552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Маленькие дети, картинки с малышами - 14 Сентября 2011 - Коты и кошки."/>
          <p:cNvPicPr/>
          <p:nvPr/>
        </p:nvPicPr>
        <p:blipFill>
          <a:blip r:embed="rId1"/>
          <a:stretch/>
        </p:blipFill>
        <p:spPr>
          <a:xfrm>
            <a:off x="-152280" y="6480"/>
            <a:ext cx="2743200" cy="313848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2"/>
          <p:cNvSpPr/>
          <p:nvPr/>
        </p:nvSpPr>
        <p:spPr>
          <a:xfrm>
            <a:off x="3390840" y="1165320"/>
            <a:ext cx="5351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Что нужно делать, чтобы стать добродетельны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Прямоугольник 4" descr=""/>
          <p:cNvPicPr/>
          <p:nvPr/>
        </p:nvPicPr>
        <p:blipFill>
          <a:blip r:embed="rId2"/>
          <a:stretch/>
        </p:blipFill>
        <p:spPr>
          <a:xfrm>
            <a:off x="4516560" y="-517680"/>
            <a:ext cx="2286000" cy="277344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3"/>
          <p:cNvSpPr/>
          <p:nvPr/>
        </p:nvSpPr>
        <p:spPr>
          <a:xfrm>
            <a:off x="228600" y="3038400"/>
            <a:ext cx="380988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ешите делать добр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Мария Ногае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пешите делать добро!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ока вы живы, 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е ради выгоды своей, 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И не  ради наживы. 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пешите делать добро! 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Его так мало, 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пешите делать добро, 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Чтоб его больше стало 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5"/>
          <p:cNvSpPr/>
          <p:nvPr/>
        </p:nvSpPr>
        <p:spPr>
          <a:xfrm>
            <a:off x="4176720" y="2286000"/>
            <a:ext cx="4572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огда ты делаешь что- то. 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Хорошее другим, 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Мир становится проще, 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тановится иным. 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Давайте делать мир лучше ,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едь -это прекрасно. 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Тогда станет все проще, 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Тогда станет все яс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пешите делать добро! 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Искореняя зло, 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ока не поздно люди, 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пешите делать добро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8" descr="Спешите делать добро и оно обязательно к вам вернется Чебоксары и Чувашия От и До XXI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635520"/>
          </a:xfrm>
          <a:prstGeom prst="rect">
            <a:avLst/>
          </a:prstGeom>
          <a:ln w="0">
            <a:noFill/>
          </a:ln>
        </p:spPr>
      </p:pic>
      <p:sp>
        <p:nvSpPr>
          <p:cNvPr id="110" name="TextBox 2"/>
          <p:cNvSpPr/>
          <p:nvPr/>
        </p:nvSpPr>
        <p:spPr>
          <a:xfrm>
            <a:off x="1219320" y="542124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работа по группа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10663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ajestic"/>
              </a:rPr>
              <a:t>Вы можете использовать данный шаблон для создания своих презентаций,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Majestic"/>
              </a:rPr>
              <a:t>но в своей презентации вы должны указать источник шаблона: </a:t>
            </a:r>
            <a:endParaRPr b="0" lang="en-US" sz="4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3352320"/>
            <a:ext cx="75438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инина Светлана Александров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истории и обществознания муниципального образовательного учрежд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ней общеобразовательной школы №4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. Волгогра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йт: </a:t>
            </a:r>
            <a:r>
              <a:rPr b="0" lang="ru-RU" sz="2400" spc="-1" strike="noStrike" u="sng">
                <a:solidFill>
                  <a:srgbClr val="cc3300"/>
                </a:solidFill>
                <a:uFillTx/>
                <a:latin typeface="Arial"/>
                <a:hlinkClick r:id="rId1"/>
              </a:rPr>
              <a:t>http://pedsovet.su/</a:t>
            </a:r>
            <a:r>
              <a:rPr b="0" lang="ru-RU" sz="2400" spc="-1" strike="noStrike">
                <a:solidFill>
                  <a:srgbClr val="fbdf5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15-04-28T01:05:38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