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93EF-1D4A-4F0E-BD7C-418F6F501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55EC-3C8C-4CB8-B6F7-8F99CD52E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513C-DA23-4831-BC1C-6340556E1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65F3-0AE5-4F54-8131-5D7752D11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6C1E-3FC1-420C-87A6-EC1B055F0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96B7-EECB-4F19-A590-6236E4A6A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6CC8-35E0-42BC-86E7-6D3D45FB1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BA69-5526-4FEC-8E1C-8A1FF58BA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1323-6C8B-4429-9BF3-C738C9FF3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BF0D-71AF-43B4-AB9E-95D0D247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0681-EF2B-4D6D-8A82-1EEC04BD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97A1-FB08-4A20-8E8A-8701DFEE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588FA-BCF2-4234-90E0-B6F24669D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Характеристика основных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экологических групп раст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4508280"/>
            <a:ext cx="822960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готовила учитель биолог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урова С.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стения водных  мест обитания-гидрофит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Особен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стьица на верхней стороне листь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вита система межклетнико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полненных воздух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от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067280" y="1413000"/>
            <a:ext cx="417492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4032000" cy="20876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3213000"/>
            <a:ext cx="3959280" cy="2448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500720" y="1197000"/>
            <a:ext cx="4032000" cy="424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261440" y="285264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ЛОД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62880" y="5805360"/>
            <a:ext cx="23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ИСТОЛИСТ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164200" y="550692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440" y="5734080"/>
            <a:ext cx="177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ПОРОТ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з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ведем, друзья, сейч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пражнение для гл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право, влево посмотрел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лазки все повесел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низу вверх и сверху вни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ы, хрусталик, не сердис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мотри на потоло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ыщи там угол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бы мышцы крепче стал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мотрим по диагона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ы не будем циркуль бр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удем взглядом круг пис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ЛАЧ РАСТЕНИЙ-ГУТТ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4174920" cy="45244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859280" y="1628640"/>
            <a:ext cx="403236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стения сухих мест обит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асание воды в  тканях корня,стебля или листь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стья превращены в колю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тьиц нем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донепрони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аемый восковой налет на листья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643280" y="1268280"/>
            <a:ext cx="4025880" cy="2160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508720" y="3357720"/>
            <a:ext cx="23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блюжья колю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634720" y="5681520"/>
            <a:ext cx="19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тус в пусты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643280" y="3789360"/>
            <a:ext cx="403236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испособления растений к жизни в засушливых мест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УККУЛ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ЛЕРОФИ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042920" y="2060640"/>
            <a:ext cx="2257560" cy="14288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116000" y="3933720"/>
            <a:ext cx="1895400" cy="14288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788000" y="2133720"/>
            <a:ext cx="3168720" cy="1439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4716360" y="3860640"/>
            <a:ext cx="3240360" cy="17892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706360" y="3521160"/>
            <a:ext cx="14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АМАРИ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67440" y="5753160"/>
            <a:ext cx="139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АКАСАУ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11080" y="3448080"/>
            <a:ext cx="15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ЛСТЯ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13640" y="5465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ЛО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машнее задание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ить кроссворд по теме: «Характеристика основных экологических групп растений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с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Растения по отношению к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свету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ваю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Теплолюбивые,холодоустойчив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светолюбивые,тенелюбивые,теневынослив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водных  и избыточных мест увлажнения, сухих мест, средние условия увлаж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Растения по отношению к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емператур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быва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Теплолюбтвые,холодоустойчив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светолюбивые,тенелюбивые,теневынослив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водных  и избыточных мест увлажнения, сухих мест, средние условия увлаж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Растения по отношению к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лаж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бываю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Теплолюбивые,холодоустойчив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светолюбивые,тенелюбивые,теневыносливые;в)водных  и избыточных мест увлажнения, сухих мест, средние условия увлажн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Экологические фактор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э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)отдельные элементы неживой природы; б) отдельные элементы живой природы; в) отдельные элементы окружающей сре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Биотические фактор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э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)факторы неживой природы; б) факторы живой природы; в) факторы .созданные челове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Антропогенный фак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э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)факторы неживой природы; б) факторы живой природы; в) факторы .созданные челове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Абиотический фак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э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)факторы неживой природы; б) факторы живой природы; в) факторы .созданные челове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ЦЕЛЕБНЫЕ ТРАВЫ В ИЮЛЕ Сайт посвященный туризму и путешествия…"/>
          <p:cNvPicPr/>
          <p:nvPr/>
        </p:nvPicPr>
        <p:blipFill>
          <a:blip r:embed="rId1"/>
          <a:stretch/>
        </p:blipFill>
        <p:spPr>
          <a:xfrm>
            <a:off x="468360" y="3860640"/>
            <a:ext cx="3743280" cy="1963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4248000" cy="3789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55640" y="549360"/>
            <a:ext cx="3240000" cy="2868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53640" y="3376440"/>
            <a:ext cx="236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УВШИНКИ В ВО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66000" y="6184800"/>
            <a:ext cx="26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ПОРОТНИК В ЛЕ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16560" y="6308640"/>
            <a:ext cx="202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4643280" y="4076640"/>
            <a:ext cx="4105440" cy="2602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490360" y="625644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с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каких условиях произрастают  эти растени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ая наука изучает условия жизни растений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какому принципу разделены эти раст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мы будем изучать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ветолюбивые раст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обенности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стья небольшие,плотные,с блестящей толстой кожицей и многочисленными устьиц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летках мякоти листа хлоропластов немного, они светло-зеле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рошо развита механическая ткань и корневая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4032360" cy="3600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986720" y="5248440"/>
            <a:ext cx="9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ере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елиофиты-светолюбивые раст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30400" y="3562200"/>
            <a:ext cx="18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06000" y="330516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ДУВАНЧ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92720" y="6165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466884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аборатор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Тем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Изучение приспособления одуванчика к наилучшему улавливанию све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спользование сосновой хвои в годы великой Отечественной вой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стой хво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является ценным источниками витамина С и его применяют для профилактики и лечения гипо и авитаминоза С. Настой хвои сосны во время войны применяли для профилактики и лечения цинг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Сосна хвоя"/>
          <p:cNvPicPr/>
          <p:nvPr/>
        </p:nvPicPr>
        <p:blipFill>
          <a:blip r:embed="rId1"/>
          <a:stretch/>
        </p:blipFill>
        <p:spPr>
          <a:xfrm>
            <a:off x="4643280" y="1628640"/>
            <a:ext cx="403236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нелюбивые раст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собен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стья круп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жица листа тонкая,ее клетки часто содержат хлороплас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лоропласты крупные с большим количеством  хлорофил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1640" y="1844280"/>
            <a:ext cx="4321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788000" y="3789360"/>
            <a:ext cx="4032000" cy="2305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093080" y="3645000"/>
            <a:ext cx="183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ЛЛЛЛ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659640" y="4149720"/>
            <a:ext cx="135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572000" y="1844640"/>
            <a:ext cx="4176720" cy="15732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058360" y="3376440"/>
            <a:ext cx="20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ст папорот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560560" y="575316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роний гл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4T08:49:51Z</dcterms:created>
  <dc:creator>XTreme.ws</dc:creator>
  <dc:description/>
  <dc:language>en-US</dc:language>
  <cp:lastModifiedBy>XTreme.ws</cp:lastModifiedBy>
  <dcterms:modified xsi:type="dcterms:W3CDTF">2015-04-28T18:59:44Z</dcterms:modified>
  <cp:revision>24</cp:revision>
  <dc:subject/>
  <dc:title>Характеристика основных групп растений</dc:title>
</cp:coreProperties>
</file>