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8CD-44F4-4C21-BA77-7A87E3CC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3B9-D1B1-4FB9-8C0C-2E7F2097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D5C-F931-45CD-8FE4-DD5AE53B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E5D-7785-442C-A25B-F3A477BF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0930-A0ED-4D25-B994-A13282A2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B8B5-392B-49B8-9584-1FDFC166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481D-38C0-47A3-A446-C4D92B79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49C5-E80E-48B6-B05D-AC143AA3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2C59-27DA-4B40-B333-0B07DAA8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8E2A-A4EF-4E7E-8362-42760BDD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5861-A9B8-41FC-8B44-FBCE5E51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D9C-06E0-4CF8-AEBA-26820D08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0C6D-2EA8-467B-93F7-B35651BB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66A0-DB23-4E6A-AC1A-D5657ACF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6468-9374-4BA1-8372-4A767D86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A349-62F2-48D9-9E4F-2FB2FAA5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D3D1-F807-4EC6-AABE-CA5B8006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96D7-A219-4C13-94B0-53567D4B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3596-CFF7-4552-905E-9BF18F6D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B2D4-6373-4987-B680-9B017762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A36B3-CD14-465C-9A6D-EDC09197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6F63-2AFA-498C-9054-B2AE8069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F0F-AE4B-484E-BA09-1035ACC2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E1D5-7A7A-4DD8-98F4-583AB928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25EF-A08B-4245-9270-C6360B3F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5109-2F76-4039-A3C6-63558CCA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98DE-B00A-4EF5-8843-7382F9A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6848-D3A4-44A3-9C49-EC915E14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6A60-B328-4BC1-9AC0-E56EEFC5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7C7F-31B6-4D85-BABE-EFA2302B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8F9-C2E4-4CA2-9F86-DB8F173E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D45-5CCE-4C2E-8BA7-D0D7B9B0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E79-2E0F-411F-AAEE-D974E69B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6CA-807F-4B95-80C1-C31CBEC8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D2E-5F68-4D57-B8C1-F451BCE9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177-0E66-492E-8580-82176993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A788-736D-4D1C-B06C-4D3845C3FCC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1620-1B46-4083-BEF0-82CDDE9B633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81A1-8C70-473F-AB7A-F15D33145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4266720"/>
            <a:ext cx="93726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rdia New"/>
              </a:rPr>
              <a:t>Когда ладошки наши касаются,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Cordia New"/>
              </a:rPr>
              <a:t>Душа с душою встречаются,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Cordia New"/>
              </a:rPr>
              <a:t> И сердце добром наполняется</a:t>
            </a:r>
            <a:r>
              <a:rPr b="1" i="1" lang="en-US" sz="4800" spc="-1" strike="noStrike">
                <a:solidFill>
                  <a:srgbClr val="000099"/>
                </a:solidFill>
                <a:latin typeface="Cordia New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280" y="301320"/>
            <a:ext cx="8305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Герои - Сергачане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Шапкин Николай Василь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омичев Константин Никандро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иколаев Александр Федоро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имин Сергей Григорь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ударагин Виктор Александро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арчиков Николай Алексе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Ермолаев Владимир Алексе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Жуков Андрей Василь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леханов Николай Алексе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усев Василий Серге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атраков Матвей Степано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Ивлиев Иван Дмитриеви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Память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память о героях поэты слагают стих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позиторы пишут песн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 возводят памятник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вящают храмы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х именем называют города, села, улицы, микрорайоны, учебные заведения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 них снимают фильмы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ходят поклониться на братские могилы, к местам боевых сражений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лагают цветы  во время праздников, когда создают семью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4038480" cy="2590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ускай любуются друзья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И хмурятся враги!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4038480" cy="50292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11480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Тяжело в учении, легко в бою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. Герой за Родину горой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. Жить - Родине служить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.Врага бояться – в живых не остатьс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.Человек без Родины, что соловей без песни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Слава миру на земл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Я, как участник ВОВ, обращаюсь к вам: старательно учитесь, будьте трудолюбивыми, честными, физически крепкими, душевно чуткими защитниками своей Роди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Берегите мир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И.Д. Лоба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Текст 2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4191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2438280"/>
            <a:ext cx="89917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Живые страницы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Великой Победы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Наказ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первокласснику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Люби свою Родину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очитай и помни своих Героев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Будь доблестным защитником своего Отечества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 пусть наступит твоя Победная весна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Реликвия –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вещь, свято хранимая как память о прошлом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 rot="529200">
            <a:off x="4114800" y="2438280"/>
            <a:ext cx="4770360" cy="37339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 rot="21223200">
            <a:off x="457200" y="1980720"/>
            <a:ext cx="3371760" cy="4648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Даты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819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2 июня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41 года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 мая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45 года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2743200" cy="40384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6172200" y="35812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Поиск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2010 году в МБОУ Сергачской СОШ №3 был создан патриотический клуб «Поиск»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удем хранить память о людях, погибших от ран и похороненных на нашей земле, ухаживать за территорией братской могилы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: память должна сохраняться, в том числе и руками детей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4495680" cy="3409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4:10:48Z</dcterms:created>
  <dc:creator>user</dc:creator>
  <dc:description/>
  <dc:language>en-US</dc:language>
  <cp:lastModifiedBy>user</cp:lastModifiedBy>
  <dcterms:modified xsi:type="dcterms:W3CDTF">2015-04-28T13:41:2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