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9E8E-9709-439C-96FA-1A6B53A1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BB2-7753-4211-81EC-5EA0543F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6A2-7766-4CF1-9A61-562CCD9D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874-B8B5-4E4D-831E-552B2A1B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6D16-CD4E-4D9D-B5E4-038C8211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70B4-E723-45AB-B757-83C682CB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D4D6-CACF-427C-833A-199DF27E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655A-11AF-4407-B21B-A6702016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C27-A5D3-46F4-8369-96A75056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A343-B31C-42D9-9007-5C46642B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2326-6A33-4784-8015-D17A799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373-DEFF-48F1-9388-F2A2A1B4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94DB-2943-4ED5-AB0E-69E5C6B8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0B94-055D-478D-B0EA-E16F3B37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A3A5-2127-4082-BAAA-ADCDEA9A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0CF8-782B-468D-BACB-D04CC415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1877-B1ED-48ED-AC69-9D31025D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1E64-243D-4352-8832-76013503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9F8A-AB07-4D07-8EF6-605EC62B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F646-15D6-417E-9C17-79224144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1B3C8-4F8D-4846-B494-2A17389A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DF09-33A0-4B15-B733-4ED52F72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BBE-1C11-4562-9913-E679B1B9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D47FE-97BE-444D-8041-7905880D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3B54-0F65-45D8-B5C7-A813629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6AE9-9786-4146-864A-73DC0E0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D081-25B1-4538-A755-9969BA3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644C-8AF6-46EB-870D-613F15E7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87CF3-3D0D-45E2-8ED3-FC349CCA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3AC9-0D11-4EB8-8FB3-7B74BEF2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3B9-35F3-46A3-AB56-4E7AA6A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41E-9DB8-4AEE-8551-EBA615E4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321-23A8-4F5F-A787-68AA58A5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382-CFAA-4901-8C05-000388C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1D2-E36E-4682-B68C-DF3FF7E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865-A190-4D7E-B71D-DAB8D3E3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6EA0-1464-4389-BEFE-393825B30EF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0370-4650-4717-B811-C4B1DEEC717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2D57-C6C4-4DDE-A741-B3F384CF7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4266720"/>
            <a:ext cx="93726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rdia New"/>
              </a:rPr>
              <a:t>Когда ладошки наши касаются,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rdia New"/>
              </a:rPr>
              <a:t>Душа с душою встречаются,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rdia New"/>
              </a:rPr>
              <a:t> И сердце добром наполняется</a:t>
            </a:r>
            <a:r>
              <a:rPr b="1" i="1" lang="en-US" sz="4800" spc="-1" strike="noStrike">
                <a:solidFill>
                  <a:srgbClr val="000099"/>
                </a:solidFill>
                <a:latin typeface="Cordia New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280" y="301320"/>
            <a:ext cx="8305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Герои - Сергачане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Шапкин Николай Василь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омичев Константин Никандро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иколаев Александр Федоро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имин Сергей Григорь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ударагин Виктор Александро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арчиков Николай Алексе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Ермолаев Владимир Алексе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Жуков Андрей Василь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леханов Николай Алексе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усев Василий Серге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атраков Матвей Степано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Ивлиев Иван Дмитри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Память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память о героях поэты слагают стих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позиторы пишут песн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 возводят памятник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вящают храмы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х именем называют города, села, улицы, микрорайоны, учебные заведения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 них снимают фильмы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ходят поклониться на братские могилы, к местам боевых сражений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лагают цветы  во время праздников, когда создают семью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4038480" cy="2590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ускай любуются друзья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И хмурятся враги!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038480" cy="50292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11480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Тяжело в учении, легко в бою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. Герой за Родину горо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. Жить - Родине служит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.Врага бояться – в живых не остатьс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.Человек без Родины, что соловей без песн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Слава миру на земл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Я, как участник ВОВ, обращаюсь к вам: старательно учитесь, будьте трудолюбивыми, честными, физически крепкими, душевно чуткими защитниками своей Роди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Берегите мир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И.Д. Лоба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Текст 2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4191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2438280"/>
            <a:ext cx="89917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Живые страницы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Великой Победы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Наказ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первокласснику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Люби свою Родину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читай и помни своих Героев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Будь доблестным защитником своего Отечества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 пусть наступит твоя Победная весна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Реликвия –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вещь, свято хранимая как память о прошлом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 rot="529200">
            <a:off x="4114800" y="2438280"/>
            <a:ext cx="4770360" cy="3733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 rot="21223200">
            <a:off x="457200" y="1980720"/>
            <a:ext cx="3371760" cy="4648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аты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819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2 июня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41 года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 мая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45 года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743200" cy="40384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6172200" y="35812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Поиск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2010 году в МБОУ Сергачской СОШ №3 был создан патриотический клуб «Поиск»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удем хранить память о людях, погибших от ран и похороненных на нашей земле, ухаживать за территорией братской могилы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: память должна сохраняться, в том числе и руками детей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4495680" cy="3409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4:10:48Z</dcterms:created>
  <dc:creator>user</dc:creator>
  <dc:description/>
  <dc:language>en-US</dc:language>
  <cp:lastModifiedBy>user</cp:lastModifiedBy>
  <dcterms:modified xsi:type="dcterms:W3CDTF">2015-04-28T13:41:2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