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6.jpeg" ContentType="image/jpeg"/>
  <Override PartName="/ppt/media/image6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7CE-98A1-4605-B09E-5ED291B0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6E3-6890-4A41-B58E-862BC3AC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E47-573C-4912-8D2A-BDC84F82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214-9754-404D-904F-0136B964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6FA1-EA3E-4E36-8325-16BE7111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47A3-31BD-4C28-8F29-7727A5C8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E64-BDA4-4FF8-AFF0-BE0D92C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6F17-3EEC-4572-B9E7-E481FC6D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8C46-FA7F-49E0-8119-A6863F75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060D-6B40-4D46-90DA-9EEEAC91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8BF-74CC-4655-B41C-A14A2A53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84B-2B01-44D4-A30C-08453483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5C3-74C0-4FA9-9431-254861C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49FF-26AB-4053-B75A-A363A06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40DD-73F7-4F79-B4D2-EABBBCF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1423-FB5B-4F22-B8BE-3480E957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5769-22F5-4449-BE6B-BB691BCF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BFF-BBD7-49F6-841E-97F2AC7B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B7D-E0F6-4F1D-A666-7E9AF0FD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4C3-B483-4720-9647-D273C7AE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A83-8A77-4F06-9CF1-14AF0B1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D26-103B-450E-982F-8425C11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8B0-B010-4559-A7C9-045A700C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7D6-E9F2-4237-948E-C2DF0BD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856A-B3E3-4D2A-850F-AE8FFE861FC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5A88-31A3-447D-B2F4-CD58F059398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0.jpeg"/><Relationship Id="rId12" Type="http://schemas.openxmlformats.org/officeDocument/2006/relationships/image" Target="../media/image39.jpeg"/><Relationship Id="rId13" Type="http://schemas.openxmlformats.org/officeDocument/2006/relationships/image" Target="../media/image41.jpe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image" Target="../media/image41.jpeg"/><Relationship Id="rId17" Type="http://schemas.openxmlformats.org/officeDocument/2006/relationships/image" Target="../media/image41.jpeg"/><Relationship Id="rId18" Type="http://schemas.openxmlformats.org/officeDocument/2006/relationships/image" Target="../media/image41.jpeg"/><Relationship Id="rId19" Type="http://schemas.openxmlformats.org/officeDocument/2006/relationships/image" Target="../media/image41.jpeg"/><Relationship Id="rId20" Type="http://schemas.openxmlformats.org/officeDocument/2006/relationships/image" Target="../media/image44.png"/><Relationship Id="rId21" Type="http://schemas.openxmlformats.org/officeDocument/2006/relationships/image" Target="../media/image41.jpeg"/><Relationship Id="rId22" Type="http://schemas.openxmlformats.org/officeDocument/2006/relationships/image" Target="../media/image41.jpeg"/><Relationship Id="rId23" Type="http://schemas.openxmlformats.org/officeDocument/2006/relationships/image" Target="../media/image41.jpeg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94b3c2"/>
          </a:solidFill>
          <a:ln w="9360">
            <a:solidFill>
              <a:srgbClr val="f7d4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df137"/>
                </a:solidFill>
                <a:latin typeface="Arial"/>
              </a:rPr>
              <a:t>Мастер- класс</a:t>
            </a:r>
            <a:br>
              <a:rPr sz="3600"/>
            </a:br>
            <a:r>
              <a:rPr b="1" i="1" lang="en-US" sz="2000" spc="-1" strike="noStrike">
                <a:solidFill>
                  <a:srgbClr val="4df137"/>
                </a:solidFill>
                <a:latin typeface="Arial"/>
              </a:rPr>
              <a:t>Барониной Т.В, учителя музыки  МКОУ </a:t>
            </a:r>
            <a:br>
              <a:rPr sz="2000"/>
            </a:br>
            <a:r>
              <a:rPr b="1" i="1" lang="en-US" sz="2000" spc="-1" strike="noStrike">
                <a:solidFill>
                  <a:srgbClr val="4df137"/>
                </a:solidFill>
                <a:latin typeface="Arial"/>
              </a:rPr>
              <a:t>Подовинновская СОШ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9514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Круги Луллия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нект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352680" y="2179800"/>
            <a:ext cx="1067040" cy="66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676520" y="4032360"/>
            <a:ext cx="2133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ето- (минор)- бубен, погремуш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160" y="1294920"/>
            <a:ext cx="361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анта Лючи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Лунным сиянием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Море блистает.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опутный ветер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арус вздымает.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Лодка моя легка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есла большие…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анта Лючия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анта Лючия!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еаполь чудный мой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, край прелестный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Где улыбается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ам свод небесный.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 душу восторги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Льет неземные…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анта Лючия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Санта Лючия!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00400" y="990720"/>
            <a:ext cx="444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429000" y="106668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343400" y="4572000"/>
            <a:ext cx="2435400" cy="182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5334120" y="1143000"/>
            <a:ext cx="2257200" cy="1609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3352680" y="2819520"/>
            <a:ext cx="2514600" cy="1796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5791320" y="2819520"/>
            <a:ext cx="19047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ень (минор)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перепёлоч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9520" y="1523880"/>
            <a:ext cx="384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Наша перепёлка старенькая ста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Ты ж моя , ты ж моя, перепёлочк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Как у перепёлки заболели нож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Ты ж моя , ты ж моя, перепёлочк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28600" y="2209680"/>
            <a:ext cx="1714680" cy="1419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981080" y="2201760"/>
            <a:ext cx="1676520" cy="1408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04920" y="3733920"/>
            <a:ext cx="1981080" cy="1326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2438280" y="3581280"/>
            <a:ext cx="1513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25444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то –мажор-ложк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879720" y="1981080"/>
            <a:ext cx="3740400" cy="4114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886200" y="1600200"/>
            <a:ext cx="1981080" cy="1814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867280" y="1600200"/>
            <a:ext cx="1752840" cy="1676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3886200" y="35053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5867280" y="3425760"/>
            <a:ext cx="1752840" cy="1682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4114800" y="5257800"/>
            <a:ext cx="3200400" cy="1600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280" y="2371320"/>
            <a:ext cx="36576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1.Я спешил к вам, друзья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 жутким нетерпеньем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Я моторчик не зр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азывал вареньем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У меня за спино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Вертится пропеллер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Я хочу, чтоб со мно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Все ребята пел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Я хочу, чтоб со мно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Все ребята пел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Припев:  Смешной человечек на крыше живет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 ириски жуёт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 скучать не привык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- большой озорник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озорник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5943600" y="175248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595600" cy="3500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1752840" cy="1574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876920" y="1403280"/>
            <a:ext cx="13716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3504960" cy="533160"/>
          </a:xfrm>
          <a:prstGeom prst="rect">
            <a:avLst/>
          </a:prstGeom>
          <a:solidFill>
            <a:srgbClr val="6159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им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371240"/>
            <a:ext cx="205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Как на тоненький ледок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Выпал беленький снежок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Выпал беленький снежок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Ехал Ванечка-дружок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Ехал Ваня, поспешал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Со добра коня упал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Он упал, упал, лежит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Никто к Ване не бежит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Две подружки увидали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Прямо к Ване подбежали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038120" y="1218960"/>
            <a:ext cx="3581640" cy="5638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038480" y="1219320"/>
            <a:ext cx="1219320" cy="101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158840" cy="9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5257800" y="2286000"/>
            <a:ext cx="1082520" cy="925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5181480" y="1219320"/>
            <a:ext cx="1219320" cy="923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6400800" y="12193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5181480" y="1219320"/>
            <a:ext cx="1219320" cy="923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0"/>
          <a:stretch/>
        </p:blipFill>
        <p:spPr>
          <a:xfrm>
            <a:off x="6400800" y="2286000"/>
            <a:ext cx="113976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1"/>
          <a:stretch/>
        </p:blipFill>
        <p:spPr>
          <a:xfrm>
            <a:off x="3962520" y="2286000"/>
            <a:ext cx="1218960" cy="923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2"/>
          <a:stretch/>
        </p:blipFill>
        <p:spPr>
          <a:xfrm>
            <a:off x="4114800" y="3200400"/>
            <a:ext cx="1082520" cy="925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3"/>
          <a:stretch/>
        </p:blipFill>
        <p:spPr>
          <a:xfrm>
            <a:off x="6477120" y="3200400"/>
            <a:ext cx="113976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4114800" y="42670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5"/>
          <a:stretch/>
        </p:blipFill>
        <p:spPr>
          <a:xfrm>
            <a:off x="5334120" y="4267080"/>
            <a:ext cx="1011240" cy="1067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6"/>
          <a:stretch/>
        </p:blipFill>
        <p:spPr>
          <a:xfrm>
            <a:off x="6477120" y="3200400"/>
            <a:ext cx="1139760" cy="99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7"/>
          <a:stretch/>
        </p:blipFill>
        <p:spPr>
          <a:xfrm>
            <a:off x="6477120" y="3200400"/>
            <a:ext cx="113976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8"/>
          <a:stretch/>
        </p:blipFill>
        <p:spPr>
          <a:xfrm>
            <a:off x="6400800" y="2286000"/>
            <a:ext cx="113976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9"/>
          <a:stretch/>
        </p:blipFill>
        <p:spPr>
          <a:xfrm>
            <a:off x="6477120" y="434340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0"/>
          <a:stretch/>
        </p:blipFill>
        <p:spPr>
          <a:xfrm>
            <a:off x="4114800" y="53341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1"/>
          <a:stretch/>
        </p:blipFill>
        <p:spPr>
          <a:xfrm>
            <a:off x="6477120" y="426708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2"/>
          <a:stretch/>
        </p:blipFill>
        <p:spPr>
          <a:xfrm>
            <a:off x="6477120" y="426708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3"/>
          <a:stretch/>
        </p:blipFill>
        <p:spPr>
          <a:xfrm>
            <a:off x="64008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429000" y="1828800"/>
            <a:ext cx="43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1295280"/>
            <a:ext cx="3581640" cy="1159920"/>
          </a:xfrm>
          <a:prstGeom prst="rect">
            <a:avLst/>
          </a:prstGeom>
          <a:solidFill>
            <a:srgbClr val="f0b854"/>
          </a:solidFill>
          <a:ln w="93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Есть заповеди три — простые очень: «Люби! Благодари! Добро твори!» И тот, кто их всегда стремится исполнять, — живёт, растёт в Любви Творца! Ведь все проблемы бытия способно преодолеть  упорство, трудолюбие твоё!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И если педагог  живёт — даря, благодаря и отдавая, — неопытное  прошлое своё  сотрёт , а новое  с детьми  построит, процветая!»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76360" cy="2838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25146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Цели мастер- класс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оделиться опытом развития творческих способностей у детей на уроках музыки через современные приемы ТРИЗ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тча «Сосед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37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4572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«Корзина фактов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8760"/>
            <a:ext cx="3001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2451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6858000" cy="763560"/>
          </a:xfrm>
          <a:prstGeom prst="rect">
            <a:avLst/>
          </a:prstGeom>
          <a:solidFill>
            <a:srgbClr val="79af7d"/>
          </a:solidFill>
          <a:ln w="9360">
            <a:solidFill>
              <a:srgbClr val="79af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.С.Ба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4343040"/>
            <a:ext cx="6400800" cy="167652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ога́нн Себастья́н Бах - 28 июля 1750 [н. ст.], Лейпциг, Саксония, Священная Римская империя) — великий немецкий композитор, представитель эпохи барокко, органист-виртуоз, музыкальный педагог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78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716280" y="2057400"/>
            <a:ext cx="21718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И.С.Бах ,,Токката и фуга ре минор,,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267012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343400" y="4389480"/>
            <a:ext cx="25909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647676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ММЧ»  , «Создай паспорт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4724280" cy="2438280"/>
          </a:xfrm>
          <a:prstGeom prst="rect">
            <a:avLst/>
          </a:prstGeom>
          <a:solidFill>
            <a:srgbClr val="d5b781"/>
          </a:solidFill>
          <a:ln w="9360">
            <a:solidFill>
              <a:srgbClr val="79af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я…………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ель……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писка…………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служит…………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ые приметы………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3429000" y="1828800"/>
            <a:ext cx="43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3581280"/>
            <a:ext cx="3047760" cy="1919160"/>
          </a:xfrm>
          <a:prstGeom prst="rect">
            <a:avLst/>
          </a:prstGeom>
          <a:solidFill>
            <a:srgbClr val="f0b854"/>
          </a:solidFill>
          <a:ln w="936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я: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уга ре минор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тель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.С. Бах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писка: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де служит :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рганный за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обые приметы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леустремлённая, подвижна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«Волшебная палочка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ыхательная гимнастика Стрельниково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f137"/>
                </a:solidFill>
                <a:latin typeface="Arial"/>
              </a:rPr>
              <a:t>Ладош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f137"/>
                </a:solidFill>
                <a:latin typeface="Arial"/>
              </a:rPr>
              <a:t>Паровози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f137"/>
                </a:solidFill>
                <a:latin typeface="Arial"/>
              </a:rPr>
              <a:t>Погончи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27T20:45:5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