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6.jpeg" ContentType="image/jpeg"/>
  <Override PartName="/ppt/media/image6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4D8-9749-4778-81DA-1E4256BC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DE6-35F2-4DCA-8AA4-7722C7E9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F1D-B1C7-4888-B9C2-F45B99D2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D94-39E0-458C-8DE3-F9888FC1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AF62-1F2E-4F3C-80EF-F5DBDD3D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BB0-086F-4DCA-9D69-0E83110F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7563-3FD1-46EC-852E-D903567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53BD-7923-4FE6-A9B5-495CCD3A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7AF9-88C2-4439-BC76-A13742F0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83D8-926D-4EA4-BAC5-B2EB53FE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14A9-6633-4C83-8CAA-8DBB0442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334-0472-40B0-AC53-8E386A8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3121-A6C0-478F-B6EC-489197C8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A1DB-B8DE-4433-82BE-55D43AE1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4C5C-34C6-4C7D-8405-1AD3089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F9F-0B60-4255-A5BB-A0099E6A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2AF7-B747-491C-BCB0-59C6E249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9B9-E379-484B-A4B1-9DA54E23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07A-84BA-4127-8A18-C5B5E38E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07D-79F6-4D99-BCD2-6892C6C5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E4B-A94C-4E87-B5B4-187BAB4A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502-DEB8-484C-B23E-FA421849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28D-D642-4F0C-9EA9-8C976E6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92E-8D07-464B-9327-350B9F26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2723-577A-46A9-85FE-ABA15FF7861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3212-BA47-4556-B908-C2B5FDF7451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40.jpeg"/><Relationship Id="rId12" Type="http://schemas.openxmlformats.org/officeDocument/2006/relationships/image" Target="../media/image39.jpeg"/><Relationship Id="rId13" Type="http://schemas.openxmlformats.org/officeDocument/2006/relationships/image" Target="../media/image41.jpe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image" Target="../media/image41.jpeg"/><Relationship Id="rId17" Type="http://schemas.openxmlformats.org/officeDocument/2006/relationships/image" Target="../media/image41.jpeg"/><Relationship Id="rId18" Type="http://schemas.openxmlformats.org/officeDocument/2006/relationships/image" Target="../media/image41.jpeg"/><Relationship Id="rId19" Type="http://schemas.openxmlformats.org/officeDocument/2006/relationships/image" Target="../media/image41.jpeg"/><Relationship Id="rId20" Type="http://schemas.openxmlformats.org/officeDocument/2006/relationships/image" Target="../media/image44.png"/><Relationship Id="rId21" Type="http://schemas.openxmlformats.org/officeDocument/2006/relationships/image" Target="../media/image41.jpeg"/><Relationship Id="rId22" Type="http://schemas.openxmlformats.org/officeDocument/2006/relationships/image" Target="../media/image41.jpeg"/><Relationship Id="rId23" Type="http://schemas.openxmlformats.org/officeDocument/2006/relationships/image" Target="../media/image41.jpeg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94b3c2"/>
          </a:solidFill>
          <a:ln w="9360">
            <a:solidFill>
              <a:srgbClr val="f7d4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df137"/>
                </a:solidFill>
                <a:latin typeface="Arial"/>
              </a:rPr>
              <a:t>Мастер- класс</a:t>
            </a:r>
            <a:br>
              <a:rPr sz="3600"/>
            </a:br>
            <a:r>
              <a:rPr b="1" i="1" lang="en-US" sz="2000" spc="-1" strike="noStrike">
                <a:solidFill>
                  <a:srgbClr val="4df137"/>
                </a:solidFill>
                <a:latin typeface="Arial"/>
              </a:rPr>
              <a:t>Барониной Т.В, учителя музыки  МКОУ </a:t>
            </a:r>
            <a:br>
              <a:rPr sz="2000"/>
            </a:br>
            <a:r>
              <a:rPr b="1" i="1" lang="en-US" sz="2000" spc="-1" strike="noStrike">
                <a:solidFill>
                  <a:srgbClr val="4df137"/>
                </a:solidFill>
                <a:latin typeface="Arial"/>
              </a:rPr>
              <a:t>Подовинновская СОШ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9514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Круги Луллия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инект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352680" y="2179800"/>
            <a:ext cx="1067040" cy="66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676520" y="4032360"/>
            <a:ext cx="2133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Лето- (минор)- бубен, погремуш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160" y="1294920"/>
            <a:ext cx="361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анта Лючи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1Лунным сиянием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Море блистает.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опутный ветер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Парус вздымает.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Лодка моя легка,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есла большие…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анта Лючия,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анта Лючия!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еаполь чудный мой,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О, край прелестный,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Где улыбается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Нам свод небесный.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 душу восторги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Льет неземные…</a:t>
            </a: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анта Лючия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Санта Лючия!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00400" y="990720"/>
            <a:ext cx="444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429000" y="106668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343400" y="4572000"/>
            <a:ext cx="2435400" cy="182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5334120" y="1143000"/>
            <a:ext cx="2257200" cy="1609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3352680" y="2819520"/>
            <a:ext cx="2514600" cy="1796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5791320" y="2819520"/>
            <a:ext cx="19047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сень (минор)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перепёлоч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09520" y="1523880"/>
            <a:ext cx="384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Наша перепёлка старенькая ста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Ты ж моя , ты ж моя, перепёлочка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Как у перепёлки заболели ножк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Ты ж моя , ты ж моя, перепёлочка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28600" y="2209680"/>
            <a:ext cx="1714680" cy="14194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981080" y="2201760"/>
            <a:ext cx="1676520" cy="1408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04920" y="3733920"/>
            <a:ext cx="1981080" cy="1326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2438280" y="3581280"/>
            <a:ext cx="1513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25444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ето –мажор-ложк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879720" y="1981080"/>
            <a:ext cx="3740400" cy="4114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886200" y="1600200"/>
            <a:ext cx="1981080" cy="1814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867280" y="1600200"/>
            <a:ext cx="1752840" cy="1676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3886200" y="350532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5867280" y="3425760"/>
            <a:ext cx="1752840" cy="1682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4114800" y="5257800"/>
            <a:ext cx="3200400" cy="1600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2280" y="2371320"/>
            <a:ext cx="36576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«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ешной человечек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1.Я спешил к вам, друзья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 жутким нетерпеньем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Я моторчик не зр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азывал вареньем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У меня за спино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Вертится пропеллер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Я хочу, чтоб со мно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Все ребята пел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Я хочу, чтоб со мно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Все ребята пел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Припев:  Смешной человечек на крыше живет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ешной человечек ириски жуёт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ешной человечек скучать не привык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Смешной человечек- большой озорник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f1311"/>
                </a:solidFill>
                <a:latin typeface="Arial"/>
              </a:rPr>
              <a:t>озорник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5943600" y="175248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2595600" cy="3500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1752840" cy="1574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876920" y="1403280"/>
            <a:ext cx="137160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3504960" cy="533160"/>
          </a:xfrm>
          <a:prstGeom prst="rect">
            <a:avLst/>
          </a:prstGeom>
          <a:solidFill>
            <a:srgbClr val="6159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им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371240"/>
            <a:ext cx="205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Как на тоненький ледок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Выпал беленький снежок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Выпал беленький снежок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Ехал Ванечка-дружок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Ехал Ваня, поспешал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Со добра коня упал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Он упал, упал, лежит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Никто к Ване не бежит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Две подружки увидали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Прямо к Ване подбежали.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 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Эх, зимушка-зима, 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Зима снежная была.</a:t>
            </a:r>
            <a:br>
              <a:rPr sz="1000"/>
            </a:b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038120" y="1218960"/>
            <a:ext cx="3581640" cy="5638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038480" y="1219320"/>
            <a:ext cx="1219320" cy="1015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1158840" cy="99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5257800" y="2286000"/>
            <a:ext cx="1082520" cy="925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5181480" y="1219320"/>
            <a:ext cx="1219320" cy="923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6400800" y="1219320"/>
            <a:ext cx="1066680" cy="946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9"/>
          <a:stretch/>
        </p:blipFill>
        <p:spPr>
          <a:xfrm>
            <a:off x="5181480" y="1219320"/>
            <a:ext cx="1219320" cy="923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0"/>
          <a:stretch/>
        </p:blipFill>
        <p:spPr>
          <a:xfrm>
            <a:off x="6400800" y="2286000"/>
            <a:ext cx="113976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1"/>
          <a:stretch/>
        </p:blipFill>
        <p:spPr>
          <a:xfrm>
            <a:off x="3962520" y="2286000"/>
            <a:ext cx="1218960" cy="923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2"/>
          <a:stretch/>
        </p:blipFill>
        <p:spPr>
          <a:xfrm>
            <a:off x="4114800" y="3200400"/>
            <a:ext cx="1082520" cy="925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3"/>
          <a:stretch/>
        </p:blipFill>
        <p:spPr>
          <a:xfrm>
            <a:off x="6477120" y="3200400"/>
            <a:ext cx="113976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4114800" y="42670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5"/>
          <a:stretch/>
        </p:blipFill>
        <p:spPr>
          <a:xfrm>
            <a:off x="5334120" y="4267080"/>
            <a:ext cx="1011240" cy="1067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6"/>
          <a:stretch/>
        </p:blipFill>
        <p:spPr>
          <a:xfrm>
            <a:off x="6477120" y="3200400"/>
            <a:ext cx="1139760" cy="99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7"/>
          <a:stretch/>
        </p:blipFill>
        <p:spPr>
          <a:xfrm>
            <a:off x="6477120" y="3200400"/>
            <a:ext cx="113976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8"/>
          <a:stretch/>
        </p:blipFill>
        <p:spPr>
          <a:xfrm>
            <a:off x="6400800" y="2286000"/>
            <a:ext cx="1139760" cy="838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9"/>
          <a:stretch/>
        </p:blipFill>
        <p:spPr>
          <a:xfrm>
            <a:off x="6477120" y="434340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0"/>
          <a:stretch/>
        </p:blipFill>
        <p:spPr>
          <a:xfrm>
            <a:off x="4114800" y="53341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1"/>
          <a:stretch/>
        </p:blipFill>
        <p:spPr>
          <a:xfrm>
            <a:off x="6477120" y="426708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2"/>
          <a:stretch/>
        </p:blipFill>
        <p:spPr>
          <a:xfrm>
            <a:off x="6477120" y="426708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3"/>
          <a:stretch/>
        </p:blipFill>
        <p:spPr>
          <a:xfrm>
            <a:off x="6400800" y="5334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"/>
          <p:cNvSpPr/>
          <p:nvPr/>
        </p:nvSpPr>
        <p:spPr>
          <a:xfrm>
            <a:off x="3429000" y="1828800"/>
            <a:ext cx="43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1295280"/>
            <a:ext cx="3581640" cy="1159920"/>
          </a:xfrm>
          <a:prstGeom prst="rect">
            <a:avLst/>
          </a:prstGeom>
          <a:solidFill>
            <a:srgbClr val="f0b854"/>
          </a:solidFill>
          <a:ln w="93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Есть заповеди три — простые очень: «Люби! Благодари! Добро твори!» И тот, кто их всегда стремится исполнять, — живёт, растёт в Любви Творца! Ведь все проблемы бытия способно преодолеть  упорство, трудолюбие твоё!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И если педагог  живёт — даря, благодаря и отдавая, — неопытное  прошлое своё  сотрёт , а новое  с детьми  построит, процветая!»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276360" cy="2838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25146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Цели мастер- класс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оделиться опытом развития творческих способностей у детей на уроках музыки через современные приемы ТРИЗ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тча «Сосед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3337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4572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«Корзина фактов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8760"/>
            <a:ext cx="3001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2451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6858000" cy="763560"/>
          </a:xfrm>
          <a:prstGeom prst="rect">
            <a:avLst/>
          </a:prstGeom>
          <a:solidFill>
            <a:srgbClr val="79af7d"/>
          </a:solidFill>
          <a:ln w="9360">
            <a:solidFill>
              <a:srgbClr val="79af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.С.Ба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4343040"/>
            <a:ext cx="6400800" cy="1676520"/>
          </a:xfrm>
          <a:prstGeom prst="rect">
            <a:avLst/>
          </a:prstGeom>
          <a:solidFill>
            <a:srgbClr val="79af7d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ога́нн Себастья́н Бах - 28 июля 1750 [н. ст.], Лейпциг, Саксония, Священная Римская империя) — великий немецкий композитор, представитель эпохи барокко, органист-виртуоз, музыкальный педагог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78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716280" y="2057400"/>
            <a:ext cx="21718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И.С.Бах ,,Токката и фуга ре минор,,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819160" cy="1878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267012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343400" y="4389480"/>
            <a:ext cx="25909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647676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ММЧ»  , «Создай паспорт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4724280" cy="2438280"/>
          </a:xfrm>
          <a:prstGeom prst="rect">
            <a:avLst/>
          </a:prstGeom>
          <a:solidFill>
            <a:srgbClr val="d5b781"/>
          </a:solidFill>
          <a:ln w="9360">
            <a:solidFill>
              <a:srgbClr val="79af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я…………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ель……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писка…………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служит…………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ые приметы………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3429000" y="1828800"/>
            <a:ext cx="435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3581280"/>
            <a:ext cx="3047760" cy="1919160"/>
          </a:xfrm>
          <a:prstGeom prst="rect">
            <a:avLst/>
          </a:prstGeom>
          <a:solidFill>
            <a:srgbClr val="f0b854"/>
          </a:solidFill>
          <a:ln w="936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я: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уга ре минор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здатель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.С. Бах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писка: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де служит :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рганный за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обые приметы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леустремлённая, подвижна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«Волшебная палочка»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ыхательная гимнастика Стрельниково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f137"/>
                </a:solidFill>
                <a:latin typeface="Arial"/>
              </a:rPr>
              <a:t>Ладош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f137"/>
                </a:solidFill>
                <a:latin typeface="Arial"/>
              </a:rPr>
              <a:t>Паровози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f137"/>
                </a:solidFill>
                <a:latin typeface="Arial"/>
              </a:rPr>
              <a:t>Погончи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27T20:45:5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