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5FE-DBC2-44D3-9364-6ABC63B1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403-C304-4493-A180-A21F9636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CC25D-BFEE-4490-B193-AF99F649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8FED9-B3FF-4470-B40D-72F440E4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E197E-6A43-419D-9533-6D9D74B1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3AC59-7C7B-495A-A7E8-EA91C198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3614B-45CC-4104-8CC9-7F65231C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60C41-D8FB-4872-B003-8F0FA0D8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06536-2CF2-49B7-82EA-55BD1F62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73CB7-1BB7-4DCE-983E-39DE26CE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E8A27-9D7E-4AB9-8A74-E9DD96AF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57C7-67EB-4610-A79C-16786611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D2D-0624-4953-88AB-CAFD6AB3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E842-3136-4797-9F28-D2FA79D7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33DF-2781-40C6-B7A2-45FC4E24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9C87-5540-411C-B3EE-CBE345E2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7028-27F8-47DD-9BD0-763511E3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B314-3455-4107-9073-AA6DD6CF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43B7-4C48-4FF4-A20C-22A2BA78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46A3-EEB0-4F68-AB10-073E7762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B32B-A902-490D-B08A-D11CEAA5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52FC-CCE1-4580-BC86-61C38772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F97D-5A5D-446E-B297-4CFAA6C7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D971-09BC-4591-861D-B1440DA1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D2E1-00CA-4150-9048-BDA19689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8ADD-6D9E-4E71-88E8-FEC9FCBF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071AA-6FA3-4C1E-BD38-1D7F9675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A892F-DD84-4461-B713-BBAC91EF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9D764-9ADF-4947-9528-4623CC7C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3E8D8-9734-4FBD-8D46-588E5142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BC9E2-9F08-413D-8596-24808FD4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912-1D5C-407C-89E9-2BACFCB3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02E20-80B2-419E-BE1B-2DC2E33A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FFD03-4645-4C5F-8BAA-10EE6F7D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164EB-8CD2-4D9D-B167-656EED71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720A2-AC40-434F-A859-4C49A2A3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E3A40-6E86-4375-87C0-47A801B9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D94C1-CDBA-4569-A71D-754CBF55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5CB26-81CD-4CFD-9187-35235976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8873B-E0B0-4D36-A394-B57A0123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81AD1-D925-4BDC-85F6-81E4E3CA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791E2-5FBA-489C-8A82-644AC58E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6F1-1ABF-4B60-9FA0-7F26734F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AA029-166F-4EBB-9D8B-A0C239C6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8EA07-A078-4B26-98FA-D03CD100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C1D1F-80D2-46A4-91C6-8148B87A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216D2-6BFA-41D5-B597-30B2B811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7353E-053F-483F-9077-BB96350D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CC2BB-B1AD-4544-BCE6-93528EE6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29522-8545-4FD4-86E1-2C9C07C9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28021-D780-4E3C-A48D-28BFB5F6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46CB9-8568-44F2-A529-2D531546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EEC91-297C-45B9-B75E-1BE2D8D7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7BE-99D1-40D4-92DD-D07D8153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59F6C-C68B-4D76-9553-B8109CAC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23A7F-DEB2-4004-BDB8-FD07498D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F7499-D7A5-4314-A86D-4D1E9B28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3B74D-2EBE-48B9-97D7-46F7B617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BFB48-ABD0-45F3-B7D3-9C7FEDC2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B2881-E567-4152-8A3B-7C491984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9A27C-B432-4869-A6E7-6814D5BA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30FD1-54DB-4755-B0F7-70AE4BC4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A61BB-CFB4-4E68-B6A0-115D26CE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426D8-506D-4A28-96FF-4F0DA5A5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922A-8208-458A-B86C-291CD8D6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8C4D5-2B32-495F-B2C4-B2D4D764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479A5-3170-4E5E-838A-F1275CA8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6E82E-4596-4500-AFD3-A33EBA12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CA606-0EE7-42E3-A25E-6A2AD881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7774A-ED34-47FF-9869-59D6061D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E6643-53CF-4B32-84EF-339AFE97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7F694-A9BC-4A0D-B2B5-0AF4F0CC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65329-3BFD-4D64-99E1-E0B73F72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60969-7E2C-4970-A105-7E5A1F36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819F4-DEB8-433C-8BCB-A1B79FB4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59A-EE15-4F79-A27F-45833F5F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7F6E3-DB47-4955-8FF4-BF4FA3F3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FFE67-F326-40C6-B250-4D73FBCB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C7BDA-1469-4B6B-82C9-6914F113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A6528-A0CB-41C9-A582-71EBB902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618CB-AE98-484A-A0AF-68CB2C20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8EEE0-4898-41F7-94C8-61CF0E69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337E2-A6CD-4A77-ADC1-3D9E9212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810E6-AFF4-449B-BF6E-6766D355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12B95-59D3-4B8B-ABD7-45C0B0E9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A8763-AF11-4241-BAE4-FC34C520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BDDB-2317-4D51-8C49-6282A27D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B6DC0-BC3F-40A4-B3EC-FD5C7818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6E629-3041-4B53-82AD-BF236AF6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B8254-E00E-49CB-92FD-FB216ED3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E8AC9-37C9-484E-B184-C621F1C6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312AD-245D-4329-A92B-A0064F74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389A1-0B3C-4C4B-AD90-FEE46E99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ADA85-9F69-4B28-BD07-82A4AAF7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8C103-2D05-47F2-8ECE-149C3D0A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CB14E-5D34-4F33-80C2-4139E4DA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2B48C-994F-408D-8954-FCDC882E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C29-6090-4055-9AD9-CDCC1C11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A706D-CDA1-4B0A-93E8-5EEAD5DB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08CE5-3DDA-4AAB-94E6-E2F5C228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C82CA-08DA-4CC7-A688-E3274A05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C63F2-8A5D-4AE3-8185-2E2EA482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9FC97-7F7B-4B2E-A24D-CFB6505D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8FB50-0B8B-4C76-8E04-7F4F0544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F10CC-A493-4C4B-92F0-AE4328EE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1B93C-EA93-4113-8E3F-C963DD60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6B9CD-4662-4A39-BBA5-B94D6E6A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7F7AA-08F1-4413-B108-F48F8039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3302-30DA-4A04-BAAF-7780195E48B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E2A5-1503-4417-957A-9EC5C60C9F3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66CF-BC30-4A86-9902-BEAF1BBAA68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5AB1-10AD-4F57-B3F3-F87D44B6760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3325-4178-4082-B785-3CE2D3AA906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478E-A90E-4280-B483-61ABA196A5F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5063-B1B8-475E-A6D8-EDBDAF1C312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0393-B782-4F02-AB58-DBDBDC45C61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8EB5-CBB0-4C85-B0A5-54D4CEFDF45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4" descr="pobeda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fd13b"/>
                </a:solidFill>
                <a:latin typeface="Consolas"/>
              </a:rPr>
              <a:t>Великая Отечественная вой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одготови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ученик 4 класса В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МБОУСОШ №6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Голуб Добрыня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Учитель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озлова Ирина Константиновн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16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Но бои шли не только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на фронте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105520" y="2361960"/>
            <a:ext cx="40384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 стар, и млад, все, кто мог держать в руках лопату, строили укрепления, копали окоп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7" name="Picture 4" descr="p35"/>
          <p:cNvPicPr/>
          <p:nvPr/>
        </p:nvPicPr>
        <p:blipFill>
          <a:blip r:embed="rId1"/>
          <a:stretch/>
        </p:blipFill>
        <p:spPr>
          <a:xfrm>
            <a:off x="457200" y="2133720"/>
            <a:ext cx="4419720" cy="33192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105520" y="152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Опустели цеха заводов, потому что мужчины ушли на фронт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Но заводы должны работать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Солдатам на фронте нужны мины, пушки, снаряды, пулемёты. Кто же будет их делать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Тогда на заводы пришли женщины и подростк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9" name="Picture 4" descr="p53"/>
          <p:cNvPicPr/>
          <p:nvPr/>
        </p:nvPicPr>
        <p:blipFill>
          <a:blip r:embed="rId1"/>
          <a:stretch/>
        </p:blipFill>
        <p:spPr>
          <a:xfrm>
            <a:off x="685800" y="228600"/>
            <a:ext cx="3886200" cy="30686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500" name="Picture 8" descr="в15"/>
          <p:cNvPicPr/>
          <p:nvPr/>
        </p:nvPicPr>
        <p:blipFill>
          <a:blip r:embed="rId2"/>
          <a:stretch/>
        </p:blipFill>
        <p:spPr>
          <a:xfrm>
            <a:off x="1295280" y="3581280"/>
            <a:ext cx="2671920" cy="30481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900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714640" y="1066680"/>
            <a:ext cx="34290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Женщины сказали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ctr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ы заменим наших муже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дростки сказали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ctr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ы научимся работать на станках наших отцов и старших братьев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02" name="Picture 4" descr="сканирование0005"/>
          <p:cNvPicPr/>
          <p:nvPr/>
        </p:nvPicPr>
        <p:blipFill>
          <a:blip r:embed="rId1"/>
          <a:stretch/>
        </p:blipFill>
        <p:spPr>
          <a:xfrm>
            <a:off x="380880" y="1600200"/>
            <a:ext cx="4953240" cy="34290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2640" y="277920"/>
            <a:ext cx="80010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eeff"/>
                </a:solidFill>
                <a:latin typeface="Consolas"/>
              </a:rPr>
              <a:t>На фронте не хватало оружия, а в тылу день и ночь работали заводы- делали танки, самолёты, автоматы. Их под бомбёжками доставляли на фронт на бронепоездах, машинах и даже на собаках!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04" name="Picture 4" descr="p76"/>
          <p:cNvPicPr/>
          <p:nvPr/>
        </p:nvPicPr>
        <p:blipFill>
          <a:blip r:embed="rId1"/>
          <a:stretch/>
        </p:blipFill>
        <p:spPr>
          <a:xfrm>
            <a:off x="228600" y="2209680"/>
            <a:ext cx="4343400" cy="32623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505" name="Picture 5" descr="p227"/>
          <p:cNvPicPr/>
          <p:nvPr/>
        </p:nvPicPr>
        <p:blipFill>
          <a:blip r:embed="rId2"/>
          <a:stretch/>
        </p:blipFill>
        <p:spPr>
          <a:xfrm>
            <a:off x="4800600" y="3581280"/>
            <a:ext cx="4114800" cy="30909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Там, где территорию захватывали немцы, люди уходили в леса и создавали партизанские отряды. В отрядах были мужчины, которых не взяли на фронт по состоянию здоровья, женщины и подростки.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07" name="Picture 4" descr="p43"/>
          <p:cNvPicPr/>
          <p:nvPr/>
        </p:nvPicPr>
        <p:blipFill>
          <a:blip r:embed="rId1"/>
          <a:stretch/>
        </p:blipFill>
        <p:spPr>
          <a:xfrm>
            <a:off x="1981080" y="2743200"/>
            <a:ext cx="5238720" cy="39337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в3"/>
          <p:cNvPicPr/>
          <p:nvPr/>
        </p:nvPicPr>
        <p:blipFill>
          <a:blip r:embed="rId1"/>
          <a:stretch/>
        </p:blipFill>
        <p:spPr>
          <a:xfrm>
            <a:off x="533520" y="609480"/>
            <a:ext cx="3809880" cy="38102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509" name="Picture 5" descr="в17"/>
          <p:cNvPicPr/>
          <p:nvPr/>
        </p:nvPicPr>
        <p:blipFill>
          <a:blip r:embed="rId2"/>
          <a:stretch/>
        </p:blipFill>
        <p:spPr>
          <a:xfrm>
            <a:off x="4572000" y="3276720"/>
            <a:ext cx="4334040" cy="3138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Тяжело приходилось бойцам на фронте. </a:t>
            </a:r>
            <a:br>
              <a:rPr sz="2800"/>
            </a:b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Трудно было людям и в тылу.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11" name="Picture 8" descr="p183"/>
          <p:cNvPicPr/>
          <p:nvPr/>
        </p:nvPicPr>
        <p:blipFill>
          <a:blip r:embed="rId1"/>
          <a:stretch/>
        </p:blipFill>
        <p:spPr>
          <a:xfrm>
            <a:off x="457200" y="2286000"/>
            <a:ext cx="4038480" cy="30322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648320" y="2971440"/>
            <a:ext cx="4038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Люди голодал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ногие дети лишились своих родителе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Consolas"/>
              </a:rPr>
              <a:t>Блокадный Ленинград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Целых 900 дней жил город в окружени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Днём и ночью немцы обстреливали город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Тысячи жителей погибли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т голода и холод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5" name="Picture 4" descr="p120"/>
          <p:cNvPicPr/>
          <p:nvPr/>
        </p:nvPicPr>
        <p:blipFill>
          <a:blip r:embed="rId1"/>
          <a:stretch/>
        </p:blipFill>
        <p:spPr>
          <a:xfrm>
            <a:off x="304920" y="1828800"/>
            <a:ext cx="4495680" cy="33764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сканирование0004"/>
          <p:cNvPicPr/>
          <p:nvPr/>
        </p:nvPicPr>
        <p:blipFill>
          <a:blip r:embed="rId1"/>
          <a:stretch/>
        </p:blipFill>
        <p:spPr>
          <a:xfrm>
            <a:off x="1738440" y="304920"/>
            <a:ext cx="5668920" cy="6248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сканирование0001"/>
          <p:cNvPicPr/>
          <p:nvPr/>
        </p:nvPicPr>
        <p:blipFill>
          <a:blip r:embed="rId1"/>
          <a:stretch/>
        </p:blipFill>
        <p:spPr>
          <a:xfrm>
            <a:off x="1219320" y="0"/>
            <a:ext cx="6705360" cy="6781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fd13b"/>
                </a:solidFill>
                <a:latin typeface="Consolas"/>
              </a:rPr>
              <a:t>22 июня 1941 год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оскресное утро выдалось солнечным, тёплым, тихим. Но вдруг в мирную тишину ворвался из уличных репродукторов тревожный громкий голос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Германские войска без предупреждения напали на нашу страну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ОЙНА!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73" name="Picture 7" descr="p5"/>
          <p:cNvPicPr/>
          <p:nvPr/>
        </p:nvPicPr>
        <p:blipFill>
          <a:blip r:embed="rId1"/>
          <a:stretch/>
        </p:blipFill>
        <p:spPr>
          <a:xfrm>
            <a:off x="4967280" y="1603440"/>
            <a:ext cx="3400560" cy="4524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4 года длилась война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10552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orbel"/>
              </a:rPr>
              <a:t>1941-1945г.г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9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антиметр за сантиметром наши войска гнали врага прочь с нашей земли. И вот, наконец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30 апреля 1945г. над поверженным фашистским Рейхстагом в Берлине наши солдаты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rbel"/>
              </a:rPr>
              <a:t>Егоров М.А.и  Кантария М.В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одрузили Знамя Победы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0" name="Picture 2" descr="K:\азбука войны в картинках\463AF3B60B12B.jpg"/>
          <p:cNvPicPr/>
          <p:nvPr/>
        </p:nvPicPr>
        <p:blipFill>
          <a:blip r:embed="rId1"/>
          <a:stretch/>
        </p:blipFill>
        <p:spPr>
          <a:xfrm>
            <a:off x="914400" y="838080"/>
            <a:ext cx="3048120" cy="22860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521" name="Picture 2" descr="K:\азбука войны в картинках\38046478.jpg"/>
          <p:cNvPicPr/>
          <p:nvPr/>
        </p:nvPicPr>
        <p:blipFill>
          <a:blip r:embed="rId2"/>
          <a:stretch/>
        </p:blipFill>
        <p:spPr>
          <a:xfrm>
            <a:off x="1143000" y="3352680"/>
            <a:ext cx="2486160" cy="32767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7000"/>
                            </p:stCondLst>
                            <p:childTnLst>
                              <p:par>
                                <p:cTn id="4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Consolas"/>
              </a:rPr>
              <a:t>9 мая мы празднуем День побед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3" name="Picture 4" descr="picture1"/>
          <p:cNvPicPr/>
          <p:nvPr/>
        </p:nvPicPr>
        <p:blipFill>
          <a:blip r:embed="rId1"/>
          <a:stretch/>
        </p:blipFill>
        <p:spPr>
          <a:xfrm>
            <a:off x="609480" y="1600200"/>
            <a:ext cx="3591000" cy="44388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phoca_thumb_l_Красная площадь в день парада"/>
          <p:cNvPicPr/>
          <p:nvPr/>
        </p:nvPicPr>
        <p:blipFill>
          <a:blip r:embed="rId2"/>
          <a:stretch/>
        </p:blipFill>
        <p:spPr>
          <a:xfrm>
            <a:off x="4419720" y="1752480"/>
            <a:ext cx="4419360" cy="28288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525" name="Text Box 7"/>
          <p:cNvSpPr/>
          <p:nvPr/>
        </p:nvSpPr>
        <p:spPr>
          <a:xfrm>
            <a:off x="5105520" y="4800600"/>
            <a:ext cx="268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 мая 1945 года- первый парад в честь Дня победы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den_pobedy.mp3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7" name="Лев Лещенко - День Победы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victory_day_parade_rehearsal01"/>
          <p:cNvPicPr/>
          <p:nvPr/>
        </p:nvPicPr>
        <p:blipFill>
          <a:blip r:embed="rId1"/>
          <a:stretch/>
        </p:blipFill>
        <p:spPr>
          <a:xfrm>
            <a:off x="304920" y="304920"/>
            <a:ext cx="4419360" cy="30798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victoryday_parade_rehearsal01"/>
          <p:cNvPicPr/>
          <p:nvPr/>
        </p:nvPicPr>
        <p:blipFill>
          <a:blip r:embed="rId2"/>
          <a:stretch/>
        </p:blipFill>
        <p:spPr>
          <a:xfrm>
            <a:off x="4495680" y="3505320"/>
            <a:ext cx="4343400" cy="2941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70 лет прошло со дня окончания этой страшной войны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31" name="Содержимое 3" descr="003-01.jpg"/>
          <p:cNvPicPr/>
          <p:nvPr/>
        </p:nvPicPr>
        <p:blipFill>
          <a:blip r:embed="rId1"/>
          <a:stretch/>
        </p:blipFill>
        <p:spPr>
          <a:xfrm>
            <a:off x="0" y="1752480"/>
            <a:ext cx="5029200" cy="31086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 txBox="1"/>
          <p:nvPr/>
        </p:nvSpPr>
        <p:spPr>
          <a:xfrm>
            <a:off x="5105520" y="19047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Поклонимся великим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тем годам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Тем славным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командирам и бойцам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И маршалам страны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и рядовым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Поклонимся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и мертвым, и живым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Всем тем, которых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забывать нельзя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Поклонимся, поклонимся, друзья!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3" name="Picture 17" descr="123345"/>
          <p:cNvPicPr/>
          <p:nvPr/>
        </p:nvPicPr>
        <p:blipFill>
          <a:blip r:embed="rId2"/>
          <a:stretch/>
        </p:blipFill>
        <p:spPr>
          <a:xfrm>
            <a:off x="0" y="4495680"/>
            <a:ext cx="502920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5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5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5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5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5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5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5105520" y="22856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Тысячи мужчин в возрасте от 23 до 36 лет уходили на фронт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75" name="Picture 4" descr="p12"/>
          <p:cNvPicPr/>
          <p:nvPr/>
        </p:nvPicPr>
        <p:blipFill>
          <a:blip r:embed="rId1"/>
          <a:stretch/>
        </p:blipFill>
        <p:spPr>
          <a:xfrm>
            <a:off x="304920" y="990720"/>
            <a:ext cx="4419360" cy="44193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476" name="Военные песни - Военные песни - Военные песни_ вставай страна огромная... (mp3ostrov.com)-1.mp3" descr=""/>
          <p:cNvPicPr/>
          <p:nvPr/>
        </p:nvPicPr>
        <p:blipFill>
          <a:blip r:embed="rId2"/>
          <a:stretch/>
        </p:blipFill>
        <p:spPr>
          <a:xfrm>
            <a:off x="716292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3" dur="1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84872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eeff"/>
                </a:solidFill>
                <a:latin typeface="Consolas"/>
              </a:rPr>
              <a:t>Начались кровопролитные бои за освобождение нашей Родины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78" name="Picture 4" descr="p23"/>
          <p:cNvPicPr/>
          <p:nvPr/>
        </p:nvPicPr>
        <p:blipFill>
          <a:blip r:embed="rId1"/>
          <a:stretch/>
        </p:blipFill>
        <p:spPr>
          <a:xfrm>
            <a:off x="228600" y="1600200"/>
            <a:ext cx="4067280" cy="30542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479" name="Picture 5" descr="p31"/>
          <p:cNvPicPr/>
          <p:nvPr/>
        </p:nvPicPr>
        <p:blipFill>
          <a:blip r:embed="rId2"/>
          <a:stretch/>
        </p:blipFill>
        <p:spPr>
          <a:xfrm>
            <a:off x="4572000" y="3352680"/>
            <a:ext cx="4267080" cy="32054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eeff"/>
                </a:solidFill>
                <a:latin typeface="Consolas"/>
              </a:rPr>
              <a:t>Бои шли на земле, на воде и в воздухе.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81" name="Picture 4" descr="p103"/>
          <p:cNvPicPr/>
          <p:nvPr/>
        </p:nvPicPr>
        <p:blipFill>
          <a:blip r:embed="rId1"/>
          <a:stretch/>
        </p:blipFill>
        <p:spPr>
          <a:xfrm>
            <a:off x="4800600" y="3505320"/>
            <a:ext cx="4191120" cy="3147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482" name="Picture 5" descr="p108"/>
          <p:cNvPicPr/>
          <p:nvPr/>
        </p:nvPicPr>
        <p:blipFill>
          <a:blip r:embed="rId2"/>
          <a:stretch/>
        </p:blipFill>
        <p:spPr>
          <a:xfrm>
            <a:off x="380880" y="1676520"/>
            <a:ext cx="4191120" cy="31240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Немцы старались разрушить наши города, сёла, мосты. Они с самолётов 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днём и ночью бомбили наши города.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84" name="Picture 4" descr="p41"/>
          <p:cNvPicPr/>
          <p:nvPr/>
        </p:nvPicPr>
        <p:blipFill>
          <a:blip r:embed="rId1"/>
          <a:stretch/>
        </p:blipFill>
        <p:spPr>
          <a:xfrm>
            <a:off x="380880" y="1981080"/>
            <a:ext cx="4267440" cy="32036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485" name="Picture 5" descr="p117"/>
          <p:cNvPicPr/>
          <p:nvPr/>
        </p:nvPicPr>
        <p:blipFill>
          <a:blip r:embed="rId2"/>
          <a:stretch/>
        </p:blipFill>
        <p:spPr>
          <a:xfrm>
            <a:off x="4495680" y="3276720"/>
            <a:ext cx="4419720" cy="3317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Вокруг гремели взрывы снарядов. Полыхали пожары. Дымились руины разрушенных зданий…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87" name="Picture 4" descr="в9"/>
          <p:cNvPicPr/>
          <p:nvPr/>
        </p:nvPicPr>
        <p:blipFill>
          <a:blip r:embed="rId1"/>
          <a:stretch/>
        </p:blipFill>
        <p:spPr>
          <a:xfrm>
            <a:off x="5257800" y="1600200"/>
            <a:ext cx="3352680" cy="24336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488" name="Picture 5" descr="в13"/>
          <p:cNvPicPr/>
          <p:nvPr/>
        </p:nvPicPr>
        <p:blipFill>
          <a:blip r:embed="rId2"/>
          <a:stretch/>
        </p:blipFill>
        <p:spPr>
          <a:xfrm>
            <a:off x="533520" y="2057400"/>
            <a:ext cx="2958840" cy="43434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489" name="Picture 6" descr="в12"/>
          <p:cNvPicPr/>
          <p:nvPr/>
        </p:nvPicPr>
        <p:blipFill>
          <a:blip r:embed="rId3"/>
          <a:stretch/>
        </p:blipFill>
        <p:spPr>
          <a:xfrm>
            <a:off x="3962520" y="4191120"/>
            <a:ext cx="3276360" cy="24573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5105520" y="10666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ногие остались без крыши над головой и имущества, потому что их дома были разрушены взрывами снарядо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ного человек погибло под обстрелами и под развалинами домо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1" name="Picture 4" descr="p179"/>
          <p:cNvPicPr/>
          <p:nvPr/>
        </p:nvPicPr>
        <p:blipFill>
          <a:blip r:embed="rId1"/>
          <a:stretch/>
        </p:blipFill>
        <p:spPr>
          <a:xfrm>
            <a:off x="152280" y="685800"/>
            <a:ext cx="4953240" cy="37195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т вражеских снарядов люди укрывались в бомбоубежище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93" name="Picture 4" descr="p59"/>
          <p:cNvPicPr/>
          <p:nvPr/>
        </p:nvPicPr>
        <p:blipFill>
          <a:blip r:embed="rId1"/>
          <a:stretch/>
        </p:blipFill>
        <p:spPr>
          <a:xfrm>
            <a:off x="2362320" y="1523880"/>
            <a:ext cx="4724280" cy="35467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494" name="Rectangle 7"/>
          <p:cNvSpPr/>
          <p:nvPr/>
        </p:nvSpPr>
        <p:spPr>
          <a:xfrm>
            <a:off x="1600200" y="54100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2 год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московском метро на станции «Маяковская» во время бомбардировки немецкой авиаци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дача молока детям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msung</dc:creator>
  <dc:description/>
  <dc:language>en-US</dc:language>
  <cp:lastModifiedBy>Ирина</cp:lastModifiedBy>
  <dcterms:modified xsi:type="dcterms:W3CDTF">2015-04-28T09:07:0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