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1140-F83F-46C3-B700-24A8F57A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5231-9C94-49D2-BC42-AC634B51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AA803-1FBF-4F3C-984C-DA3285DD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CDFEB-8096-4A0B-9095-EF3B2F7A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543D0-6BD4-4D15-9570-934EE1B6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63195-73CF-49E9-8D31-871CD369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41056-B917-4266-8836-3D720A71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243BC-902E-40D3-8018-62402A48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B8DB9-772F-4E9C-957F-8DB26D92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49C63-06BA-4C50-9F7E-4A917B43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24D2E-7A8F-4773-AE0A-29BE66A6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9C4F-43E0-429E-B3C8-44994177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E0F0-2E3C-4E9E-8310-2BCE30DA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3466-58DB-4EB1-BF9F-DEB508E6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423C-D4DF-4492-A551-E2AEE1F3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2E19-085D-4A7E-9A10-1E493678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F1EF-F9F8-4F95-9ED5-244FB778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4063-EA62-4271-A6E9-B42ACACB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6D09-F11C-4FDF-A920-AD49CAA5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D35F-1598-49B3-BEC7-F7856F49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F903-BE50-4C64-B910-94244614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AC77-A0BA-4954-9058-ECB0C6F4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5BF2-2B50-421F-93E8-70343422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0B5D-E220-4C6F-8804-D7195D00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8E7C-9C01-4DCE-93C4-82EFB203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C68A-1A21-4388-8E10-A8E9DF50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73CA9-D128-43A9-84FD-D2AEE4C3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FE751-6187-4585-98BE-8C00F6D8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43A69-45FD-49F8-9D57-EB6D1BEE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BF6EC-0F51-446A-AD81-2E6C44A6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84AC1-41D9-4240-80E5-86028FF0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B5B0-66B9-442B-8949-715D41DF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EEFB4-C367-4250-A6BC-A5CF9554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A89C8-6FE0-4205-8F33-5DF19164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727C8-3D3F-46C0-A906-F6E2B9D6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7550D-6ECA-4833-B90F-00DC848E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09496-90F4-427F-877F-52B2AC57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B42F6-CAED-4039-94F7-10DCF66F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3C25F-F479-48AC-8BD0-13C0A47B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1D7F7-16FD-436C-B694-7CD078A8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47F35-B147-4594-A693-4140069D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66517-87D4-4490-A182-F448F31E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EAF1-EA12-4F71-B1C0-1CF9DCDD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ED5D5-3E01-48D2-9EB1-48B7EF7C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1E176-B438-4D9E-8468-709FE6ED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5B68B-1D62-4E18-AD1C-5EC81C97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6D8D9-BA67-4755-A334-07F3A01D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DD7D9-EC82-416E-8783-6AF4D38A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F8686-7BA2-4539-A756-D6E2C3D8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B3AB8-B684-421D-8471-CCABBE69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A301E-8536-41AD-ABA4-BD22B8DA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BA09C-8A3D-4BB0-B90D-56164D2A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DE45A-5796-4E45-930B-7BAECE20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C7CF-A7BB-40CC-9527-2C9D1C25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9A85B-589E-4DE0-A1AA-23258534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4BE64-A726-4C13-B449-1072B570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1575F-2F67-4FB9-88CA-FA6E79D2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269EB-CD6A-4AF0-904E-5FDEAF36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D9CD3-7CD3-49B5-B892-877E6884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7FFCD-806D-427B-850F-5F2D4D5F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F2A8D-D65E-456D-A9CD-C05BFEF4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5BBFE-B2AA-4447-873F-02F5CFE8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2FB79-43D2-46F0-8A18-0D5F27E3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9D91E-3ADF-4949-8231-DE135E91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9928-5705-4DAE-97FA-E863C052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D035A-1A93-499A-A604-8F8A5612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C17AB-8B3C-4996-886D-3031B203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26E2E-84D8-46F3-8BC1-A849D3BC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188E4-0611-4098-8204-9029511E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80C87-56AF-4D48-ABEA-E39C3900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56676-8193-4D5E-ABA9-5048D41B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30C82-BCF7-480E-828E-2F3FE23E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1074B-E42E-4CE7-8CF1-903602E0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F3627-1546-4AF7-A247-869B3CDC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C04C2-3895-47C7-979E-4C92C401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C225-3E46-43AC-80BC-4F276018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2DCC7-B114-4DBE-BD32-35289F3D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7F788-030E-45B6-AF7D-EDB2D065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10356-4B6F-478A-8BCA-6283307C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F5F51-957F-4AFC-98A1-0EE03847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1B5CE-1386-4F83-98C7-CAC193BA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7BA18-1AA0-4350-9B20-9394CAF8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845A7-F3B9-4EE8-8839-86DFF46E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6FF07-B1C8-4B46-A53D-6A935F75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D8938-E9E7-4C31-AD57-2C80B4A2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917FF-DDDF-4130-BC49-1A63ADDA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A230-F86D-4E04-BBA0-F75A63A5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74EDF-3B3D-46B3-B35C-DABFABAB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263C7-C8F2-4716-8357-30075A51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2DB58-DD64-4F7A-AD15-F34D2313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5837F-2B12-427B-B729-4AFC73FC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FABCE-FE53-45BE-8774-359565DA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768B6-AE4D-419B-814E-E75CB2F0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B61E5-450D-4178-A7C7-F2E17689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7661F-8828-462C-89C7-7A6D5885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7AD25-141A-4E81-82B9-CD760458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499D2-ED4B-41DC-A467-9191CB72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D510-F800-45BB-9851-ADCA4256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7F188-0429-4921-9B88-672EE446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8DA43-644F-42A2-A140-B872E6E9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68F5B-FEF9-4082-800A-5ED5D7F1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6A7C0-2452-47A5-843F-EB8E1A62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9D085-A3E4-4078-BD57-C51D1484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FAF00-D791-4334-814B-EE061683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91341-BD29-44A4-95C8-0FC6E35F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1160B-66C0-4244-B8FE-B0FBF6BF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68237-81C3-4000-8087-72E10600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92C2F-286F-453D-BCB4-77CFFFCE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0F0D-6B15-4888-B963-A79A041ED40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B693-E8C0-46D6-96E6-9AEA356ACBF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33EF-49C2-4CFC-9FBD-2F3634C4C7B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2723-92C4-4830-BDE3-ADB27584084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3573-B200-4E9F-8990-0FEF5934C80D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52B3-A203-4889-896B-1525D90C38A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0365-239E-4FD7-B56A-74732E507464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EE7E-80F7-4AC9-A1FB-E41246769C82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F926-4B03-40B4-83ED-4C1C28246605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4" descr="pobeda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fd13b"/>
                </a:solidFill>
                <a:latin typeface="Consolas"/>
              </a:rPr>
              <a:t>Великая Отечественная вой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одготовил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ученик 4 класса В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МБОУСОШ №63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Голуб Добрыня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Учитель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озлова Ирина Константиновн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16000"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277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Но бои шли не только</a:t>
            </a:r>
            <a:br>
              <a:rPr sz="4000"/>
            </a:b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на фронте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105520" y="2361960"/>
            <a:ext cx="40384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 стар, и млад, все, кто мог держать в руках лопату, строили укрепления, копали окоп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97" name="Picture 4" descr="p35"/>
          <p:cNvPicPr/>
          <p:nvPr/>
        </p:nvPicPr>
        <p:blipFill>
          <a:blip r:embed="rId1"/>
          <a:stretch/>
        </p:blipFill>
        <p:spPr>
          <a:xfrm>
            <a:off x="457200" y="2133720"/>
            <a:ext cx="4419720" cy="33192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105520" y="1522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Опустели цеха заводов, потому что мужчины ушли на фронт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4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Но заводы должны работать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4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Солдатам на фронте нужны мины, пушки, снаряды, пулемёты. Кто же будет их делать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4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Тогда на заводы пришли женщины и подростк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99" name="Picture 4" descr="p53"/>
          <p:cNvPicPr/>
          <p:nvPr/>
        </p:nvPicPr>
        <p:blipFill>
          <a:blip r:embed="rId1"/>
          <a:stretch/>
        </p:blipFill>
        <p:spPr>
          <a:xfrm>
            <a:off x="685800" y="228600"/>
            <a:ext cx="3886200" cy="30686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500" name="Picture 8" descr="в15"/>
          <p:cNvPicPr/>
          <p:nvPr/>
        </p:nvPicPr>
        <p:blipFill>
          <a:blip r:embed="rId2"/>
          <a:stretch/>
        </p:blipFill>
        <p:spPr>
          <a:xfrm>
            <a:off x="1295280" y="3581280"/>
            <a:ext cx="2671920" cy="30481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9000"/>
                            </p:stCondLst>
                            <p:childTnLst>
                              <p:par>
                                <p:cTn id="2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714640" y="1066680"/>
            <a:ext cx="34290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Женщины сказали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ctr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Мы заменим наших мужей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дростки сказали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ctr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Мы научимся работать на станках наших отцов и старших братьев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02" name="Picture 4" descr="сканирование0005"/>
          <p:cNvPicPr/>
          <p:nvPr/>
        </p:nvPicPr>
        <p:blipFill>
          <a:blip r:embed="rId1"/>
          <a:stretch/>
        </p:blipFill>
        <p:spPr>
          <a:xfrm>
            <a:off x="380880" y="1600200"/>
            <a:ext cx="4953240" cy="34290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2640" y="277920"/>
            <a:ext cx="80010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1eeff"/>
                </a:solidFill>
                <a:latin typeface="Consolas"/>
              </a:rPr>
              <a:t>На фронте не хватало оружия, а в тылу день и ночь работали заводы- делали танки, самолёты, автоматы. Их под бомбёжками доставляли на фронт на бронепоездах, машинах и даже на собаках!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04" name="Picture 4" descr="p76"/>
          <p:cNvPicPr/>
          <p:nvPr/>
        </p:nvPicPr>
        <p:blipFill>
          <a:blip r:embed="rId1"/>
          <a:stretch/>
        </p:blipFill>
        <p:spPr>
          <a:xfrm>
            <a:off x="228600" y="2209680"/>
            <a:ext cx="4343400" cy="32623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505" name="Picture 5" descr="p227"/>
          <p:cNvPicPr/>
          <p:nvPr/>
        </p:nvPicPr>
        <p:blipFill>
          <a:blip r:embed="rId2"/>
          <a:stretch/>
        </p:blipFill>
        <p:spPr>
          <a:xfrm>
            <a:off x="4800600" y="3581280"/>
            <a:ext cx="4114800" cy="30909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Там, где территорию захватывали немцы, люди уходили в леса и создавали партизанские отряды. В отрядах были мужчины, которых не взяли на фронт по состоянию здоровья, женщины и подростки.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07" name="Picture 4" descr="p43"/>
          <p:cNvPicPr/>
          <p:nvPr/>
        </p:nvPicPr>
        <p:blipFill>
          <a:blip r:embed="rId1"/>
          <a:stretch/>
        </p:blipFill>
        <p:spPr>
          <a:xfrm>
            <a:off x="1981080" y="2743200"/>
            <a:ext cx="5238720" cy="39337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4" descr="в3"/>
          <p:cNvPicPr/>
          <p:nvPr/>
        </p:nvPicPr>
        <p:blipFill>
          <a:blip r:embed="rId1"/>
          <a:stretch/>
        </p:blipFill>
        <p:spPr>
          <a:xfrm>
            <a:off x="533520" y="609480"/>
            <a:ext cx="3809880" cy="38102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509" name="Picture 5" descr="в17"/>
          <p:cNvPicPr/>
          <p:nvPr/>
        </p:nvPicPr>
        <p:blipFill>
          <a:blip r:embed="rId2"/>
          <a:stretch/>
        </p:blipFill>
        <p:spPr>
          <a:xfrm>
            <a:off x="4572000" y="3276720"/>
            <a:ext cx="4334040" cy="3138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Тяжело приходилось бойцам на фронте. </a:t>
            </a:r>
            <a:br>
              <a:rPr sz="2800"/>
            </a:b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Трудно было людям и в тылу.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11" name="Picture 8" descr="p183"/>
          <p:cNvPicPr/>
          <p:nvPr/>
        </p:nvPicPr>
        <p:blipFill>
          <a:blip r:embed="rId1"/>
          <a:stretch/>
        </p:blipFill>
        <p:spPr>
          <a:xfrm>
            <a:off x="457200" y="2286000"/>
            <a:ext cx="4038480" cy="30322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648320" y="2971440"/>
            <a:ext cx="40384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Люди голодал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Многие дети лишились своих родителей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zoom dir="ou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Consolas"/>
              </a:rPr>
              <a:t>Блокадный Ленинград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Целых 900 дней жил город в окружени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Днём и ночью немцы обстреливали город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Тысячи жителей погибли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т голода и холод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15" name="Picture 4" descr="p120"/>
          <p:cNvPicPr/>
          <p:nvPr/>
        </p:nvPicPr>
        <p:blipFill>
          <a:blip r:embed="rId1"/>
          <a:stretch/>
        </p:blipFill>
        <p:spPr>
          <a:xfrm>
            <a:off x="304920" y="1828800"/>
            <a:ext cx="4495680" cy="33764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00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8000"/>
                            </p:stCondLst>
                            <p:childTnLst>
                              <p:par>
                                <p:cTn id="3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" descr="сканирование0004"/>
          <p:cNvPicPr/>
          <p:nvPr/>
        </p:nvPicPr>
        <p:blipFill>
          <a:blip r:embed="rId1"/>
          <a:stretch/>
        </p:blipFill>
        <p:spPr>
          <a:xfrm>
            <a:off x="1738440" y="304920"/>
            <a:ext cx="5668920" cy="6248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5" descr="сканирование0001"/>
          <p:cNvPicPr/>
          <p:nvPr/>
        </p:nvPicPr>
        <p:blipFill>
          <a:blip r:embed="rId1"/>
          <a:stretch/>
        </p:blipFill>
        <p:spPr>
          <a:xfrm>
            <a:off x="1219320" y="0"/>
            <a:ext cx="6705360" cy="6781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fd13b"/>
                </a:solidFill>
                <a:latin typeface="Consolas"/>
              </a:rPr>
              <a:t>22 июня 1941 год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оскресное утро выдалось солнечным, тёплым, тихим. Но вдруг в мирную тишину ворвался из уличных репродукторов тревожный громкий голос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Германские войска без предупреждения напали на нашу страну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ОЙНА!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73" name="Picture 7" descr="p5"/>
          <p:cNvPicPr/>
          <p:nvPr/>
        </p:nvPicPr>
        <p:blipFill>
          <a:blip r:embed="rId1"/>
          <a:stretch/>
        </p:blipFill>
        <p:spPr>
          <a:xfrm>
            <a:off x="4967280" y="1603440"/>
            <a:ext cx="3400560" cy="4524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4 года длилась война!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105520" y="10663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orbel"/>
              </a:rPr>
              <a:t>1941-1945г.г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9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антиметр за сантиметром наши войска гнали врага прочь с нашей земли. И вот, наконец,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30 апреля 1945г. над поверженным фашистским Рейхстагом в Берлине наши солдаты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rbel"/>
              </a:rPr>
              <a:t>Егоров М.А.и  Кантария М.В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одрузили Знамя Победы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0" name="Picture 2" descr="K:\азбука войны в картинках\463AF3B60B12B.jpg"/>
          <p:cNvPicPr/>
          <p:nvPr/>
        </p:nvPicPr>
        <p:blipFill>
          <a:blip r:embed="rId1"/>
          <a:stretch/>
        </p:blipFill>
        <p:spPr>
          <a:xfrm>
            <a:off x="914400" y="838080"/>
            <a:ext cx="3048120" cy="22860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521" name="Picture 2" descr="K:\азбука войны в картинках\38046478.jpg"/>
          <p:cNvPicPr/>
          <p:nvPr/>
        </p:nvPicPr>
        <p:blipFill>
          <a:blip r:embed="rId2"/>
          <a:stretch/>
        </p:blipFill>
        <p:spPr>
          <a:xfrm>
            <a:off x="1143000" y="3352680"/>
            <a:ext cx="2486160" cy="32767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0"/>
                            </p:stCondLst>
                            <p:childTnLst>
                              <p:par>
                                <p:cTn id="4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6000"/>
                            </p:stCondLst>
                            <p:childTnLst>
                              <p:par>
                                <p:cTn id="4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7000"/>
                            </p:stCondLst>
                            <p:childTnLst>
                              <p:par>
                                <p:cTn id="4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Consolas"/>
              </a:rPr>
              <a:t>9 мая мы празднуем День побед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23" name="Picture 4" descr="picture1"/>
          <p:cNvPicPr/>
          <p:nvPr/>
        </p:nvPicPr>
        <p:blipFill>
          <a:blip r:embed="rId1"/>
          <a:stretch/>
        </p:blipFill>
        <p:spPr>
          <a:xfrm>
            <a:off x="609480" y="1600200"/>
            <a:ext cx="3591000" cy="44388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" descr="phoca_thumb_l_Красная площадь в день парада"/>
          <p:cNvPicPr/>
          <p:nvPr/>
        </p:nvPicPr>
        <p:blipFill>
          <a:blip r:embed="rId2"/>
          <a:stretch/>
        </p:blipFill>
        <p:spPr>
          <a:xfrm>
            <a:off x="4419720" y="1752480"/>
            <a:ext cx="4419360" cy="28288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525" name="Text Box 7"/>
          <p:cNvSpPr/>
          <p:nvPr/>
        </p:nvSpPr>
        <p:spPr>
          <a:xfrm>
            <a:off x="5105520" y="4800600"/>
            <a:ext cx="268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 мая 1945 года- первый парад в честь Дня победы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den_pobedy.mp3" descr=""/>
          <p:cNvPicPr/>
          <p:nvPr/>
        </p:nvPicPr>
        <p:blipFill>
          <a:blip r:embed="rId3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7" name="Лев Лещенко - День Победы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4" dur="1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4" descr="victory_day_parade_rehearsal01"/>
          <p:cNvPicPr/>
          <p:nvPr/>
        </p:nvPicPr>
        <p:blipFill>
          <a:blip r:embed="rId1"/>
          <a:stretch/>
        </p:blipFill>
        <p:spPr>
          <a:xfrm>
            <a:off x="304920" y="304920"/>
            <a:ext cx="4419360" cy="30798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victoryday_parade_rehearsal01"/>
          <p:cNvPicPr/>
          <p:nvPr/>
        </p:nvPicPr>
        <p:blipFill>
          <a:blip r:embed="rId2"/>
          <a:stretch/>
        </p:blipFill>
        <p:spPr>
          <a:xfrm>
            <a:off x="4495680" y="3505320"/>
            <a:ext cx="4343400" cy="2941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70 лет прошло со дня окончания этой страшной войны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31" name="Содержимое 3" descr="003-01.jpg"/>
          <p:cNvPicPr/>
          <p:nvPr/>
        </p:nvPicPr>
        <p:blipFill>
          <a:blip r:embed="rId1"/>
          <a:stretch/>
        </p:blipFill>
        <p:spPr>
          <a:xfrm>
            <a:off x="0" y="1752480"/>
            <a:ext cx="5029200" cy="310860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 txBox="1"/>
          <p:nvPr/>
        </p:nvSpPr>
        <p:spPr>
          <a:xfrm>
            <a:off x="5105520" y="19047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Поклонимся великим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тем годам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Тем славным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командирам и бойцам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И маршалам страны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и рядовым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Поклонимся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и мертвым, и живым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Всем тем, которых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забывать нельзя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Поклонимся, поклонимся, друзья!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3" name="Picture 17" descr="123345"/>
          <p:cNvPicPr/>
          <p:nvPr/>
        </p:nvPicPr>
        <p:blipFill>
          <a:blip r:embed="rId2"/>
          <a:stretch/>
        </p:blipFill>
        <p:spPr>
          <a:xfrm>
            <a:off x="0" y="4495680"/>
            <a:ext cx="502920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5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5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5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5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5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5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5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5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5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5105520" y="2285640"/>
            <a:ext cx="4038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Тысячи мужчин в возрасте от 23 до 36 лет уходили на фронт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75" name="Picture 4" descr="p12"/>
          <p:cNvPicPr/>
          <p:nvPr/>
        </p:nvPicPr>
        <p:blipFill>
          <a:blip r:embed="rId1"/>
          <a:stretch/>
        </p:blipFill>
        <p:spPr>
          <a:xfrm>
            <a:off x="304920" y="990720"/>
            <a:ext cx="4419360" cy="44193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476" name="Военные песни - Военные песни - Военные песни_ вставай страна огромная... (mp3ostrov.com)-1.mp3" descr=""/>
          <p:cNvPicPr/>
          <p:nvPr/>
        </p:nvPicPr>
        <p:blipFill>
          <a:blip r:embed="rId2"/>
          <a:stretch/>
        </p:blipFill>
        <p:spPr>
          <a:xfrm>
            <a:off x="7162920" y="5257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3" dur="1" fill="hold"/>
                                        <p:tgtEl>
                                          <p:spTgt spid="4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84872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1eeff"/>
                </a:solidFill>
                <a:latin typeface="Consolas"/>
              </a:rPr>
              <a:t>Начались кровопролитные бои за освобождение нашей Родины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78" name="Picture 4" descr="p23"/>
          <p:cNvPicPr/>
          <p:nvPr/>
        </p:nvPicPr>
        <p:blipFill>
          <a:blip r:embed="rId1"/>
          <a:stretch/>
        </p:blipFill>
        <p:spPr>
          <a:xfrm>
            <a:off x="228600" y="1600200"/>
            <a:ext cx="4067280" cy="30542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479" name="Picture 5" descr="p31"/>
          <p:cNvPicPr/>
          <p:nvPr/>
        </p:nvPicPr>
        <p:blipFill>
          <a:blip r:embed="rId2"/>
          <a:stretch/>
        </p:blipFill>
        <p:spPr>
          <a:xfrm>
            <a:off x="4572000" y="3352680"/>
            <a:ext cx="4267080" cy="32054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eeff"/>
                </a:solidFill>
                <a:latin typeface="Consolas"/>
              </a:rPr>
              <a:t>Бои шли на земле, на воде и в воздухе.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81" name="Picture 4" descr="p103"/>
          <p:cNvPicPr/>
          <p:nvPr/>
        </p:nvPicPr>
        <p:blipFill>
          <a:blip r:embed="rId1"/>
          <a:stretch/>
        </p:blipFill>
        <p:spPr>
          <a:xfrm>
            <a:off x="4800600" y="3505320"/>
            <a:ext cx="4191120" cy="31478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482" name="Picture 5" descr="p108"/>
          <p:cNvPicPr/>
          <p:nvPr/>
        </p:nvPicPr>
        <p:blipFill>
          <a:blip r:embed="rId2"/>
          <a:stretch/>
        </p:blipFill>
        <p:spPr>
          <a:xfrm>
            <a:off x="380880" y="1676520"/>
            <a:ext cx="4191120" cy="31240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Немцы старались разрушить наши города, сёла, мосты. Они с самолётов </a:t>
            </a:r>
            <a:br>
              <a:rPr sz="2800"/>
            </a:b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днём и ночью бомбили наши города.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84" name="Picture 4" descr="p41"/>
          <p:cNvPicPr/>
          <p:nvPr/>
        </p:nvPicPr>
        <p:blipFill>
          <a:blip r:embed="rId1"/>
          <a:stretch/>
        </p:blipFill>
        <p:spPr>
          <a:xfrm>
            <a:off x="380880" y="1981080"/>
            <a:ext cx="4267440" cy="32036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485" name="Picture 5" descr="p117"/>
          <p:cNvPicPr/>
          <p:nvPr/>
        </p:nvPicPr>
        <p:blipFill>
          <a:blip r:embed="rId2"/>
          <a:stretch/>
        </p:blipFill>
        <p:spPr>
          <a:xfrm>
            <a:off x="4495680" y="3276720"/>
            <a:ext cx="4419720" cy="33177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Вокруг гремели взрывы снарядов. Полыхали пожары. Дымились руины разрушенных зданий…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87" name="Picture 4" descr="в9"/>
          <p:cNvPicPr/>
          <p:nvPr/>
        </p:nvPicPr>
        <p:blipFill>
          <a:blip r:embed="rId1"/>
          <a:stretch/>
        </p:blipFill>
        <p:spPr>
          <a:xfrm>
            <a:off x="5257800" y="1600200"/>
            <a:ext cx="3352680" cy="24336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488" name="Picture 5" descr="в13"/>
          <p:cNvPicPr/>
          <p:nvPr/>
        </p:nvPicPr>
        <p:blipFill>
          <a:blip r:embed="rId2"/>
          <a:stretch/>
        </p:blipFill>
        <p:spPr>
          <a:xfrm>
            <a:off x="533520" y="2057400"/>
            <a:ext cx="2958840" cy="43434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489" name="Picture 6" descr="в12"/>
          <p:cNvPicPr/>
          <p:nvPr/>
        </p:nvPicPr>
        <p:blipFill>
          <a:blip r:embed="rId3"/>
          <a:stretch/>
        </p:blipFill>
        <p:spPr>
          <a:xfrm>
            <a:off x="3962520" y="4191120"/>
            <a:ext cx="3276360" cy="24573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5105520" y="10666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1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Многие остались без крыши над головой и имущества, потому что их дома были разрушены взрывами снарядо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Много человек погибло под обстрелами и под развалинами домо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91" name="Picture 4" descr="p179"/>
          <p:cNvPicPr/>
          <p:nvPr/>
        </p:nvPicPr>
        <p:blipFill>
          <a:blip r:embed="rId1"/>
          <a:stretch/>
        </p:blipFill>
        <p:spPr>
          <a:xfrm>
            <a:off x="152280" y="685800"/>
            <a:ext cx="4953240" cy="37195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-360" y="277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т вражеских снарядов люди укрывались в бомбоубежище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93" name="Picture 4" descr="p59"/>
          <p:cNvPicPr/>
          <p:nvPr/>
        </p:nvPicPr>
        <p:blipFill>
          <a:blip r:embed="rId1"/>
          <a:stretch/>
        </p:blipFill>
        <p:spPr>
          <a:xfrm>
            <a:off x="2362320" y="1523880"/>
            <a:ext cx="4724280" cy="35467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494" name="Rectangle 7"/>
          <p:cNvSpPr/>
          <p:nvPr/>
        </p:nvSpPr>
        <p:spPr>
          <a:xfrm>
            <a:off x="1600200" y="541008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42 год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московском метро на станции «Маяковская» во время бомбардировки немецкой авиации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дача молока детям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msung</dc:creator>
  <dc:description/>
  <dc:language>en-US</dc:language>
  <cp:lastModifiedBy>Ирина</cp:lastModifiedBy>
  <dcterms:modified xsi:type="dcterms:W3CDTF">2015-04-28T09:07:00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