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5717-D312-42D8-87F3-C61A58796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62BA-9CC7-4E5F-897D-33ABB2909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EE4-57C9-4E22-BC99-47A8C234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278-8208-4110-AA40-2D11FE9D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543-C856-4B9D-91F7-D31F76BC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AB2-E4B0-45A6-8F11-24CD94CE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98B-51EA-4E40-8906-C6870053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71D-4F2A-4C9C-86B4-B12E20A9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F4A-9990-4B20-837A-991FC21B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608-69B2-4AD4-AD97-3200028D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F19-8176-481D-A110-7CBD91C0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C42-98CC-40EF-B4D2-B56168BA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BD9-C21B-490C-BFCD-3E70ECC1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915-680F-4D4D-8DF1-26D307A5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7291-744F-4028-9D80-4CFC77DA2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28600" y="1295280"/>
            <a:ext cx="821052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оловое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размножение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4000" y="1268280"/>
            <a:ext cx="180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79280" y="1989000"/>
            <a:ext cx="1513080" cy="39888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97164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97164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268360" y="1916280"/>
            <a:ext cx="1657440" cy="70380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релая яйце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8120" y="3276720"/>
            <a:ext cx="2427120" cy="39888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лодо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80000" y="5805360"/>
            <a:ext cx="1873440" cy="45972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га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900000" y="3284640"/>
            <a:ext cx="1657440" cy="39888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е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4140360" y="5734080"/>
            <a:ext cx="151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1763640" y="386064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133720" y="5791320"/>
            <a:ext cx="1873080" cy="52056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403280" y="4437000"/>
            <a:ext cx="1949400" cy="703800"/>
          </a:xfrm>
          <a:prstGeom prst="rect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ллопиевы тр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1042920" y="26370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35280" y="2205000"/>
            <a:ext cx="326880" cy="216000"/>
          </a:xfrm>
          <a:prstGeom prst="leftArrow">
            <a:avLst>
              <a:gd name="adj1" fmla="val 50000"/>
              <a:gd name="adj2" fmla="val 37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2627280" y="3357720"/>
            <a:ext cx="326880" cy="215640"/>
          </a:xfrm>
          <a:prstGeom prst="leftArrow">
            <a:avLst>
              <a:gd name="adj1" fmla="val 50000"/>
              <a:gd name="adj2" fmla="val 378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2590920" y="52578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4343400" y="5867280"/>
            <a:ext cx="934920" cy="432000"/>
          </a:xfrm>
          <a:prstGeom prst="rightArrow">
            <a:avLst>
              <a:gd name="adj1" fmla="val 50000"/>
              <a:gd name="adj2" fmla="val 54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0" descr="Женская яйцеклетка"/>
          <p:cNvPicPr/>
          <p:nvPr/>
        </p:nvPicPr>
        <p:blipFill>
          <a:blip r:embed="rId1"/>
          <a:stretch/>
        </p:blipFill>
        <p:spPr>
          <a:xfrm>
            <a:off x="6019920" y="1905120"/>
            <a:ext cx="2590560" cy="186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AutoShape 21"/>
          <p:cNvSpPr/>
          <p:nvPr/>
        </p:nvSpPr>
        <p:spPr>
          <a:xfrm>
            <a:off x="4067280" y="2205000"/>
            <a:ext cx="1152360" cy="144360"/>
          </a:xfrm>
          <a:prstGeom prst="rightArrow">
            <a:avLst>
              <a:gd name="adj1" fmla="val 50000"/>
              <a:gd name="adj2" fmla="val 19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148360" y="35733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5791320" y="396252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аметр яйцеклетки составляет 0,15 мм, масса составляет 0,00000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-324000" y="5589720"/>
            <a:ext cx="892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0" y="5157720"/>
            <a:ext cx="241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1219320" y="228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Женская по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533520" y="99072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ичник новорожденной девочки имеет вес 0,2г и содержит около 400000 незрелых половых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Половые клетк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2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770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Анатомический атлас"/>
          <p:cNvPicPr/>
          <p:nvPr/>
        </p:nvPicPr>
        <p:blipFill>
          <a:blip r:embed="rId1"/>
          <a:stretch/>
        </p:blipFill>
        <p:spPr>
          <a:xfrm>
            <a:off x="1295280" y="76320"/>
            <a:ext cx="56390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оение половых кле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143000"/>
          <a:ext cx="8229600" cy="527040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335268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ские гаме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ские 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и раз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стро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хромо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функ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те соответств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762120" y="1600200"/>
            <a:ext cx="7619400" cy="4572000"/>
            <a:chOff x="762120" y="1600200"/>
            <a:chExt cx="7619400" cy="4572000"/>
          </a:xfrm>
        </p:grpSpPr>
        <p:grpSp>
          <p:nvGrpSpPr>
            <p:cNvPr id="134" name="Group 5"/>
            <p:cNvGrpSpPr/>
            <p:nvPr/>
          </p:nvGrpSpPr>
          <p:grpSpPr>
            <a:xfrm>
              <a:off x="767880" y="1603080"/>
              <a:ext cx="7606440" cy="4565160"/>
              <a:chOff x="767880" y="1603080"/>
              <a:chExt cx="7606440" cy="4565160"/>
            </a:xfrm>
          </p:grpSpPr>
          <p:grpSp>
            <p:nvGrpSpPr>
              <p:cNvPr id="135" name="Group 6"/>
              <p:cNvGrpSpPr/>
              <p:nvPr/>
            </p:nvGrpSpPr>
            <p:grpSpPr>
              <a:xfrm>
                <a:off x="767880" y="1603080"/>
                <a:ext cx="2535480" cy="570600"/>
                <a:chOff x="767880" y="1603080"/>
                <a:chExt cx="2535480" cy="570600"/>
              </a:xfrm>
            </p:grpSpPr>
            <p:sp>
              <p:nvSpPr>
                <p:cNvPr id="136" name="Rectangle 7"/>
                <p:cNvSpPr/>
                <p:nvPr/>
              </p:nvSpPr>
              <p:spPr>
                <a:xfrm>
                  <a:off x="857160" y="16030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нят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8"/>
                <p:cNvSpPr/>
                <p:nvPr/>
              </p:nvSpPr>
              <p:spPr>
                <a:xfrm>
                  <a:off x="767880" y="16030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3303720" y="1603080"/>
                <a:ext cx="2534760" cy="570600"/>
                <a:chOff x="3303720" y="1603080"/>
                <a:chExt cx="2534760" cy="570600"/>
              </a:xfrm>
            </p:grpSpPr>
            <p:sp>
              <p:nvSpPr>
                <p:cNvPr id="139" name="Rectangle 10"/>
                <p:cNvSpPr/>
                <p:nvPr/>
              </p:nvSpPr>
              <p:spPr>
                <a:xfrm>
                  <a:off x="3392640" y="16030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атегор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11"/>
                <p:cNvSpPr/>
                <p:nvPr/>
              </p:nvSpPr>
              <p:spPr>
                <a:xfrm>
                  <a:off x="3303720" y="160308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12"/>
              <p:cNvGrpSpPr/>
              <p:nvPr/>
            </p:nvGrpSpPr>
            <p:grpSpPr>
              <a:xfrm>
                <a:off x="5838840" y="1603080"/>
                <a:ext cx="2535480" cy="570600"/>
                <a:chOff x="5838840" y="1603080"/>
                <a:chExt cx="2535480" cy="570600"/>
              </a:xfrm>
            </p:grpSpPr>
            <p:sp>
              <p:nvSpPr>
                <p:cNvPr id="142" name="Rectangle 13"/>
                <p:cNvSpPr/>
                <p:nvPr/>
              </p:nvSpPr>
              <p:spPr>
                <a:xfrm>
                  <a:off x="5928120" y="16030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одержание понят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4"/>
                <p:cNvSpPr/>
                <p:nvPr/>
              </p:nvSpPr>
              <p:spPr>
                <a:xfrm>
                  <a:off x="5838840" y="16030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5"/>
              <p:cNvGrpSpPr/>
              <p:nvPr/>
            </p:nvGrpSpPr>
            <p:grpSpPr>
              <a:xfrm>
                <a:off x="767880" y="2173680"/>
                <a:ext cx="2535480" cy="570600"/>
                <a:chOff x="767880" y="2173680"/>
                <a:chExt cx="2535480" cy="570600"/>
              </a:xfrm>
            </p:grpSpPr>
            <p:sp>
              <p:nvSpPr>
                <p:cNvPr id="145" name="Rectangle 16"/>
                <p:cNvSpPr/>
                <p:nvPr/>
              </p:nvSpPr>
              <p:spPr>
                <a:xfrm>
                  <a:off x="857160" y="21736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размножение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17"/>
                <p:cNvSpPr/>
                <p:nvPr/>
              </p:nvSpPr>
              <p:spPr>
                <a:xfrm>
                  <a:off x="767880" y="21736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8"/>
              <p:cNvGrpSpPr/>
              <p:nvPr/>
            </p:nvGrpSpPr>
            <p:grpSpPr>
              <a:xfrm>
                <a:off x="3303720" y="2173680"/>
                <a:ext cx="2534760" cy="570600"/>
                <a:chOff x="3303720" y="2173680"/>
                <a:chExt cx="2534760" cy="570600"/>
              </a:xfrm>
            </p:grpSpPr>
            <p:sp>
              <p:nvSpPr>
                <p:cNvPr id="148" name="Rectangle 19"/>
                <p:cNvSpPr/>
                <p:nvPr/>
              </p:nvSpPr>
              <p:spPr>
                <a:xfrm>
                  <a:off x="3392640" y="21736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клет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3303720" y="217368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21"/>
              <p:cNvGrpSpPr/>
              <p:nvPr/>
            </p:nvGrpSpPr>
            <p:grpSpPr>
              <a:xfrm>
                <a:off x="5838840" y="2173680"/>
                <a:ext cx="2535480" cy="570600"/>
                <a:chOff x="5838840" y="2173680"/>
                <a:chExt cx="2535480" cy="570600"/>
              </a:xfrm>
            </p:grpSpPr>
            <p:sp>
              <p:nvSpPr>
                <p:cNvPr id="151" name="Rectangle 22"/>
                <p:cNvSpPr/>
                <p:nvPr/>
              </p:nvSpPr>
              <p:spPr>
                <a:xfrm>
                  <a:off x="5928120" y="21736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оспроизведение себе подобны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23"/>
                <p:cNvSpPr/>
                <p:nvPr/>
              </p:nvSpPr>
              <p:spPr>
                <a:xfrm>
                  <a:off x="5838840" y="21736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4"/>
              <p:cNvGrpSpPr/>
              <p:nvPr/>
            </p:nvGrpSpPr>
            <p:grpSpPr>
              <a:xfrm>
                <a:off x="767880" y="2744280"/>
                <a:ext cx="2535480" cy="570240"/>
                <a:chOff x="767880" y="2744280"/>
                <a:chExt cx="2535480" cy="570240"/>
              </a:xfrm>
            </p:grpSpPr>
            <p:sp>
              <p:nvSpPr>
                <p:cNvPr id="154" name="Rectangle 25"/>
                <p:cNvSpPr/>
                <p:nvPr/>
              </p:nvSpPr>
              <p:spPr>
                <a:xfrm>
                  <a:off x="857160" y="274428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яйцеклетки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26"/>
                <p:cNvSpPr/>
                <p:nvPr/>
              </p:nvSpPr>
              <p:spPr>
                <a:xfrm>
                  <a:off x="767880" y="2744280"/>
                  <a:ext cx="25354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27"/>
              <p:cNvGrpSpPr/>
              <p:nvPr/>
            </p:nvGrpSpPr>
            <p:grpSpPr>
              <a:xfrm>
                <a:off x="3303720" y="2744280"/>
                <a:ext cx="2534760" cy="570240"/>
                <a:chOff x="3303720" y="2744280"/>
                <a:chExt cx="2534760" cy="570240"/>
              </a:xfrm>
            </p:grpSpPr>
            <p:sp>
              <p:nvSpPr>
                <p:cNvPr id="157" name="Rectangle 28"/>
                <p:cNvSpPr/>
                <p:nvPr/>
              </p:nvSpPr>
              <p:spPr>
                <a:xfrm>
                  <a:off x="3392640" y="274428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процесс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29"/>
                <p:cNvSpPr/>
                <p:nvPr/>
              </p:nvSpPr>
              <p:spPr>
                <a:xfrm>
                  <a:off x="3303720" y="2744280"/>
                  <a:ext cx="25347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30"/>
              <p:cNvGrpSpPr/>
              <p:nvPr/>
            </p:nvGrpSpPr>
            <p:grpSpPr>
              <a:xfrm>
                <a:off x="5838840" y="2744280"/>
                <a:ext cx="2535480" cy="570240"/>
                <a:chOff x="5838840" y="2744280"/>
                <a:chExt cx="2535480" cy="570240"/>
              </a:xfrm>
            </p:grpSpPr>
            <p:sp>
              <p:nvSpPr>
                <p:cNvPr id="160" name="Rectangle 31"/>
                <p:cNvSpPr/>
                <p:nvPr/>
              </p:nvSpPr>
              <p:spPr>
                <a:xfrm>
                  <a:off x="5928120" y="274428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лияние половых клето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32"/>
                <p:cNvSpPr/>
                <p:nvPr/>
              </p:nvSpPr>
              <p:spPr>
                <a:xfrm>
                  <a:off x="5838840" y="2744280"/>
                  <a:ext cx="25354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33"/>
              <p:cNvGrpSpPr/>
              <p:nvPr/>
            </p:nvGrpSpPr>
            <p:grpSpPr>
              <a:xfrm>
                <a:off x="767880" y="3314880"/>
                <a:ext cx="2535480" cy="570600"/>
                <a:chOff x="767880" y="3314880"/>
                <a:chExt cx="2535480" cy="570600"/>
              </a:xfrm>
            </p:grpSpPr>
            <p:sp>
              <p:nvSpPr>
                <p:cNvPr id="163" name="Rectangle 34"/>
                <p:cNvSpPr/>
                <p:nvPr/>
              </p:nvSpPr>
              <p:spPr>
                <a:xfrm>
                  <a:off x="857160" y="33148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сперматозоид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35"/>
                <p:cNvSpPr/>
                <p:nvPr/>
              </p:nvSpPr>
              <p:spPr>
                <a:xfrm>
                  <a:off x="767880" y="33148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36"/>
              <p:cNvGrpSpPr/>
              <p:nvPr/>
            </p:nvGrpSpPr>
            <p:grpSpPr>
              <a:xfrm>
                <a:off x="3303720" y="3314880"/>
                <a:ext cx="2534760" cy="570600"/>
                <a:chOff x="3303720" y="3314880"/>
                <a:chExt cx="2534760" cy="570600"/>
              </a:xfrm>
            </p:grpSpPr>
            <p:sp>
              <p:nvSpPr>
                <p:cNvPr id="166" name="Rectangle 37"/>
                <p:cNvSpPr/>
                <p:nvPr/>
              </p:nvSpPr>
              <p:spPr>
                <a:xfrm>
                  <a:off x="3392640" y="33148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орга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38"/>
                <p:cNvSpPr/>
                <p:nvPr/>
              </p:nvSpPr>
              <p:spPr>
                <a:xfrm>
                  <a:off x="3303720" y="331488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39"/>
              <p:cNvGrpSpPr/>
              <p:nvPr/>
            </p:nvGrpSpPr>
            <p:grpSpPr>
              <a:xfrm>
                <a:off x="5838840" y="3314880"/>
                <a:ext cx="2535480" cy="570600"/>
                <a:chOff x="5838840" y="3314880"/>
                <a:chExt cx="2535480" cy="570600"/>
              </a:xfrm>
            </p:grpSpPr>
            <p:sp>
              <p:nvSpPr>
                <p:cNvPr id="169" name="Rectangle 40"/>
                <p:cNvSpPr/>
                <p:nvPr/>
              </p:nvSpPr>
              <p:spPr>
                <a:xfrm>
                  <a:off x="5928120" y="331488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образуются в яичника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41"/>
                <p:cNvSpPr/>
                <p:nvPr/>
              </p:nvSpPr>
              <p:spPr>
                <a:xfrm>
                  <a:off x="5838840" y="331488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2"/>
              <p:cNvGrpSpPr/>
              <p:nvPr/>
            </p:nvGrpSpPr>
            <p:grpSpPr>
              <a:xfrm>
                <a:off x="767880" y="3885840"/>
                <a:ext cx="2535480" cy="570600"/>
                <a:chOff x="767880" y="3885840"/>
                <a:chExt cx="2535480" cy="570600"/>
              </a:xfrm>
            </p:grpSpPr>
            <p:sp>
              <p:nvSpPr>
                <p:cNvPr id="172" name="Rectangle 43"/>
                <p:cNvSpPr/>
                <p:nvPr/>
              </p:nvSpPr>
              <p:spPr>
                <a:xfrm>
                  <a:off x="857160" y="38858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оплодотворени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44"/>
                <p:cNvSpPr/>
                <p:nvPr/>
              </p:nvSpPr>
              <p:spPr>
                <a:xfrm>
                  <a:off x="767880" y="388584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5"/>
              <p:cNvGrpSpPr/>
              <p:nvPr/>
            </p:nvGrpSpPr>
            <p:grpSpPr>
              <a:xfrm>
                <a:off x="3303720" y="3885840"/>
                <a:ext cx="2534760" cy="570600"/>
                <a:chOff x="3303720" y="3885840"/>
                <a:chExt cx="2534760" cy="570600"/>
              </a:xfrm>
            </p:grpSpPr>
            <p:sp>
              <p:nvSpPr>
                <p:cNvPr id="175" name="Rectangle 46"/>
                <p:cNvSpPr/>
                <p:nvPr/>
              </p:nvSpPr>
              <p:spPr>
                <a:xfrm>
                  <a:off x="3392640" y="38858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желез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47"/>
                <p:cNvSpPr/>
                <p:nvPr/>
              </p:nvSpPr>
              <p:spPr>
                <a:xfrm>
                  <a:off x="3303720" y="388584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48"/>
              <p:cNvGrpSpPr/>
              <p:nvPr/>
            </p:nvGrpSpPr>
            <p:grpSpPr>
              <a:xfrm>
                <a:off x="5838840" y="3885840"/>
                <a:ext cx="2535480" cy="570600"/>
                <a:chOff x="5838840" y="3885840"/>
                <a:chExt cx="2535480" cy="570600"/>
              </a:xfrm>
            </p:grpSpPr>
            <p:sp>
              <p:nvSpPr>
                <p:cNvPr id="178" name="Rectangle 49"/>
                <p:cNvSpPr/>
                <p:nvPr/>
              </p:nvSpPr>
              <p:spPr>
                <a:xfrm>
                  <a:off x="5928120" y="38858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едназначен для вынашивания пло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50"/>
                <p:cNvSpPr/>
                <p:nvPr/>
              </p:nvSpPr>
              <p:spPr>
                <a:xfrm>
                  <a:off x="5838840" y="388584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51"/>
              <p:cNvGrpSpPr/>
              <p:nvPr/>
            </p:nvGrpSpPr>
            <p:grpSpPr>
              <a:xfrm>
                <a:off x="767880" y="4456440"/>
                <a:ext cx="2535480" cy="570600"/>
                <a:chOff x="767880" y="4456440"/>
                <a:chExt cx="2535480" cy="570600"/>
              </a:xfrm>
            </p:grpSpPr>
            <p:sp>
              <p:nvSpPr>
                <p:cNvPr id="181" name="Rectangle 52"/>
                <p:cNvSpPr/>
                <p:nvPr/>
              </p:nvSpPr>
              <p:spPr>
                <a:xfrm>
                  <a:off x="857160" y="44564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семенни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53"/>
                <p:cNvSpPr/>
                <p:nvPr/>
              </p:nvSpPr>
              <p:spPr>
                <a:xfrm>
                  <a:off x="767880" y="445644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54"/>
              <p:cNvGrpSpPr/>
              <p:nvPr/>
            </p:nvGrpSpPr>
            <p:grpSpPr>
              <a:xfrm>
                <a:off x="3303720" y="4456440"/>
                <a:ext cx="2534760" cy="570600"/>
                <a:chOff x="3303720" y="4456440"/>
                <a:chExt cx="2534760" cy="570600"/>
              </a:xfrm>
            </p:grpSpPr>
            <p:sp>
              <p:nvSpPr>
                <p:cNvPr id="184" name="Rectangle 55"/>
                <p:cNvSpPr/>
                <p:nvPr/>
              </p:nvSpPr>
              <p:spPr>
                <a:xfrm>
                  <a:off x="3392640" y="44564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организ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56"/>
                <p:cNvSpPr/>
                <p:nvPr/>
              </p:nvSpPr>
              <p:spPr>
                <a:xfrm>
                  <a:off x="3303720" y="445644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7"/>
              <p:cNvGrpSpPr/>
              <p:nvPr/>
            </p:nvGrpSpPr>
            <p:grpSpPr>
              <a:xfrm>
                <a:off x="5838840" y="4456440"/>
                <a:ext cx="2535480" cy="570600"/>
                <a:chOff x="5838840" y="4456440"/>
                <a:chExt cx="2535480" cy="570600"/>
              </a:xfrm>
            </p:grpSpPr>
            <p:sp>
              <p:nvSpPr>
                <p:cNvPr id="187" name="Rectangle 58"/>
                <p:cNvSpPr/>
                <p:nvPr/>
              </p:nvSpPr>
              <p:spPr>
                <a:xfrm>
                  <a:off x="5928120" y="445644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изводит яйцеклет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59"/>
                <p:cNvSpPr/>
                <p:nvPr/>
              </p:nvSpPr>
              <p:spPr>
                <a:xfrm>
                  <a:off x="5838840" y="445644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60"/>
              <p:cNvGrpSpPr/>
              <p:nvPr/>
            </p:nvGrpSpPr>
            <p:grpSpPr>
              <a:xfrm>
                <a:off x="767880" y="5027400"/>
                <a:ext cx="2535480" cy="570600"/>
                <a:chOff x="767880" y="5027400"/>
                <a:chExt cx="2535480" cy="570600"/>
              </a:xfrm>
            </p:grpSpPr>
            <p:sp>
              <p:nvSpPr>
                <p:cNvPr id="190" name="Rectangle 61"/>
                <p:cNvSpPr/>
                <p:nvPr/>
              </p:nvSpPr>
              <p:spPr>
                <a:xfrm>
                  <a:off x="857160" y="502740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мат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62"/>
                <p:cNvSpPr/>
                <p:nvPr/>
              </p:nvSpPr>
              <p:spPr>
                <a:xfrm>
                  <a:off x="767880" y="502740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63"/>
              <p:cNvGrpSpPr/>
              <p:nvPr/>
            </p:nvGrpSpPr>
            <p:grpSpPr>
              <a:xfrm>
                <a:off x="3303720" y="5027400"/>
                <a:ext cx="2534760" cy="570600"/>
                <a:chOff x="3303720" y="5027400"/>
                <a:chExt cx="2534760" cy="570600"/>
              </a:xfrm>
            </p:grpSpPr>
            <p:sp>
              <p:nvSpPr>
                <p:cNvPr id="193" name="Rectangle 64"/>
                <p:cNvSpPr/>
                <p:nvPr/>
              </p:nvSpPr>
              <p:spPr>
                <a:xfrm>
                  <a:off x="3392640" y="502740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65"/>
                <p:cNvSpPr/>
                <p:nvPr/>
              </p:nvSpPr>
              <p:spPr>
                <a:xfrm>
                  <a:off x="3303720" y="5027400"/>
                  <a:ext cx="253476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66"/>
              <p:cNvGrpSpPr/>
              <p:nvPr/>
            </p:nvGrpSpPr>
            <p:grpSpPr>
              <a:xfrm>
                <a:off x="5838840" y="5027400"/>
                <a:ext cx="2535480" cy="570600"/>
                <a:chOff x="5838840" y="5027400"/>
                <a:chExt cx="2535480" cy="570600"/>
              </a:xfrm>
            </p:grpSpPr>
            <p:sp>
              <p:nvSpPr>
                <p:cNvPr id="196" name="Rectangle 67"/>
                <p:cNvSpPr/>
                <p:nvPr/>
              </p:nvSpPr>
              <p:spPr>
                <a:xfrm>
                  <a:off x="5928120" y="5027400"/>
                  <a:ext cx="2356920" cy="57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бразуются в семенника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68"/>
                <p:cNvSpPr/>
                <p:nvPr/>
              </p:nvSpPr>
              <p:spPr>
                <a:xfrm>
                  <a:off x="5838840" y="5027400"/>
                  <a:ext cx="2535480" cy="57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69"/>
              <p:cNvGrpSpPr/>
              <p:nvPr/>
            </p:nvGrpSpPr>
            <p:grpSpPr>
              <a:xfrm>
                <a:off x="767880" y="5598000"/>
                <a:ext cx="2535480" cy="570240"/>
                <a:chOff x="767880" y="5598000"/>
                <a:chExt cx="2535480" cy="570240"/>
              </a:xfrm>
            </p:grpSpPr>
            <p:sp>
              <p:nvSpPr>
                <p:cNvPr id="199" name="Rectangle 70"/>
                <p:cNvSpPr/>
                <p:nvPr/>
              </p:nvSpPr>
              <p:spPr>
                <a:xfrm>
                  <a:off x="857160" y="559800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яични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71"/>
                <p:cNvSpPr/>
                <p:nvPr/>
              </p:nvSpPr>
              <p:spPr>
                <a:xfrm>
                  <a:off x="767880" y="5598000"/>
                  <a:ext cx="25354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72"/>
              <p:cNvGrpSpPr/>
              <p:nvPr/>
            </p:nvGrpSpPr>
            <p:grpSpPr>
              <a:xfrm>
                <a:off x="3303720" y="5598000"/>
                <a:ext cx="2534760" cy="570240"/>
                <a:chOff x="3303720" y="5598000"/>
                <a:chExt cx="2534760" cy="570240"/>
              </a:xfrm>
            </p:grpSpPr>
            <p:sp>
              <p:nvSpPr>
                <p:cNvPr id="202" name="Rectangle 73"/>
                <p:cNvSpPr/>
                <p:nvPr/>
              </p:nvSpPr>
              <p:spPr>
                <a:xfrm>
                  <a:off x="3392640" y="559800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74"/>
                <p:cNvSpPr/>
                <p:nvPr/>
              </p:nvSpPr>
              <p:spPr>
                <a:xfrm>
                  <a:off x="3303720" y="5598000"/>
                  <a:ext cx="253476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75"/>
              <p:cNvGrpSpPr/>
              <p:nvPr/>
            </p:nvGrpSpPr>
            <p:grpSpPr>
              <a:xfrm>
                <a:off x="5838840" y="5598000"/>
                <a:ext cx="2535480" cy="570240"/>
                <a:chOff x="5838840" y="5598000"/>
                <a:chExt cx="2535480" cy="570240"/>
              </a:xfrm>
            </p:grpSpPr>
            <p:sp>
              <p:nvSpPr>
                <p:cNvPr id="205" name="Rectangle 76"/>
                <p:cNvSpPr/>
                <p:nvPr/>
              </p:nvSpPr>
              <p:spPr>
                <a:xfrm>
                  <a:off x="5928120" y="5598000"/>
                  <a:ext cx="2356920" cy="57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оизводит сперматозоиды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77"/>
                <p:cNvSpPr/>
                <p:nvPr/>
              </p:nvSpPr>
              <p:spPr>
                <a:xfrm>
                  <a:off x="5838840" y="5598000"/>
                  <a:ext cx="2535480" cy="57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Rectangle 78"/>
            <p:cNvSpPr/>
            <p:nvPr/>
          </p:nvSpPr>
          <p:spPr>
            <a:xfrm>
              <a:off x="762120" y="1600200"/>
              <a:ext cx="761940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Новотека: Новости - Кто бы мог подумать. Ученые доказали, что для рождения сперматозоидов необходима. женская Х-хромосома"/>
          <p:cNvPicPr/>
          <p:nvPr/>
        </p:nvPicPr>
        <p:blipFill>
          <a:blip r:embed="rId1"/>
          <a:stretch/>
        </p:blipFill>
        <p:spPr>
          <a:xfrm>
            <a:off x="330120" y="304920"/>
            <a:ext cx="8439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ается наличием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лов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при участии гаплоидных половых клеток -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га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меты формируются в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х орган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ужских и женских ос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бъединение генетического материала родительских особей,  результате чего увеличивается генетическое разнообразие потомства и его жизнестой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ологически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66680" y="12952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зависимости от производим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90720" y="28195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04920" y="2438280"/>
            <a:ext cx="41148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здельнопо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самки, сам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648320" y="2438280"/>
            <a:ext cx="41148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епо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гермафрод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ужская полов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U12_01_03"/>
          <p:cNvPicPr/>
          <p:nvPr/>
        </p:nvPicPr>
        <p:blipFill>
          <a:blip r:embed="rId1"/>
          <a:stretch/>
        </p:blipFill>
        <p:spPr>
          <a:xfrm>
            <a:off x="380880" y="2438280"/>
            <a:ext cx="353088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Picture 4" descr="U12_01_01"/>
          <p:cNvPicPr/>
          <p:nvPr/>
        </p:nvPicPr>
        <p:blipFill>
          <a:blip r:embed="rId2"/>
          <a:stretch/>
        </p:blipFill>
        <p:spPr>
          <a:xfrm>
            <a:off x="5181480" y="2438280"/>
            <a:ext cx="3621240" cy="3980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" name="Rectangle 5"/>
          <p:cNvSpPr/>
          <p:nvPr/>
        </p:nvSpPr>
        <p:spPr>
          <a:xfrm>
            <a:off x="4788000" y="189000"/>
            <a:ext cx="41274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Женская  полов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5400000">
            <a:off x="1978200" y="1413360"/>
            <a:ext cx="936720" cy="792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rot="5400000">
            <a:off x="6300000" y="1485000"/>
            <a:ext cx="936360" cy="792000"/>
          </a:xfrm>
          <a:custGeom>
            <a:avLst/>
            <a:gdLst>
              <a:gd name="textAreaLeft" fmla="*/ 146160 w 936360"/>
              <a:gd name="textAreaRight" fmla="*/ 819360 w 93636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143000" y="762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Мужская по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2438280"/>
            <a:ext cx="3733560" cy="27151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Внутрен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ем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емявыводящие прот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еменные пузыр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дстатель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648320" y="1447920"/>
            <a:ext cx="1752480" cy="761760"/>
          </a:xfrm>
          <a:prstGeom prst="line">
            <a:avLst/>
          </a:prstGeom>
          <a:ln w="7632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2895120" y="1447920"/>
            <a:ext cx="1752840" cy="761760"/>
          </a:xfrm>
          <a:prstGeom prst="line">
            <a:avLst/>
          </a:prstGeom>
          <a:ln w="7632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876920" y="2438280"/>
            <a:ext cx="373356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Нару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вой ч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ш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371600" y="228600"/>
            <a:ext cx="73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Мужская по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413000"/>
            <a:ext cx="169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00000" y="2133720"/>
            <a:ext cx="18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2492280"/>
            <a:ext cx="194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332000" y="1052640"/>
            <a:ext cx="223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1413000"/>
            <a:ext cx="1982520" cy="4597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85800" y="3573360"/>
            <a:ext cx="1981080" cy="5806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явыносящий про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203640" y="4292640"/>
            <a:ext cx="1081080" cy="3373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е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666880" y="5661000"/>
            <a:ext cx="2121120" cy="642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тель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57200" y="4724280"/>
            <a:ext cx="2514600" cy="5806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чеиспускательный ка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84360" y="2349360"/>
            <a:ext cx="1982520" cy="5806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релые сперматозои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447920" y="198108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1447920" y="30481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6"/>
          <p:cNvSpPr/>
          <p:nvPr/>
        </p:nvSpPr>
        <p:spPr>
          <a:xfrm>
            <a:off x="1447920" y="41911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2484360" y="4365720"/>
            <a:ext cx="503280" cy="215640"/>
          </a:xfrm>
          <a:prstGeom prst="leftArrow">
            <a:avLst>
              <a:gd name="adj1" fmla="val 50000"/>
              <a:gd name="adj2" fmla="val 58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3635280" y="486900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2819520" y="2666880"/>
            <a:ext cx="2666880" cy="216000"/>
          </a:xfrm>
          <a:prstGeom prst="rightArrow">
            <a:avLst>
              <a:gd name="adj1" fmla="val 50000"/>
              <a:gd name="adj2" fmla="val 308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U12_01_05"/>
          <p:cNvPicPr/>
          <p:nvPr/>
        </p:nvPicPr>
        <p:blipFill>
          <a:blip r:embed="rId1"/>
          <a:stretch/>
        </p:blipFill>
        <p:spPr>
          <a:xfrm>
            <a:off x="5638680" y="990720"/>
            <a:ext cx="27752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Text Box 21"/>
          <p:cNvSpPr/>
          <p:nvPr/>
        </p:nvSpPr>
        <p:spPr>
          <a:xfrm>
            <a:off x="5029200" y="4495680"/>
            <a:ext cx="3889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ирина сперматозоида человека около 0,005 мм, длина 0,06-0,07 мм, а масса 0,0000000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1 см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спермы содержится от 20 до 60 миллионов сперматозо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8229600" y="6172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3" descr="сперматозоиды человека"/>
          <p:cNvPicPr/>
          <p:nvPr/>
        </p:nvPicPr>
        <p:blipFill>
          <a:blip r:embed="rId2"/>
          <a:stretch/>
        </p:blipFill>
        <p:spPr>
          <a:xfrm>
            <a:off x="3200400" y="10666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90" name="сперматозоиды.avi" descr=""/>
          <p:cNvPicPr/>
          <p:nvPr/>
        </p:nvPicPr>
        <p:blipFill>
          <a:blip r:embed="rId3"/>
          <a:stretch/>
        </p:blipFill>
        <p:spPr>
          <a:xfrm>
            <a:off x="5486400" y="10666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xit" presetID="1" repeatCount="100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19600" y="0"/>
            <a:ext cx="72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Половые клетк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11"/>
          <p:cNvPicPr/>
          <p:nvPr/>
        </p:nvPicPr>
        <p:blipFill>
          <a:blip r:embed="rId1"/>
          <a:stretch/>
        </p:blipFill>
        <p:spPr>
          <a:xfrm>
            <a:off x="2209680" y="685800"/>
            <a:ext cx="4876920" cy="6021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" name="Line 6"/>
          <p:cNvSpPr/>
          <p:nvPr/>
        </p:nvSpPr>
        <p:spPr>
          <a:xfrm>
            <a:off x="2209680" y="1523880"/>
            <a:ext cx="990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286000" y="1295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8080"/>
                </a:solidFill>
                <a:latin typeface="Book Antiqua"/>
              </a:rPr>
              <a:t>акросо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43000" y="762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c7e00"/>
                </a:solidFill>
                <a:latin typeface="Comic Sans MS"/>
              </a:rPr>
              <a:t>Женская по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438280"/>
            <a:ext cx="2971800" cy="2349360"/>
          </a:xfrm>
          <a:prstGeom prst="rect">
            <a:avLst/>
          </a:prstGeom>
          <a:noFill/>
          <a:ln w="2844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Внутрен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и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точные тр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лага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638680" y="2438280"/>
            <a:ext cx="2743200" cy="2450160"/>
          </a:xfrm>
          <a:prstGeom prst="rect">
            <a:avLst/>
          </a:prstGeom>
          <a:noFill/>
          <a:ln w="2844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Нару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вые г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4648320" y="1447920"/>
            <a:ext cx="1752480" cy="761760"/>
          </a:xfrm>
          <a:prstGeom prst="line">
            <a:avLst/>
          </a:prstGeom>
          <a:ln w="76320">
            <a:solidFill>
              <a:srgbClr val="fc7e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 flipH="1">
            <a:off x="2895120" y="1447920"/>
            <a:ext cx="1752840" cy="761760"/>
          </a:xfrm>
          <a:prstGeom prst="line">
            <a:avLst/>
          </a:prstGeom>
          <a:ln w="76320">
            <a:solidFill>
              <a:srgbClr val="fc7e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и</dc:creator>
  <dc:description/>
  <dc:language>en-US</dc:language>
  <cp:lastModifiedBy>натали</cp:lastModifiedBy>
  <dcterms:modified xsi:type="dcterms:W3CDTF">2015-04-28T08:04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