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821-D268-4053-A5FF-4148872B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034-AEBF-4996-99A3-DB8A081D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3EA-1E6A-4066-B648-F2ECBD9C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63D-5646-4315-B4D4-8FEF9268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711C-18FE-4DB5-8B4E-2DF365A4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40CC-27C7-4312-ABB5-675D2F9E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964C-4164-40E4-A411-C2888018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0B27-1CA0-487C-BDB4-98B50321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1DF8-C560-423C-AD03-AF54EEF0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0BEA-0B47-41B4-BC0A-1167E68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25D7-CE9B-4FF2-B920-D0CBC1A1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D87-F89A-47F4-9269-6F3D5BD7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5A5F-010A-4AC6-88B5-DED10BA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B538-257A-491D-AF2F-B829555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476A-1C6E-4D2F-B729-16262790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CB40-6452-4667-8996-3DD8396A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3DAE-E7B9-4355-A766-C860D68A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83F-469D-45F7-96A6-EDB7AB0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82F-B5CC-4309-8320-81E96D63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10D-BD1E-495D-A61B-0A6C87DF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3E7-24FD-4718-A6A2-AB41F5D3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4A6-F71D-4B6D-A015-2C42ADEF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53D-9A6A-427D-BE7A-AD681B7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815-D8DB-45BC-992E-6EAC26E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BBAF-6C4C-49C3-A4B4-CFFE6E3E172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799E-C416-4CBA-83B3-B1C07C0A675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pedsite.ru/" TargetMode="External"/><Relationship Id="rId3" Type="http://schemas.openxmlformats.org/officeDocument/2006/relationships/hyperlink" Target="http://pedsite.ru/" TargetMode="External"/><Relationship Id="rId4" Type="http://schemas.openxmlformats.org/officeDocument/2006/relationships/hyperlink" Target="http://pedsite.ru/" TargetMode="External"/><Relationship Id="rId5" Type="http://schemas.openxmlformats.org/officeDocument/2006/relationships/hyperlink" Target="http://pedsite.ru/" TargetMode="External"/><Relationship Id="rId6" Type="http://schemas.openxmlformats.org/officeDocument/2006/relationships/hyperlink" Target="http://pedsite.ru/" TargetMode="External"/><Relationship Id="rId7" Type="http://schemas.openxmlformats.org/officeDocument/2006/relationships/hyperlink" Target="http://pedsite.ru/" TargetMode="External"/><Relationship Id="rId8" Type="http://schemas.openxmlformats.org/officeDocument/2006/relationships/hyperlink" Target="http://pedsite.ru/" TargetMode="External"/><Relationship Id="rId9" Type="http://schemas.openxmlformats.org/officeDocument/2006/relationships/hyperlink" Target="http://medalingrad.ru/" TargetMode="External"/><Relationship Id="rId10" Type="http://schemas.openxmlformats.org/officeDocument/2006/relationships/hyperlink" Target="http://medalingrad.ru/" TargetMode="External"/><Relationship Id="rId11" Type="http://schemas.openxmlformats.org/officeDocument/2006/relationships/hyperlink" Target="http://pedsite.ru/" TargetMode="External"/><Relationship Id="rId12" Type="http://schemas.openxmlformats.org/officeDocument/2006/relationships/hyperlink" Target="http://pedsite.ru/" TargetMode="External"/><Relationship Id="rId13" Type="http://schemas.openxmlformats.org/officeDocument/2006/relationships/hyperlink" Target="http://pedsite.ru/" TargetMode="External"/><Relationship Id="rId14" Type="http://schemas.openxmlformats.org/officeDocument/2006/relationships/hyperlink" Target="http://pedsite.ru/" TargetMode="External"/><Relationship Id="rId15" Type="http://schemas.openxmlformats.org/officeDocument/2006/relationships/hyperlink" Target="http://pedsite.ru/" TargetMode="External"/><Relationship Id="rId16" Type="http://schemas.openxmlformats.org/officeDocument/2006/relationships/hyperlink" Target="http://medalingrad.ru/" TargetMode="External"/><Relationship Id="rId17" Type="http://schemas.openxmlformats.org/officeDocument/2006/relationships/hyperlink" Target="http://medalingrad.ru/" TargetMode="External"/><Relationship Id="rId18" Type="http://schemas.openxmlformats.org/officeDocument/2006/relationships/hyperlink" Target="http://pedsite.ru/" TargetMode="External"/><Relationship Id="rId19" Type="http://schemas.openxmlformats.org/officeDocument/2006/relationships/hyperlink" Target="http://pedsite.ru/" TargetMode="External"/><Relationship Id="rId20" Type="http://schemas.openxmlformats.org/officeDocument/2006/relationships/hyperlink" Target="http://pedsite.ru/" TargetMode="External"/><Relationship Id="rId21" Type="http://schemas.openxmlformats.org/officeDocument/2006/relationships/hyperlink" Target="http://medalingrad.ru/" TargetMode="External"/><Relationship Id="rId22" Type="http://schemas.openxmlformats.org/officeDocument/2006/relationships/hyperlink" Target="http://medalingrad.ru/" TargetMode="External"/><Relationship Id="rId23" Type="http://schemas.openxmlformats.org/officeDocument/2006/relationships/hyperlink" Target="http://medalingrad.ru/" TargetMode="External"/><Relationship Id="rId24" Type="http://schemas.openxmlformats.org/officeDocument/2006/relationships/hyperlink" Target="http://medalingrad.ru/" TargetMode="External"/><Relationship Id="rId25" Type="http://schemas.openxmlformats.org/officeDocument/2006/relationships/hyperlink" Target="http://medalingrad.ru/" TargetMode="External"/><Relationship Id="rId26" Type="http://schemas.openxmlformats.org/officeDocument/2006/relationships/hyperlink" Target="http://medalingrad.ru/" TargetMode="External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284800" y="219240"/>
            <a:ext cx="3687840" cy="1847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DSC00238.JPG"/>
          <p:cNvPicPr/>
          <p:nvPr/>
        </p:nvPicPr>
        <p:blipFill>
          <a:blip r:embed="rId2"/>
          <a:stretch/>
        </p:blipFill>
        <p:spPr>
          <a:xfrm>
            <a:off x="5370480" y="3822840"/>
            <a:ext cx="3913200" cy="3236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64000" y="2060640"/>
            <a:ext cx="360072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ОШ №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Гуково, Ростовской област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2" descr="C:\Documents and Settings\Admin\Мои документы\АННА МЕЛИХОВА\документация по музыке\портфолио1.JPG"/>
          <p:cNvPicPr/>
          <p:nvPr/>
        </p:nvPicPr>
        <p:blipFill>
          <a:blip r:embed="rId3"/>
          <a:stretch/>
        </p:blipFill>
        <p:spPr>
          <a:xfrm>
            <a:off x="179280" y="0"/>
            <a:ext cx="50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 Грамота отдела образования администрации г.Гуково, Ростовской области (№ 229 от 28.09.2010г.)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 Благодарственное письмо министерства общего и профессионального образования Ростовской области (№ 06-н от 03.03.2014г.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63680" y="42840"/>
            <a:ext cx="8242200" cy="9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907920"/>
          <a:ext cx="8785440" cy="56674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94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работка урока на тему: «История возрождения Гимна России» с аудиофайлами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йте учителя музыки </a:t>
                      </a: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ttp://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Book Antiqua"/>
                        </a:rPr>
                        <a:t>nsportal</a:t>
                      </a: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.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Book Antiqua"/>
                        </a:rPr>
                        <a:t>ru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идетельство  № 8947 от 09.12.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йт учителя музыки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"/>
                        </a:rPr>
                        <a:t>://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4"/>
                        </a:rPr>
                        <a:t>pedsite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5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6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роект на тему: «Значение музыки И.С.Баха на 21 век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льно-литературная композиция «Эхо войны» на сайте учителя музыки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7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8"/>
                        </a:rPr>
                        <a:t>://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9"/>
                        </a:rPr>
                        <a:t>konkurs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0"/>
                        </a:rPr>
                        <a:t>@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1"/>
                        </a:rPr>
                        <a:t>pedsite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2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3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свидетельство 5538 от 02.03.2015г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йт учителя музыки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4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5"/>
                        </a:rPr>
                        <a:t>://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6"/>
                        </a:rPr>
                        <a:t>konkurs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7"/>
                        </a:rPr>
                        <a:t>@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8"/>
                        </a:rPr>
                        <a:t>pedsite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9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0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Методические рекомендации по использованию основных целей и задач по музыке в общеобразовательной школе в условиях введения ФГОС» (свидетельство  № 4937 от 26.02.20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1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2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3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4"/>
                        </a:rPr>
                        <a:t>konkurs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5"/>
                        </a:rPr>
                        <a:t>@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6"/>
                        </a:rPr>
                        <a:t>medalingrad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ook Antiqua"/>
                        </a:rPr>
                        <a:t>ru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ческий конкурс педагогов «Лучшее портфолио учителя» Диплом № 77 от 26.03.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йт учителя музыки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ttp:/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oshkolu.ru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урока на тему: «Память о великом подвиге» 1место   Диплом № 12 от 05.05.13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ttp://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ook Antiqua"/>
                        </a:rPr>
                        <a:t>rassudariki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ook Antiqua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бедител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есто) Всероссийского конкурса педагогов в номинации лучший сценарий. Работа «Музыкальный турнир» № диплом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AS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5509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8:29:34Z</dcterms:created>
  <dc:creator>Admin</dc:creator>
  <dc:description/>
  <dc:language>en-US</dc:language>
  <cp:lastModifiedBy>Admin</cp:lastModifiedBy>
  <dcterms:modified xsi:type="dcterms:W3CDTF">2015-04-28T18:19:27Z</dcterms:modified>
  <cp:revision>49</cp:revision>
  <dc:subject/>
  <dc:title>Слайд 1</dc:title>
</cp:coreProperties>
</file>