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D85-98A4-4C9B-8250-DC880D8E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CDE-BB4E-46C0-9697-5830E9B1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F10-A193-4896-94C3-7E872AAB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A6B-2FBA-4122-A960-3421AF15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F841-2472-4C4F-ABA8-424AFEED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09D6-666F-4C61-A9D1-40316C5D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4DE4-9C54-49C0-B3B2-10A5BB17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CF2C-DE11-4D2C-A1F7-38FCAA7E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5721-1FB8-45BF-AB45-C37E1C9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78AE-EF40-43C6-85D3-53E61E1E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CBA8-4BE4-4FFA-990E-9B2E7C93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417-80FB-4458-B4D8-883C94CA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1264-8C8D-4624-BEC4-D75F502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7391-0CBC-471E-B059-1883D82C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31E6-5EB5-458C-8825-C85D70E7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3FAB-06B3-449C-96F3-295CD097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B17A-E1D9-41EC-B776-F6B80AEA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FD6-5342-4D47-9461-3805A22D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EAD-AA98-4C98-8FD0-89073255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BAB-4919-4D38-AFA4-0BA5B057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38D-774E-40E1-A011-3759C755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40C-5433-496A-BC66-0A2B3667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061-C1BD-423A-BE82-0E2C2735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EBE-C583-4A35-90B0-E101D4B2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C45B-B932-4F95-B3B0-6D497C81E37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B0FF-411B-452D-BD61-74ACB3D3AD7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pedsite.ru/" TargetMode="External"/><Relationship Id="rId3" Type="http://schemas.openxmlformats.org/officeDocument/2006/relationships/hyperlink" Target="http://pedsite.ru/" TargetMode="External"/><Relationship Id="rId4" Type="http://schemas.openxmlformats.org/officeDocument/2006/relationships/hyperlink" Target="http://pedsite.ru/" TargetMode="External"/><Relationship Id="rId5" Type="http://schemas.openxmlformats.org/officeDocument/2006/relationships/hyperlink" Target="http://pedsite.ru/" TargetMode="External"/><Relationship Id="rId6" Type="http://schemas.openxmlformats.org/officeDocument/2006/relationships/hyperlink" Target="http://pedsite.ru/" TargetMode="External"/><Relationship Id="rId7" Type="http://schemas.openxmlformats.org/officeDocument/2006/relationships/hyperlink" Target="http://pedsite.ru/" TargetMode="External"/><Relationship Id="rId8" Type="http://schemas.openxmlformats.org/officeDocument/2006/relationships/hyperlink" Target="http://pedsite.ru/" TargetMode="External"/><Relationship Id="rId9" Type="http://schemas.openxmlformats.org/officeDocument/2006/relationships/hyperlink" Target="http://medalingrad.ru/" TargetMode="External"/><Relationship Id="rId10" Type="http://schemas.openxmlformats.org/officeDocument/2006/relationships/hyperlink" Target="http://medalingrad.ru/" TargetMode="External"/><Relationship Id="rId11" Type="http://schemas.openxmlformats.org/officeDocument/2006/relationships/hyperlink" Target="http://pedsite.ru/" TargetMode="External"/><Relationship Id="rId12" Type="http://schemas.openxmlformats.org/officeDocument/2006/relationships/hyperlink" Target="http://pedsite.ru/" TargetMode="External"/><Relationship Id="rId13" Type="http://schemas.openxmlformats.org/officeDocument/2006/relationships/hyperlink" Target="http://pedsite.ru/" TargetMode="External"/><Relationship Id="rId14" Type="http://schemas.openxmlformats.org/officeDocument/2006/relationships/hyperlink" Target="http://pedsite.ru/" TargetMode="External"/><Relationship Id="rId15" Type="http://schemas.openxmlformats.org/officeDocument/2006/relationships/hyperlink" Target="http://pedsite.ru/" TargetMode="External"/><Relationship Id="rId16" Type="http://schemas.openxmlformats.org/officeDocument/2006/relationships/hyperlink" Target="http://medalingrad.ru/" TargetMode="External"/><Relationship Id="rId17" Type="http://schemas.openxmlformats.org/officeDocument/2006/relationships/hyperlink" Target="http://medalingrad.ru/" TargetMode="External"/><Relationship Id="rId18" Type="http://schemas.openxmlformats.org/officeDocument/2006/relationships/hyperlink" Target="http://pedsite.ru/" TargetMode="External"/><Relationship Id="rId19" Type="http://schemas.openxmlformats.org/officeDocument/2006/relationships/hyperlink" Target="http://pedsite.ru/" TargetMode="External"/><Relationship Id="rId20" Type="http://schemas.openxmlformats.org/officeDocument/2006/relationships/hyperlink" Target="http://pedsite.ru/" TargetMode="External"/><Relationship Id="rId21" Type="http://schemas.openxmlformats.org/officeDocument/2006/relationships/hyperlink" Target="http://medalingrad.ru/" TargetMode="External"/><Relationship Id="rId22" Type="http://schemas.openxmlformats.org/officeDocument/2006/relationships/hyperlink" Target="http://medalingrad.ru/" TargetMode="External"/><Relationship Id="rId23" Type="http://schemas.openxmlformats.org/officeDocument/2006/relationships/hyperlink" Target="http://medalingrad.ru/" TargetMode="External"/><Relationship Id="rId24" Type="http://schemas.openxmlformats.org/officeDocument/2006/relationships/hyperlink" Target="http://medalingrad.ru/" TargetMode="External"/><Relationship Id="rId25" Type="http://schemas.openxmlformats.org/officeDocument/2006/relationships/hyperlink" Target="http://medalingrad.ru/" TargetMode="External"/><Relationship Id="rId26" Type="http://schemas.openxmlformats.org/officeDocument/2006/relationships/hyperlink" Target="http://medalingrad.ru/" TargetMode="External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284800" y="219240"/>
            <a:ext cx="3687840" cy="18475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DSC00238.JPG"/>
          <p:cNvPicPr/>
          <p:nvPr/>
        </p:nvPicPr>
        <p:blipFill>
          <a:blip r:embed="rId2"/>
          <a:stretch/>
        </p:blipFill>
        <p:spPr>
          <a:xfrm>
            <a:off x="5370480" y="3822840"/>
            <a:ext cx="3913200" cy="3236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64000" y="2060640"/>
            <a:ext cx="360072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ОШ №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Гуково, Ростовской област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2" descr="C:\Documents and Settings\Admin\Мои документы\АННА МЕЛИХОВА\документация по музыке\портфолио1.JPG"/>
          <p:cNvPicPr/>
          <p:nvPr/>
        </p:nvPicPr>
        <p:blipFill>
          <a:blip r:embed="rId3"/>
          <a:stretch/>
        </p:blipFill>
        <p:spPr>
          <a:xfrm>
            <a:off x="179280" y="0"/>
            <a:ext cx="50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 Грамота отдела образования администрации г.Гуково, Ростовской области (№ 229 от 28.09.2010г.)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 Благодарственное письмо министерства общего и профессионального образования Ростовской области (№ 06-н от 03.03.2014г.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63680" y="42840"/>
            <a:ext cx="8242200" cy="9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907920"/>
          <a:ext cx="8785440" cy="56674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94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работка урока на тему: «История возрождения Гимна России» с аудиофайлами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йте учителя музыки </a:t>
                      </a: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ttp://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Book Antiqua"/>
                        </a:rPr>
                        <a:t>nsportal</a:t>
                      </a: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.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Book Antiqua"/>
                        </a:rPr>
                        <a:t>ru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идетельство  № 8947 от 09.12.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йт учителя музыки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"/>
                        </a:rPr>
                        <a:t>://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4"/>
                        </a:rPr>
                        <a:t>pedsite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5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6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роект на тему: «Значение музыки И.С.Баха на 21 век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льно-литературная композиция «Эхо войны» на сайте учителя музыки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7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8"/>
                        </a:rPr>
                        <a:t>://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9"/>
                        </a:rPr>
                        <a:t>konkurs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0"/>
                        </a:rPr>
                        <a:t>@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1"/>
                        </a:rPr>
                        <a:t>pedsite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2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3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свидетельство 5538 от 02.03.2015г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йт учителя музыки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4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5"/>
                        </a:rPr>
                        <a:t>://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6"/>
                        </a:rPr>
                        <a:t>konkurs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7"/>
                        </a:rPr>
                        <a:t>@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18"/>
                        </a:rPr>
                        <a:t>pedsite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19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0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Методические рекомендации по использованию основных целей и задач по музыке в общеобразовательной школе в условиях введения ФГОС» (свидетельство  № 4937 от 26.02.20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1"/>
                        </a:rPr>
                        <a:t>http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2"/>
                        </a:rPr>
                        <a:t>://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3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4"/>
                        </a:rPr>
                        <a:t>konkurs</a:t>
                      </a: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25"/>
                        </a:rPr>
                        <a:t>@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Book Antiqua"/>
                          <a:hlinkClick r:id="rId26"/>
                        </a:rPr>
                        <a:t>medalingrad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ook Antiqua"/>
                        </a:rPr>
                        <a:t>ru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ческий конкурс педагогов «Лучшее портфолио учителя» Диплом № 77 от 26.03.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йт учителя музыки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http:/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oshkolu.ru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урока на тему: «Память о великом подвиге» 1место   Диплом № 12 от 05.05.13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ttp://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ook Antiqua"/>
                        </a:rPr>
                        <a:t>rassudariki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.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ook Antiqua"/>
                        </a:rPr>
                        <a:t>r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бедител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есто) Всероссийского конкурса педагогов в номинации лучший сценарий. Работа «Музыкальный турнир» № диплом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AS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5509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8:29:34Z</dcterms:created>
  <dc:creator>Admin</dc:creator>
  <dc:description/>
  <dc:language>en-US</dc:language>
  <cp:lastModifiedBy>Admin</cp:lastModifiedBy>
  <dcterms:modified xsi:type="dcterms:W3CDTF">2015-04-28T18:19:27Z</dcterms:modified>
  <cp:revision>49</cp:revision>
  <dc:subject/>
  <dc:title>Слайд 1</dc:title>
</cp:coreProperties>
</file>