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65EF-5ECB-4981-B96E-E095DD7C5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1CAA-618F-4454-BE0E-92C53BB24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332D-72F3-4513-A9FF-768447440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7EAA-A0D6-4F22-8627-FEBBC1E21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43AF-5268-4C23-98A5-A9007FA57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87C2-602F-4AD2-9688-93C3C2765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9EDC-1D4B-46F6-B9CE-3F3F851D2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4288-483A-4896-ABDD-B25FB76CA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2AF4-7CDF-4C0F-9889-486CD739EE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0C7F-130E-409E-88E5-F1D6FEFC8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6E75-269D-44C2-B554-A61B8A730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2EB8-69F2-49A5-83F2-91825AC48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8F8D-FD59-4292-A423-D7F1352EC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A6B0-A53B-4238-8B11-5FBE635BF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6231-E0BC-43CB-ACC5-B01B829B34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518-BA92-422A-B6A4-3ABC1E94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FEA-5275-48D2-8E9A-F6E139C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AF1-CC22-4D86-8DA2-7F9F11B3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C00-4310-4D60-90DC-73B08D85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829-EBC8-4DC3-BA66-21B8A372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DF1-C599-47A8-8F2F-8F6AF81A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F13-903E-4324-BFCE-97E200C0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D8B-5C5F-438E-8529-8D53F360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0FB-A965-4F89-BCAB-B6958657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86F-7D22-4DAE-9761-03FABB57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621-01D1-41C4-9DD0-5E132559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19C-1B98-45CA-A147-9EAB407D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480B-DC3C-42F3-9777-17E41FF1A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9280" y="333360"/>
            <a:ext cx="8713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пыт работы на тему:</a:t>
            </a: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Формы работы с семьей в дошкольном учреждении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357280" y="3789360"/>
            <a:ext cx="65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воспитатель  МАДОУ Теремок №5 Савчук Людмила Серге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987640" y="6093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.Троицк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50920" y="95076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79280" y="18900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ые принципы мониторинг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лнота, достоверность, системность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еративность получения сведений и их систематическая актуализ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поставимость получаемых данных, которая обеспечивается единством избранных позиций при сборе и анализе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четание обобщающих и дифференцированных оценок и выв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293148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79280" y="26028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ую роль в осуществлении социально-педагогического мониторинга играет умение социального педагога систематизировать сбор информации и полученные результаты. Способов систематизации может быть несколько. Вот один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семья - это сложная система, социальный педагог принимает во внимание подсистемы внутри семьи, отношения между индивидами и подсистем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79280" y="22820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50920" y="18900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дительская подсистема (мать - отец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педагог концентрирует внимание на взаимодействии брачной пары в качестве родителей ребенка (детей), принятые в семье нормы взаимоотношений: мать – дети, отец – дети, стиль родительского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ный потенциал семьи во многом определяется содержанием и характером функционирования родительской подсистемы. Ошибки, которые допускают родители, их искаженные ценностные установки, противоречия в системах требований и влияние семьи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система «братья - сестры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педагог концентрирует внимание на отношениях детей, особенностях социальной роли каждым ребенком, установившемся в семье разделении обязанностей между братьями – сест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 между детьми в семье - незаменимый опыт общения и взаимодействия длительного характера, когда обязательны распределение обязанностей, терпимость, умение разрешать и предупреждать конфликты, делить проявляемую по отношению к ним заботу и внимание взрослых, и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50920" y="16588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50920" y="18900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система «родители - дети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педагог стремится определить специфические черты взаимодействия между родителями и детьми, границы власти, свободы и ответственности, ставшие нор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педагогическая деятельность с семьей будет эффективна, если она будет основана на комплексном подх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редполагает изучение и использование данны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демографии (изучение рождаемости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социологии и социальной психологии (исследование и анализ  удовлетворенности браком и семейными отношениями, причин семейных конфликтов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едагогики (воспитательная функция семь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а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кономики (бюджет семь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нографии (быт, культурные особенност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стории и философии (исторические формы семьи, брака, проблемы семейного счастья, долг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ли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286000" y="225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50920" y="260280"/>
            <a:ext cx="864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ая деформация семьи приводит к негативным последствиям в развитии личности подро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деляют два типа деформации семьи: структурную и психологическ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уктурная деформ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мьи есть не что иное, как нарушение ее структурной целостности, что в настоящее время связывается с отсутствием одного из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сихологическая деформ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мьи связана с нарушением системы межличностных отношений в ней, а также с принятием и реализацией в семье системы негативных ценностей, асоциальных установ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8000" y="189000"/>
            <a:ext cx="885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едагог, исследующий социальное воспитание в контексте социализации, т.е. воспитание всех возрастных групп и социальных категорий людей, осуществляемое как в организациях специально созданных для этого,  так и в организациях, для которых воспитание не является основной функцией (например, предприят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его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здание благоприятных условий для личностного развития ребёнка (физического, социального, духовно-нравственного, интеллектуального), оказание ему комплексной социально-психологической помощи, а также защита ребёнка в его жизненном пространстве. Социальный педагог выступает посредником между ребёнком и взрослым, ребёнком и его окружением, а также в роли наставника при непосредственном общении с ребёнком или его окру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роводит социальную диагностику семей, составляет программу помощи семье, просвещает родителей в вопросах воспита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социального педагога с семьей включает три основных составляющих социально-педагогической помо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разовательн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сихолог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средничес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556000" y="260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5"/>
          <p:cNvSpPr/>
          <p:nvPr/>
        </p:nvSpPr>
        <p:spPr>
          <a:xfrm>
            <a:off x="2484360" y="260280"/>
            <a:ext cx="424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педагогическая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6"/>
          <p:cNvSpPr/>
          <p:nvPr/>
        </p:nvSpPr>
        <p:spPr>
          <a:xfrm>
            <a:off x="395280" y="162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7"/>
          <p:cNvSpPr/>
          <p:nvPr/>
        </p:nvSpPr>
        <p:spPr>
          <a:xfrm>
            <a:off x="3851280" y="162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8"/>
          <p:cNvSpPr/>
          <p:nvPr/>
        </p:nvSpPr>
        <p:spPr>
          <a:xfrm>
            <a:off x="6804000" y="162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9"/>
          <p:cNvSpPr/>
          <p:nvPr/>
        </p:nvSpPr>
        <p:spPr>
          <a:xfrm>
            <a:off x="61128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0"/>
          <p:cNvSpPr/>
          <p:nvPr/>
        </p:nvSpPr>
        <p:spPr>
          <a:xfrm>
            <a:off x="971640" y="2060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1"/>
          <p:cNvSpPr/>
          <p:nvPr/>
        </p:nvSpPr>
        <p:spPr>
          <a:xfrm>
            <a:off x="971640" y="234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2"/>
          <p:cNvSpPr/>
          <p:nvPr/>
        </p:nvSpPr>
        <p:spPr>
          <a:xfrm>
            <a:off x="4211640" y="2060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3"/>
          <p:cNvSpPr/>
          <p:nvPr/>
        </p:nvSpPr>
        <p:spPr>
          <a:xfrm>
            <a:off x="4211640" y="242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4"/>
          <p:cNvSpPr/>
          <p:nvPr/>
        </p:nvSpPr>
        <p:spPr>
          <a:xfrm>
            <a:off x="7020000" y="20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5"/>
          <p:cNvSpPr/>
          <p:nvPr/>
        </p:nvSpPr>
        <p:spPr>
          <a:xfrm>
            <a:off x="7020000" y="24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6"/>
          <p:cNvSpPr/>
          <p:nvPr/>
        </p:nvSpPr>
        <p:spPr>
          <a:xfrm>
            <a:off x="7020000" y="2781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7"/>
          <p:cNvSpPr/>
          <p:nvPr/>
        </p:nvSpPr>
        <p:spPr>
          <a:xfrm flipH="1">
            <a:off x="1547640" y="1268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8"/>
          <p:cNvSpPr/>
          <p:nvPr/>
        </p:nvSpPr>
        <p:spPr>
          <a:xfrm flipH="1">
            <a:off x="651636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9"/>
          <p:cNvSpPr/>
          <p:nvPr/>
        </p:nvSpPr>
        <p:spPr>
          <a:xfrm>
            <a:off x="1547640" y="1268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1"/>
          <p:cNvSpPr/>
          <p:nvPr/>
        </p:nvSpPr>
        <p:spPr>
          <a:xfrm>
            <a:off x="471636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2"/>
          <p:cNvSpPr/>
          <p:nvPr/>
        </p:nvSpPr>
        <p:spPr>
          <a:xfrm>
            <a:off x="7667640" y="1268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4"/>
          <p:cNvSpPr/>
          <p:nvPr/>
        </p:nvSpPr>
        <p:spPr>
          <a:xfrm>
            <a:off x="611280" y="19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5"/>
          <p:cNvSpPr/>
          <p:nvPr/>
        </p:nvSpPr>
        <p:spPr>
          <a:xfrm>
            <a:off x="3995640" y="19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6"/>
          <p:cNvSpPr/>
          <p:nvPr/>
        </p:nvSpPr>
        <p:spPr>
          <a:xfrm>
            <a:off x="6877080" y="1916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7"/>
          <p:cNvSpPr/>
          <p:nvPr/>
        </p:nvSpPr>
        <p:spPr>
          <a:xfrm>
            <a:off x="61128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0"/>
          <p:cNvSpPr/>
          <p:nvPr/>
        </p:nvSpPr>
        <p:spPr>
          <a:xfrm>
            <a:off x="61128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1"/>
          <p:cNvSpPr/>
          <p:nvPr/>
        </p:nvSpPr>
        <p:spPr>
          <a:xfrm>
            <a:off x="399564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2"/>
          <p:cNvSpPr/>
          <p:nvPr/>
        </p:nvSpPr>
        <p:spPr>
          <a:xfrm>
            <a:off x="399564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3"/>
          <p:cNvSpPr/>
          <p:nvPr/>
        </p:nvSpPr>
        <p:spPr>
          <a:xfrm>
            <a:off x="687708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4"/>
          <p:cNvSpPr/>
          <p:nvPr/>
        </p:nvSpPr>
        <p:spPr>
          <a:xfrm>
            <a:off x="687708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5"/>
          <p:cNvSpPr/>
          <p:nvPr/>
        </p:nvSpPr>
        <p:spPr>
          <a:xfrm>
            <a:off x="687708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6"/>
          <p:cNvSpPr/>
          <p:nvPr/>
        </p:nvSpPr>
        <p:spPr>
          <a:xfrm>
            <a:off x="447840" y="3645000"/>
            <a:ext cx="844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ая составляющая включает в себя два направления деятельности социального педагога: помощь в обучении и воспит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 в обучении направлена на предотвращение возникающих семейных проблем и формирование педагогической культуры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 в воспитании проводится социальным педагогом, в первую очередь, с родителями - путем их консультирования, а так же с ребенком посредством создания специальных воспитательных ситуаций для решения задачи своевременной помощи семье в целях ее укрепления и наиболее полного использования ее воспитательного потенц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250920" y="8748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сихологическая составляющая социально-педагогической помощи включает в себя два компонента: психологическую поддержку и корре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направлена на создание благоприятного микроклимата в семье в период кратковременного криз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ция межличностных отношений происходит, в основном, когда в семье существует психическое насилие над ребенком, приводящее к нарушению его нервно-психического и физического состояния. До недавнего времени этому явлению не уделялось должного вним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такому виду насилия относится запугивание, оскорбление ребенка, унижение его чести и достоинства, нарушение дове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реднический компонент социально-педагогической помощи включает в себя три составляющие: помощь в организации, координации и информ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 в организации направлена на организацию семейного досуга, включающую в себя: организацию выставок-продаж поношенных вещей,  благотворительных аукционов; клубов по интересам, организацию семейных праздников, конкурсов, курсов по ведению домашнего хозяйства, «клубов знакомств», летнего отд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 в координации направлена на активизацию различных ведомств и служб по совместному разрешению проблемы конкретной семьи и положения конкретного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79280" y="149760"/>
            <a:ext cx="8785440" cy="70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 в информировании направлена на обеспечение семьи информацией по вопросам социальной защиты. Она проводится в форме консультирования. Вопросы могут касаться как жилищного, семейно-брачного, трудового, гражданского, пенсионного законодательства, прав детей, женщин, инвалидов, так и проблем, которые существуют внутри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циальный педагог при работе с семьей выступает в трех осно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етн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информирует семью о важности и возможности взаимодействия родителей и детей в семье; рассказывает о развитии ребенка; дает педагогические советы по воспитанию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сульт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консультирует по вопросам семейного законодательства; вопросам межличностного взаимодействия в семье; информирует о существующих методах воспитания, ориентированных на конкретную семью; разъясняет родителям способы создания условий, необходимых для нормального развития и воспитания ребенка в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ник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щищает права ребенка в случае,  когда приходится сталкиваться с полной деградацией личности родителей (алкоголизм, наркомания, жестокое отношение к детям) и вытекающими из этого проблемами неустроенности быта, отсутствие внимания, человеческого отношения родителей к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79280" y="36468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форм работы социального педагога с семьей - социальный патронаж, представляющая собой посещение семьи на дому с диагностическими, контрольными, адаптационно-реабилитационными целями, позволяющая установить и поддерживать длительные связи с семьей, своевременно выявляя ее проблемные ситуации, оказывая незамедлительн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ронаж дает возможность наблюдать семью в ее естественных условиях. Что позволяет выявить больше информации, чем лежит на поверх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патронажа требует соблюдения ряда этических принципов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а самоопределения семь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а добровольности принятия помощ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а конфиденци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му педагогу следует находить возможности информировать семью о предстоящем визите и его ц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0_253ff_53d3da92_XL"/>
          <p:cNvPicPr/>
          <p:nvPr/>
        </p:nvPicPr>
        <p:blipFill>
          <a:blip r:embed="rId1"/>
          <a:stretch/>
        </p:blipFill>
        <p:spPr>
          <a:xfrm>
            <a:off x="7308720" y="4581360"/>
            <a:ext cx="1617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250920" y="189000"/>
            <a:ext cx="87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атронаж может проводиться со следующими цел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диагностические: ознакомление с условиями                                                         жизни, изучение возможных факторов риска                                                             (медицинских, социальных, бытовых),                                                                       исследование сложившихся проблемных ситу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онтрольные: оценка состояния семьи и                                                              ребенка, динамика проблем (если контакт с                                                                  семьей повторный); анализ хода реабилитационных                                              мероприятий, выполнения родителями рекоменд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адаптационно-реабилитационные: оказание                                                  конкретной образовательной, посреднической,                                          психологической пом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улярные патронажи необходимы в отношении неблагополучных и прежде всего асоциальных семей, постоянное наблюдение за которыми в какой-то мере дисциплинирует их, а так же позволяет своевременно выявлять и противодействовать                        возникающим кризисным ситуа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61195__"/>
          <p:cNvPicPr/>
          <p:nvPr/>
        </p:nvPicPr>
        <p:blipFill>
          <a:blip r:embed="rId1"/>
          <a:stretch/>
        </p:blipFill>
        <p:spPr>
          <a:xfrm>
            <a:off x="5867280" y="907920"/>
            <a:ext cx="30974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99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692360" y="242028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50920" y="22536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яду с патронажем, занимающим важное место в деятельности социального педагога, существуют консультационные беседы с семь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ирование, по определению, предназначено в основном для оказания помощи практически здоровым людям, испытывающим затруднения при решении жизненных зада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педагог, работая с семьей, может использовать наиболее распространенные приемы консуль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моциональное зараж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нуш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бежд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художественные аналог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ини-тренинги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яду с индивидуальными консультативными беседами, могут применяться групповые методы работы с семьей (семьями) - тренин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50920" y="18900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й тренинг определяется как область практической психологии, ориентированная на использование активных методов групповой психологической работы с целью развития компетентности в об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овые методы работы дают возможность родителям обмениваться друг с другом опытом, задавать вопросы и стремиться получить поддержку и одобрение в группе. Кроме того, возможность принимать на себя роль лидера при обмене информацией развивает активность и уверенность род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ще одна форма работы социального педагога с семьей - социально-педагогический мониторинг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едагогический мониторинг - это научно обоснованная система периодического сбора, обобщения и анализа социально-педагогической информации о процессах, протекающих в семье, и принятие на этой основе стратегических и тактических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5:36:39Z</dcterms:created>
  <dc:creator>Администратор</dc:creator>
  <dc:description/>
  <dc:language>en-US</dc:language>
  <cp:lastModifiedBy>User</cp:lastModifiedBy>
  <dcterms:modified xsi:type="dcterms:W3CDTF">2015-04-28T09:30:04Z</dcterms:modified>
  <cp:revision>7</cp:revision>
  <dc:subject/>
  <dc:title>Слайд 1</dc:title>
</cp:coreProperties>
</file>