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7656-3B06-4E12-AF1E-65DB7012C4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706F-462A-46B1-B22C-75429A5029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495C-0ACB-49AF-9E1A-28679F7B42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AA4B-5B2E-4D68-A1CE-A27BF1957C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4D9B-FAF3-4B6B-B862-8A2692BD1D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5523-BCEC-47A7-8A6E-0AC33158B9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24C6-BBF1-457E-B9A3-47D0F35A55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429D-E10A-476F-9745-0DFEAEDC56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5C3E-703D-4CD7-BE43-779CE45D73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E80-C35A-47AD-BD80-C5A972E5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6DF-08C2-42B5-BDD7-5D2772A5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5DD-4CDB-485F-9597-4B1DDF0A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269-484B-4D6C-A01C-FE3A392E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9AFD6-32C1-43BF-97E7-DB6860EA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F427F-9E16-4874-BFDF-8819388F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402C4-72F1-4823-A2F4-F48AEB79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84605-1CAC-4978-A4B6-B108FCFD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EC196-5596-4624-B92B-D70D9DFE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D701B-7045-4752-881E-C7185421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804A5-FDFD-4F4D-8E89-2CB7F0E3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89EE-D64A-4C6B-A67A-C9BCCA0E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3F368-DD0B-4348-A68C-9561E9B7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9EF08-79F7-4599-9F2F-4FF3E9C5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D91BE-5934-4D30-ABA0-299BE379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FB7D4-9704-4E48-BD11-C9D0559C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EA0E1-B812-41BF-AA48-A56B8EE5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6DB-5727-4D31-A6AF-E6187DE7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7303-893B-4292-B0B4-5CD066B2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A63-6DDD-4A09-9556-7A9E0BCF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3FF-B4F6-44AA-ADBA-8865D323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589-CC0B-491B-B749-8AA358EF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3AF-4958-4B82-A93C-57C366AA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929-71FA-420F-9F5A-BB767B52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6240-BEA9-4BDA-9280-EFCAF8226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8600-35AE-4E97-A946-19A3AE8C6B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915920"/>
            <a:ext cx="889308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Символика Большемурашкинского района и районов Нижегородской обла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9" descr="rusflaga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3071880" y="5183280"/>
            <a:ext cx="2492280" cy="167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User\Рабочий стол\nnov_g2.gif"/>
          <p:cNvPicPr/>
          <p:nvPr/>
        </p:nvPicPr>
        <p:blipFill>
          <a:blip r:embed="rId2"/>
          <a:stretch/>
        </p:blipFill>
        <p:spPr>
          <a:xfrm>
            <a:off x="0" y="-95400"/>
            <a:ext cx="1428840" cy="2095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User\Рабочий стол\52bolshemurashkinskiy_g.gif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6500880" y="528624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Выполнила: ученица 7 «Б» класса Удалова Екатер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рб Княгининского район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71840" y="1856880"/>
            <a:ext cx="40003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3" descr="C:\Documents and Settings\User\Рабочий стол\knaginin.gif"/>
          <p:cNvPicPr/>
          <p:nvPr/>
        </p:nvPicPr>
        <p:blipFill>
          <a:blip r:embed="rId1"/>
          <a:stretch/>
        </p:blipFill>
        <p:spPr>
          <a:xfrm>
            <a:off x="2571840" y="1928880"/>
            <a:ext cx="4000320" cy="4214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рб Перевозского район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2" descr="C:\Documents and Settings\User\Рабочий стол\52perevozsky_g.gif"/>
          <p:cNvPicPr/>
          <p:nvPr/>
        </p:nvPicPr>
        <p:blipFill>
          <a:blip r:embed="rId1"/>
          <a:stretch/>
        </p:blipFill>
        <p:spPr>
          <a:xfrm>
            <a:off x="2786040" y="1928880"/>
            <a:ext cx="4214880" cy="4929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рб Лысковского район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2" descr="C:\Documents and Settings\User\Рабочий стол\52liskovo_g.gif"/>
          <p:cNvPicPr/>
          <p:nvPr/>
        </p:nvPicPr>
        <p:blipFill>
          <a:blip r:embed="rId1"/>
          <a:stretch/>
        </p:blipFill>
        <p:spPr>
          <a:xfrm>
            <a:off x="2214720" y="1928880"/>
            <a:ext cx="4286160" cy="4143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рб Дальнеконстантиновского райо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" descr="C:\Documents and Settings\User\Рабочий стол\205.Gerb.jpg"/>
          <p:cNvPicPr/>
          <p:nvPr/>
        </p:nvPicPr>
        <p:blipFill>
          <a:blip r:embed="rId1"/>
          <a:stretch/>
        </p:blipFill>
        <p:spPr>
          <a:xfrm>
            <a:off x="1857240" y="1714680"/>
            <a:ext cx="5357880" cy="49291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рб Бутурлинского район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3" descr="C:\Documents and Settings\User\Рабочий стол\buturlinovskii_rayon_coa.gif"/>
          <p:cNvPicPr/>
          <p:nvPr/>
        </p:nvPicPr>
        <p:blipFill>
          <a:blip r:embed="rId1"/>
          <a:stretch/>
        </p:blipFill>
        <p:spPr>
          <a:xfrm>
            <a:off x="2786040" y="1857240"/>
            <a:ext cx="3286080" cy="41436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рб Кстовского район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Содержимое 3" descr="C:\Documents and Settings\Л.В. Шешенко\Рабочий стол\герб.png"/>
          <p:cNvPicPr/>
          <p:nvPr/>
        </p:nvPicPr>
        <p:blipFill>
          <a:blip r:embed="rId1"/>
          <a:stretch/>
        </p:blipFill>
        <p:spPr>
          <a:xfrm>
            <a:off x="2857680" y="1714680"/>
            <a:ext cx="3214440" cy="4357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бмg.png"/>
          <p:cNvPicPr/>
          <p:nvPr/>
        </p:nvPicPr>
        <p:blipFill>
          <a:blip r:embed="rId1"/>
          <a:stretch/>
        </p:blipFill>
        <p:spPr>
          <a:xfrm>
            <a:off x="2857680" y="1785960"/>
            <a:ext cx="3840120" cy="40957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2143080" y="857160"/>
            <a:ext cx="500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ff"/>
                </a:solidFill>
                <a:latin typeface="Tahoma"/>
              </a:rPr>
              <a:t>Большемурашкинский район и его сосед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ая соединительная линия 4"/>
          <p:cNvSpPr/>
          <p:nvPr/>
        </p:nvSpPr>
        <p:spPr>
          <a:xfrm flipH="1" flipV="1">
            <a:off x="3143160" y="3500280"/>
            <a:ext cx="1285920" cy="5716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1785960" y="31431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стовский рай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Рисунок 7" descr="C:\Documents and Settings\Л.В. Шешенко\Рабочий стол\герб.png"/>
          <p:cNvPicPr/>
          <p:nvPr/>
        </p:nvPicPr>
        <p:blipFill>
          <a:blip r:embed="rId2"/>
          <a:stretch/>
        </p:blipFill>
        <p:spPr>
          <a:xfrm>
            <a:off x="1071720" y="3143160"/>
            <a:ext cx="571320" cy="71460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9"/>
          <p:cNvSpPr/>
          <p:nvPr/>
        </p:nvSpPr>
        <p:spPr>
          <a:xfrm flipH="1" flipV="1">
            <a:off x="3429000" y="2714400"/>
            <a:ext cx="1285920" cy="15714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1643040" y="2357280"/>
            <a:ext cx="200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емурашкинский рай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2" descr="C:\Documents and Settings\User\Рабочий стол\52bolshemurashkinskiy_g.gif"/>
          <p:cNvPicPr/>
          <p:nvPr/>
        </p:nvPicPr>
        <p:blipFill>
          <a:blip r:embed="rId3"/>
          <a:stretch/>
        </p:blipFill>
        <p:spPr>
          <a:xfrm>
            <a:off x="1071720" y="22147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ая соединительная линия 13"/>
          <p:cNvSpPr/>
          <p:nvPr/>
        </p:nvSpPr>
        <p:spPr>
          <a:xfrm flipH="1">
            <a:off x="2999880" y="4357800"/>
            <a:ext cx="1357560" cy="506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1214280" y="457200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льнеконстантиновский рай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Прямая соединительная линия 16"/>
          <p:cNvSpPr/>
          <p:nvPr/>
        </p:nvSpPr>
        <p:spPr>
          <a:xfrm>
            <a:off x="5000760" y="4143240"/>
            <a:ext cx="1143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6143760" y="3929040"/>
            <a:ext cx="192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ысковский рай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рямая соединительная линия 19"/>
          <p:cNvSpPr/>
          <p:nvPr/>
        </p:nvSpPr>
        <p:spPr>
          <a:xfrm>
            <a:off x="5072040" y="4357800"/>
            <a:ext cx="1071720" cy="3571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Box 20"/>
          <p:cNvSpPr/>
          <p:nvPr/>
        </p:nvSpPr>
        <p:spPr>
          <a:xfrm>
            <a:off x="6133320" y="457200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нягининский рай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Прямая соединительная линия 22"/>
          <p:cNvSpPr/>
          <p:nvPr/>
        </p:nvSpPr>
        <p:spPr>
          <a:xfrm>
            <a:off x="4929120" y="4572000"/>
            <a:ext cx="1214640" cy="714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Box 23"/>
          <p:cNvSpPr/>
          <p:nvPr/>
        </p:nvSpPr>
        <p:spPr>
          <a:xfrm>
            <a:off x="6148800" y="521496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утурлинский рай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Прямая соединительная линия 25"/>
          <p:cNvSpPr/>
          <p:nvPr/>
        </p:nvSpPr>
        <p:spPr>
          <a:xfrm>
            <a:off x="4572000" y="4500720"/>
            <a:ext cx="928800" cy="14284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Box 26"/>
          <p:cNvSpPr/>
          <p:nvPr/>
        </p:nvSpPr>
        <p:spPr>
          <a:xfrm>
            <a:off x="5574240" y="600084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возский рай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3" descr="C:\Documents and Settings\User\Рабочий стол\knaginin.gif"/>
          <p:cNvPicPr/>
          <p:nvPr/>
        </p:nvPicPr>
        <p:blipFill>
          <a:blip r:embed="rId4"/>
          <a:stretch/>
        </p:blipFill>
        <p:spPr>
          <a:xfrm>
            <a:off x="8358120" y="4286160"/>
            <a:ext cx="571680" cy="714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User\Рабочий стол\52perevozsky_g.gif"/>
          <p:cNvPicPr/>
          <p:nvPr/>
        </p:nvPicPr>
        <p:blipFill>
          <a:blip r:embed="rId5"/>
          <a:stretch/>
        </p:blipFill>
        <p:spPr>
          <a:xfrm>
            <a:off x="8380440" y="5072040"/>
            <a:ext cx="549360" cy="642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User\Рабочий стол\52liskovo_g.gif"/>
          <p:cNvPicPr/>
          <p:nvPr/>
        </p:nvPicPr>
        <p:blipFill>
          <a:blip r:embed="rId6"/>
          <a:stretch/>
        </p:blipFill>
        <p:spPr>
          <a:xfrm>
            <a:off x="8143920" y="3429000"/>
            <a:ext cx="571320" cy="758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User\Рабочий стол\205.Gerb.jpg"/>
          <p:cNvPicPr/>
          <p:nvPr/>
        </p:nvPicPr>
        <p:blipFill>
          <a:blip r:embed="rId7"/>
          <a:stretch/>
        </p:blipFill>
        <p:spPr>
          <a:xfrm>
            <a:off x="428760" y="4429080"/>
            <a:ext cx="633240" cy="714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User\Рабочий стол\buturlinovskii_rayon_coa.gif"/>
          <p:cNvPicPr/>
          <p:nvPr/>
        </p:nvPicPr>
        <p:blipFill>
          <a:blip r:embed="rId8"/>
          <a:stretch/>
        </p:blipFill>
        <p:spPr>
          <a:xfrm>
            <a:off x="7786800" y="5857920"/>
            <a:ext cx="571320" cy="647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285840" y="2002680"/>
            <a:ext cx="82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2" descr="C:\Documents and Settings\User\Рабочий стол\nnov_g2.gif"/>
          <p:cNvPicPr/>
          <p:nvPr/>
        </p:nvPicPr>
        <p:blipFill>
          <a:blip r:embed="rId1"/>
          <a:stretch/>
        </p:blipFill>
        <p:spPr>
          <a:xfrm>
            <a:off x="285840" y="0"/>
            <a:ext cx="1428840" cy="2095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Documents and Settings\User\Рабочий стол\52bolshemurashkinskiy_g.gif"/>
          <p:cNvPicPr/>
          <p:nvPr/>
        </p:nvPicPr>
        <p:blipFill>
          <a:blip r:embed="rId2"/>
          <a:stretch/>
        </p:blipFill>
        <p:spPr>
          <a:xfrm>
            <a:off x="7143840" y="514368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500120" y="1505880"/>
            <a:ext cx="671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Символ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городов тесно связаны с историей своего государства, они являются историческими источниками, без изучения герба нельзя представить целостную картину всего исторического процес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Вместе с Россией свои новые страницы в историю вписывают и ее города, села, деревни, поселки, то, что образно зовется малой роди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Мой родной край – Большое Мурашкино–  это всего лишь небольшая частичка огромной, необъятной России. Но у моей малой родины есть своя история, свои традиции, свои символ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спользуемая литератур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1.Географический атлас Нижегородской области. - Н.Новгород: Верхне - Волжское аэрогеодезическое предприятие, 200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2. География Нижегородской области: учеб.  пособие. – Н.Новгород: Волго-Вятское кн. изд.- во, 1991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3. Орфанов, А.К. Экономическая и социальная география Нижегородской области / А.К. Орфанов.- Н.Новгород: НГПУ, 199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4. Отечество мое Нижегородское / (сост. Г.С Камерилова). – Н. Новгород: Нижегородский гуманитарный центр, 199</a:t>
            </a:r>
            <a:r>
              <a:rPr b="0" lang="ru-RU" sz="2000" spc="-1" strike="noStrike">
                <a:solidFill>
                  <a:srgbClr val="f2f2f2"/>
                </a:solidFill>
                <a:latin typeface="Tahoma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http://www.heraldik.ru/gerbs/bolshemurashkinskiymr_01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6.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http://geraldika.ru/symbols/2465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7.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http://www.heraldicum.ru/russia/subjects/towns/knyagin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8.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http://dk.nnov.ru/gerb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мволы – это условные знаки и изображения на гербе (флаге), имеющие для человека или целого народа важное значение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ели моего исследов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представлений о символике Большемурашкинского района Нижегородской области и его соседей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Задачи исследов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ить символику Большемурашкинского, Перевозского, Княгининского, Бутурлинского, Дальнеконстантиновского , Кстовского райо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ализировать и систематизировать полученные зн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ширить знания о символике Нижегородской област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ahoma"/>
              </a:rPr>
              <a:t>Герб Нижегородской 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5160" y="857160"/>
            <a:ext cx="50688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59ff"/>
                </a:solidFill>
                <a:latin typeface="Tahoma"/>
              </a:rPr>
              <a:t>Флаг Нижегородской област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2" descr="C:\Documents and Settings\User\Рабочий стол\nnov_g2.gif"/>
          <p:cNvPicPr/>
          <p:nvPr/>
        </p:nvPicPr>
        <p:blipFill>
          <a:blip r:embed="rId1"/>
          <a:stretch/>
        </p:blipFill>
        <p:spPr>
          <a:xfrm>
            <a:off x="214200" y="1428840"/>
            <a:ext cx="3214800" cy="471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User\Рабочий стол\493322fb8f82a1294a0598c16321de5e.png"/>
          <p:cNvPicPr/>
          <p:nvPr/>
        </p:nvPicPr>
        <p:blipFill>
          <a:blip r:embed="rId2"/>
          <a:stretch/>
        </p:blipFill>
        <p:spPr>
          <a:xfrm>
            <a:off x="3929040" y="221472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714240" y="1571760"/>
          <a:ext cx="7215480" cy="4574880"/>
        </p:xfrm>
        <a:graphic>
          <a:graphicData uri="http://schemas.openxmlformats.org/drawingml/2006/table">
            <a:tbl>
              <a:tblPr/>
              <a:tblGrid>
                <a:gridCol w="3565800"/>
                <a:gridCol w="912600"/>
                <a:gridCol w="912960"/>
                <a:gridCol w="911160"/>
                <a:gridCol w="912960"/>
              </a:tblGrid>
              <a:tr h="25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Что изображено на гербе Большемурашкинского район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07960"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Что представляет из себя флаг Большемурашкинского район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 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014480"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Кто авторы гимна Большемурашкинского район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 автора слов -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10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2071800" y="50004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зультаты опрос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ннобл4.gif"/>
          <p:cNvPicPr/>
          <p:nvPr/>
        </p:nvPicPr>
        <p:blipFill>
          <a:blip r:embed="rId1"/>
          <a:stretch/>
        </p:blipFill>
        <p:spPr>
          <a:xfrm>
            <a:off x="2286000" y="1071720"/>
            <a:ext cx="4357800" cy="50720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2698560" y="428760"/>
            <a:ext cx="46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ff"/>
                </a:solidFill>
                <a:latin typeface="Tahoma"/>
              </a:rPr>
              <a:t>Нижегородская обла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c5cff"/>
                </a:solidFill>
                <a:latin typeface="Tahoma"/>
              </a:rPr>
              <a:t>Герб и флаг Большемурашкинского райо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2" descr="C:\Documents and Settings\User\Рабочий стол\52bolshemurashkinskiy_g.gif"/>
          <p:cNvPicPr/>
          <p:nvPr/>
        </p:nvPicPr>
        <p:blipFill>
          <a:blip r:embed="rId1"/>
          <a:stretch/>
        </p:blipFill>
        <p:spPr>
          <a:xfrm>
            <a:off x="428760" y="19288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Л.В. Шешенко\Рабочий стол\250px-Flag_of_Bolshemurashkinsky_rayon_(Nizhny_Novgorod_oblast).png"/>
          <p:cNvPicPr/>
          <p:nvPr/>
        </p:nvPicPr>
        <p:blipFill>
          <a:blip r:embed="rId2"/>
          <a:stretch/>
        </p:blipFill>
        <p:spPr>
          <a:xfrm>
            <a:off x="4386240" y="2214720"/>
            <a:ext cx="3637080" cy="2428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имн Большемурашкинского район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Слова В.Кельдюшкина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Музыка А. Троиц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уйте в дни обновлени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частье в любимом краю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ве былых поколений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ратству родимых селени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ушу отдайте свою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тер и время не споря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эхом воркующих стай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м, где расцвечены зор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ндовик, Разино взгорь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ет Мурашкинский край.</a:t>
            </a:r>
            <a:br>
              <a:rPr sz="18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ится нива в объять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теплою тенью крыл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вы прекрасны, собрать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й милосердною статью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едным духом села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лица нашей свобод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вечностью неба вблиз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льское сердце природы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жит Аввакума всходы –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ть и святыни Рус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к наш немыслимо труден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грозами дальних сторон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 – сотворящие чудо, 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удут мурашкинцы, буду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Книге грядущих времен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8:49:13Z</dcterms:created>
  <dc:creator>user</dc:creator>
  <dc:description/>
  <dc:language>en-US</dc:language>
  <cp:lastModifiedBy>Л.В. Шешенко</cp:lastModifiedBy>
  <dcterms:modified xsi:type="dcterms:W3CDTF">2015-04-28T08:31:27Z</dcterms:modified>
  <cp:revision>84</cp:revision>
  <dc:subject/>
  <dc:title>Мухин Александр ученик 3 Б класса</dc:title>
</cp:coreProperties>
</file>