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6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B95B-43B5-4041-9E22-C9AD1B051A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6294-B6B0-467B-8928-CE90D61D95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7AFC-FA39-46D5-B9A8-67E0D90F63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D5F8-A461-47D1-96AB-5CED5D8E4D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B3A9-CBC8-4305-BB87-DDDA2D49D5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1A0B-9FFF-4B85-9AE8-F0D02E2F85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5A6E-47C5-4428-8DC7-DBA2A9918F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9D3E-174C-4067-94C9-2308082D428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A737-C2DA-460A-8006-2332188FF1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E247-019E-436E-ABA3-1E2054524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D9C0-843B-4738-915C-E94D1B0A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8835-A616-4D1E-92E4-2CE202BA3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07BA-A03F-4593-B25F-A77CFF285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779BA-BD7E-487B-B3F3-84153FA1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0626B-DD80-4359-B4F4-C9055A4F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F13FA-B977-4518-9CC1-ECB2BA46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EE1A1-0376-494C-B6BA-DD9C1316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9B356-7EAA-4734-977C-110DDEEB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0ED6C-E36C-46AE-82DE-245B9A1C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A6E7F-4DF1-483F-A81D-A13D9F77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30F7-7FCA-454F-A6A9-F2F5C66E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417BE-124C-4BAA-8B26-CCB99C52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67817-076A-4C7F-BECD-70FAB139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66F9B-1110-4744-9E67-DE742C18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2B5FD-50D5-48F4-B645-4B9B78E30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19971-8429-4E58-945D-CE758424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99CF-CABB-4B50-840E-89550ECF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6A9A-099C-4D82-B849-BCD62252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6726-AA6D-4729-87B1-4127EB4B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6D8E-E9A1-4C7A-AD18-6C058D3B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6A66-81E6-4906-B456-EF885ABB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7EEA-A9B5-423C-8BA7-7FF43206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57B5-49A8-49B5-80CB-F1D27D28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DB1D-4955-45FA-92E6-545EC7F2E1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1772-621B-4658-BE71-DE9C7F0C7A8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1915920"/>
            <a:ext cx="8893080" cy="31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Символика Большемурашкинского района и районов Нижегородской обла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9" descr="rusflaga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3071880" y="5183280"/>
            <a:ext cx="2492280" cy="167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Documents and Settings\User\Рабочий стол\nnov_g2.gif"/>
          <p:cNvPicPr/>
          <p:nvPr/>
        </p:nvPicPr>
        <p:blipFill>
          <a:blip r:embed="rId2"/>
          <a:stretch/>
        </p:blipFill>
        <p:spPr>
          <a:xfrm>
            <a:off x="0" y="-95400"/>
            <a:ext cx="1428840" cy="2095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Documents and Settings\User\Рабочий стол\52bolshemurashkinskiy_g.gif"/>
          <p:cNvPicPr/>
          <p:nvPr/>
        </p:nvPicPr>
        <p:blipFill>
          <a:blip r:embed="rId3"/>
          <a:stretch/>
        </p:blipFill>
        <p:spPr>
          <a:xfrm>
            <a:off x="7429680" y="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6500880" y="5286240"/>
            <a:ext cx="242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Выполнила: ученица 7 «Б» класса Удалова Екатер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ерб Княгининского район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571840" y="1856880"/>
            <a:ext cx="400032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3" descr="C:\Documents and Settings\User\Рабочий стол\knaginin.gif"/>
          <p:cNvPicPr/>
          <p:nvPr/>
        </p:nvPicPr>
        <p:blipFill>
          <a:blip r:embed="rId1"/>
          <a:stretch/>
        </p:blipFill>
        <p:spPr>
          <a:xfrm>
            <a:off x="2571840" y="1928880"/>
            <a:ext cx="4000320" cy="4214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ерб Перевозского район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2" descr="C:\Documents and Settings\User\Рабочий стол\52perevozsky_g.gif"/>
          <p:cNvPicPr/>
          <p:nvPr/>
        </p:nvPicPr>
        <p:blipFill>
          <a:blip r:embed="rId1"/>
          <a:stretch/>
        </p:blipFill>
        <p:spPr>
          <a:xfrm>
            <a:off x="2786040" y="1928880"/>
            <a:ext cx="4214880" cy="49291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ерб Лысковского район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2" descr="C:\Documents and Settings\User\Рабочий стол\52liskovo_g.gif"/>
          <p:cNvPicPr/>
          <p:nvPr/>
        </p:nvPicPr>
        <p:blipFill>
          <a:blip r:embed="rId1"/>
          <a:stretch/>
        </p:blipFill>
        <p:spPr>
          <a:xfrm>
            <a:off x="2214720" y="1928880"/>
            <a:ext cx="4286160" cy="41432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ерб Дальнеконстантиновского район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2" descr="C:\Documents and Settings\User\Рабочий стол\205.Gerb.jpg"/>
          <p:cNvPicPr/>
          <p:nvPr/>
        </p:nvPicPr>
        <p:blipFill>
          <a:blip r:embed="rId1"/>
          <a:stretch/>
        </p:blipFill>
        <p:spPr>
          <a:xfrm>
            <a:off x="1857240" y="1714680"/>
            <a:ext cx="5357880" cy="49291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ерб Бутурлинского район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3" descr="C:\Documents and Settings\User\Рабочий стол\buturlinovskii_rayon_coa.gif"/>
          <p:cNvPicPr/>
          <p:nvPr/>
        </p:nvPicPr>
        <p:blipFill>
          <a:blip r:embed="rId1"/>
          <a:stretch/>
        </p:blipFill>
        <p:spPr>
          <a:xfrm>
            <a:off x="2786040" y="1857240"/>
            <a:ext cx="3286080" cy="41436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ерб Кстовского район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Содержимое 3" descr="C:\Documents and Settings\Л.В. Шешенко\Рабочий стол\герб.png"/>
          <p:cNvPicPr/>
          <p:nvPr/>
        </p:nvPicPr>
        <p:blipFill>
          <a:blip r:embed="rId1"/>
          <a:stretch/>
        </p:blipFill>
        <p:spPr>
          <a:xfrm>
            <a:off x="2857680" y="1714680"/>
            <a:ext cx="3214440" cy="4357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1" descr="бмg.png"/>
          <p:cNvPicPr/>
          <p:nvPr/>
        </p:nvPicPr>
        <p:blipFill>
          <a:blip r:embed="rId1"/>
          <a:stretch/>
        </p:blipFill>
        <p:spPr>
          <a:xfrm>
            <a:off x="2857680" y="1785960"/>
            <a:ext cx="3840120" cy="40957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2"/>
          <p:cNvSpPr/>
          <p:nvPr/>
        </p:nvSpPr>
        <p:spPr>
          <a:xfrm>
            <a:off x="2143080" y="857160"/>
            <a:ext cx="500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ff"/>
                </a:solidFill>
                <a:latin typeface="Tahoma"/>
              </a:rPr>
              <a:t>Большемурашкинский район и его сосед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Прямая соединительная линия 4"/>
          <p:cNvSpPr/>
          <p:nvPr/>
        </p:nvSpPr>
        <p:spPr>
          <a:xfrm flipH="1" flipV="1">
            <a:off x="3143160" y="3500280"/>
            <a:ext cx="1285920" cy="5716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1785960" y="314316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стовский райо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Рисунок 7" descr="C:\Documents and Settings\Л.В. Шешенко\Рабочий стол\герб.png"/>
          <p:cNvPicPr/>
          <p:nvPr/>
        </p:nvPicPr>
        <p:blipFill>
          <a:blip r:embed="rId2"/>
          <a:stretch/>
        </p:blipFill>
        <p:spPr>
          <a:xfrm>
            <a:off x="1071720" y="3143160"/>
            <a:ext cx="571320" cy="71460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ая соединительная линия 9"/>
          <p:cNvSpPr/>
          <p:nvPr/>
        </p:nvSpPr>
        <p:spPr>
          <a:xfrm flipH="1" flipV="1">
            <a:off x="3429000" y="2714400"/>
            <a:ext cx="1285920" cy="15714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Box 10"/>
          <p:cNvSpPr/>
          <p:nvPr/>
        </p:nvSpPr>
        <p:spPr>
          <a:xfrm>
            <a:off x="1643040" y="2357280"/>
            <a:ext cx="200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ольшемурашкинский райо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2" descr="C:\Documents and Settings\User\Рабочий стол\52bolshemurashkinskiy_g.gif"/>
          <p:cNvPicPr/>
          <p:nvPr/>
        </p:nvPicPr>
        <p:blipFill>
          <a:blip r:embed="rId3"/>
          <a:stretch/>
        </p:blipFill>
        <p:spPr>
          <a:xfrm>
            <a:off x="1071720" y="2214720"/>
            <a:ext cx="571320" cy="71424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ая соединительная линия 13"/>
          <p:cNvSpPr/>
          <p:nvPr/>
        </p:nvSpPr>
        <p:spPr>
          <a:xfrm flipH="1">
            <a:off x="2999880" y="4357800"/>
            <a:ext cx="1357560" cy="5061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Box 14"/>
          <p:cNvSpPr/>
          <p:nvPr/>
        </p:nvSpPr>
        <p:spPr>
          <a:xfrm>
            <a:off x="1214280" y="4572000"/>
            <a:ext cx="178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альнеконстантиновский райо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Прямая соединительная линия 16"/>
          <p:cNvSpPr/>
          <p:nvPr/>
        </p:nvSpPr>
        <p:spPr>
          <a:xfrm>
            <a:off x="5000760" y="4143240"/>
            <a:ext cx="11430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Box 17"/>
          <p:cNvSpPr/>
          <p:nvPr/>
        </p:nvSpPr>
        <p:spPr>
          <a:xfrm>
            <a:off x="6143760" y="3929040"/>
            <a:ext cx="192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ысковский райо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Прямая соединительная линия 19"/>
          <p:cNvSpPr/>
          <p:nvPr/>
        </p:nvSpPr>
        <p:spPr>
          <a:xfrm>
            <a:off x="5072040" y="4357800"/>
            <a:ext cx="1071720" cy="3571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Box 20"/>
          <p:cNvSpPr/>
          <p:nvPr/>
        </p:nvSpPr>
        <p:spPr>
          <a:xfrm>
            <a:off x="6133320" y="4572000"/>
            <a:ext cx="229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нягининский райо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Прямая соединительная линия 22"/>
          <p:cNvSpPr/>
          <p:nvPr/>
        </p:nvSpPr>
        <p:spPr>
          <a:xfrm>
            <a:off x="4929120" y="4572000"/>
            <a:ext cx="1214640" cy="7142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Box 23"/>
          <p:cNvSpPr/>
          <p:nvPr/>
        </p:nvSpPr>
        <p:spPr>
          <a:xfrm>
            <a:off x="6148800" y="521496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утурлинский райо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Прямая соединительная линия 25"/>
          <p:cNvSpPr/>
          <p:nvPr/>
        </p:nvSpPr>
        <p:spPr>
          <a:xfrm>
            <a:off x="4572000" y="4500720"/>
            <a:ext cx="928800" cy="14284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Box 26"/>
          <p:cNvSpPr/>
          <p:nvPr/>
        </p:nvSpPr>
        <p:spPr>
          <a:xfrm>
            <a:off x="5574240" y="6000840"/>
            <a:ext cx="21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евозский райо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3" descr="C:\Documents and Settings\User\Рабочий стол\knaginin.gif"/>
          <p:cNvPicPr/>
          <p:nvPr/>
        </p:nvPicPr>
        <p:blipFill>
          <a:blip r:embed="rId4"/>
          <a:stretch/>
        </p:blipFill>
        <p:spPr>
          <a:xfrm>
            <a:off x="8358120" y="4286160"/>
            <a:ext cx="571680" cy="714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Documents and Settings\User\Рабочий стол\52perevozsky_g.gif"/>
          <p:cNvPicPr/>
          <p:nvPr/>
        </p:nvPicPr>
        <p:blipFill>
          <a:blip r:embed="rId5"/>
          <a:stretch/>
        </p:blipFill>
        <p:spPr>
          <a:xfrm>
            <a:off x="8380440" y="5072040"/>
            <a:ext cx="549360" cy="642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Documents and Settings\User\Рабочий стол\52liskovo_g.gif"/>
          <p:cNvPicPr/>
          <p:nvPr/>
        </p:nvPicPr>
        <p:blipFill>
          <a:blip r:embed="rId6"/>
          <a:stretch/>
        </p:blipFill>
        <p:spPr>
          <a:xfrm>
            <a:off x="8143920" y="3429000"/>
            <a:ext cx="571320" cy="758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C:\Documents and Settings\User\Рабочий стол\205.Gerb.jpg"/>
          <p:cNvPicPr/>
          <p:nvPr/>
        </p:nvPicPr>
        <p:blipFill>
          <a:blip r:embed="rId7"/>
          <a:stretch/>
        </p:blipFill>
        <p:spPr>
          <a:xfrm>
            <a:off x="428760" y="4429080"/>
            <a:ext cx="633240" cy="714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Documents and Settings\User\Рабочий стол\buturlinovskii_rayon_coa.gif"/>
          <p:cNvPicPr/>
          <p:nvPr/>
        </p:nvPicPr>
        <p:blipFill>
          <a:blip r:embed="rId8"/>
          <a:stretch/>
        </p:blipFill>
        <p:spPr>
          <a:xfrm>
            <a:off x="7786800" y="5857920"/>
            <a:ext cx="571320" cy="647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285840" y="2002680"/>
            <a:ext cx="821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2" descr="C:\Documents and Settings\User\Рабочий стол\nnov_g2.gif"/>
          <p:cNvPicPr/>
          <p:nvPr/>
        </p:nvPicPr>
        <p:blipFill>
          <a:blip r:embed="rId1"/>
          <a:stretch/>
        </p:blipFill>
        <p:spPr>
          <a:xfrm>
            <a:off x="285840" y="0"/>
            <a:ext cx="1428840" cy="2095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C:\Documents and Settings\User\Рабочий стол\52bolshemurashkinskiy_g.gif"/>
          <p:cNvPicPr/>
          <p:nvPr/>
        </p:nvPicPr>
        <p:blipFill>
          <a:blip r:embed="rId2"/>
          <a:stretch/>
        </p:blipFill>
        <p:spPr>
          <a:xfrm>
            <a:off x="7143840" y="5143680"/>
            <a:ext cx="1714320" cy="17143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1500120" y="1505880"/>
            <a:ext cx="6715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Символы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городов тесно связаны с историей своего государства, они являются историческими источниками, без изучения герба нельзя представить целостную картину всего исторического процес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Вместе с Россией свои новые страницы в историю вписывают и ее города, села, деревни, поселки, то, что образно зовется малой родин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Мой родной край – Большое Мурашкино–  это всего лишь небольшая частичка огромной, необъятной России. Но у моей малой родины есть своя история, свои традиции, свои символ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спользуемая литератур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1.Географический атлас Нижегородской области. - Н.Новгород: Верхне - Волжское аэрогеодезическое предприятие, 2005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2. География Нижегородской области: учеб.  пособие. – Н.Новгород: Волго-Вятское кн. изд.- во, 1991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3. Орфанов, А.К. Экономическая и социальная география Нижегородской области / А.К. Орфанов.- Н.Новгород: НГПУ, 1998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4. Отечество мое Нижегородское / (сост. Г.С Камерилова). – Н. Новгород: Нижегородский гуманитарный центр, 199</a:t>
            </a:r>
            <a:r>
              <a:rPr b="0" lang="ru-RU" sz="2000" spc="-1" strike="noStrike">
                <a:solidFill>
                  <a:srgbClr val="f2f2f2"/>
                </a:solidFill>
                <a:latin typeface="Tahoma"/>
              </a:rPr>
              <a:t>7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5.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http://www.heraldik.ru/gerbs/bolshemurashkinskiymr_01.ht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6.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http://geraldika.ru/symbols/2465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7.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http://www.heraldicum.ru/russia/subjects/towns/knyagin.ht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8.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http://dk.nnov.ru/gerb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имволы – это условные знаки и изображения на гербе (флаге), имеющие для человека или целого народа важное значение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Цели моего исследован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ширение представлений о символике Большемурашкинского района Нижегородской области и его соседей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Задачи исследован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учить символику Большемурашкинского, Перевозского, Княгининского, Бутурлинского, Дальнеконстантиновского , Кстовского район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нализировать и систематизировать полученные зна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ширить знания о символике Нижегородской област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Tahoma"/>
              </a:rPr>
              <a:t>Герб Нижегородской обла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575160" y="857160"/>
            <a:ext cx="50688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59ff"/>
                </a:solidFill>
                <a:latin typeface="Tahoma"/>
              </a:rPr>
              <a:t>Флаг Нижегородской области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2" descr="C:\Documents and Settings\User\Рабочий стол\nnov_g2.gif"/>
          <p:cNvPicPr/>
          <p:nvPr/>
        </p:nvPicPr>
        <p:blipFill>
          <a:blip r:embed="rId1"/>
          <a:stretch/>
        </p:blipFill>
        <p:spPr>
          <a:xfrm>
            <a:off x="214200" y="1428840"/>
            <a:ext cx="3214800" cy="471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C:\Documents and Settings\User\Рабочий стол\493322fb8f82a1294a0598c16321de5e.png"/>
          <p:cNvPicPr/>
          <p:nvPr/>
        </p:nvPicPr>
        <p:blipFill>
          <a:blip r:embed="rId2"/>
          <a:stretch/>
        </p:blipFill>
        <p:spPr>
          <a:xfrm>
            <a:off x="3929040" y="2214720"/>
            <a:ext cx="4286160" cy="28573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714240" y="1571760"/>
          <a:ext cx="7215480" cy="4574880"/>
        </p:xfrm>
        <a:graphic>
          <a:graphicData uri="http://schemas.openxmlformats.org/drawingml/2006/table">
            <a:tbl>
              <a:tblPr/>
              <a:tblGrid>
                <a:gridCol w="3565800"/>
                <a:gridCol w="912600"/>
                <a:gridCol w="912960"/>
                <a:gridCol w="911160"/>
                <a:gridCol w="912960"/>
              </a:tblGrid>
              <a:tr h="258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прос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 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 rowSpan="2"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Что изображено на гербе Большемурашкинского района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нают-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нают-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нают-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нают-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 знают-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 знают-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 знают-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 знают-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507960">
                <a:tc rowSpan="2"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 Что представляет из себя флаг Большемурашкинского района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нают-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нают-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нают-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нают-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76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 знают- 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 знают-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 знают-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 знают-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1014480">
                <a:tc rowSpan="2"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Кто авторы гимна Большемурашкинского района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нают-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нают-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нают-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нают автора слов -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 знают-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 знают-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 знают-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 знают-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  <p:sp>
        <p:nvSpPr>
          <p:cNvPr id="10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2071800" y="500040"/>
            <a:ext cx="47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езультаты опрос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2" descr="ннобл4.gif"/>
          <p:cNvPicPr/>
          <p:nvPr/>
        </p:nvPicPr>
        <p:blipFill>
          <a:blip r:embed="rId1"/>
          <a:stretch/>
        </p:blipFill>
        <p:spPr>
          <a:xfrm>
            <a:off x="2286000" y="1071720"/>
            <a:ext cx="4357800" cy="50720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3"/>
          <p:cNvSpPr/>
          <p:nvPr/>
        </p:nvSpPr>
        <p:spPr>
          <a:xfrm>
            <a:off x="2698560" y="428760"/>
            <a:ext cx="461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ff"/>
                </a:solidFill>
                <a:latin typeface="Tahoma"/>
              </a:rPr>
              <a:t>Нижегородская обла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c5cff"/>
                </a:solidFill>
                <a:latin typeface="Tahoma"/>
              </a:rPr>
              <a:t>Герб и флаг Большемурашкинского райо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2" descr="C:\Documents and Settings\User\Рабочий стол\52bolshemurashkinskiy_g.gif"/>
          <p:cNvPicPr/>
          <p:nvPr/>
        </p:nvPicPr>
        <p:blipFill>
          <a:blip r:embed="rId1"/>
          <a:stretch/>
        </p:blipFill>
        <p:spPr>
          <a:xfrm>
            <a:off x="428760" y="1928880"/>
            <a:ext cx="3143160" cy="3143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:\Documents and Settings\Л.В. Шешенко\Рабочий стол\250px-Flag_of_Bolshemurashkinsky_rayon_(Nizhny_Novgorod_oblast).png"/>
          <p:cNvPicPr/>
          <p:nvPr/>
        </p:nvPicPr>
        <p:blipFill>
          <a:blip r:embed="rId2"/>
          <a:stretch/>
        </p:blipFill>
        <p:spPr>
          <a:xfrm>
            <a:off x="4386240" y="2214720"/>
            <a:ext cx="3637080" cy="2428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Гимн Большемурашкинского район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ahoma"/>
              </a:rPr>
              <a:t>Слова В.Кельдюшкина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Tahoma"/>
              </a:rPr>
              <a:t>Музыка А. Троицк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руйте в дни обновления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счастье в любимом краю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аве былых поколений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ратству родимых селений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ушу отдайте свою!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тер и время не споря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 эхом воркующих стай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ам, где расцвечены зори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ундовик, Разино взгорье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ет Мурашкинский край.</a:t>
            </a:r>
            <a:br>
              <a:rPr sz="18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сится нива в объять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 теплою тенью крыла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 вы прекрасны, собратья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й милосердною статью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аведным духом села!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лица нашей свободы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 вечностью неба вблизи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ельское сердце природы 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жит Аввакума всходы –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уть и святыни Рус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к наш немыслимо труден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 грозами дальних сторон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 – сотворящие чудо, -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удут мурашкинцы, буду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Книге грядущих времен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8:49:13Z</dcterms:created>
  <dc:creator>user</dc:creator>
  <dc:description/>
  <dc:language>en-US</dc:language>
  <cp:lastModifiedBy>Л.В. Шешенко</cp:lastModifiedBy>
  <dcterms:modified xsi:type="dcterms:W3CDTF">2015-04-28T08:31:27Z</dcterms:modified>
  <cp:revision>84</cp:revision>
  <dc:subject/>
  <dc:title>Мухин Александр ученик 3 Б класса</dc:title>
</cp:coreProperties>
</file>