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E052-B5C1-435F-A06E-B1AC08AA1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399E-A975-457B-B087-7157EAEDF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E244-C044-4EB4-AD20-0943FDE38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AB2-6C3D-46B8-B427-A047D43B8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FEED-BB48-44B9-9F7D-2C85BA0F4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E3B-A1E2-4644-9630-C62A46AE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C42-995C-401E-8A60-63ACF43D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BD4-B477-4D7B-9E7A-C133B5B9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ED2-6929-4826-8DED-E53BF4FA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2202-3781-4BAD-A7BF-AC927524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210-B58D-4428-A2BE-C28776D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602-91EC-4B23-9443-F6D3B88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CD0A-D9F1-4857-BF0B-EFF189C9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2075-2038-4107-B734-F4760DA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9FCC-AB18-45D8-B336-3A2F399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3BD-CEB1-483C-BE08-C93DEF5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154-C509-4240-B165-D959010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376-2C22-46E8-AFBC-A4B2520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7F09-1E69-4587-9155-4003ECC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C1EA-C7AD-4C99-947F-FBDFF859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4A4-E9AC-4F47-B676-A29F7E37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CE88-0C16-4A69-96B8-C4AF8488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F145-AD13-40C4-B159-7DDECE9D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5392-31BF-4C2F-B48F-E5F65675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DAAA-AC62-4265-94C8-AE69BEC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2E8B-DF25-4366-BBE2-C9A30BF2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BDFD-76BB-49ED-9731-72CDD2C0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4CA-4A8D-4DB0-9FDC-46309321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5138-D74F-4860-A5A6-471A323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3D14-BEE4-4E4B-86DC-52C8B18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8940-562D-4FC7-91B3-EAAF2D9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E8E8-3E39-4256-BEF2-5E079539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FA26-7E33-4580-9F08-F14160F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4885-470B-48D0-A540-F395AA7F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1137-D2E6-470C-88CA-FF3CC7F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EE50-A112-494D-9846-30269B58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66AC-D15C-4664-9F56-6BE934B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8C49-408B-46EB-A033-8185C3E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D7B-E77E-4AD0-B366-0FDD57A9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AE4D-F317-47D7-AFF3-3505B2DE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5E73-8203-4DBA-9A18-B2CB267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023D-F4C5-4595-94E8-8FDA746E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C249-7336-464D-9F23-4BB5058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7070-9018-4356-BF83-AD1ED72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9066-D0F5-474B-9F18-47966DA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C2EE-64B6-4436-9B20-5A9D3C94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E3CF-8E86-4FD7-A92F-82B89D79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155D0-DFDB-403C-90D0-277B4547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CD02-41F3-47C8-BA2D-314F8FE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C9D-FB73-484D-872B-F0C1FD1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DFD8-C662-45C5-9F58-82FC578C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D08F-0F33-4640-A15B-280EF6E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C925-1B7C-4503-BC7E-890B833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1842-048F-4780-83A2-56F9E73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AE1B-9567-4C85-A3E4-BB339A34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EC63-AECC-4699-A30F-16D25C9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1415-BA52-43E3-BB1F-6BF32E5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FDF0-0210-4095-8DC9-D2AF1E1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13E9-106A-45F8-A0BA-6EE7020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AB10-61B8-46A8-9090-3A537AA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026-A097-4D54-A25E-2EDC473A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8A60-70D8-4445-A7CF-D888C9E9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DC5B-1CFD-406A-8A5A-91AC549C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FCF9-4987-4E10-BE62-EB12E96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E364-9A29-4D70-A9D3-8ECA850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99F57-9460-47E0-A68B-5CBB6F0C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88149-22E7-4D90-BC70-39897D5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F7B0-C48E-4FF7-8685-677F7B56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FD30-BF22-4354-9DCE-0B04FA8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E5D6-B863-4168-8939-E7DF790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F94D-231A-4249-91F1-D947750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DC3-A4C8-4A9A-AFB0-B21CBF9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E767-B021-4CF1-B117-5C7567D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ADB9-7D5B-43FE-96C6-D4EE1A2E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FDA8-FDA6-4180-B994-D96021DD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10B-10D5-4A3C-98F6-63D1F63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63C-C0AC-4E94-9988-1BB10E5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3D56-4EC3-4B3D-B2F3-A06496705B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E6A7-971E-4098-94D6-0350E7E532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CB00-1F76-44B4-B0FC-1284E01B2B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4FB5-36E0-427E-A167-CF76727AD5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8059-CC8A-4DD8-A11F-3EDAFC53C6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D60B-5BE0-43EC-9203-42C4383464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99680" y="514332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учителя географии Шешенко Л.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71680" y="1714680"/>
            <a:ext cx="81435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Методическая разработка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Раздела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Внутренние воды и водные ресурсы» общеобразовательной программы по географии 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2357280" y="6000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785960" y="247680"/>
            <a:ext cx="54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мурашкин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8"/>
          <p:cNvSpPr/>
          <p:nvPr/>
        </p:nvSpPr>
        <p:spPr>
          <a:xfrm>
            <a:off x="357120" y="2928960"/>
            <a:ext cx="3357720" cy="703800"/>
          </a:xfrm>
          <a:prstGeom prst="rect">
            <a:avLst/>
          </a:prstGeom>
          <a:solidFill>
            <a:srgbClr val="1fa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величение объема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68436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реимущества использования И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0"/>
          <p:cNvSpPr/>
          <p:nvPr/>
        </p:nvSpPr>
        <p:spPr>
          <a:xfrm>
            <a:off x="500040" y="1785960"/>
            <a:ext cx="335772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4714920" y="178596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2"/>
          <p:cNvSpPr/>
          <p:nvPr/>
        </p:nvSpPr>
        <p:spPr>
          <a:xfrm>
            <a:off x="357120" y="2928960"/>
            <a:ext cx="3357720" cy="64296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4714920" y="292896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6"/>
          <p:cNvSpPr/>
          <p:nvPr/>
        </p:nvSpPr>
        <p:spPr>
          <a:xfrm>
            <a:off x="500040" y="185724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изна по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4572000" y="17146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дивидуальный по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 обу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9"/>
          <p:cNvSpPr/>
          <p:nvPr/>
        </p:nvSpPr>
        <p:spPr>
          <a:xfrm>
            <a:off x="4786200" y="285768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сихо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мфор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0"/>
          <p:cNvSpPr/>
          <p:nvPr/>
        </p:nvSpPr>
        <p:spPr>
          <a:xfrm flipH="1" flipV="1">
            <a:off x="500040" y="392904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1"/>
          <p:cNvSpPr/>
          <p:nvPr/>
        </p:nvSpPr>
        <p:spPr>
          <a:xfrm flipV="1" rot="10800000">
            <a:off x="357120" y="39888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шаговы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23"/>
          <p:cNvSpPr/>
          <p:nvPr/>
        </p:nvSpPr>
        <p:spPr>
          <a:xfrm>
            <a:off x="4714920" y="4000680"/>
            <a:ext cx="3429000" cy="57132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4"/>
          <p:cNvSpPr/>
          <p:nvPr/>
        </p:nvSpPr>
        <p:spPr>
          <a:xfrm>
            <a:off x="5143680" y="398304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гля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26560" y="1267920"/>
            <a:ext cx="7921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Общенауч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формирование всесторонне развитой личности обучающегося, обладающего географической культурой через познание окружающего мира, является целью географического образования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Естественно-науч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география формировалась в потоке многогранного процесса развития человеческого общества, как часть всемирной истории и культуры человеческой цивилизации в целом от представлений древнего человека до понятий о геосистемах территориальной организации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Фундаменталь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чем глубже географический кругозор обучающихся, тем больше у него возможностей к полному и глубокому познанию окружающей действительности через общее мировоззрение и общую культуру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Знания профильного характера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изучение курса географии позволяет максимально использовать образовательный и культурологический потенциал географии как учебного предмета, поможет выпускникам на основе системы географических знаний, умений, навыков самоопределиться в стремительно меняющемся окружающем мире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1060560" y="36360"/>
            <a:ext cx="755964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Овал 16"/>
          <p:cNvSpPr/>
          <p:nvPr/>
        </p:nvSpPr>
        <p:spPr>
          <a:xfrm>
            <a:off x="785880" y="1785960"/>
            <a:ext cx="1214280" cy="1143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1714680" y="42876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2d37"/>
                </a:solidFill>
                <a:latin typeface="Arial"/>
              </a:rPr>
              <a:t>Система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357120" y="1214280"/>
            <a:ext cx="178596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Познава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2571840" y="1214280"/>
            <a:ext cx="164304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Преобразующ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авая фигурная скобка 7"/>
          <p:cNvSpPr/>
          <p:nvPr/>
        </p:nvSpPr>
        <p:spPr>
          <a:xfrm>
            <a:off x="5286240" y="1785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4714920" y="1214280"/>
            <a:ext cx="164304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Общеучеб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 flipH="1">
            <a:off x="6714360" y="1214280"/>
            <a:ext cx="171468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Самоорганизующ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войная стрелка влево/вправо 10"/>
          <p:cNvSpPr/>
          <p:nvPr/>
        </p:nvSpPr>
        <p:spPr>
          <a:xfrm>
            <a:off x="928800" y="5000760"/>
            <a:ext cx="7072200" cy="428400"/>
          </a:xfrm>
          <a:prstGeom prst="leftRightArrow">
            <a:avLst>
              <a:gd name="adj1" fmla="val 50000"/>
              <a:gd name="adj2" fmla="val 50060"/>
            </a:avLst>
          </a:prstGeom>
          <a:solidFill>
            <a:srgbClr val="def5fa"/>
          </a:solidFill>
          <a:ln w="5508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1" descr="SDC12104.JPG"/>
          <p:cNvPicPr/>
          <p:nvPr/>
        </p:nvPicPr>
        <p:blipFill>
          <a:blip r:embed="rId1"/>
          <a:stretch/>
        </p:blipFill>
        <p:spPr>
          <a:xfrm>
            <a:off x="4767120" y="1695600"/>
            <a:ext cx="1468440" cy="1395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2" descr="SDC12108.JPG"/>
          <p:cNvPicPr/>
          <p:nvPr/>
        </p:nvPicPr>
        <p:blipFill>
          <a:blip r:embed="rId2"/>
          <a:stretch/>
        </p:blipFill>
        <p:spPr>
          <a:xfrm>
            <a:off x="554040" y="1695600"/>
            <a:ext cx="1487520" cy="13953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3" descr="SDC12121.JPG"/>
          <p:cNvPicPr/>
          <p:nvPr/>
        </p:nvPicPr>
        <p:blipFill>
          <a:blip r:embed="rId3"/>
          <a:stretch/>
        </p:blipFill>
        <p:spPr>
          <a:xfrm>
            <a:off x="2693880" y="1695600"/>
            <a:ext cx="1494000" cy="13953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5" descr="SDC12106.JPG"/>
          <p:cNvPicPr/>
          <p:nvPr/>
        </p:nvPicPr>
        <p:blipFill>
          <a:blip r:embed="rId4"/>
          <a:stretch/>
        </p:blipFill>
        <p:spPr>
          <a:xfrm>
            <a:off x="6838920" y="1695600"/>
            <a:ext cx="14637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5" descr=""/>
          <p:cNvPicPr/>
          <p:nvPr/>
        </p:nvPicPr>
        <p:blipFill>
          <a:blip r:embed="rId1"/>
          <a:stretch/>
        </p:blipFill>
        <p:spPr>
          <a:xfrm>
            <a:off x="781200" y="133200"/>
            <a:ext cx="8369280" cy="11592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357120" y="1166760"/>
            <a:ext cx="878688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ли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ить особенности рек Росс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Углубить знания учащихся о российских река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Раскрыть понятия «режим реки», «расход воды», «годовой сток», «падение реки», «угол реки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Показать влияние климата и рельефа на ре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Формировать умение определения уклона и падения рек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Воспитывать любовь к Родине, бережное отношение к прир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Способствовать развитию логического мышления, умения наблюдать, сравнивать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571680" y="3786120"/>
            <a:ext cx="8001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орудовани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учебник «География России», приложения, задания, физическая карта России, презентация «Внутренние воды России. Реки», компьютер, прое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642960" y="4857840"/>
            <a:ext cx="7858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нностный компонент урок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рек для хозяйства России 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13320" y="64440"/>
            <a:ext cx="35182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Волг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Валдайская возвышенность - 30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Каспийское море - (- 28 м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00 - (- 28) = 328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2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Ангар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озеро Байкал - 456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река Енисей - 76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56-76 = 38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3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Нев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Ладожское озеро -4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Финский залив - 0 м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 - 0 - 4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4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Ле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Байкальский хребет - 93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море Лаптевых - 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30-0 = 930 м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857160" y="4287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идактически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4929120" y="785880"/>
            <a:ext cx="30718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реки Ангар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380 м = 380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1826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38000 : 1826 = 20,8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2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Волг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328 м = 328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= 3531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32800 : 3531 =93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3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Нев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4 м = 400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= 74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400 : 74 = 5,4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4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реки Ле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930 м - 930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= 4400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93 000 : 4400 = 21,1 см/км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1214280" y="3571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идактически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857160" y="1071720"/>
            <a:ext cx="6500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нести на контурную карту крупные реки нашей страны: Волга, Ангара, Обь, Дон, Лена, Печора, Ока, Северная Двина, Иртыш, Енисей, Подкаменная Тунгуска, Нижняя Тунгуска, Яна, Вилюй, Алдан, Индигирка, Колыма, Анадырь, Амур, Шилка, Аргунь, Зея, Бурея, Нева, Терек, Кубань, Урал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785880" y="2714760"/>
            <a:ext cx="6072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ть географическую характеристику рек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ны по плану: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. Географическое положение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. Длина, высота истока и устья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. Питание и режим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4. Неблагоприятные явления на реке и их причины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. Хозяйственное использовани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208080" y="298440"/>
            <a:ext cx="8412120" cy="13543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Диаграмма 6"/>
          <p:cNvGraphicFramePr/>
          <p:nvPr/>
        </p:nvGraphicFramePr>
        <p:xfrm>
          <a:off x="1141560" y="1938240"/>
          <a:ext cx="6362640" cy="25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5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1938240"/>
                    <a:ext cx="63626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8"/>
          <p:cNvSpPr/>
          <p:nvPr/>
        </p:nvSpPr>
        <p:spPr>
          <a:xfrm>
            <a:off x="500040" y="4581360"/>
            <a:ext cx="8143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чество знаний обучающихся 8-го класса по географии повысилось с 50,8 % в 2010-2011 учебном году до 61 % в 2012-2013 учебном году. Успеваемость обучающихся за последние три года стабильна и составляет 10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еся класса принимают участие в школьном туре муниципальной олимпиады по географии, в молодежном географическом чемпионате, в  районной конференции  НОУ- Богаткина 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8920" y="1052280"/>
            <a:ext cx="87505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ahoma"/>
                <a:ea typeface="Tahoma"/>
              </a:rPr>
              <a:t>Система конкретных шагов для достижения цели и задач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ahoma"/>
                <a:ea typeface="Tahoma"/>
              </a:rPr>
              <a:t>по изучению раздела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первы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Комплексный подход, который формирует у обучающегося целостное представление  географического образа нашей страны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второ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Необходимо продолжать закреплять приёмы работы с текстом. Если у ученика такие навыки не сформированы, то объём параграфа просто не усваивается. Поэтому всю информацию группирую в логические схемы. В результате материал лучше усваивается, а самое главное – систематизируется, «раскладывается по полочкам»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трети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Максимальная активизация обучения на уроках. Так, чтобы при выполнении домашнего задания оставалось только освежить в памяти или изучить самостоятельно лишь некоторые фрагменты. В этой связи на уроках не может быть незанятого работой ученика. Если один отвечает у доски, остальные на местах тоже выполняют свои задания, зная, что их работа обязательно будет оценен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четверты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Постепенно по «кирпичикам» складывается система развивающего обучения, где всегда при изучении новой темы ставится, во-первых, конкретная цель, чтобы ученики знали к чему стремиться. Во-вторых, необходимо учить детей слушать учителя и друг друга с максимальной концентрацией внимания. Эти методы  приучают учащихся к активному слушанию. Необходимо прививать потребность выделять главное в любом содержании, запоминать системн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пятый. 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Путешествия как средство развития интереса к предмету. Как говориться, лучше один раз увидеть! У обучающихся формируется ценностное отношение к знаниям, стремление расширять кругозор, умение учиться и активная жизненная позиция. А это для детей с ограниченными возможностями очень значим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036800" y="-176040"/>
            <a:ext cx="75578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857160" y="292896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142880" y="1857240"/>
            <a:ext cx="500076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для общеобразовательных учреждений: География. 6-11 классы. – М.: Дрофа,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57160" y="428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чебно-методический 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7" descr="диплом шешенко0002.JPG"/>
          <p:cNvPicPr/>
          <p:nvPr/>
        </p:nvPicPr>
        <p:blipFill>
          <a:blip r:embed="rId1"/>
          <a:stretch/>
        </p:blipFill>
        <p:spPr>
          <a:xfrm>
            <a:off x="7500960" y="3786120"/>
            <a:ext cx="1352520" cy="1913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1071720" y="3796560"/>
            <a:ext cx="6072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Географ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и. В 2 кн. Кн.1: Природа, население, хозяйство.8 кл. : учеб. для 8-9 кл. общеобразоват. учреждений / под ред. В.П.Дронова. – 9-е изд., пересмотр.– М.:Дрофа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Атлас с комплектом контурных ка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География  России 8-9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rcRect l="25398" t="11814" r="40939" b="25439"/>
          <a:stretch/>
        </p:blipFill>
        <p:spPr>
          <a:xfrm>
            <a:off x="1071720" y="135720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971640" y="3286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Цели и задач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Текст 2"/>
          <p:cNvSpPr/>
          <p:nvPr/>
        </p:nvSpPr>
        <p:spPr>
          <a:xfrm>
            <a:off x="500040" y="1143000"/>
            <a:ext cx="8143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Цель:</a:t>
            </a:r>
            <a:r>
              <a:rPr b="0" lang="ru-RU" sz="1600" spc="-1" strike="noStrike">
                <a:solidFill>
                  <a:srgbClr val="3333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своение знаний об основных географических понятиях, географических особенностях природы России во всем ее разнообразии и целостности; об окружающей среде, путях ее сохранения и рационального исполь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умениями ориентироваться по карте; использовать один из «языков» международного общения - географическую карту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истические материалы, современные геоинформационные технологии для поиска, интерпретации и демонстрации различных географических данных; применять географические знания для объяснения и оценки разнообразных явл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оцесс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развитие познавательных интересов, интеллектуальных и творческих способностей в процессе наблюдений за состоянием окружающей среды, решения географических задач, самостоятельного приобретения новых знани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воспитание любви к своей местности, своему региону, своей стране, взаимопонимания с другими народами; экологической культур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тивного отношения к окружающей сред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формирование способности и готовности к использованию географических знаний и умений в повседневной жизни, сохранению окружающей среды и социально-ответственному поведению в не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и к условиям проживания на определенной территории; самостоятельному оцениванию уровня безопасности окружающей среды как сфе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371520" y="493560"/>
            <a:ext cx="8808840" cy="14446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3"/>
          <p:cNvSpPr/>
          <p:nvPr/>
        </p:nvSpPr>
        <p:spPr>
          <a:xfrm>
            <a:off x="642960" y="1714680"/>
            <a:ext cx="78580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  <a:ea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содержание основных понятий и терминов: «болото», «густота речной сети», «ледник», «многолетняя мерзлота», «наводнение», «падение и уклон реки», «питание реки», «подземные воды», «режим реки», «речной бассейн», «речная долина»,«снеговая ли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состав внутренних вод на территории страны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главные особенности крупных рек и озер России, их зависимость от рельефа и климат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образование и распространение многолетней мерзлоты и ее влияние на природу и хозяйственную деятельность чело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зывать и показывать по карте крупнейшие водные объекты России, районы распространения горного и покровного оледенений, многолетней мерзлоты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определять по картам и другим источникам падение и уклон рек, особенности питания, режим, замерзаемость, величину годового сток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с помощью различных источников информации составлять краткую географическую характеристику водных объект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приводить примеры опасных природных явлений, связанных с водами, мероприятий по охране и рациональному использованию водных ресурс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использовать приобретенные знания и умения в практической деятельности и повседневной жиз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для самостоятельного поиска географической информации водных объектах Рос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для адекватного поведения в экстремальных ситуациях, связанных с водными объектами </a:t>
            </a:r>
            <a:br>
              <a:rPr sz="1800"/>
            </a:br>
            <a:r>
              <a:rPr b="0" lang="ru-RU" sz="2700" spc="-1" strike="noStrike">
                <a:solidFill>
                  <a:srgbClr val="000000"/>
                </a:solidFill>
                <a:latin typeface="Tahoma"/>
                <a:ea typeface="Tahoma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для оценки водных ресурсов своей местности в различных целях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84"/>
          <p:cNvSpPr/>
          <p:nvPr/>
        </p:nvSpPr>
        <p:spPr>
          <a:xfrm>
            <a:off x="104292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Схема 4" descr=""/>
          <p:cNvPicPr/>
          <p:nvPr/>
        </p:nvPicPr>
        <p:blipFill>
          <a:blip r:embed="rId1"/>
          <a:stretch/>
        </p:blipFill>
        <p:spPr>
          <a:xfrm>
            <a:off x="-60480" y="165240"/>
            <a:ext cx="9052200" cy="651024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115"/>
          <p:cNvSpPr txBox="1"/>
          <p:nvPr/>
        </p:nvSpPr>
        <p:spPr>
          <a:xfrm>
            <a:off x="5357880" y="285840"/>
            <a:ext cx="3608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999720" y="1714680"/>
            <a:ext cx="7572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изуч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комбинированного тип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Повторительно – обобщающий урок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практику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путешеств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53880" y="19080"/>
            <a:ext cx="84362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8"/>
          <p:cNvSpPr/>
          <p:nvPr/>
        </p:nvSpPr>
        <p:spPr>
          <a:xfrm>
            <a:off x="928800" y="5643720"/>
            <a:ext cx="28573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6"/>
          <p:cNvSpPr/>
          <p:nvPr/>
        </p:nvSpPr>
        <p:spPr>
          <a:xfrm>
            <a:off x="5000760" y="550080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4"/>
          <p:cNvSpPr/>
          <p:nvPr/>
        </p:nvSpPr>
        <p:spPr>
          <a:xfrm>
            <a:off x="5000760" y="464328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3"/>
          <p:cNvSpPr/>
          <p:nvPr/>
        </p:nvSpPr>
        <p:spPr>
          <a:xfrm>
            <a:off x="5000760" y="3786120"/>
            <a:ext cx="242892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2"/>
          <p:cNvSpPr/>
          <p:nvPr/>
        </p:nvSpPr>
        <p:spPr>
          <a:xfrm>
            <a:off x="5000760" y="292896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1"/>
          <p:cNvSpPr/>
          <p:nvPr/>
        </p:nvSpPr>
        <p:spPr>
          <a:xfrm>
            <a:off x="5000760" y="214308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7"/>
          <p:cNvSpPr/>
          <p:nvPr/>
        </p:nvSpPr>
        <p:spPr>
          <a:xfrm>
            <a:off x="928800" y="4786200"/>
            <a:ext cx="285732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"/>
          <p:cNvSpPr/>
          <p:nvPr/>
        </p:nvSpPr>
        <p:spPr>
          <a:xfrm>
            <a:off x="928800" y="3929040"/>
            <a:ext cx="28573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4"/>
          <p:cNvSpPr/>
          <p:nvPr/>
        </p:nvSpPr>
        <p:spPr>
          <a:xfrm>
            <a:off x="928800" y="3071880"/>
            <a:ext cx="285732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928800" y="2071800"/>
            <a:ext cx="2857320" cy="7858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1285920" y="357120"/>
            <a:ext cx="68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d3c4a"/>
                </a:solidFill>
                <a:latin typeface="Arial"/>
              </a:rPr>
              <a:t>Используемые образовательные технологии, методы и при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71680" y="13572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 организации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71492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 при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928800" y="2000160"/>
            <a:ext cx="27144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пьютерные технологии и метод проектов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исследовательск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проблемн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личностно - ориентированн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групповой деятельности.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4929120" y="2143080"/>
            <a:ext cx="250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ного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и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люстр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проду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1"/>
          <p:cNvSpPr/>
          <p:nvPr/>
        </p:nvSpPr>
        <p:spPr>
          <a:xfrm>
            <a:off x="928800" y="1357200"/>
            <a:ext cx="550044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928800" y="5357880"/>
            <a:ext cx="5500440" cy="1000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928800" y="4286160"/>
            <a:ext cx="55004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928800" y="3214800"/>
            <a:ext cx="550044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28800" y="2143080"/>
            <a:ext cx="550044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84360" y="260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именение ИКТ при изучении раздела «Внутренние воды и водные ресур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000080" y="1379880"/>
            <a:ext cx="5572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Уроки –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иртуальные 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Тестирование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оис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осмотр видеофильмов (фраг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5:05Z</dcterms:created>
  <dc:creator>Баландина Валентина Петровна</dc:creator>
  <dc:description/>
  <dc:language>en-US</dc:language>
  <cp:lastModifiedBy>Л.В. Шешенко</cp:lastModifiedBy>
  <dcterms:modified xsi:type="dcterms:W3CDTF">2014-03-27T09:06:21Z</dcterms:modified>
  <cp:revision>501</cp:revision>
  <dc:subject/>
  <dc:title>"Природа регионов России"</dc:title>
</cp:coreProperties>
</file>