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8.wmf" ContentType="image/x-wmf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BE8-FB81-43D2-A277-F4F4D91FE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FEDE-6092-4AE3-9385-5A0EDFFFE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724-46EA-45C3-975B-33B6D8D8F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5DA-4E2B-4E73-AE11-216D146BF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D56-CAF8-4297-B2AF-34FA0D254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89A-51F1-47F1-9697-7DB444F5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99F-DD98-45A0-9664-6FD815D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CE3-7C0A-4B2B-A334-3F82CFAA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1E8-07B2-4F07-92E0-D015696F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A03-2A37-43DE-838E-3F0AEF7D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95DD-7814-4935-AA8B-B8C9061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3D1D-0B84-4A5C-9139-B011CC9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46B-C24E-4215-87EC-69D49F0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5214-F9AB-480C-992E-FB9AA64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55B-4242-40F1-979E-732F97DB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A967-E4E8-471F-858F-6C307EC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1EC-AF81-4515-9077-5F4E51A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ACA-515B-4391-876E-911CB72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F64-820C-4CA0-931F-D8BC222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E80F-1AB2-4B5B-BBF8-D37C6A7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321-7DD5-4B84-9837-80FE18C1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90C-EFAA-4719-8C6A-F7705779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DE53-E42D-402E-B328-567ADC70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0F26-7099-402F-B6D6-270FB5B8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2595-3972-415B-A82B-83CCE9E4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41A6-646F-4F0D-92BC-EAD9F069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CFCC-32D6-4A1D-AC2E-40B5775F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B69-5837-4D4A-897E-612DB9B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B924-A29D-46FB-9656-E800FC2C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1794-D633-4B19-9F2F-2563019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5E00-9DAC-4647-AEFC-99ADFD0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E84D-2EBC-4BC2-A7FF-F220653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19F3-84D1-4146-A17A-31B588C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95F4-3BA4-49E3-AA5E-0E5FCE85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48F0-956A-4CAD-8FE3-D69A6CBA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DCD8-2349-4A43-AF8C-70865E1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ACE4-F58B-4535-90C2-CD00598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79CB-8993-4B08-AD00-F2FB851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3CA-854B-4877-8631-2D9DA933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6FBA-F270-4B11-BFD0-CE68DA96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D1E4-E2CE-4F28-9B43-80C7119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3747-4DFB-474E-B875-8961B5F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F7B4-9F55-475F-80DE-24BE860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8FE5-7EAF-4D0A-918C-A3A72C6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D967-4594-40E7-835B-709E6FD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9AF1-3F0E-46BB-B0DE-B310129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9477-D341-4D38-89F5-60B027BA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7C4D-E6A8-4E3D-95B3-9E7F9AB0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C1B8-4885-451D-875E-0BDD386D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5DB-A3B6-48F0-8682-31B8505A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3677-23C0-4168-BEB1-3790A27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E9FC-99BF-414D-ADA6-01D7752D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355E2-560D-434F-B293-A8F022C8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FDA1C-3F57-4AA7-AC6B-EC45B8A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793F-089A-49E5-B3A5-7EF48BA8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997B-F4FC-4E1C-87A1-0005258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B1D3-5973-49EC-826E-5815293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1F0AC-4D2D-4EC2-9551-B5A107C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B0E7-21B2-475D-BF5E-DB5BD91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CAAEA-9E91-4253-9009-81D47D74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6AD-EE1D-446C-B3A5-90879C98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F2F81-0AB3-4EAD-B518-28AB0F4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FC7A-819B-4185-9B77-4AB6A940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74687-2269-45DD-9A07-82A1BC90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6E2D0-C142-4B81-A2C0-A8F7A14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607E-E456-4A2E-BB45-5D208087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3210-8829-4ECD-9BC4-95252B9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F417-06A5-419A-8ABB-B184EBE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815B-F612-4F98-8F4D-A93AA3B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84B45-FAF8-4D3B-BE1A-C1025BE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8A10-3C74-4786-92F2-DB68C75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BD6-9D96-489D-AF00-4E853C4F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9F6F8-1915-48E0-9425-07B80EAC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FBE6-7C6E-4682-8091-13FA93C6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25EE5-D417-4C50-A220-6C0B25D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661-6D26-4B6D-80C8-8618D75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752-ECC9-4D8B-968E-03140066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058-7DB9-4339-95BF-B7502EF93D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E3C5-7EB2-4E52-881B-583882F97D9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851-FEBC-438A-A399-3938CCE781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90C-2C49-46D5-B2FC-D0E3A981EC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2462-9110-4727-B32D-500B2E471C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E22B-CB0C-4ABE-9DD6-16CF0A6B1F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99680" y="514332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учителя географии Шешенко Л.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71680" y="1714680"/>
            <a:ext cx="81435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Методическая разработка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Раздела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Внутренние воды и водные ресурсы» общеобразовательной программы по географии 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2357280" y="6000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785960" y="247680"/>
            <a:ext cx="54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емурашкин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8"/>
          <p:cNvSpPr/>
          <p:nvPr/>
        </p:nvSpPr>
        <p:spPr>
          <a:xfrm>
            <a:off x="357120" y="2928960"/>
            <a:ext cx="3357720" cy="703800"/>
          </a:xfrm>
          <a:prstGeom prst="rect">
            <a:avLst/>
          </a:prstGeom>
          <a:solidFill>
            <a:srgbClr val="1fa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величение объема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68436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реимущества использования И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0"/>
          <p:cNvSpPr/>
          <p:nvPr/>
        </p:nvSpPr>
        <p:spPr>
          <a:xfrm>
            <a:off x="500040" y="1785960"/>
            <a:ext cx="335772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4714920" y="178596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2"/>
          <p:cNvSpPr/>
          <p:nvPr/>
        </p:nvSpPr>
        <p:spPr>
          <a:xfrm>
            <a:off x="357120" y="2928960"/>
            <a:ext cx="3357720" cy="64296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4714920" y="292896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6"/>
          <p:cNvSpPr/>
          <p:nvPr/>
        </p:nvSpPr>
        <p:spPr>
          <a:xfrm>
            <a:off x="500040" y="185724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изна по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4572000" y="17146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дивидуальный пох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 обу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9"/>
          <p:cNvSpPr/>
          <p:nvPr/>
        </p:nvSpPr>
        <p:spPr>
          <a:xfrm>
            <a:off x="4786200" y="285768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сихолог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мфор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0"/>
          <p:cNvSpPr/>
          <p:nvPr/>
        </p:nvSpPr>
        <p:spPr>
          <a:xfrm flipH="1" flipV="1">
            <a:off x="500040" y="3929040"/>
            <a:ext cx="3286080" cy="57168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1"/>
          <p:cNvSpPr/>
          <p:nvPr/>
        </p:nvSpPr>
        <p:spPr>
          <a:xfrm flipV="1" rot="10800000">
            <a:off x="357120" y="39888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шаговы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23"/>
          <p:cNvSpPr/>
          <p:nvPr/>
        </p:nvSpPr>
        <p:spPr>
          <a:xfrm>
            <a:off x="4714920" y="4000680"/>
            <a:ext cx="3429000" cy="571320"/>
          </a:xfrm>
          <a:prstGeom prst="roundRect">
            <a:avLst>
              <a:gd name="adj" fmla="val 16667"/>
            </a:avLst>
          </a:prstGeom>
          <a:solidFill>
            <a:srgbClr val="1faec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4"/>
          <p:cNvSpPr/>
          <p:nvPr/>
        </p:nvSpPr>
        <p:spPr>
          <a:xfrm>
            <a:off x="5143680" y="398304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гля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26560" y="1267920"/>
            <a:ext cx="7921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Общенауч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формирование всесторонне развитой личности обучающегося, обладающего географической культурой через познание окружающего мира, является целью географического образования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Естественно-науч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география формировалась в потоке многогранного процесса развития человеческого общества, как часть всемирной истории и культуры человеческой цивилизации в целом от представлений древнего человека до понятий о геосистемах территориальной организации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Фундаментальные знания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чем глубже географический кругозор обучающихся, тем больше у него возможностей к полному и глубокому познанию окружающей действительности через общее мировоззрение и общую культуру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Знания профильного характера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  <a:ea typeface="Arial"/>
              </a:rPr>
              <a:t> (изучение курса географии позволяет максимально использовать образовательный и культурологический потенциал географии как учебного предмета, поможет выпускникам на основе системы географических знаний, умений, навыков самоопределиться в стремительно меняющемся окружающем мире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1060560" y="36360"/>
            <a:ext cx="755964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Овал 16"/>
          <p:cNvSpPr/>
          <p:nvPr/>
        </p:nvSpPr>
        <p:spPr>
          <a:xfrm>
            <a:off x="785880" y="1785960"/>
            <a:ext cx="1214280" cy="1143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1714680" y="42876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2d37"/>
                </a:solidFill>
                <a:latin typeface="Arial"/>
              </a:rPr>
              <a:t>Система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357120" y="1214280"/>
            <a:ext cx="178596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Познава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2571840" y="1214280"/>
            <a:ext cx="164304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Преобразующ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авая фигурная скобка 7"/>
          <p:cNvSpPr/>
          <p:nvPr/>
        </p:nvSpPr>
        <p:spPr>
          <a:xfrm>
            <a:off x="5286240" y="1785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4714920" y="1214280"/>
            <a:ext cx="164304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Общеучеб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 flipH="1">
            <a:off x="6714360" y="1214280"/>
            <a:ext cx="1714680" cy="4500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Lucida Sans Unicode"/>
              </a:rPr>
              <a:t>Самоорганизующ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Двойная стрелка влево/вправо 10"/>
          <p:cNvSpPr/>
          <p:nvPr/>
        </p:nvSpPr>
        <p:spPr>
          <a:xfrm>
            <a:off x="928800" y="5000760"/>
            <a:ext cx="7072200" cy="428400"/>
          </a:xfrm>
          <a:prstGeom prst="leftRightArrow">
            <a:avLst>
              <a:gd name="adj1" fmla="val 50000"/>
              <a:gd name="adj2" fmla="val 50060"/>
            </a:avLst>
          </a:prstGeom>
          <a:solidFill>
            <a:srgbClr val="def5fa"/>
          </a:solidFill>
          <a:ln w="5508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1" descr="SDC12104.JPG"/>
          <p:cNvPicPr/>
          <p:nvPr/>
        </p:nvPicPr>
        <p:blipFill>
          <a:blip r:embed="rId1"/>
          <a:stretch/>
        </p:blipFill>
        <p:spPr>
          <a:xfrm>
            <a:off x="4767120" y="1695600"/>
            <a:ext cx="1468440" cy="1395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2" descr="SDC12108.JPG"/>
          <p:cNvPicPr/>
          <p:nvPr/>
        </p:nvPicPr>
        <p:blipFill>
          <a:blip r:embed="rId2"/>
          <a:stretch/>
        </p:blipFill>
        <p:spPr>
          <a:xfrm>
            <a:off x="554040" y="1695600"/>
            <a:ext cx="1487520" cy="13953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3" descr="SDC12121.JPG"/>
          <p:cNvPicPr/>
          <p:nvPr/>
        </p:nvPicPr>
        <p:blipFill>
          <a:blip r:embed="rId3"/>
          <a:stretch/>
        </p:blipFill>
        <p:spPr>
          <a:xfrm>
            <a:off x="2693880" y="1695600"/>
            <a:ext cx="1494000" cy="13953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5" descr="SDC12106.JPG"/>
          <p:cNvPicPr/>
          <p:nvPr/>
        </p:nvPicPr>
        <p:blipFill>
          <a:blip r:embed="rId4"/>
          <a:stretch/>
        </p:blipFill>
        <p:spPr>
          <a:xfrm>
            <a:off x="6838920" y="1695600"/>
            <a:ext cx="14637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5" descr=""/>
          <p:cNvPicPr/>
          <p:nvPr/>
        </p:nvPicPr>
        <p:blipFill>
          <a:blip r:embed="rId1"/>
          <a:stretch/>
        </p:blipFill>
        <p:spPr>
          <a:xfrm>
            <a:off x="781200" y="133200"/>
            <a:ext cx="8369280" cy="115920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357120" y="1166760"/>
            <a:ext cx="878688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ли у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ить особенности рек Росс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Углубить знания учащихся о российских река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Раскрыть понятия «режим реки», «расход воды», «годовой сток», «падение реки», «угол реки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Показать влияние климата и рельефа на ре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Формировать умение определения уклона и падения рек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Воспитывать любовь к Родине, бережное отношение к прир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Способствовать развитию логического мышления, умения наблюдать, сравнивать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571680" y="3786120"/>
            <a:ext cx="8001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орудование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00"/>
                </a:solidFill>
                <a:latin typeface="Arial"/>
              </a:rPr>
              <a:t>учебник «География России», приложения, задания, физическая карта России, презентация «Внутренние воды России. Реки», компьютер, прое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642960" y="4857840"/>
            <a:ext cx="7858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нностный компонент урока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рек для хозяйства России 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13320" y="64440"/>
            <a:ext cx="35182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Волг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Валдайская возвышенность - 30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Каспийское море - (- 28 м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00 - (- 28) = 328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2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Ангар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озеро Байкал - 456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река Енисей - 76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56-76 = 38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3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Нев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Ладожское озеро -4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Финский залив - 0 м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 - 0 - 4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№ 4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падение реки Ле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к - Байкальский хребет - 93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ье - море Лаптевых - 0 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930-0 = 930 м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857160" y="4287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идактически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4929120" y="785880"/>
            <a:ext cx="30718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реки Ангар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380 м = 380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1826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38000 : 1826 = 20,8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2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Волг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328 м = 328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= 3531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32800 : 3531 =93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3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Нев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4 м = 400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= 74 к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400 : 74 = 5,4 см/км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 4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клон реки Ле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= 930 м - 93000 с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реки = 4400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 = 93 000 : 4400 = 21,1 см/км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1214280" y="3571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идактически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857160" y="1071720"/>
            <a:ext cx="65008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нести на контурную карту крупные реки нашей страны: Волга, Ангара, Обь, Дон, Лена, Печора, Ока, Северная Двина, Иртыш, Енисей, Подкаменная Тунгуска, Нижняя Тунгуска, Яна, Вилюй, Алдан, Индигирка, Колыма, Анадырь, Амур, Шилка, Аргунь, Зея, Бурея, Нева, Терек, Кубань, Урал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785880" y="2714760"/>
            <a:ext cx="6072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ть географическую характеристику рек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ны по плану: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. Географическое положение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. Длина, высота истока и устья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. Питание и режим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4. Неблагоприятные явления на реке и их причины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. Хозяйственное использовани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208080" y="298440"/>
            <a:ext cx="8412120" cy="13543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Диаграмма 6"/>
          <p:cNvGraphicFramePr/>
          <p:nvPr/>
        </p:nvGraphicFramePr>
        <p:xfrm>
          <a:off x="1141560" y="1938240"/>
          <a:ext cx="6362640" cy="255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5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1938240"/>
                    <a:ext cx="63626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8"/>
          <p:cNvSpPr/>
          <p:nvPr/>
        </p:nvSpPr>
        <p:spPr>
          <a:xfrm>
            <a:off x="500040" y="4581360"/>
            <a:ext cx="8143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чество знаний обучающихся 8-го класса по географии повысилось с 50,8 % в 2010-2011 учебном году до 61 % в 2012-2013 учебном году. Успеваемость обучающихся за последние три года стабильна и составляет 10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еся класса принимают участие в школьном туре муниципальной олимпиады по географии, в молодежном географическом чемпионате, в  районной конференции  НОУ- Богаткина 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8920" y="1052280"/>
            <a:ext cx="87505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ahoma"/>
                <a:ea typeface="Tahoma"/>
              </a:rPr>
              <a:t>Система конкретных шагов для достижения цели и задач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ahoma"/>
                <a:ea typeface="Tahoma"/>
              </a:rPr>
              <a:t>по изучению раздела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первы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Комплексный подход, который формирует у обучающегося целостное представление  географического образа нашей страны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второ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Необходимо продолжать закреплять приёмы работы с текстом. Если у ученика такие навыки не сформированы, то объём параграфа просто не усваивается. Поэтому всю информацию группирую в логические схемы. В результате материал лучше усваивается, а самое главное – систематизируется, «раскладывается по полочкам»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трети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Максимальная активизация обучения на уроках. Так, чтобы при выполнении домашнего задания оставалось только освежить в памяти или изучить самостоятельно лишь некоторые фрагменты. В этой связи на уроках не может быть незанятого работой ученика. Если один отвечает у доски, остальные на местах тоже выполняют свои задания, зная, что их работа обязательно будет оценен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четвертый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. Постепенно по «кирпичикам» складывается система развивающего обучения, где всегда при изучении новой темы ставится, во-первых, конкретная цель, чтобы ученики знали к чему стремиться. Во-вторых, необходимо учить детей слушать учителя и друг друга с максимальной концентрацией внимания. Эти методы  приучают учащихся к активному слушанию. Необходимо прививать потребность выделять главное в любом содержании, запоминать системн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Шаг пятый. </a:t>
            </a:r>
            <a:r>
              <a:rPr b="0" lang="ru-RU" sz="1500" spc="-1" strike="noStrike">
                <a:solidFill>
                  <a:srgbClr val="333300"/>
                </a:solidFill>
                <a:latin typeface="Tahoma"/>
                <a:ea typeface="Tahoma"/>
              </a:rPr>
              <a:t>Путешествия как средство развития интереса к предмету. Как говориться, лучше один раз увидеть! У обучающихся формируется ценностное отношение к знаниям, стремление расширять кругозор, умение учиться и активная жизненная позиция. А это для детей с ограниченными возможностями очень значим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036800" y="-176040"/>
            <a:ext cx="75578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857160" y="292896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142880" y="1857240"/>
            <a:ext cx="500076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для общеобразовательных учреждений: География. 6-11 классы. – М.: Дрофа,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57160" y="428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чебно-методический 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7" descr="диплом шешенко0002.JPG"/>
          <p:cNvPicPr/>
          <p:nvPr/>
        </p:nvPicPr>
        <p:blipFill>
          <a:blip r:embed="rId1"/>
          <a:stretch/>
        </p:blipFill>
        <p:spPr>
          <a:xfrm>
            <a:off x="7500960" y="3786120"/>
            <a:ext cx="1352520" cy="1913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1071720" y="3796560"/>
            <a:ext cx="6072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Географ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и. В 2 кн. Кн.1: Природа, население, хозяйство.8 кл. : учеб. для 8-9 кл. общеобразоват. учреждений / под ред. В.П.Дронова. – 9-е изд., пересмотр.– М.:Дрофа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Атлас с комплектом контурных ка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География  России 8-9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rcRect l="25398" t="11814" r="40939" b="25439"/>
          <a:stretch/>
        </p:blipFill>
        <p:spPr>
          <a:xfrm>
            <a:off x="1071720" y="135720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971640" y="3286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Цели и задач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Текст 2"/>
          <p:cNvSpPr/>
          <p:nvPr/>
        </p:nvSpPr>
        <p:spPr>
          <a:xfrm>
            <a:off x="500040" y="1143000"/>
            <a:ext cx="8143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Цель:</a:t>
            </a:r>
            <a:r>
              <a:rPr b="0" lang="ru-RU" sz="1600" spc="-1" strike="noStrike">
                <a:solidFill>
                  <a:srgbClr val="3333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освоение знаний об основных географических понятиях, географических особенностях природы России во всем ее разнообразии и целостности; об окружающей среде, путях ее сохранения и рационального исполь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умениями ориентироваться по карте; использовать один из «языков» международного общения - географическую карту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истические материалы, современные геоинформационные технологии для поиска, интерпретации и демонстрации различных географических данных; применять географические знания для объяснения и оценки разнообразных явл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оцесс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развитие познавательных интересов, интеллектуальных и творческих способностей в процессе наблюдений за состоянием окружающей среды, решения географических задач, самостоятельного приобретения новых знани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воспитание любви к своей местности, своему региону, своей стране, взаимопонимания с другими народами; экологической культур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тивного отношения к окружающей сред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формирование способности и готовности к использованию географических знаний и умений в повседневной жизни, сохранению окружающей среды и социально-ответственному поведению в не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и к условиям проживания на определенной территории; самостоятельному оцениванию уровня безопасности окружающей среды как сфе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деятельнос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371520" y="493560"/>
            <a:ext cx="8808840" cy="14446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3"/>
          <p:cNvSpPr/>
          <p:nvPr/>
        </p:nvSpPr>
        <p:spPr>
          <a:xfrm>
            <a:off x="642960" y="1714680"/>
            <a:ext cx="78580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400" spc="-1" strike="noStrike">
                <a:solidFill>
                  <a:srgbClr val="800000"/>
                </a:solidFill>
                <a:latin typeface="Calibri"/>
                <a:ea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содержание основных понятий и терминов: «болото», «густота речной сети», «ледник», «многолетняя мерзлота», «наводнение», «падение и уклон реки», «питание реки», «подземные воды», «режим реки», «речной бассейн», «речная долина»,«снеговая ли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состав внутренних вод на территории страны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главные особенности крупных рек и озер России, их зависимость от рельефа и климат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• образование и распространение многолетней мерзлоты и ее влияние на природу и хозяйственную деятельность чело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зывать и показывать по карте крупнейшие водные объекты России, районы распространения горного и покровного оледенений, многолетней мерзлоты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определять по картам и другим источникам падение и уклон рек, особенности питания, режим, замерзаемость, величину годового стока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с помощью различных источников информации составлять краткую географическую характеристику водных объект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приводить примеры опасных природных явлений, связанных с водами, мероприятий по охране и рациональному использованию водных ресурс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использовать приобретенные знания и умения в практической деятельности и повседневной жиз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для самостоятельного поиска географической информации водных объектах Росс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• для адекватного поведения в экстремальных ситуациях, связанных с водными объектами </a:t>
            </a:r>
            <a:br>
              <a:rPr sz="1800"/>
            </a:br>
            <a:r>
              <a:rPr b="0" lang="ru-RU" sz="2700" spc="-1" strike="noStrike">
                <a:solidFill>
                  <a:srgbClr val="000000"/>
                </a:solidFill>
                <a:latin typeface="Tahoma"/>
                <a:ea typeface="Tahoma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для оценки водных ресурсов своей местности в различных целях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Заголовок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84"/>
          <p:cNvSpPr/>
          <p:nvPr/>
        </p:nvSpPr>
        <p:spPr>
          <a:xfrm>
            <a:off x="104292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Схема 4" descr=""/>
          <p:cNvPicPr/>
          <p:nvPr/>
        </p:nvPicPr>
        <p:blipFill>
          <a:blip r:embed="rId1"/>
          <a:stretch/>
        </p:blipFill>
        <p:spPr>
          <a:xfrm>
            <a:off x="-60480" y="165240"/>
            <a:ext cx="9052200" cy="651024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115"/>
          <p:cNvSpPr txBox="1"/>
          <p:nvPr/>
        </p:nvSpPr>
        <p:spPr>
          <a:xfrm>
            <a:off x="5357880" y="285840"/>
            <a:ext cx="3608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999720" y="1714680"/>
            <a:ext cx="7572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изуч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комбинированного тип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Повторительно – обобщающий урок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практику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ahoma"/>
                <a:ea typeface="Tahoma"/>
              </a:rPr>
              <a:t>Урок – путешеств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53880" y="19080"/>
            <a:ext cx="84362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8"/>
          <p:cNvSpPr/>
          <p:nvPr/>
        </p:nvSpPr>
        <p:spPr>
          <a:xfrm>
            <a:off x="928800" y="5643720"/>
            <a:ext cx="28573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6"/>
          <p:cNvSpPr/>
          <p:nvPr/>
        </p:nvSpPr>
        <p:spPr>
          <a:xfrm>
            <a:off x="5000760" y="550080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4"/>
          <p:cNvSpPr/>
          <p:nvPr/>
        </p:nvSpPr>
        <p:spPr>
          <a:xfrm>
            <a:off x="5000760" y="464328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3"/>
          <p:cNvSpPr/>
          <p:nvPr/>
        </p:nvSpPr>
        <p:spPr>
          <a:xfrm>
            <a:off x="5000760" y="3786120"/>
            <a:ext cx="242892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2"/>
          <p:cNvSpPr/>
          <p:nvPr/>
        </p:nvSpPr>
        <p:spPr>
          <a:xfrm>
            <a:off x="5000760" y="292896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1"/>
          <p:cNvSpPr/>
          <p:nvPr/>
        </p:nvSpPr>
        <p:spPr>
          <a:xfrm>
            <a:off x="5000760" y="2143080"/>
            <a:ext cx="24289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7"/>
          <p:cNvSpPr/>
          <p:nvPr/>
        </p:nvSpPr>
        <p:spPr>
          <a:xfrm>
            <a:off x="928800" y="4786200"/>
            <a:ext cx="285732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"/>
          <p:cNvSpPr/>
          <p:nvPr/>
        </p:nvSpPr>
        <p:spPr>
          <a:xfrm>
            <a:off x="928800" y="3929040"/>
            <a:ext cx="285732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4"/>
          <p:cNvSpPr/>
          <p:nvPr/>
        </p:nvSpPr>
        <p:spPr>
          <a:xfrm>
            <a:off x="928800" y="3071880"/>
            <a:ext cx="285732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928800" y="2071800"/>
            <a:ext cx="2857320" cy="7858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1285920" y="357120"/>
            <a:ext cx="68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d3c4a"/>
                </a:solidFill>
                <a:latin typeface="Arial"/>
              </a:rPr>
              <a:t>Используемые образовательные технологии, методы и при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571680" y="13572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 организации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471492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 при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928800" y="2000160"/>
            <a:ext cx="27144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пьютерные технологии и метод проектов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исследовательск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проблемн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личностно - ориентированного обучения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ология групповой деятельности.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4929120" y="2143080"/>
            <a:ext cx="250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ного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ите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люстр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проду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1"/>
          <p:cNvSpPr/>
          <p:nvPr/>
        </p:nvSpPr>
        <p:spPr>
          <a:xfrm>
            <a:off x="928800" y="1357200"/>
            <a:ext cx="5500440" cy="7146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928800" y="5357880"/>
            <a:ext cx="5500440" cy="1000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928800" y="4286160"/>
            <a:ext cx="55004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928800" y="3214800"/>
            <a:ext cx="550044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28800" y="2143080"/>
            <a:ext cx="550044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84360" y="260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именение ИКТ при изучении раздела «Внутренние воды и водные ресур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000080" y="1379880"/>
            <a:ext cx="5572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Уроки –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Виртуальные 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Тестирование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оис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Просмотр видеофильмов (фраг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5:05Z</dcterms:created>
  <dc:creator>Баландина Валентина Петровна</dc:creator>
  <dc:description/>
  <dc:language>en-US</dc:language>
  <cp:lastModifiedBy>Л.В. Шешенко</cp:lastModifiedBy>
  <dcterms:modified xsi:type="dcterms:W3CDTF">2014-03-27T09:06:21Z</dcterms:modified>
  <cp:revision>501</cp:revision>
  <dc:subject/>
  <dc:title>"Природа регионов России"</dc:title>
</cp:coreProperties>
</file>