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5E7-6C8C-4528-AC3F-1661B7F2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659-DAF6-4ADF-ADDA-C2D31F97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7DA-CBE1-4913-8D39-84926E6D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652-E911-4224-B17C-2EF34A66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6F5-F518-46EB-BC95-71BBE2DD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F4C-10FC-4D5B-BB39-FC7AAC4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A00-1A0E-4DB3-BDEF-B0C44F7E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E44-1C05-49CF-80D4-174C167E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07C-3A0D-4398-8C37-E7EBB1DC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F3A-D813-4DEF-AFEB-90AFB485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349-3BC7-4D5A-A0ED-8104F64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5B9-2E04-4E73-8E9D-4CBD2CB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7EA0-7FB2-46EA-8A9F-7E8179EA7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256360" cy="374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Рисование ватными дис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5013000"/>
            <a:ext cx="8748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езентация  занятия по изо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«Подснежник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6. Нанести второй слой на ватный диск белую гуашь ( растушева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30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7.Дорисовать изображения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можно приклеить дета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913200" cy="5218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59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орастает сквозь снеж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 солнечным лучам, цвет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Маленький и неж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Беленький подсне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038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Из – под снега расцве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аньше все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есну встре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5122800" cy="40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Этапы работы: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. Создать фо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лист бумаги нанести акварель кисточкой произвольные линии кра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6381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243036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ереть влажной салфеткой ли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.Готовим диски к рисованию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езаем диск попол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49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яем на две части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92360" y="6308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3. Промокнуть лист кисточкой с водой в том месте, куда хотите нарисовать цветок. Выкладываем на лист бумаги ватные диски. Повторить столько раз, сколько хотите нарисовать подснеж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65800" cy="3668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5003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5.Нанести на ватные диски белую гуа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5. Нанести на ватные диски  акварельную краску ( синий цв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7:18:14Z</dcterms:created>
  <dc:creator>Теремок</dc:creator>
  <dc:description/>
  <dc:language>en-US</dc:language>
  <cp:lastModifiedBy>1</cp:lastModifiedBy>
  <dcterms:modified xsi:type="dcterms:W3CDTF">2015-04-28T10:07:24Z</dcterms:modified>
  <cp:revision>9</cp:revision>
  <dc:subject/>
  <dc:title>Рисование ватными дисками.</dc:title>
</cp:coreProperties>
</file>