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ECCD-6A61-4FE3-B7A1-86B0059E7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76E1-6CFB-40CF-AC7C-2EE2B7B9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DB27-B87E-4402-82B0-E1315E754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D97B-7B2C-4273-A324-798AF0EF3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E064-DCF7-4253-99FC-F6ED8F03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88D9-1C94-4D33-8C67-4D055A50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24DD-B942-4461-A748-7BB31884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E9D4-7D9D-47EE-A88A-B0C3A723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3DF6-1FC5-42A9-80D9-72A7F839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A7B1-A600-4FA1-B4C0-48A0F9B9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C11D-DC99-4949-B554-DA564FD1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278D-95FD-416E-85D7-D9D321B1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C31B-68B4-4808-B7E6-DA93E430D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08000" y="1197000"/>
            <a:ext cx="5256360" cy="3744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Рисование ватными диск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50920" y="5013000"/>
            <a:ext cx="87487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Презентация  занятия по изодеятель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«Подснежники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6. Нанести второй слой на ватный диск белую гуашь ( растушеват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55308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7.Дорисовать изображения</a:t>
            </a:r>
            <a:br>
              <a:rPr sz="3200"/>
            </a:b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(можно приклеить детал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3913200" cy="52182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85928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Прорастает сквозь снежо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К солнечным лучам, цвето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Маленький и нежн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Беленький подснеж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78920" y="259920"/>
            <a:ext cx="40388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Из – под снега расцве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Раньше все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Весну встреча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564000" y="2205000"/>
            <a:ext cx="5122800" cy="407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8893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Этапы работы:</a:t>
            </a:r>
            <a:br>
              <a:rPr sz="4000"/>
            </a:b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1. Создать фон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лист бумаги нанести акварель кисточкой произвольные линии крас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16000" y="63817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63640" y="2430360"/>
            <a:ext cx="590400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стереть влажной салфеткой лин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2.Готовим диски к рисованию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резаем диск попола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7494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деляем на две части.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692360" y="630864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8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3. Промокнуть лист кисточкой с водой в том месте, куда хотите нарисовать цветок. Выкладываем на лист бумаги ватные диски. Повторить столько раз, сколько хотите нарисовать подснеж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4465800" cy="3668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140360" y="2708280"/>
            <a:ext cx="500364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5.Нанести на ватные диски белую гуа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867280" y="189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5. Нанести на ватные диски  акварельную краску ( синий цве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7:18:14Z</dcterms:created>
  <dc:creator>Теремок</dc:creator>
  <dc:description/>
  <dc:language>en-US</dc:language>
  <cp:lastModifiedBy>1</cp:lastModifiedBy>
  <dcterms:modified xsi:type="dcterms:W3CDTF">2015-04-28T10:07:24Z</dcterms:modified>
  <cp:revision>9</cp:revision>
  <dc:subject/>
  <dc:title>Рисование ватными дисками.</dc:title>
</cp:coreProperties>
</file>