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7BE-2803-4722-B0AA-A84811E6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15C-88AA-4412-825D-6802431C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54C-F4AC-47E0-A1F5-38FB500C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30C-6519-463B-825C-A9587366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7B1-10EB-41E5-9675-0BD9CF9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EED-561F-43D0-823C-A6B9006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A4A-EEE2-4501-8E0C-6CAE2E83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64B-C9D5-4087-BF15-95759872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9F2-669B-4C88-84FA-90C8AC81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2E0-AF5C-437A-ADD3-156F808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D05-9686-4884-8A61-47CD0C8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0A7-6DFF-4D0B-8768-AB8FAE90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CB7D-FDA5-46BB-9A24-7F412A0434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91216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716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83763"/>
                </a:solidFill>
                <a:uFillTx/>
                <a:latin typeface="Times New Roman"/>
              </a:rPr>
              <a:t>Стили педагогического общ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Times New Roman"/>
              </a:rPr>
              <a:t>Авторитар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Times New Roman"/>
              </a:rPr>
              <a:t>Либераль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Times New Roman"/>
              </a:rPr>
              <a:t>Демократиче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Тест на проверку психологической комфортности пребывания детей в группе детского с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3763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83763"/>
                </a:solidFill>
                <a:latin typeface="Times New Roman"/>
              </a:rPr>
              <a:t>Рисунки детей можно условно раздел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3763"/>
                </a:solidFill>
                <a:latin typeface="Times New Roman"/>
              </a:rPr>
              <a:t>на: три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1. Ребенок рисует только зд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2. Ребенок рисует здание с элементами игровой площад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3. Ребенок изображает, на рисунке самого себя в комнате или на улиц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Цветовая диагностика «Доми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Цель методики – определение эмоционального состояния, отражающего отношение ребенка к дошкольному учрежд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83763"/>
                </a:solidFill>
                <a:uFillTx/>
                <a:latin typeface="Times New Roman"/>
              </a:rPr>
              <a:t>В методике используется следующие цвет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синий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2d050"/>
                </a:solidFill>
                <a:latin typeface="Times New Roman"/>
              </a:rPr>
              <a:t>зеленый 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                                   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коричне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</a:rPr>
              <a:t>серый</a:t>
            </a:r>
            <a:r>
              <a:rPr b="0" lang="ru-RU" sz="2800" spc="-1" strike="noStrike">
                <a:solidFill>
                  <a:srgbClr val="7f7f7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желтый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Times New Roman"/>
              </a:rPr>
              <a:t>комплекс упражнений, способствующий повышению энергетического потенц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1. Стоя, свести лопатки, улыбнуться, подмигнуть правым глазом, потом – левым, повторить: «Я очень собой горжусь, я на многое гожусь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2. Положив ладонь на грудь: «Я на свете всех умней»; вытянуть руки над головой: «Не боюсь я никого»; напрячь ягодицы: «Чудо как я хороша»; расслабить ягодицы: «Проживу теперь сто л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3. Подпрыгивая на правой, затем на левой ноге, повторить: «Я бодра и энергична, и дела идут отличн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4. Потирая ладонь о ладонь, повторить «Я приманиваю удачу, с каждым днем становлюсь богач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5. Встав на цыпочки, руки над головой сомкнуть в кольцо повторить «Я согрета солнечным лучиком, я достойна самого лучшег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6. Положив на лоб левую ладонь, затем правую, повторить: «Я решаю любые задачи, со мной всегда любовь и удач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7. Руки на бедрах. Делая наклоны туловищем вперед-назад, повторить: «Ситуация любая мне подвластна. Мир прекрасен, и я прекрасна!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8. Руки на талии, делая наклоны вправо-влево, повторить «Покой и улыбку всегда берегу, и все мне помогут, и я помогу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9. Сложив руки в замок, делая глубокий вдох: «Вселенная мне улыбается»; глубокий выдох: «И все у меня получается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10. Сжав кулаки, делая вращения руками: «На пути у меня нет преграды, все получается так, как надо!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93560" y="92160"/>
            <a:ext cx="8242560" cy="177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28760" y="2285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4e6d"/>
                </a:solidFill>
                <a:latin typeface="Times New Roman"/>
              </a:rPr>
              <a:t>Полученная информаци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4e6d"/>
                </a:solidFill>
                <a:latin typeface="Times New Roman"/>
              </a:rPr>
              <a:t>для меня 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Всем 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До новых встреч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71424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Детское учрежд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отличается от друг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детского учреждения прежде все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своим общим стилем и тон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8376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А.С. Макаренк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000080"/>
            <a:ext cx="8229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Times New Roman"/>
              </a:rPr>
              <a:t>1. «</a:t>
            </a: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Проблема психологического здоровья на современном этап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920880" y="1341360"/>
            <a:ext cx="7772400" cy="511992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412120" cy="115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2. «Создание психологического комфорта в детском саду для сохранения укреп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психологического здоровья и развития личности ребен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Прочно установившийся между людьми контакт обеспечивает в процессе общения атмосферу доверия и принятия, в которой можно обсуждать любые пробл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Атмосфера </a:t>
            </a:r>
            <a:r>
              <a:rPr b="0" i="1" lang="ru-RU" sz="2800" spc="-1" strike="noStrike">
                <a:solidFill>
                  <a:srgbClr val="083763"/>
                </a:solidFill>
                <a:latin typeface="Times New Roman"/>
              </a:rPr>
              <a:t>(или климат)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в группе детского сада опреде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3763"/>
                </a:solidFill>
                <a:latin typeface="Times New Roman"/>
              </a:rPr>
              <a:t>Отношениями между воспитателем и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3763"/>
                </a:solidFill>
                <a:latin typeface="Times New Roman"/>
              </a:rPr>
              <a:t>Отношениями между самими деть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Педагогам в группах необходимо создать условия для эмоционального благополучия каждого ребен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предметно-развивающая сре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стиль общения воспитателя с ребенк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стиль общения воспитателей между соб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стиль общения воспитателя с родителе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наблюдать, как общаются дети между соб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Самочувствие ребенка в группе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– это удовлетворенность существующими взаимоотношениями в группе, степень участия в совместной деятельности, защищенность, внутреннее спокойствие, переживания чувства «мы». Все это можно определить как эмоциональное благополучие. Эмоциональное благополучие способствует нормальному развитию личности ребенка, выработке у него положительных качеств, доброжелательного отношения к другим людя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3. «Влияние стилей педагогического общения на благоприятный психологический клима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в группе».</a:t>
            </a:r>
            <a:r>
              <a:rPr b="0" lang="ru-RU" sz="3600" spc="-1" strike="noStrike">
                <a:solidFill>
                  <a:srgbClr val="08376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5:03:40Z</dcterms:created>
  <dc:creator>Admin</dc:creator>
  <dc:description/>
  <dc:language>en-US</dc:language>
  <cp:lastModifiedBy>Admin</cp:lastModifiedBy>
  <dcterms:modified xsi:type="dcterms:W3CDTF">2013-12-12T08:53:17Z</dcterms:modified>
  <cp:revision>18</cp:revision>
  <dc:subject/>
  <dc:title>Слайд 1</dc:title>
</cp:coreProperties>
</file>