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446-1214-46E5-ADE7-CD2C1983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346-03FB-4E1F-A87E-AC942CFE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FE9-291B-404E-AB9E-694A9A6C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187-549B-46CA-B4DC-F7BBEAB2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F67-5E3B-4174-9500-6107AE82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D8C-85DA-403F-B33F-5145CDC6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4FF-D2C7-4635-9A49-E2687302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0D1-74D6-4FD7-A20B-FA656DC6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671-60E3-42D9-AEEE-D3F0FE13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642-1A28-4466-86B4-97743EE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3F7-0664-47A8-B582-BABCC534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4BD-45DF-4071-9DC3-78B8C41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0036-76C1-4E50-99AD-3FB3571BB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ruitnews.ru/upload/iblock/6a0/zemlya_matyshka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357720" y="3786120"/>
            <a:ext cx="2360520" cy="2268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428760" y="1143000"/>
            <a:ext cx="81439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тивопожарное «Поле  чудес»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4071960" y="3500280"/>
            <a:ext cx="833400" cy="83376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285920" y="6000840"/>
            <a:ext cx="6172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Останови огонь- 2015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371600" y="30492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П  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.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С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 flipH="1">
            <a:off x="5867280" y="2602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348000" y="1628640"/>
            <a:ext cx="1523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419640" y="33336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Е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014"/>
          <p:cNvPicPr/>
          <p:nvPr/>
        </p:nvPicPr>
        <p:blipFill>
          <a:blip r:embed="rId1"/>
          <a:stretch/>
        </p:blipFill>
        <p:spPr>
          <a:xfrm>
            <a:off x="684360" y="1484280"/>
            <a:ext cx="5715000" cy="491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esok001"/>
          <p:cNvPicPr/>
          <p:nvPr/>
        </p:nvPicPr>
        <p:blipFill>
          <a:blip r:embed="rId2"/>
          <a:stretch/>
        </p:blipFill>
        <p:spPr>
          <a:xfrm>
            <a:off x="5292720" y="3789360"/>
            <a:ext cx="3400560" cy="2774880"/>
          </a:xfrm>
          <a:prstGeom prst="rect">
            <a:avLst/>
          </a:prstGeom>
          <a:ln w="0">
            <a:noFill/>
          </a:ln>
        </p:spPr>
      </p:pic>
      <p:sp>
        <p:nvSpPr>
          <p:cNvPr id="92" name="WordArt 8"/>
          <p:cNvSpPr txBox="1"/>
          <p:nvPr/>
        </p:nvSpPr>
        <p:spPr>
          <a:xfrm>
            <a:off x="250920" y="189000"/>
            <a:ext cx="8642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м  можно потушить огонь, но  лучше  с ним игра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8" descr=""/>
          <p:cNvPicPr/>
          <p:nvPr/>
        </p:nvPicPr>
        <p:blipFill>
          <a:blip r:embed="rId1"/>
          <a:stretch/>
        </p:blipFill>
        <p:spPr>
          <a:xfrm>
            <a:off x="12600" y="219240"/>
            <a:ext cx="97902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675800" y="471600"/>
            <a:ext cx="541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Б  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. 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Г ОР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3124080" y="1905120"/>
            <a:ext cx="838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952880" y="190512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743200" y="609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H="1">
            <a:off x="5435280" y="2602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748"/>
          <p:cNvPicPr/>
          <p:nvPr/>
        </p:nvPicPr>
        <p:blipFill>
          <a:blip r:embed="rId1"/>
          <a:stretch/>
        </p:blipFill>
        <p:spPr>
          <a:xfrm>
            <a:off x="900000" y="2565360"/>
            <a:ext cx="7632720" cy="374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2626127"/>
          <p:cNvPicPr/>
          <p:nvPr/>
        </p:nvPicPr>
        <p:blipFill>
          <a:blip r:embed="rId2"/>
          <a:stretch/>
        </p:blipFill>
        <p:spPr>
          <a:xfrm>
            <a:off x="1763640" y="2205000"/>
            <a:ext cx="5689800" cy="42670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9"/>
          <p:cNvSpPr txBox="1"/>
          <p:nvPr/>
        </p:nvSpPr>
        <p:spPr>
          <a:xfrm>
            <a:off x="324000" y="189000"/>
            <a:ext cx="835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пользуется в   качестве пожарного оборудова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8" descr=""/>
          <p:cNvPicPr/>
          <p:nvPr/>
        </p:nvPicPr>
        <p:blipFill>
          <a:blip r:embed="rId1"/>
          <a:stretch/>
        </p:blipFill>
        <p:spPr>
          <a:xfrm>
            <a:off x="12600" y="219240"/>
            <a:ext cx="97902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0" y="3049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 .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ДР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3048120" y="18288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 flipH="1">
            <a:off x="5866920" y="33336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132000" y="54936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1196761"/>
          <p:cNvPicPr/>
          <p:nvPr/>
        </p:nvPicPr>
        <p:blipFill>
          <a:blip r:embed="rId1"/>
          <a:stretch/>
        </p:blipFill>
        <p:spPr>
          <a:xfrm rot="1702800">
            <a:off x="2268360" y="1044720"/>
            <a:ext cx="4248360" cy="5813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324000" y="189000"/>
            <a:ext cx="835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пользуется в   качестве пожарного оборудова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3571920" y="2643120"/>
            <a:ext cx="1498680" cy="15001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1571760" y="642960"/>
            <a:ext cx="61722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 тур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071880" y="4071960"/>
            <a:ext cx="2360520" cy="2268360"/>
          </a:xfrm>
          <a:prstGeom prst="rect">
            <a:avLst/>
          </a:prstGeom>
          <a:ln w="0">
            <a:noFill/>
          </a:ln>
        </p:spPr>
      </p:pic>
      <p:pic>
        <p:nvPicPr>
          <p:cNvPr id="117" name="1-NACHALO.mp3" descr=""/>
          <p:cNvPicPr/>
          <p:nvPr/>
        </p:nvPicPr>
        <p:blipFill>
          <a:blip r:embed="rId3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9874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8" descr=""/>
          <p:cNvPicPr/>
          <p:nvPr/>
        </p:nvPicPr>
        <p:blipFill>
          <a:blip r:embed="rId1"/>
          <a:stretch/>
        </p:blipFill>
        <p:spPr>
          <a:xfrm>
            <a:off x="360360" y="219240"/>
            <a:ext cx="878364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547640" y="54936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42920" y="40464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 ДЕЖ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 flipH="1">
            <a:off x="4038480" y="304920"/>
            <a:ext cx="1526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1676520" y="1676520"/>
            <a:ext cx="1218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156138210"/>
          <p:cNvPicPr/>
          <p:nvPr/>
        </p:nvPicPr>
        <p:blipFill>
          <a:blip r:embed="rId1"/>
          <a:stretch/>
        </p:blipFill>
        <p:spPr>
          <a:xfrm>
            <a:off x="3276720" y="1628640"/>
            <a:ext cx="4286160" cy="441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1010189"/>
          <p:cNvPicPr/>
          <p:nvPr/>
        </p:nvPicPr>
        <p:blipFill>
          <a:blip r:embed="rId2"/>
          <a:stretch/>
        </p:blipFill>
        <p:spPr>
          <a:xfrm>
            <a:off x="826920" y="1989000"/>
            <a:ext cx="2698920" cy="3598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547640" y="522936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БОЁВ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-main-pic" descr="Картинка 86 из 1148"/>
          <p:cNvPicPr/>
          <p:nvPr/>
        </p:nvPicPr>
        <p:blipFill>
          <a:blip r:embed="rId3"/>
          <a:stretch/>
        </p:blipFill>
        <p:spPr>
          <a:xfrm>
            <a:off x="7093080" y="4437000"/>
            <a:ext cx="1834920" cy="16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97926_1"/>
          <p:cNvPicPr/>
          <p:nvPr/>
        </p:nvPicPr>
        <p:blipFill>
          <a:blip r:embed="rId4"/>
          <a:stretch/>
        </p:blipFill>
        <p:spPr>
          <a:xfrm>
            <a:off x="7132680" y="404640"/>
            <a:ext cx="2011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3571920" y="2643120"/>
            <a:ext cx="1498680" cy="15001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1571760" y="642960"/>
            <a:ext cx="61722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перигр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3071880" y="4071960"/>
            <a:ext cx="2360520" cy="2268360"/>
          </a:xfrm>
          <a:prstGeom prst="rect">
            <a:avLst/>
          </a:prstGeom>
          <a:ln w="0">
            <a:noFill/>
          </a:ln>
        </p:spPr>
      </p:pic>
      <p:pic>
        <p:nvPicPr>
          <p:cNvPr id="134" name="1-NACHALO.mp3" descr=""/>
          <p:cNvPicPr/>
          <p:nvPr/>
        </p:nvPicPr>
        <p:blipFill>
          <a:blip r:embed="rId3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9874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Прямоугольник 8" descr=""/>
          <p:cNvPicPr/>
          <p:nvPr/>
        </p:nvPicPr>
        <p:blipFill>
          <a:blip r:embed="rId1"/>
          <a:stretch/>
        </p:blipFill>
        <p:spPr>
          <a:xfrm>
            <a:off x="262080" y="219240"/>
            <a:ext cx="924696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-361800" y="0"/>
            <a:ext cx="9505800" cy="7029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 rot="19341000">
            <a:off x="178920" y="2491920"/>
            <a:ext cx="1067040" cy="10670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 rot="20586600">
            <a:off x="971640" y="1915920"/>
            <a:ext cx="1066680" cy="1066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 rot="21152400">
            <a:off x="1907640" y="1341360"/>
            <a:ext cx="1067040" cy="1067040"/>
          </a:xfrm>
          <a:prstGeom prst="rect">
            <a:avLst/>
          </a:prstGeom>
          <a:solidFill>
            <a:srgbClr val="e8e3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 rot="21221400">
            <a:off x="2916000" y="981000"/>
            <a:ext cx="1066680" cy="10670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51280" y="836640"/>
            <a:ext cx="106668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 rot="636000">
            <a:off x="5016600" y="907560"/>
            <a:ext cx="1066680" cy="121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 rot="1209600">
            <a:off x="5940360" y="1341000"/>
            <a:ext cx="1067040" cy="1067040"/>
          </a:xfrm>
          <a:prstGeom prst="rect">
            <a:avLst/>
          </a:prstGeom>
          <a:solidFill>
            <a:srgbClr val="ed21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 rot="1494600">
            <a:off x="6804000" y="1916280"/>
            <a:ext cx="1066680" cy="10666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 rot="1620000">
            <a:off x="7596000" y="2565360"/>
            <a:ext cx="106668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Clipart-Cartoon-Design-16"/>
          <p:cNvPicPr/>
          <p:nvPr/>
        </p:nvPicPr>
        <p:blipFill>
          <a:blip r:embed="rId1"/>
          <a:srcRect l="0" t="0" r="0" b="3714"/>
          <a:stretch/>
        </p:blipFill>
        <p:spPr>
          <a:xfrm>
            <a:off x="2987640" y="2349360"/>
            <a:ext cx="2808360" cy="2578320"/>
          </a:xfrm>
          <a:prstGeom prst="rect">
            <a:avLst/>
          </a:prstGeom>
          <a:ln w="0">
            <a:noFill/>
          </a:ln>
        </p:spPr>
      </p:pic>
      <p:sp>
        <p:nvSpPr>
          <p:cNvPr id="58" name="WordArt 19"/>
          <p:cNvSpPr txBox="1"/>
          <p:nvPr/>
        </p:nvSpPr>
        <p:spPr>
          <a:xfrm>
            <a:off x="826920" y="189000"/>
            <a:ext cx="7418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ва  не прост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>
            <a:off x="395280" y="5589720"/>
            <a:ext cx="773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ТИВОПОЖАРНЫЕ</a:t>
            </a:r>
            <a:endParaRPr b="0" lang="en-US" sz="1800" spc="1" strike="noStrike">
              <a:ln w="414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124000" y="33336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З 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 МЛ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6516360" y="260280"/>
            <a:ext cx="1522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3059280" y="1557360"/>
            <a:ext cx="1447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132000" y="189000"/>
            <a:ext cx="10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Картинка 9 из 365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060640"/>
            <a:ext cx="5616720" cy="42148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9"/>
          <p:cNvSpPr txBox="1"/>
          <p:nvPr/>
        </p:nvSpPr>
        <p:spPr>
          <a:xfrm>
            <a:off x="324000" y="189000"/>
            <a:ext cx="835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жно использовать при тушении пожар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1908000" y="189000"/>
            <a:ext cx="546768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1692360" y="476280"/>
            <a:ext cx="582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Начальная общеобразовательная школа  №98"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3780000" y="836640"/>
            <a:ext cx="1942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од Кемеро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68360" y="1125360"/>
            <a:ext cx="8209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Желаем вам  уч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Противопожарные слова  только  по картинк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500040" y="4143240"/>
            <a:ext cx="133812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500040" y="642960"/>
            <a:ext cx="8143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мин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0040" y="378612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акой  праздник мы отмечаем 30 апрел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28760" y="571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65 года пожарной охране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571920" y="2643120"/>
            <a:ext cx="1498680" cy="150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3429000" y="4214880"/>
            <a:ext cx="2006640" cy="192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_j25000256754"/>
          <p:cNvPicPr/>
          <p:nvPr/>
        </p:nvPicPr>
        <p:blipFill>
          <a:blip r:embed="rId3"/>
          <a:stretch/>
        </p:blipFill>
        <p:spPr>
          <a:xfrm>
            <a:off x="928800" y="1928880"/>
            <a:ext cx="1631880" cy="2808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История пожарной охраны"/>
          <p:cNvPicPr/>
          <p:nvPr/>
        </p:nvPicPr>
        <p:blipFill>
          <a:blip r:embed="rId4"/>
          <a:stretch/>
        </p:blipFill>
        <p:spPr>
          <a:xfrm>
            <a:off x="5572080" y="2214720"/>
            <a:ext cx="31431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712800" y="152280"/>
            <a:ext cx="8070840" cy="38037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3" descr=""/>
          <p:cNvPicPr/>
          <p:nvPr/>
        </p:nvPicPr>
        <p:blipFill>
          <a:blip r:embed="rId2"/>
          <a:stretch/>
        </p:blipFill>
        <p:spPr>
          <a:xfrm>
            <a:off x="712800" y="3438360"/>
            <a:ext cx="80708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2" descr=""/>
          <p:cNvPicPr/>
          <p:nvPr/>
        </p:nvPicPr>
        <p:blipFill>
          <a:blip r:embed="rId1"/>
          <a:stretch/>
        </p:blipFill>
        <p:spPr>
          <a:xfrm>
            <a:off x="-171360" y="0"/>
            <a:ext cx="9753480" cy="613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0-tub.yandex.net/i?id=86018915-06-24"/>
          <p:cNvPicPr/>
          <p:nvPr/>
        </p:nvPicPr>
        <p:blipFill>
          <a:blip r:embed="rId2"/>
          <a:stretch/>
        </p:blipFill>
        <p:spPr>
          <a:xfrm>
            <a:off x="357120" y="4357800"/>
            <a:ext cx="192888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-585720" y="6480"/>
            <a:ext cx="10266120" cy="649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im4-tub.yandex.net/i?id=31202311-17-24"/>
          <p:cNvPicPr/>
          <p:nvPr/>
        </p:nvPicPr>
        <p:blipFill>
          <a:blip r:embed="rId2"/>
          <a:stretch/>
        </p:blipFill>
        <p:spPr>
          <a:xfrm>
            <a:off x="7215120" y="4000680"/>
            <a:ext cx="1752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571920" y="2643120"/>
            <a:ext cx="1498680" cy="150012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1571760" y="642960"/>
            <a:ext cx="61722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тур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1" name="1-NACHALO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071880" y="4071960"/>
            <a:ext cx="23605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874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8" descr=""/>
          <p:cNvPicPr/>
          <p:nvPr/>
        </p:nvPicPr>
        <p:blipFill>
          <a:blip r:embed="rId1"/>
          <a:stretch/>
        </p:blipFill>
        <p:spPr>
          <a:xfrm>
            <a:off x="12600" y="219240"/>
            <a:ext cx="97902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8:23:54Z</dcterms:created>
  <dc:creator>Компьютер</dc:creator>
  <dc:description/>
  <dc:language>en-US</dc:language>
  <cp:lastModifiedBy>user</cp:lastModifiedBy>
  <dcterms:modified xsi:type="dcterms:W3CDTF">2015-04-28T13:02:00Z</dcterms:modified>
  <cp:revision>12</cp:revision>
  <dc:subject/>
  <dc:title>Слайд 1</dc:title>
</cp:coreProperties>
</file>