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2DA-10B4-4840-A999-2FB0BE08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171-65DD-4946-A3E1-A19C0B3F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986-9A8E-445E-AFCB-F9C38162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32C-5576-47FC-849E-5A4AE549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B1E1-4437-46FE-A87A-CDACED7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14FC-D246-424D-82CF-C189D6C8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98D5-3300-4ACD-A845-8954D1D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DC7-9956-426A-9337-2DEA869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7B67-2775-4E1C-AD99-EA1A660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348-3250-469E-8FBA-BCDBC8EB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30AC-C617-4B69-9AE0-81105C8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9BF-6B86-468C-9988-EAFDB5F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7982-CCDD-4490-9DC6-3091283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3F95-17DD-405D-AD2A-77743CD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422-5843-490B-A927-736C2800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66FA-811B-4A00-BBD1-FA816F4E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EE1D-A451-4F86-A4A5-348AA6EB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CCFC-0BF2-43B4-809D-4F08BC9C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C7A6-2F18-4585-97B9-0235B37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FA06-97C4-4A65-A850-50F606D1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9B86-FC85-4E53-943C-FDD76B9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A257-24B1-48F2-8115-5813DFF5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57B-147F-4756-9FB7-A5AD75D4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162D-CBD2-402A-808A-0B500EBA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7C7C-9A73-45EE-8D75-DF322896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9FDF-E561-437E-8E4D-FC64FAA8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8331-C073-475D-B16A-3E87603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0766-060F-48D1-91CE-300D107E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89AC-FD31-4B56-AB65-41EDA599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3A9D-4B49-465E-8B3D-1040C16C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14A9-1475-4A74-924B-C287093B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2916-0C88-4106-A654-160751CC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AFFB-B762-4610-8056-0FE63628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823-9F0C-48B8-B887-B51E23D6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C460-C918-4309-8BD2-A196F4E6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D1ED-D8CE-4EAB-9DFC-91EB6A3E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D916-D2E4-46CF-BF9F-68CB76EE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5C7C0-3B3B-49CF-BD3F-CA47251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0D54-9B92-42E6-8A33-B4E8D3C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F3C0-1592-4AF0-8FF2-704827B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11EC-5EB9-4B3E-BE86-FFBA93EA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7CD6-7B2D-4170-90F4-F6FAEF71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0869-4571-4D16-A3A2-54601604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29D82-297C-4B35-923B-119CEAD4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A25-B2EB-47CE-8574-16F03A86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D179-A677-4093-AB21-756F998B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9E1B-F6B2-43D7-B683-CBBAD37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AD34-E0C8-4BE4-92CA-4A7DB004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3D3D3-76EE-48A1-9981-FF6660B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A11B-5959-4BC9-B84F-170CB94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C3BBB-FC13-492A-8066-066E8DE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46D83-B34E-4001-A820-0B2D559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3CFA4-B794-4A88-AB47-FAC99E5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9E5F-7ABA-4BA0-B3B5-C89B92D7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9C05-6A17-4FE9-9565-891CA8C5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2F4-4719-474E-8E26-80BD8DF4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DF007-533A-4B20-9D87-0AF8B6B1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FF1-2F1F-49D0-865E-DE35EBE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81B-B879-45C0-A80F-FA125EB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7A2-450F-4CC6-B62F-B951906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D5D-FA4E-4147-930B-91988B9809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EB8D-28B3-4030-AAB9-AAA4759DE9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6598-C610-4F00-B13D-D420A349EA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3793-C59B-4F22-B2DD-FFF47FC3B7C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A381-A756-4E9B-BE06-14C8EFD646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4"/>
          <p:cNvSpPr txBox="1"/>
          <p:nvPr/>
        </p:nvSpPr>
        <p:spPr>
          <a:xfrm>
            <a:off x="2050920" y="2060640"/>
            <a:ext cx="65534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кстовый процессор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7640" y="2707920"/>
            <a:ext cx="4392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71c"/>
                </a:solidFill>
                <a:latin typeface="Gill Sans MT"/>
              </a:rPr>
              <a:t>Microsoft Word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3479760" y="5589720"/>
            <a:ext cx="3899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Автор-составитель: Шалыпин А.В.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едагог-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4" descr="9"/>
          <p:cNvPicPr/>
          <p:nvPr/>
        </p:nvPicPr>
        <p:blipFill>
          <a:blip r:embed="rId1"/>
          <a:stretch/>
        </p:blipFill>
        <p:spPr>
          <a:xfrm>
            <a:off x="7596360" y="5300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2411280" y="260280"/>
            <a:ext cx="51879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Государственное бюджетное общеобразовательное учреждение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средняя общеобразовательная школа №538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с углублённым изучением информационных технологий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Кировского района Санкт-Петербурга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72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640"/>
                            </p:stCondLst>
                            <p:childTnLst>
                              <p:par>
                                <p:cTn id="2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cc00"/>
                </a:solidFill>
                <a:latin typeface="Corbel"/>
              </a:rPr>
              <a:t>Редактирование абзац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42560" y="1125360"/>
            <a:ext cx="769644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Перестановка местами, удаление или добавление фрагментов текс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39640" y="2924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835280" y="1844640"/>
            <a:ext cx="68403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dc765"/>
                </a:solidFill>
                <a:latin typeface="Comic Sans MS"/>
              </a:rPr>
              <a:t>                                      </a:t>
            </a:r>
            <a:r>
              <a:rPr b="1" lang="ru-RU" sz="2000" spc="-1" strike="noStrike">
                <a:solidFill>
                  <a:srgbClr val="8dc765"/>
                </a:solidFill>
                <a:latin typeface="Comic Sans MS"/>
              </a:rPr>
              <a:t>Команд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Копиров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копия фрагмента заносится в буфер обмена. Фрагмент остается на месте. Правка - Копировать. Клавиатурные эквиваленты: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TRL+INSER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+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Вырез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фрагмент исчезает со своего места и заносится в буфер обмена. Правка - Вырезать. Клавиатурные эквиваленты: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TRL+DELE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+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Встав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скопированный или вырезанный фрагмент вставляется в указанное место. Правка - Вставить. Клавиатурные эквиваленты: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HIFT+INSER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+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Удал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- выделить объект и нажать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DELET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4f271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mic Sans MS"/>
              </a:rPr>
              <a:t>Безбуферное копировани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- выделенный объект при нажатой клавише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CTRL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еретаскивается в нужное мест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22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72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3720"/>
                            </p:stCondLst>
                            <p:childTnLst>
                              <p:par>
                                <p:cTn id="472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672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1220"/>
                            </p:stCondLst>
                            <p:childTnLst>
                              <p:par>
                                <p:cTn id="49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220"/>
                            </p:stCondLst>
                            <p:childTnLst>
                              <p:par>
                                <p:cTn id="50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9220"/>
                            </p:stCondLst>
                            <p:childTnLst>
                              <p:par>
                                <p:cTn id="51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3220"/>
                            </p:stCondLst>
                            <p:childTnLst>
                              <p:par>
                                <p:cTn id="5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3720"/>
                            </p:stCondLst>
                            <p:childTnLst>
                              <p:par>
                                <p:cTn id="5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4220"/>
                            </p:stCondLst>
                            <p:childTnLst>
                              <p:par>
                                <p:cTn id="5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4720"/>
                            </p:stCondLst>
                            <p:childTnLst>
                              <p:par>
                                <p:cTn id="5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5220"/>
                            </p:stCondLst>
                            <p:childTnLst>
                              <p:par>
                                <p:cTn id="5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5720"/>
                            </p:stCondLst>
                            <p:childTnLst>
                              <p:par>
                                <p:cTn id="5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6220"/>
                            </p:stCondLst>
                            <p:childTnLst>
                              <p:par>
                                <p:cTn id="5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672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95959"/>
                </a:solidFill>
                <a:latin typeface="Corbel"/>
              </a:rPr>
              <a:t>Форматировани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1476360" y="2492280"/>
            <a:ext cx="3527280" cy="266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имво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5651640" y="2492280"/>
            <a:ext cx="3384360" cy="266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бза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7"/>
          <p:cNvSpPr/>
          <p:nvPr/>
        </p:nvSpPr>
        <p:spPr>
          <a:xfrm rot="5400000">
            <a:off x="3996000" y="-170640"/>
            <a:ext cx="1079640" cy="4535640"/>
          </a:xfrm>
          <a:custGeom>
            <a:avLst/>
            <a:gdLst>
              <a:gd name="textAreaLeft" fmla="*/ 689760 w 1079640"/>
              <a:gd name="textAreaRight" fmla="*/ 1080000 w 1079640"/>
              <a:gd name="textAreaTop" fmla="*/ 118080 h 4535640"/>
              <a:gd name="textAreaBottom" fmla="*/ 4417560 h 453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9300"/>
                            </p:stCondLst>
                            <p:childTnLst>
                              <p:par>
                                <p:cTn id="597" nodeType="after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16007 0.00277 -0.39618 -0.12301 -0.45538 -0.00855 C -0.51458 0.1059 -0.43507 0.55283 -0.35538 0.68694 C -0.2757 0.82104 -0.11406 0.78035 0.0224 0.79699 C 0.15868 0.81364 0.3842 0.8252 0.46198 0.78636 C 0.53958 0.74751 0.4816 0.69965 0.48906 0.56439 C 0.49653 0.42913 0.58785 0.06821 0.50642 -0.02543 C 0.42483 -0.11907 0.16024 -0.00277 0 0 Z">
                                      <p:cBhvr>
                                        <p:cTn id="59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1800"/>
                            </p:stCondLst>
                            <p:childTnLst>
                              <p:par>
                                <p:cTn id="60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1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animClr clrSpc="rgb">
                                      <p:cBhvr>
                                        <p:cTn id="602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603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7742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м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т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н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е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с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л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200"/>
                </a:solidFill>
                <a:latin typeface="Corbel"/>
              </a:rPr>
              <a:t>Процесс изменения оформления текс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87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анда меню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ФОРМАТ - ШРИФ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1258920" y="3573360"/>
            <a:ext cx="6049800" cy="503280"/>
          </a:xfrm>
          <a:prstGeom prst="rect">
            <a:avLst/>
          </a:prstGeom>
          <a:ln w="0">
            <a:noFill/>
          </a:ln>
        </p:spPr>
      </p:pic>
      <p:sp>
        <p:nvSpPr>
          <p:cNvPr id="297" name="Line 6"/>
          <p:cNvSpPr/>
          <p:nvPr/>
        </p:nvSpPr>
        <p:spPr>
          <a:xfrm flipV="1">
            <a:off x="248436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7"/>
          <p:cNvSpPr/>
          <p:nvPr/>
        </p:nvSpPr>
        <p:spPr>
          <a:xfrm flipV="1">
            <a:off x="464328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8"/>
          <p:cNvSpPr/>
          <p:nvPr/>
        </p:nvSpPr>
        <p:spPr>
          <a:xfrm flipV="1">
            <a:off x="572436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9"/>
          <p:cNvSpPr/>
          <p:nvPr/>
        </p:nvSpPr>
        <p:spPr>
          <a:xfrm flipV="1">
            <a:off x="630072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10"/>
          <p:cNvSpPr/>
          <p:nvPr/>
        </p:nvSpPr>
        <p:spPr>
          <a:xfrm flipV="1">
            <a:off x="6877080" y="4149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258920" y="508464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258920" y="501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звание шриф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728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мер (кегл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5435640" y="494172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чертание: полужирное, курсив, подчеркнут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880"/>
                            </p:stCondLst>
                            <p:childTnLst>
                              <p:par>
                                <p:cTn id="619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380"/>
                            </p:stCondLst>
                            <p:childTnLst>
                              <p:par>
                                <p:cTn id="626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2480"/>
                            </p:stCondLst>
                            <p:childTnLst>
                              <p:par>
                                <p:cTn id="632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"/>
                            </p:stCondLst>
                            <p:childTnLst>
                              <p:par>
                                <p:cTn id="6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6480"/>
                            </p:stCondLst>
                            <p:childTnLst>
                              <p:par>
                                <p:cTn id="6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7480"/>
                            </p:stCondLst>
                            <p:childTnLst>
                              <p:par>
                                <p:cTn id="6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908000" y="0"/>
            <a:ext cx="5855040" cy="688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857240" y="84240"/>
            <a:ext cx="5929560" cy="65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785960" y="293760"/>
            <a:ext cx="5929200" cy="65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4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м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т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р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н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е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а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б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а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</a:t>
            </a: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200"/>
                </a:solidFill>
                <a:latin typeface="Corbel"/>
              </a:rPr>
              <a:t>Настройка междустрочного интервала, выравнивания текста и т.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292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анда меню: 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ФОРМАТ - АБЗА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3672000" cy="6908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2195640" y="5445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8dc765"/>
                </a:solidFill>
                <a:latin typeface="Comic Sans MS"/>
              </a:rPr>
              <a:t>Выравнив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332000" y="4437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левому краю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2556000" y="458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цент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3564000" y="45086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правому краю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4788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ширин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227640" y="45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dc765"/>
                </a:solidFill>
                <a:latin typeface="Comic Sans MS"/>
              </a:rPr>
              <a:t>Междустрочный интер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1835280" y="4221000"/>
            <a:ext cx="93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14"/>
          <p:cNvSpPr/>
          <p:nvPr/>
        </p:nvSpPr>
        <p:spPr>
          <a:xfrm flipV="1">
            <a:off x="2916360" y="4076640"/>
            <a:ext cx="57600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5"/>
          <p:cNvSpPr/>
          <p:nvPr/>
        </p:nvSpPr>
        <p:spPr>
          <a:xfrm flipV="1">
            <a:off x="3924360" y="4149360"/>
            <a:ext cx="287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16"/>
          <p:cNvSpPr/>
          <p:nvPr/>
        </p:nvSpPr>
        <p:spPr>
          <a:xfrm flipH="1" flipV="1">
            <a:off x="4858920" y="4221000"/>
            <a:ext cx="144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17"/>
          <p:cNvSpPr/>
          <p:nvPr/>
        </p:nvSpPr>
        <p:spPr>
          <a:xfrm flipH="1" flipV="1">
            <a:off x="5651280" y="3860280"/>
            <a:ext cx="108108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40"/>
                            </p:stCondLst>
                            <p:childTnLst>
                              <p:par>
                                <p:cTn id="703" nodeType="afterEffect" fill="hold" presetClass="entr" presetID="45">
                                  <p:stCondLst>
                                    <p:cond delay="1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940"/>
                            </p:stCondLst>
                            <p:childTnLst>
                              <p:par>
                                <p:cTn id="709" nodeType="afterEffect" fill="hold" presetClass="entr" presetID="51">
                                  <p:stCondLst>
                                    <p:cond delay="2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77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6" dur="77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1440"/>
                            </p:stCondLst>
                            <p:childTnLst>
                              <p:par>
                                <p:cTn id="71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3940"/>
                            </p:stCondLst>
                            <p:childTnLst>
                              <p:par>
                                <p:cTn id="7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3940"/>
                            </p:stCondLst>
                            <p:childTnLst>
                              <p:par>
                                <p:cTn id="7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940"/>
                            </p:stCondLst>
                            <p:childTnLst>
                              <p:par>
                                <p:cTn id="7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6940"/>
                            </p:stCondLst>
                            <p:childTnLst>
                              <p:par>
                                <p:cTn id="7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8940"/>
                            </p:stCondLst>
                            <p:childTnLst>
                              <p:par>
                                <p:cTn id="7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994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1940"/>
                            </p:stCondLst>
                            <p:childTnLst>
                              <p:par>
                                <p:cTn id="7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29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940"/>
                            </p:stCondLst>
                            <p:childTnLst>
                              <p:par>
                                <p:cTn id="8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5940"/>
                            </p:stCondLst>
                            <p:childTnLst>
                              <p:par>
                                <p:cTn id="8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940"/>
                            </p:stCondLst>
                            <p:childTnLst>
                              <p:par>
                                <p:cTn id="8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525680" y="0"/>
            <a:ext cx="6162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428840" y="71280"/>
            <a:ext cx="634356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b80a"/>
                </a:solidFill>
                <a:latin typeface="Corbel"/>
              </a:rPr>
              <a:t>Текстовый редактор</a:t>
            </a:r>
            <a:r>
              <a:rPr b="0" lang="ru-RU" sz="3200" spc="-1" strike="noStrike">
                <a:solidFill>
                  <a:srgbClr val="feb80a"/>
                </a:solidFill>
                <a:latin typeface="Corbel"/>
              </a:rPr>
              <a:t> – </a:t>
            </a:r>
            <a:r>
              <a:rPr b="0" lang="ru-RU" sz="3200" spc="-1" strike="noStrike">
                <a:solidFill>
                  <a:srgbClr val="aa8a14"/>
                </a:solidFill>
                <a:latin typeface="Corbel"/>
              </a:rPr>
              <a:t>прикладная программа, предназначенная для создания и редактирования текстовых документ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86920" y="3500280"/>
            <a:ext cx="6985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кстовый процессор – </a:t>
            </a:r>
            <a:r>
              <a:rPr b="0" lang="ru-RU" sz="3200" spc="-1" strike="noStrike">
                <a:solidFill>
                  <a:srgbClr val="aa8a14"/>
                </a:solidFill>
                <a:latin typeface="Corbel"/>
              </a:rPr>
              <a:t>текстовый редактор с расширенными возможностями оформления текс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80"/>
                            </p:stCondLst>
                            <p:childTnLst>
                              <p:par>
                                <p:cTn id="37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ff00"/>
                </a:solidFill>
                <a:latin typeface="Corbel"/>
              </a:rPr>
              <a:t>Виды редакторов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Corbel"/>
              </a:rPr>
              <a:t>Блокно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стандартное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MS Wo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Star Office Wri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текстовые процессор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Adobe PageMaker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настольные издательские системы для подготовки к изданию книг, журналов, газе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Gill Sans MT"/>
              </a:rPr>
              <a:t>MS FrontPag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для подготовки публикации в Интернете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страниц 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сай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7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22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22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2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42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42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орматы текстовых фай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ат файла определяет способ хранения текста в файле. Существуют </a:t>
            </a:r>
            <a:r>
              <a:rPr b="0" lang="ru-RU" sz="2400" spc="-1" strike="noStrike">
                <a:solidFill>
                  <a:srgbClr val="ffcc00"/>
                </a:solidFill>
                <a:latin typeface="Corbel"/>
              </a:rPr>
              <a:t>УНИВЕРСАЛЬНЫ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</a:t>
            </a:r>
            <a:r>
              <a:rPr b="0" lang="ru-RU" sz="2400" spc="-1" strike="noStrike">
                <a:solidFill>
                  <a:srgbClr val="ffcc00"/>
                </a:solidFill>
                <a:latin typeface="Corbel"/>
              </a:rPr>
              <a:t>ОРИГИНАЛЬНЫЕ форма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Corbel"/>
              </a:rPr>
              <a:t>Виды  форматов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TXT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только текст) – универсальный, текст без форматир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RTF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Универсальный, сохраняет форматирование, используется во многих приложениях, большой информационный объе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DOC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оригинальный, версия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Кодировк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DOC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оригинальный, версия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200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HTM, HTML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формат хранения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страниц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 MT"/>
              </a:rPr>
              <a:t>LX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формат отечественного редактора Лексико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22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742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942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42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42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42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742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f271c"/>
                </a:solidFill>
                <a:latin typeface="Corbel"/>
              </a:rPr>
              <a:t>Возможности текстового процессо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16000" y="1773000"/>
            <a:ext cx="769608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Поддержка двух и более языков с возможностью редактировать синтаксически и стилистическ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ование разнообразных шрифтов и изменения их размера, цвета, начерта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Использование в одном документе символов разных языков (латинских, греческих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бота с несколькими документами и несколькими средами (графический, текстовый редакторы, электронные таблицы, базы данных, презентации и т.д.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Большой выбор объектов, которые можно вставить в документ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втоматическое разбиение документа на страниц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Добавление списков, гиперссылок, сносок, колонтитуло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ширенные возможности работы с таблицей и т.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4.8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24"/>
                            </p:stCondLst>
                            <p:childTnLst>
                              <p:par>
                                <p:cTn id="197" nodeType="after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24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24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24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2524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24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7524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24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2524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270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orbel"/>
              </a:rPr>
              <a:t>Правила работы с тексто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58920" y="134100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жду словами ставитс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БЕ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рочные буквы, цифры и знаки «-», «=», «.» набираются простым нажатием на клавиш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писные буквы, знаки препинания, скобки, кавычки, специальные знаки (№, %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@, $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набираются при нажатой клавише 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SHIFT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наки препинания в тексте (кроме тире) не отделяются пробелом от слова, за которым стоят. Пробел ставится ПОСЛЕ знака препинания.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СКЛЮЧЕНИЯ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Тире выделяется пробелами с двух сторон: например, Москва — столица Росси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ед и после дефиса пробел не ставится. Например, Ростов-на-Дону, по-вашему, какой-т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 Скобки и кавычки присоединяются к выделенным словам без пробел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7. Для начала набора новой строки нажмите </a:t>
            </a:r>
            <a:r>
              <a:rPr b="0" lang="en-US" sz="1800" spc="-1" strike="noStrike">
                <a:solidFill>
                  <a:srgbClr val="4f271c"/>
                </a:solidFill>
                <a:latin typeface="Gill Sans MT"/>
              </a:rPr>
              <a:t>ENTER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6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96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96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96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96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96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96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96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сновные объекты текстового процессора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71280" y="1773360"/>
            <a:ext cx="799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имвол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знак, введенный с клавиатуры, который позволяет передвинуть курсор ввода на одну позицию.</a:t>
            </a: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лово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набор символов, ограниченный с обеих сторон знаками препинания либо пробелом.</a:t>
            </a: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трока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набор символов и слов от начала до конца листа по горизонтали.</a:t>
            </a: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Абзац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последовательность строк, которые сгруппированы для смыслового выделения содержания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Страница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последовательность абзацев от начала до конца листа по вертикал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Фрагмент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 – выделенная часть текс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  <a:p>
            <a:pPr marL="156960" indent="-121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611280" y="3213000"/>
            <a:ext cx="7696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539640" y="4365720"/>
            <a:ext cx="7696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468360" y="4005360"/>
            <a:ext cx="7696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68360" y="4941720"/>
            <a:ext cx="7696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Р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е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д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а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к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т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и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р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о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в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а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н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и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е</a:t>
            </a:r>
            <a:r>
              <a:rPr b="0" lang="ru-RU" sz="5400" spc="-1" strike="noStrike">
                <a:solidFill>
                  <a:srgbClr val="0000ff"/>
                </a:solidFill>
                <a:latin typeface="Corbel"/>
              </a:rPr>
              <a:t> –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AutoShape 4"/>
          <p:cNvSpPr/>
          <p:nvPr/>
        </p:nvSpPr>
        <p:spPr>
          <a:xfrm rot="10800000">
            <a:off x="1835280" y="2420640"/>
            <a:ext cx="2665440" cy="3095640"/>
          </a:xfrm>
          <a:prstGeom prst="wedgeRoundRectCallout">
            <a:avLst>
              <a:gd name="adj1" fmla="val -13120"/>
              <a:gd name="adj2" fmla="val 63004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 Sans MS"/>
              </a:rPr>
              <a:t>Редактирование симво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6"/>
          <p:cNvSpPr/>
          <p:nvPr/>
        </p:nvSpPr>
        <p:spPr>
          <a:xfrm flipH="1" rot="10800000">
            <a:off x="4788000" y="2349000"/>
            <a:ext cx="3641760" cy="3095640"/>
          </a:xfrm>
          <a:prstGeom prst="wedgeRoundRectCallout">
            <a:avLst>
              <a:gd name="adj1" fmla="val -14351"/>
              <a:gd name="adj2" fmla="val 62999"/>
              <a:gd name="adj3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 Sans MS"/>
              </a:rPr>
              <a:t>Редактирование абза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1403280" y="112536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несение изменений в тек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8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1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136"/>
                            </p:stCondLst>
                            <p:childTnLst>
                              <p:par>
                                <p:cTn id="381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736"/>
                            </p:stCondLst>
                            <p:childTnLst>
                              <p:par>
                                <p:cTn id="38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636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94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556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cc00"/>
                </a:solidFill>
                <a:latin typeface="Corbel"/>
              </a:rPr>
              <a:t>Редактирование симв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12500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Corbel"/>
              </a:rPr>
              <a:t>Замена, удаление или добавление  одного или нескольких символ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258920" y="2708280"/>
            <a:ext cx="74898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200"/>
                </a:solidFill>
                <a:latin typeface="Comic Sans MS"/>
              </a:rPr>
              <a:t>Используются следующие клавиши клавиату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CKSP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удаляет символ, находящийся слева от курсо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удаляет символ, стоящий справа от курсо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ключение между режимом вставки и режимом замены символ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7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6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436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8:19:28Z</dcterms:created>
  <dc:creator>!</dc:creator>
  <dc:description/>
  <dc:language>en-US</dc:language>
  <cp:lastModifiedBy>Ирина</cp:lastModifiedBy>
  <dcterms:modified xsi:type="dcterms:W3CDTF">2015-04-27T11:39:39Z</dcterms:modified>
  <cp:revision>21</cp:revision>
  <dc:subject/>
  <dc:title>Microsoft Word</dc:title>
</cp:coreProperties>
</file>