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058-2DC8-4C93-B765-6D367896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831B-6C82-45B9-AEF4-CE2C09D2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9220-C7C5-41E8-8E97-96F5665B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5FA-AE6A-4203-B3EE-BCC8C7B3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82F9-4226-40FB-ADA9-2D9EF566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069F-6679-4421-A595-A89ED04E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8950-8115-4FE2-ACDA-2D5A0E88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DE14-3ACC-4A91-A06E-A0F6EAA9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1E56-712F-46A8-949B-B8CCB51D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9CE6-AE7D-407D-8688-BF15A40E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0166-5F15-4D59-8E7A-2E0B184A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024-2F86-48B2-A417-9ED3E75F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9082-A97C-4DB8-9535-BD659125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8851-4E7E-4E4C-86F1-DAE157EE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5ECD-20D9-45CE-9F84-09B1CEE7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0EBD-6848-455D-AAF9-003BFD57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5119-F384-4001-8D64-D2255156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0A10D-303D-4A64-A927-20538C57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A97CD-0646-4F76-BCD2-8B520F30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CE69-8634-4BE8-AFB2-C4434B13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9C891-5D27-4FCF-95C6-D8150B35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97FC3-3B52-4AAA-A0A6-AC9012F5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4A5-D5A4-49EB-A886-1D507F5F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E271-4FE5-4DC2-BC6F-3A178AD1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330CD-D502-46B4-A639-06CFF2EE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F3BFF-2165-49FE-96EA-E2D4128C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3EDF1-390A-47FC-9B84-D82EFDBF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42FC8-5997-4212-B58E-04BDC58D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17084-7635-4939-8681-104CAC34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F55D0-C3A6-4EF0-9D47-223025A9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5AD3F-EE3C-4685-8554-72517967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75625-FC19-4673-8A92-D1E74E3E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1178C-D9AB-4C29-A12E-634AE15D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901-19AE-45B7-897F-19531347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9D212-B474-4458-86F5-586C7592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C7485-BE3C-4393-8A91-B353815F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98661-A0B9-4AF8-A5F9-BC7551A6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AFCF0-D1CD-49D5-8254-28788021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BCB04-E347-4D1D-958A-072AF128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996E3-01C7-4B95-9E60-8AAB8CFB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39DA5-61D5-4865-A3F8-225898E2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A1574-A3A1-4DE3-B4D4-9EBF3653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F4198-FE01-4A0C-9B5E-C50EA216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D23A0-A1DC-4DF0-B0E9-2F34246A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0ED-1315-41C5-BD7E-F5444D88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334B1-0DF0-47A6-925A-6EB5BC72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22A67-2AA8-4A5F-9DAB-BFF3B308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A48BE-675B-4AD2-816C-E0784634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0FEB0-8364-4D7F-AE03-0DBB2583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703A0-D444-4D69-A276-9E2D4B1D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B1199-B4CE-4110-8281-3C356F27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4C870-E703-4443-80CE-134A67AD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96594-3DE8-4745-B0B2-7B2247B2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076D5-205F-461E-BB2B-F5901EA4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4AB66-007C-4735-BF14-8CF8CA2B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29AE-B670-4C97-8EAA-654064ED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8DC51-54A9-478F-B592-C9D2429D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FDF-42CE-4F73-92F1-F89AF246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2A7-E392-4939-8CA9-53261EC0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A15E-C730-4E22-9A9D-757FA7CE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7D1E-03C1-4F4E-9EC6-449DFD92A6B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84E0-89D1-42E5-9626-2E00E306267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2565-B50A-4C6A-920F-737B6F1A640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FD2F-B4A5-4B66-B826-830FC7BBC9C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A25A-43C7-4B0E-B30C-3FB61C3426C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4"/>
          <p:cNvSpPr txBox="1"/>
          <p:nvPr/>
        </p:nvSpPr>
        <p:spPr>
          <a:xfrm>
            <a:off x="2050920" y="2060640"/>
            <a:ext cx="655344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кстовый процессор</a:t>
            </a:r>
            <a:endParaRPr b="0" lang="en-US" sz="1800" spc="1" strike="noStrike">
              <a:ln w="2232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7640" y="2707920"/>
            <a:ext cx="43927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f271c"/>
                </a:solidFill>
                <a:latin typeface="Gill Sans MT"/>
              </a:rPr>
              <a:t>Microsoft Word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3479760" y="5589720"/>
            <a:ext cx="3899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Автор-составитель: Шалыпин А.В.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педагог-дополнительного образован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Picture 4" descr="9"/>
          <p:cNvPicPr/>
          <p:nvPr/>
        </p:nvPicPr>
        <p:blipFill>
          <a:blip r:embed="rId1"/>
          <a:stretch/>
        </p:blipFill>
        <p:spPr>
          <a:xfrm>
            <a:off x="7596360" y="5300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5"/>
          <p:cNvSpPr/>
          <p:nvPr/>
        </p:nvSpPr>
        <p:spPr>
          <a:xfrm>
            <a:off x="2411280" y="260280"/>
            <a:ext cx="51879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  <a:ea typeface="Arial"/>
              </a:rPr>
              <a:t>Государственное бюджетное общеобразовательное учреждение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  <a:ea typeface="Arial"/>
              </a:rPr>
              <a:t>средняя общеобразовательная школа №538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  <a:ea typeface="Arial"/>
              </a:rPr>
              <a:t>с углублённым изучением информационных технологий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  <a:ea typeface="Arial"/>
              </a:rPr>
              <a:t>Кировского района Санкт-Петербурга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72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640"/>
                            </p:stCondLst>
                            <p:childTnLst>
                              <p:par>
                                <p:cTn id="23" nodeType="afterEffect" fill="hold" presetClass="emph" presetID="8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cc00"/>
                </a:solidFill>
                <a:latin typeface="Corbel"/>
              </a:rPr>
              <a:t>Редактирование абзац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42560" y="1125360"/>
            <a:ext cx="769644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rbel"/>
              </a:rPr>
              <a:t>Перестановка местами, удаление или добавление фрагментов текс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539640" y="292428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835280" y="1844640"/>
            <a:ext cx="6840360" cy="49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dc765"/>
                </a:solidFill>
                <a:latin typeface="Comic Sans MS"/>
              </a:rPr>
              <a:t>                                      </a:t>
            </a:r>
            <a:r>
              <a:rPr b="1" lang="ru-RU" sz="2000" spc="-1" strike="noStrike">
                <a:solidFill>
                  <a:srgbClr val="8dc765"/>
                </a:solidFill>
                <a:latin typeface="Comic Sans MS"/>
              </a:rPr>
              <a:t>Команд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4f271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mic Sans MS"/>
              </a:rPr>
              <a:t>Копироват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копия фрагмента заносится в буфер обмена. Фрагмент остается на месте. Правка - Копировать. Клавиатурные эквиваленты: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TRL+INSER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CTRL+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4f271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mic Sans MS"/>
              </a:rPr>
              <a:t>Вырезат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фрагмент исчезает со своего места и заносится в буфер обмена. Правка - Вырезать. Клавиатурные эквиваленты: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TRL+DELET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CTRL+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4f271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mic Sans MS"/>
              </a:rPr>
              <a:t>Вставит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скопированный или вырезанный фрагмент вставляется в указанное место. Правка - Вставить. Клавиатурные эквиваленты: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HIFT+INSER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CTRL+V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4f271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mic Sans MS"/>
              </a:rPr>
              <a:t>Удалит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- выделить объект и нажать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DELET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4f271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mic Sans MS"/>
              </a:rPr>
              <a:t>Безбуферное копировани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- выделенный объект при нажатой клавише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CTRL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перетаскивается в нужное мест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8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8220"/>
                            </p:stCondLst>
                            <p:childTnLst>
                              <p:par>
                                <p:cTn id="46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72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3720"/>
                            </p:stCondLst>
                            <p:childTnLst>
                              <p:par>
                                <p:cTn id="472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6720"/>
                            </p:stCondLst>
                            <p:childTnLst>
                              <p:par>
                                <p:cTn id="482" nodeType="afterEffect" fill="hold" presetClass="entr" presetID="5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77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77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7" dur="77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9" dur="77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1220"/>
                            </p:stCondLst>
                            <p:childTnLst>
                              <p:par>
                                <p:cTn id="492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77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77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5220"/>
                            </p:stCondLst>
                            <p:childTnLst>
                              <p:par>
                                <p:cTn id="502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77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77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9220"/>
                            </p:stCondLst>
                            <p:childTnLst>
                              <p:par>
                                <p:cTn id="512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77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77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9" dur="77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3220"/>
                            </p:stCondLst>
                            <p:childTnLst>
                              <p:par>
                                <p:cTn id="5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3720"/>
                            </p:stCondLst>
                            <p:childTnLst>
                              <p:par>
                                <p:cTn id="5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4220"/>
                            </p:stCondLst>
                            <p:childTnLst>
                              <p:par>
                                <p:cTn id="53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4720"/>
                            </p:stCondLst>
                            <p:childTnLst>
                              <p:par>
                                <p:cTn id="53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2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5220"/>
                            </p:stCondLst>
                            <p:childTnLst>
                              <p:par>
                                <p:cTn id="5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5720"/>
                            </p:stCondLst>
                            <p:childTnLst>
                              <p:par>
                                <p:cTn id="5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6220"/>
                            </p:stCondLst>
                            <p:childTnLst>
                              <p:par>
                                <p:cTn id="5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672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95959"/>
                </a:solidFill>
                <a:latin typeface="Corbel"/>
              </a:rPr>
              <a:t>Форматирование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1476360" y="2492280"/>
            <a:ext cx="3527280" cy="2667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орматиров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имво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5651640" y="2492280"/>
            <a:ext cx="3384360" cy="2667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орматиров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бза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AutoShape 7"/>
          <p:cNvSpPr/>
          <p:nvPr/>
        </p:nvSpPr>
        <p:spPr>
          <a:xfrm rot="5400000">
            <a:off x="3996000" y="-170640"/>
            <a:ext cx="1079640" cy="4535640"/>
          </a:xfrm>
          <a:custGeom>
            <a:avLst/>
            <a:gdLst>
              <a:gd name="textAreaLeft" fmla="*/ 689760 w 1079640"/>
              <a:gd name="textAreaRight" fmla="*/ 1080000 w 1079640"/>
              <a:gd name="textAreaTop" fmla="*/ 118080 h 4535640"/>
              <a:gd name="textAreaBottom" fmla="*/ 4417560 h 453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e7d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6000"/>
                            </p:stCondLst>
                            <p:childTnLst>
                              <p:par>
                                <p:cTn id="58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7000"/>
                            </p:stCondLst>
                            <p:childTnLst>
                              <p:par>
                                <p:cTn id="58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9300"/>
                            </p:stCondLst>
                            <p:childTnLst>
                              <p:par>
                                <p:cTn id="597" nodeType="afterEffect" fill="hold" presetClass="path" presetID="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16007 0.00277 -0.39618 -0.12301 -0.45538 -0.00855 C -0.51458 0.1059 -0.43507 0.55283 -0.35538 0.68694 C -0.2757 0.82104 -0.11406 0.78035 0.0224 0.79699 C 0.15868 0.81364 0.3842 0.8252 0.46198 0.78636 C 0.53958 0.74751 0.4816 0.69965 0.48906 0.56439 C 0.49653 0.42913 0.58785 0.06821 0.50642 -0.02543 C 0.42483 -0.11907 0.16024 -0.00277 0 0 Z">
                                      <p:cBhvr>
                                        <p:cTn id="598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1800"/>
                            </p:stCondLst>
                            <p:childTnLst>
                              <p:par>
                                <p:cTn id="600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01" dur="1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animClr clrSpc="rgb">
                                      <p:cBhvr>
                                        <p:cTn id="602" dur="1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603" dur="1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7742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о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м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т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р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в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н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е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с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и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в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л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200"/>
                </a:solidFill>
                <a:latin typeface="Corbel"/>
              </a:rPr>
              <a:t>Процесс изменения оформления текс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187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манда меню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ФОРМАТ - ШРИФ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1"/>
          <a:stretch/>
        </p:blipFill>
        <p:spPr>
          <a:xfrm>
            <a:off x="1258920" y="3573360"/>
            <a:ext cx="6049800" cy="503280"/>
          </a:xfrm>
          <a:prstGeom prst="rect">
            <a:avLst/>
          </a:prstGeom>
          <a:ln w="0">
            <a:noFill/>
          </a:ln>
        </p:spPr>
      </p:pic>
      <p:sp>
        <p:nvSpPr>
          <p:cNvPr id="297" name="Line 6"/>
          <p:cNvSpPr/>
          <p:nvPr/>
        </p:nvSpPr>
        <p:spPr>
          <a:xfrm flipV="1">
            <a:off x="2484360" y="414972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Line 7"/>
          <p:cNvSpPr/>
          <p:nvPr/>
        </p:nvSpPr>
        <p:spPr>
          <a:xfrm flipV="1">
            <a:off x="4643280" y="414972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8"/>
          <p:cNvSpPr/>
          <p:nvPr/>
        </p:nvSpPr>
        <p:spPr>
          <a:xfrm flipV="1">
            <a:off x="5724360" y="414972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Line 9"/>
          <p:cNvSpPr/>
          <p:nvPr/>
        </p:nvSpPr>
        <p:spPr>
          <a:xfrm flipV="1">
            <a:off x="6300720" y="414972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Line 10"/>
          <p:cNvSpPr/>
          <p:nvPr/>
        </p:nvSpPr>
        <p:spPr>
          <a:xfrm flipV="1">
            <a:off x="6877080" y="414972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1258920" y="5084640"/>
            <a:ext cx="15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1258920" y="5013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звание шрифт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4067280" y="49417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мер (кегль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5435640" y="494172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чертание: полужирное, курсив, подчеркнуто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880"/>
                            </p:stCondLst>
                            <p:childTnLst>
                              <p:par>
                                <p:cTn id="619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380"/>
                            </p:stCondLst>
                            <p:childTnLst>
                              <p:par>
                                <p:cTn id="626" nodeType="afterEffect" fill="hold" presetClass="entr" presetID="40">
                                  <p:stCondLst>
                                    <p:cond delay="2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2480"/>
                            </p:stCondLst>
                            <p:childTnLst>
                              <p:par>
                                <p:cTn id="632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77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770" fill="hold"/>
                                        <p:tgtEl>
                                          <p:spTgt spid="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7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9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5480"/>
                            </p:stCondLst>
                            <p:childTnLst>
                              <p:par>
                                <p:cTn id="6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6480"/>
                            </p:stCondLst>
                            <p:childTnLst>
                              <p:par>
                                <p:cTn id="6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7480"/>
                            </p:stCondLst>
                            <p:childTnLst>
                              <p:par>
                                <p:cTn id="6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1908000" y="0"/>
            <a:ext cx="5855040" cy="688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1857240" y="84240"/>
            <a:ext cx="5929560" cy="655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1785960" y="293760"/>
            <a:ext cx="5929200" cy="656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4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о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м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т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р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в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н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е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а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б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а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200"/>
                </a:solidFill>
                <a:latin typeface="Corbel"/>
              </a:rPr>
              <a:t>Настройка междустрочного интервала, выравнивания текста и т.п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71640" y="2924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манда меню: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ФОРМАТ - АБЗА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2" name="Picture 6" descr=""/>
          <p:cNvPicPr/>
          <p:nvPr/>
        </p:nvPicPr>
        <p:blipFill>
          <a:blip r:embed="rId1"/>
          <a:stretch/>
        </p:blipFill>
        <p:spPr>
          <a:xfrm>
            <a:off x="2411280" y="3500280"/>
            <a:ext cx="3672000" cy="6908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7"/>
          <p:cNvSpPr/>
          <p:nvPr/>
        </p:nvSpPr>
        <p:spPr>
          <a:xfrm>
            <a:off x="2195640" y="5445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8dc765"/>
                </a:solidFill>
                <a:latin typeface="Comic Sans MS"/>
              </a:rPr>
              <a:t>Выравнива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1332000" y="4437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 левому краю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2556000" y="4581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 центр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3564000" y="450864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 правому краю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478800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 ширин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6227640" y="4581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dc765"/>
                </a:solidFill>
                <a:latin typeface="Comic Sans MS"/>
              </a:rPr>
              <a:t>Междустрочный интерв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13"/>
          <p:cNvSpPr/>
          <p:nvPr/>
        </p:nvSpPr>
        <p:spPr>
          <a:xfrm flipV="1">
            <a:off x="1835280" y="4221000"/>
            <a:ext cx="93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14"/>
          <p:cNvSpPr/>
          <p:nvPr/>
        </p:nvSpPr>
        <p:spPr>
          <a:xfrm flipV="1">
            <a:off x="2916360" y="4076640"/>
            <a:ext cx="57600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15"/>
          <p:cNvSpPr/>
          <p:nvPr/>
        </p:nvSpPr>
        <p:spPr>
          <a:xfrm flipV="1">
            <a:off x="3924360" y="4149360"/>
            <a:ext cx="2872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16"/>
          <p:cNvSpPr/>
          <p:nvPr/>
        </p:nvSpPr>
        <p:spPr>
          <a:xfrm flipH="1" flipV="1">
            <a:off x="4858920" y="4221000"/>
            <a:ext cx="144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Line 17"/>
          <p:cNvSpPr/>
          <p:nvPr/>
        </p:nvSpPr>
        <p:spPr>
          <a:xfrm flipH="1" flipV="1">
            <a:off x="5651280" y="3860280"/>
            <a:ext cx="108108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840"/>
                            </p:stCondLst>
                            <p:childTnLst>
                              <p:par>
                                <p:cTn id="703" nodeType="afterEffect" fill="hold" presetClass="entr" presetID="45">
                                  <p:stCondLst>
                                    <p:cond delay="1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940"/>
                            </p:stCondLst>
                            <p:childTnLst>
                              <p:par>
                                <p:cTn id="709" nodeType="afterEffect" fill="hold" presetClass="entr" presetID="51">
                                  <p:stCondLst>
                                    <p:cond delay="2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77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2" dur="77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4" dur="77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6" dur="77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1440"/>
                            </p:stCondLst>
                            <p:childTnLst>
                              <p:par>
                                <p:cTn id="719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77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2" dur="770" fill="hold"/>
                                        <p:tgtEl>
                                          <p:spTgt spid="3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4" dur="77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6" dur="77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3940"/>
                            </p:stCondLst>
                            <p:childTnLst>
                              <p:par>
                                <p:cTn id="7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3940"/>
                            </p:stCondLst>
                            <p:childTnLst>
                              <p:par>
                                <p:cTn id="7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5940"/>
                            </p:stCondLst>
                            <p:childTnLst>
                              <p:par>
                                <p:cTn id="7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6940"/>
                            </p:stCondLst>
                            <p:childTnLst>
                              <p:par>
                                <p:cTn id="7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8940"/>
                            </p:stCondLst>
                            <p:childTnLst>
                              <p:par>
                                <p:cTn id="7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9940"/>
                            </p:stCondLst>
                            <p:childTnLst>
                              <p:par>
                                <p:cTn id="7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1940"/>
                            </p:stCondLst>
                            <p:childTnLst>
                              <p:par>
                                <p:cTn id="8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2940"/>
                            </p:stCondLst>
                            <p:childTnLst>
                              <p:par>
                                <p:cTn id="8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24940"/>
                            </p:stCondLst>
                            <p:childTnLst>
                              <p:par>
                                <p:cTn id="8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5940"/>
                            </p:stCondLst>
                            <p:childTnLst>
                              <p:par>
                                <p:cTn id="8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5940"/>
                            </p:stCondLst>
                            <p:childTnLst>
                              <p:par>
                                <p:cTn id="8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1525680" y="0"/>
            <a:ext cx="61624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1428840" y="71280"/>
            <a:ext cx="6343560" cy="644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7240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b80a"/>
                </a:solidFill>
                <a:latin typeface="Corbel"/>
              </a:rPr>
              <a:t>Текстовый редактор</a:t>
            </a:r>
            <a:r>
              <a:rPr b="0" lang="ru-RU" sz="3200" spc="-1" strike="noStrike">
                <a:solidFill>
                  <a:srgbClr val="feb80a"/>
                </a:solidFill>
                <a:latin typeface="Corbel"/>
              </a:rPr>
              <a:t> – </a:t>
            </a:r>
            <a:r>
              <a:rPr b="0" lang="ru-RU" sz="3200" spc="-1" strike="noStrike">
                <a:solidFill>
                  <a:srgbClr val="aa8a14"/>
                </a:solidFill>
                <a:latin typeface="Corbel"/>
              </a:rPr>
              <a:t>прикладная программа, предназначенная для создания и редактирования текстовых документов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186920" y="3500280"/>
            <a:ext cx="69850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Текстовый процессор – </a:t>
            </a:r>
            <a:r>
              <a:rPr b="0" lang="ru-RU" sz="3200" spc="-1" strike="noStrike">
                <a:solidFill>
                  <a:srgbClr val="aa8a14"/>
                </a:solidFill>
                <a:latin typeface="Corbel"/>
              </a:rPr>
              <a:t>текстовый редактор с расширенными возможностями оформления текст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480"/>
                            </p:stCondLst>
                            <p:childTnLst>
                              <p:par>
                                <p:cTn id="37" nodeType="afterEffect" fill="hold" presetClass="entr" presetID="38">
                                  <p:stCondLst>
                                    <p:cond delay="500"/>
                                  </p:stCondLst>
                                  <p:iterate type="wd">
                                    <p:tmAbs val="5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ff00"/>
                </a:solidFill>
                <a:latin typeface="Corbel"/>
              </a:rPr>
              <a:t>Виды редакторов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Corbel"/>
              </a:rPr>
              <a:t>Блокнот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(стандартное приложение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ill Sans MT"/>
              </a:rPr>
              <a:t>MS Wor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Gill Sans MT"/>
              </a:rPr>
              <a:t>Star Office Writ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текстовые процессоры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ill Sans MT"/>
              </a:rPr>
              <a:t>Adobe PageMaker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(настольные издательские системы для подготовки к изданию книг, журналов, газе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Gill Sans MT"/>
              </a:rPr>
              <a:t>MS FrontPag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для подготовки публикации в Интернете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страниц и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сайт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700"/>
                            </p:stCondLst>
                            <p:childTnLst>
                              <p:par>
                                <p:cTn id="55" nodeType="afterEffect" fill="hold" presetClass="entr" presetID="25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70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220"/>
                            </p:stCondLst>
                            <p:childTnLst>
                              <p:par>
                                <p:cTn id="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22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500"/>
                            </p:stCondLst>
                            <p:childTnLst>
                              <p:par>
                                <p:cTn id="8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020"/>
                            </p:stCondLst>
                            <p:childTnLst>
                              <p:par>
                                <p:cTn id="10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2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342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442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орматы текстовых фай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рмат файла определяет способ хранения текста в файле. Существуют </a:t>
            </a:r>
            <a:r>
              <a:rPr b="0" lang="ru-RU" sz="2400" spc="-1" strike="noStrike">
                <a:solidFill>
                  <a:srgbClr val="ffcc00"/>
                </a:solidFill>
                <a:latin typeface="Corbel"/>
              </a:rPr>
              <a:t>УНИВЕРСАЛЬНЫЕ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 </a:t>
            </a:r>
            <a:r>
              <a:rPr b="0" lang="ru-RU" sz="2400" spc="-1" strike="noStrike">
                <a:solidFill>
                  <a:srgbClr val="ffcc00"/>
                </a:solidFill>
                <a:latin typeface="Corbel"/>
              </a:rPr>
              <a:t>ОРИГИНАЛЬНЫЕ формат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Corbel"/>
              </a:rPr>
              <a:t>Виды  форматов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ill Sans MT"/>
              </a:rPr>
              <a:t>TXT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(только текст) – универсальный, текст без форматирова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ill Sans MT"/>
              </a:rPr>
              <a:t>RTF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Универсальный, сохраняет форматирование, используется во многих приложениях, большой информационный объе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ill Sans MT"/>
              </a:rPr>
              <a:t>DOC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оригинальный, версия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d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Кодировка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nicode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ill Sans MT"/>
              </a:rPr>
              <a:t>DOC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оригинальный, версия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d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2007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ill Sans MT"/>
              </a:rPr>
              <a:t>HTM, HTML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формат хранения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eb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страниц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ill Sans MT"/>
              </a:rPr>
              <a:t>L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формат отечественного редактора Лексикон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220"/>
                            </p:stCondLst>
                            <p:childTnLst>
                              <p:par>
                                <p:cTn id="1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742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942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142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42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42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742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Возможности текстового процессо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116000" y="1773000"/>
            <a:ext cx="769608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Поддержка двух и более языков с возможностью редактировать синтаксически и стилистическ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пользование разнообразных шрифтов и изменения их размера, цвета, начерта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Использование в одном документе символов разных языков (латинских, греческих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бота с несколькими документами и несколькими средами (графический, текстовый редакторы, электронные таблицы, базы данных, презентации и т.д.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Большой выбор объектов, которые можно вставить в документ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Автоматическое разбиение документа на страницы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Добавление списков, гиперссылок, сносок, колонтитулов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сширенные возможности работы с таблицей и т.д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4.8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424"/>
                            </p:stCondLst>
                            <p:childTnLst>
                              <p:par>
                                <p:cTn id="197" nodeType="afterEffect" fill="hold" presetClass="emph" presetID="34">
                                  <p:stCondLst>
                                    <p:cond delay="100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24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524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24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2524"/>
                            </p:stCondLst>
                            <p:childTnLst>
                              <p:par>
                                <p:cTn id="222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24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7524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24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2524"/>
                            </p:stCondLst>
                            <p:childTnLst>
                              <p:par>
                                <p:cTn id="24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6920" y="189000"/>
            <a:ext cx="7270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Corbel"/>
              </a:rPr>
              <a:t>Правила работы с текстом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258920" y="134100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ежду словами ставится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ПРОБЕ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трочные буквы, цифры и знаки «-», «=», «.» набираются простым нажатием на клавиш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писные буквы, знаки препинания, скобки, кавычки, специальные знаки (№, %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@, $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 набираются при нажатой клавише </a:t>
            </a:r>
            <a:r>
              <a:rPr b="0" lang="en-US" sz="1800" spc="-1" strike="noStrike">
                <a:solidFill>
                  <a:srgbClr val="4f271c"/>
                </a:solidFill>
                <a:latin typeface="Gill Sans MT"/>
              </a:rPr>
              <a:t>SHIFT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наки препинания в тексте (кроме тире) не отделяются пробелом от слова, за которым стоят. Пробел ставится ПОСЛЕ знака препинания.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ИСКЛЮЧЕНИЯ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Тире выделяется пробелами с двух сторон: например, Москва — столица Росси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еред и после дефиса пробел не ставится. Например, Ростов-на-Дону, по-вашему, какой-т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6. Скобки и кавычки присоединяются к выделенным словам без пробел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7. Для начала набора новой строки нажмите </a:t>
            </a:r>
            <a:r>
              <a:rPr b="0" lang="en-US" sz="1800" spc="-1" strike="noStrike">
                <a:solidFill>
                  <a:srgbClr val="4f271c"/>
                </a:solidFill>
                <a:latin typeface="Gill Sans MT"/>
              </a:rPr>
              <a:t>ENTER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96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96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96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96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96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96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296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496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сновные объекты текстового процессора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71280" y="1773360"/>
            <a:ext cx="799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Corbel"/>
              </a:rPr>
              <a:t>Символ</a:t>
            </a: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 – знак, введенный с клавиатуры, который позволяет передвинуть курсор ввода на одну позицию.</a:t>
            </a:r>
            <a:r>
              <a:rPr b="0" lang="ru-RU" sz="2800" spc="-1" strike="noStrike">
                <a:solidFill>
                  <a:srgbClr val="4f271c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Corbel"/>
              </a:rPr>
              <a:t>Слово</a:t>
            </a: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 – набор символов, ограниченный с обеих сторон знаками препинания либо пробелом.</a:t>
            </a:r>
            <a:r>
              <a:rPr b="0" lang="ru-RU" sz="2800" spc="-1" strike="noStrike">
                <a:solidFill>
                  <a:srgbClr val="4f271c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Corbel"/>
              </a:rPr>
              <a:t>Строка</a:t>
            </a: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 – набор символов и слов от начала до конца листа по горизонтали.</a:t>
            </a:r>
            <a:r>
              <a:rPr b="0" lang="ru-RU" sz="2800" spc="-1" strike="noStrike">
                <a:solidFill>
                  <a:srgbClr val="4f271c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Corbel"/>
              </a:rPr>
              <a:t>Абзац</a:t>
            </a: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 – последовательность строк, которые сгруппированы для смыслового выделения содержания 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Corbel"/>
              </a:rPr>
              <a:t>Страница</a:t>
            </a: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 – последовательность абзацев от начала до конца листа по вертикал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Corbel"/>
              </a:rPr>
              <a:t>Фрагмент</a:t>
            </a: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 – выделенная часть текст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611280" y="3213000"/>
            <a:ext cx="76960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539640" y="4365720"/>
            <a:ext cx="7696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468360" y="4005360"/>
            <a:ext cx="76960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468360" y="4941720"/>
            <a:ext cx="76960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2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8" nodeType="afterEffect" fill="hold" presetClass="entr" presetID="29">
                                  <p:stCondLst>
                                    <p:cond delay="4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4" nodeType="afterEffect" fill="hold" presetClass="entr" presetID="29">
                                  <p:stCondLst>
                                    <p:cond delay="4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4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4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11556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Corbel"/>
              </a:rPr>
              <a:t>Р</a:t>
            </a: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е</a:t>
            </a:r>
            <a:r>
              <a:rPr b="0" lang="ru-RU" sz="5400" spc="-1" strike="noStrike">
                <a:solidFill>
                  <a:srgbClr val="0000ff"/>
                </a:solidFill>
                <a:latin typeface="Corbel"/>
              </a:rPr>
              <a:t>д</a:t>
            </a: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а</a:t>
            </a:r>
            <a:r>
              <a:rPr b="0" lang="ru-RU" sz="5400" spc="-1" strike="noStrike">
                <a:solidFill>
                  <a:srgbClr val="0000ff"/>
                </a:solidFill>
                <a:latin typeface="Corbel"/>
              </a:rPr>
              <a:t>к</a:t>
            </a: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т</a:t>
            </a:r>
            <a:r>
              <a:rPr b="0" lang="ru-RU" sz="5400" spc="-1" strike="noStrike">
                <a:solidFill>
                  <a:srgbClr val="0000ff"/>
                </a:solidFill>
                <a:latin typeface="Corbel"/>
              </a:rPr>
              <a:t>и</a:t>
            </a: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р</a:t>
            </a:r>
            <a:r>
              <a:rPr b="0" lang="ru-RU" sz="5400" spc="-1" strike="noStrike">
                <a:solidFill>
                  <a:srgbClr val="0000ff"/>
                </a:solidFill>
                <a:latin typeface="Corbel"/>
              </a:rPr>
              <a:t>о</a:t>
            </a: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в</a:t>
            </a:r>
            <a:r>
              <a:rPr b="0" lang="ru-RU" sz="5400" spc="-1" strike="noStrike">
                <a:solidFill>
                  <a:srgbClr val="0000ff"/>
                </a:solidFill>
                <a:latin typeface="Corbel"/>
              </a:rPr>
              <a:t>а</a:t>
            </a: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н</a:t>
            </a:r>
            <a:r>
              <a:rPr b="0" lang="ru-RU" sz="5400" spc="-1" strike="noStrike">
                <a:solidFill>
                  <a:srgbClr val="0000ff"/>
                </a:solidFill>
                <a:latin typeface="Corbel"/>
              </a:rPr>
              <a:t>и</a:t>
            </a: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е</a:t>
            </a:r>
            <a:r>
              <a:rPr b="0" lang="ru-RU" sz="5400" spc="-1" strike="noStrike">
                <a:solidFill>
                  <a:srgbClr val="0000ff"/>
                </a:solidFill>
                <a:latin typeface="Corbel"/>
              </a:rPr>
              <a:t> – 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9" name="AutoShape 4"/>
          <p:cNvSpPr/>
          <p:nvPr/>
        </p:nvSpPr>
        <p:spPr>
          <a:xfrm rot="10800000">
            <a:off x="1835280" y="2420640"/>
            <a:ext cx="2665440" cy="3095640"/>
          </a:xfrm>
          <a:prstGeom prst="wedgeRoundRectCallout">
            <a:avLst>
              <a:gd name="adj1" fmla="val -13120"/>
              <a:gd name="adj2" fmla="val 63004"/>
              <a:gd name="adj3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 Sans MS"/>
              </a:rPr>
              <a:t>Редактирование символ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AutoShape 6"/>
          <p:cNvSpPr/>
          <p:nvPr/>
        </p:nvSpPr>
        <p:spPr>
          <a:xfrm flipH="1" rot="10800000">
            <a:off x="4788000" y="2349000"/>
            <a:ext cx="3641760" cy="3095640"/>
          </a:xfrm>
          <a:prstGeom prst="wedgeRoundRectCallout">
            <a:avLst>
              <a:gd name="adj1" fmla="val -14351"/>
              <a:gd name="adj2" fmla="val 62999"/>
              <a:gd name="adj3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 Sans MS"/>
              </a:rPr>
              <a:t>Редактирование абза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1403280" y="112536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несение изменений в текс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8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1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3136"/>
                            </p:stCondLst>
                            <p:childTnLst>
                              <p:par>
                                <p:cTn id="381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6736"/>
                            </p:stCondLst>
                            <p:childTnLst>
                              <p:par>
                                <p:cTn id="387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636"/>
                            </p:stCondLst>
                            <p:childTnLst>
                              <p:par>
                                <p:cTn id="393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94" dur="2000" fill="hold"/>
                                        <p:tgtEl>
                                          <p:spTgt spid="2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556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cc00"/>
                </a:solidFill>
                <a:latin typeface="Corbel"/>
              </a:rPr>
              <a:t>Редактирование символ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187280" y="112500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Corbel"/>
              </a:rPr>
              <a:t>Замена, удаление или добавление  одного или нескольких символ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258920" y="2708280"/>
            <a:ext cx="74898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200"/>
                </a:solidFill>
                <a:latin typeface="Comic Sans MS"/>
              </a:rPr>
              <a:t>Используются следующие клавиши клавиату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BACKSP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удаляет символ, находящийся слева от курсор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ELET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удаляет символ, стоящий справа от курсор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ключение между режимом вставки и режимом замены символ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5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3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3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6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77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77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3" dur="77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6" nodeType="after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4500"/>
                            </p:stCondLst>
                            <p:childTnLst>
                              <p:par>
                                <p:cTn id="436" nodeType="after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77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77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3" dur="77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08:19:28Z</dcterms:created>
  <dc:creator>!</dc:creator>
  <dc:description/>
  <dc:language>en-US</dc:language>
  <cp:lastModifiedBy>Ирина</cp:lastModifiedBy>
  <dcterms:modified xsi:type="dcterms:W3CDTF">2015-04-27T11:39:39Z</dcterms:modified>
  <cp:revision>21</cp:revision>
  <dc:subject/>
  <dc:title>Microsoft Word</dc:title>
</cp:coreProperties>
</file>