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2.png" ContentType="image/png"/>
  <Override PartName="/ppt/media/image10.jpeg" ContentType="image/jpeg"/>
  <Override PartName="/ppt/media/image5.png" ContentType="image/png"/>
  <Override PartName="/ppt/media/image9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.jpeg" ContentType="image/jpeg"/>
  <Override PartName="/ppt/media/image2.jpeg" ContentType="image/jpeg"/>
  <Override PartName="/ppt/media/image15.png" ContentType="image/png"/>
  <Override PartName="/ppt/media/image3.jpeg" ContentType="image/jpeg"/>
  <Override PartName="/ppt/media/image6.jpeg" ContentType="image/jpeg"/>
  <Override PartName="/ppt/media/image13.png" ContentType="image/png"/>
  <Override PartName="/ppt/media/image8.png" ContentType="image/png"/>
  <Override PartName="/ppt/media/image14.jpeg" ContentType="image/jpeg"/>
  <Override PartName="/ppt/media/image7.jpeg" ContentType="image/jpe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F9906-08A2-40E6-AA09-DD9D298D0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7360" y="500040"/>
            <a:ext cx="10772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03b5e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76080" y="2011320"/>
            <a:ext cx="1075356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76080" y="3979080"/>
            <a:ext cx="1075356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FA38C-0E77-449F-85F8-76B45CC49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7360" y="500040"/>
            <a:ext cx="10772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03b5e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76080" y="2011320"/>
            <a:ext cx="52477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86600" y="2011320"/>
            <a:ext cx="52477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76080" y="3979080"/>
            <a:ext cx="52477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186600" y="3979080"/>
            <a:ext cx="52477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BB0BD-696C-471F-975E-1F1DC328E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57360" y="500040"/>
            <a:ext cx="10772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03b5e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76080" y="2011320"/>
            <a:ext cx="346248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2080" y="2011320"/>
            <a:ext cx="346248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8080" y="2011320"/>
            <a:ext cx="346248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76080" y="3979080"/>
            <a:ext cx="346248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2080" y="3979080"/>
            <a:ext cx="346248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8080" y="3979080"/>
            <a:ext cx="346248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6BA90-C69D-4626-AC2F-4D10F3068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B90DD-07A6-4350-9688-040BCB9A9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57360" y="500040"/>
            <a:ext cx="10772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03b5e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76080" y="2011320"/>
            <a:ext cx="1075356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926F2-3245-4261-8726-0786DFC19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57360" y="500040"/>
            <a:ext cx="10772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03b5e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76080" y="2011320"/>
            <a:ext cx="1075356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23B54-02AF-4D7E-8AA5-1773A6AB2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57360" y="500040"/>
            <a:ext cx="10772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03b5e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76080" y="2011320"/>
            <a:ext cx="52477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6186600" y="2011320"/>
            <a:ext cx="52477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4C800-31B2-4BD3-A598-236FAFB5B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57360" y="500040"/>
            <a:ext cx="10772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03b5e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0B09A-04C0-4590-BD15-F5CE6D0F2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57360" y="500040"/>
            <a:ext cx="10772640" cy="76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C8957-5B3B-4D4B-A5C9-E72832470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57360" y="500040"/>
            <a:ext cx="10772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03b5e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76080" y="2011320"/>
            <a:ext cx="52477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186600" y="2011320"/>
            <a:ext cx="52477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76080" y="3979080"/>
            <a:ext cx="52477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356F6-5069-41D8-8D76-977B7230C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57360" y="500040"/>
            <a:ext cx="10772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03b5e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76080" y="2011320"/>
            <a:ext cx="1075356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135CC-DC58-405B-BCB7-DAB881889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57360" y="500040"/>
            <a:ext cx="10772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03b5e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76080" y="2011320"/>
            <a:ext cx="52477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186600" y="2011320"/>
            <a:ext cx="52477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186600" y="3979080"/>
            <a:ext cx="52477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E70DA-18F8-4675-BF48-38E47F66A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57360" y="500040"/>
            <a:ext cx="10772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03b5e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76080" y="2011320"/>
            <a:ext cx="52477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186600" y="2011320"/>
            <a:ext cx="52477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76080" y="3979080"/>
            <a:ext cx="1075356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2827F-4E32-4E67-9643-6A524BABE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57360" y="500040"/>
            <a:ext cx="10772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03b5e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76080" y="2011320"/>
            <a:ext cx="1075356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76080" y="3979080"/>
            <a:ext cx="1075356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FB892-1440-4F3F-A843-025E46853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57360" y="500040"/>
            <a:ext cx="10772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03b5e"/>
              </a:solidFill>
              <a:latin typeface="Calibri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76080" y="2011320"/>
            <a:ext cx="52477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186600" y="2011320"/>
            <a:ext cx="52477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76080" y="3979080"/>
            <a:ext cx="52477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186600" y="3979080"/>
            <a:ext cx="52477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8573E-5F73-4AC5-A0C3-7FD9D0A5A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57360" y="500040"/>
            <a:ext cx="10772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03b5e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76080" y="2011320"/>
            <a:ext cx="346248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312080" y="2011320"/>
            <a:ext cx="346248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948080" y="2011320"/>
            <a:ext cx="346248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76080" y="3979080"/>
            <a:ext cx="346248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4312080" y="3979080"/>
            <a:ext cx="346248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7948080" y="3979080"/>
            <a:ext cx="346248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2F6D2-4289-49D0-B028-A9434401D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9EC512-EA51-4A57-A920-2F1E89204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57360" y="500040"/>
            <a:ext cx="10772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03b5e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676080" y="2011320"/>
            <a:ext cx="1075356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55F7DD-A5AD-44A4-8F76-D0FF6E0ED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57360" y="500040"/>
            <a:ext cx="10772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03b5e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76080" y="2011320"/>
            <a:ext cx="1075356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06ABD3-3447-4A7C-88BE-1E1EF66D5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57360" y="500040"/>
            <a:ext cx="10772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03b5e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76080" y="2011320"/>
            <a:ext cx="52477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6186600" y="2011320"/>
            <a:ext cx="52477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18FDE6-494A-4421-AF1F-397C941BD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57360" y="500040"/>
            <a:ext cx="10772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03b5e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3632E9-0870-4728-85EB-36E99656E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7360" y="500040"/>
            <a:ext cx="10772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03b5e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76080" y="2011320"/>
            <a:ext cx="1075356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AC7EB-2DD2-44CE-A748-537E6ABB6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657360" y="500040"/>
            <a:ext cx="10772640" cy="76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F3CD84-AFA7-4621-B319-0AC4935D3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57360" y="500040"/>
            <a:ext cx="10772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03b5e"/>
              </a:solidFill>
              <a:latin typeface="Calibri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76080" y="2011320"/>
            <a:ext cx="52477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6186600" y="2011320"/>
            <a:ext cx="52477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76080" y="3979080"/>
            <a:ext cx="52477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22142C-A474-49B7-A018-77967E54A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57360" y="500040"/>
            <a:ext cx="10772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03b5e"/>
              </a:solidFill>
              <a:latin typeface="Calibri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76080" y="2011320"/>
            <a:ext cx="52477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186600" y="2011320"/>
            <a:ext cx="52477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86600" y="3979080"/>
            <a:ext cx="52477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69AD0F-391F-4024-833C-2E6C6609A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57360" y="500040"/>
            <a:ext cx="10772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03b5e"/>
              </a:solidFill>
              <a:latin typeface="Calibri Ligh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76080" y="2011320"/>
            <a:ext cx="52477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6186600" y="2011320"/>
            <a:ext cx="52477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76080" y="3979080"/>
            <a:ext cx="1075356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29E8B6-7EBC-49AC-8CE3-2838B69B6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57360" y="500040"/>
            <a:ext cx="10772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03b5e"/>
              </a:solidFill>
              <a:latin typeface="Calibri Ligh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76080" y="2011320"/>
            <a:ext cx="1075356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676080" y="3979080"/>
            <a:ext cx="1075356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C60B24-5974-4AED-BED9-EE44A0D71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57360" y="500040"/>
            <a:ext cx="10772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03b5e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76080" y="2011320"/>
            <a:ext cx="52477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186600" y="2011320"/>
            <a:ext cx="52477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76080" y="3979080"/>
            <a:ext cx="52477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186600" y="3979080"/>
            <a:ext cx="52477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ACA0C4-505B-42D6-ACAE-8F155DCF5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57360" y="500040"/>
            <a:ext cx="10772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03b5e"/>
              </a:solidFill>
              <a:latin typeface="Calibri Ligh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76080" y="2011320"/>
            <a:ext cx="346248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312080" y="2011320"/>
            <a:ext cx="346248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7948080" y="2011320"/>
            <a:ext cx="346248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676080" y="3979080"/>
            <a:ext cx="346248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4312080" y="3979080"/>
            <a:ext cx="346248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7948080" y="3979080"/>
            <a:ext cx="346248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614BD2-7C94-4AEA-9064-29D74687A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50CD2B-58F0-4207-A58A-3B117BE07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57360" y="500040"/>
            <a:ext cx="10772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03b5e"/>
              </a:solidFill>
              <a:latin typeface="Calibri Ligh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676080" y="2011320"/>
            <a:ext cx="1075356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36BE45-AF02-4FB7-9913-43608F66B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57360" y="500040"/>
            <a:ext cx="10772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03b5e"/>
              </a:solidFill>
              <a:latin typeface="Calibri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76080" y="2011320"/>
            <a:ext cx="1075356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C6F856-2998-4A33-93BC-0F369A8AA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7360" y="500040"/>
            <a:ext cx="10772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03b5e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76080" y="2011320"/>
            <a:ext cx="52477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186600" y="2011320"/>
            <a:ext cx="52477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A66F0-42DC-4014-8AF8-529C966C4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57360" y="500040"/>
            <a:ext cx="10772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03b5e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76080" y="2011320"/>
            <a:ext cx="52477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6186600" y="2011320"/>
            <a:ext cx="52477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C7BB22-31E4-4753-91BD-1BB05C2FF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57360" y="500040"/>
            <a:ext cx="10772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03b5e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87F1EA-D1D7-42F9-BB05-00AC26D85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657360" y="500040"/>
            <a:ext cx="10772640" cy="76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20F586-B45B-43A0-8838-3F9A66751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57360" y="500040"/>
            <a:ext cx="10772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03b5e"/>
              </a:solidFill>
              <a:latin typeface="Calibri Ligh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76080" y="2011320"/>
            <a:ext cx="52477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6186600" y="2011320"/>
            <a:ext cx="52477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76080" y="3979080"/>
            <a:ext cx="52477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E41BEC-CCF6-4B48-A0BC-B58C971D4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57360" y="500040"/>
            <a:ext cx="10772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03b5e"/>
              </a:solidFill>
              <a:latin typeface="Calibri Ligh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76080" y="2011320"/>
            <a:ext cx="52477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186600" y="2011320"/>
            <a:ext cx="52477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186600" y="3979080"/>
            <a:ext cx="52477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6505D9-8A9F-443D-B697-E05F1FF9C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57360" y="500040"/>
            <a:ext cx="10772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03b5e"/>
              </a:solidFill>
              <a:latin typeface="Calibri Ligh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76080" y="2011320"/>
            <a:ext cx="52477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6186600" y="2011320"/>
            <a:ext cx="52477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76080" y="3979080"/>
            <a:ext cx="1075356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AD8203-A2FD-4639-A965-A75FE03C1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57360" y="500040"/>
            <a:ext cx="10772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03b5e"/>
              </a:solidFill>
              <a:latin typeface="Calibri Ligh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76080" y="2011320"/>
            <a:ext cx="1075356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676080" y="3979080"/>
            <a:ext cx="1075356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23F6DA-30AC-4746-AB2B-15E9069D3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57360" y="500040"/>
            <a:ext cx="10772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03b5e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76080" y="2011320"/>
            <a:ext cx="52477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6186600" y="2011320"/>
            <a:ext cx="52477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76080" y="3979080"/>
            <a:ext cx="52477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186600" y="3979080"/>
            <a:ext cx="52477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704812-B8A3-494F-B92C-F1A24D1E3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57360" y="500040"/>
            <a:ext cx="10772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03b5e"/>
              </a:solidFill>
              <a:latin typeface="Calibri Ligh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76080" y="2011320"/>
            <a:ext cx="346248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312080" y="2011320"/>
            <a:ext cx="346248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7948080" y="2011320"/>
            <a:ext cx="346248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676080" y="3979080"/>
            <a:ext cx="346248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4312080" y="3979080"/>
            <a:ext cx="346248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7948080" y="3979080"/>
            <a:ext cx="346248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0D35FB-F635-424C-BB94-A157564E3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7360" y="500040"/>
            <a:ext cx="10772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03b5e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9E47B-0B46-4ADA-8834-A9C8C2443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57360" y="500040"/>
            <a:ext cx="10772640" cy="76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54300-31A3-4697-974F-6FE5E9760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7360" y="500040"/>
            <a:ext cx="10772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03b5e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76080" y="2011320"/>
            <a:ext cx="52477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186600" y="2011320"/>
            <a:ext cx="52477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76080" y="3979080"/>
            <a:ext cx="52477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DAC6C-E19D-4F79-9F1E-9EC3C7DB8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57360" y="500040"/>
            <a:ext cx="10772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03b5e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76080" y="2011320"/>
            <a:ext cx="52477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186600" y="2011320"/>
            <a:ext cx="52477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186600" y="3979080"/>
            <a:ext cx="52477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59403-2CC1-43DF-BD21-2AA730A5A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57360" y="500040"/>
            <a:ext cx="10772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03b5e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76080" y="2011320"/>
            <a:ext cx="52477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186600" y="2011320"/>
            <a:ext cx="52477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76080" y="3979080"/>
            <a:ext cx="1075356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5DA97-6AAB-4634-939B-A0D7A3078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57360" y="500040"/>
            <a:ext cx="10772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03b5e"/>
                </a:solidFill>
                <a:latin typeface="Calibri Light"/>
              </a:rPr>
              <a:t>Click to edit the title text format</a:t>
            </a:r>
            <a:endParaRPr b="0" lang="en-US" sz="5400" spc="-1" strike="noStrike">
              <a:solidFill>
                <a:srgbClr val="f03b5e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76080" y="2011320"/>
            <a:ext cx="1075356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90360" indent="-90360">
              <a:lnSpc>
                <a:spcPct val="85000"/>
              </a:lnSpc>
              <a:spcBef>
                <a:spcPts val="1301"/>
              </a:spcBef>
              <a:buClr>
                <a:srgbClr val="262626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 Light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  <a:p>
            <a:pPr lvl="1" marL="345960" indent="-342720">
              <a:lnSpc>
                <a:spcPct val="85000"/>
              </a:lnSpc>
              <a:spcBef>
                <a:spcPts val="1301"/>
              </a:spcBef>
              <a:buClr>
                <a:srgbClr val="262626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 Light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  <a:p>
            <a:pPr lvl="2" marL="547560" indent="-547560">
              <a:lnSpc>
                <a:spcPct val="85000"/>
              </a:lnSpc>
              <a:spcBef>
                <a:spcPts val="1301"/>
              </a:spcBef>
              <a:buClr>
                <a:srgbClr val="262626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 Light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  <a:p>
            <a:pPr lvl="3" marL="822240" indent="-822240">
              <a:lnSpc>
                <a:spcPct val="85000"/>
              </a:lnSpc>
              <a:spcBef>
                <a:spcPts val="1301"/>
              </a:spcBef>
              <a:buClr>
                <a:srgbClr val="262626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 Light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  <a:p>
            <a:pPr lvl="4" marL="1096920" indent="-1096920">
              <a:lnSpc>
                <a:spcPct val="85000"/>
              </a:lnSpc>
              <a:spcBef>
                <a:spcPts val="1301"/>
              </a:spcBef>
              <a:buClr>
                <a:srgbClr val="262626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 Light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  <a:p>
            <a:pPr lvl="5" marL="1096920" indent="-1096920">
              <a:lnSpc>
                <a:spcPct val="85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 Light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  <a:p>
            <a:pPr lvl="6" marL="1096920" indent="-1096920">
              <a:lnSpc>
                <a:spcPct val="85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 Light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411600"/>
            <a:ext cx="41148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85800" y="6554520"/>
            <a:ext cx="5029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764200" y="5877000"/>
            <a:ext cx="292572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300" spc="-1" strike="noStrike">
                <a:solidFill>
                  <a:srgbClr val="f03b5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1BF006-87A3-457A-A7B6-87AB6DC93683}" type="slidenum">
              <a:rPr b="0" lang="en-US" sz="10300" spc="-1" strike="noStrike">
                <a:solidFill>
                  <a:srgbClr val="f03b5e"/>
                </a:solidFill>
                <a:latin typeface="Times New Roman"/>
              </a:rPr>
              <a:t>&lt;number&gt;</a:t>
            </a:fld>
            <a:endParaRPr b="0" lang="en-US" sz="10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3b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03b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57360" y="500040"/>
            <a:ext cx="10772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03b5e"/>
                </a:solidFill>
                <a:latin typeface="Calibri Light"/>
              </a:rPr>
              <a:t>Click to edit the title text format</a:t>
            </a:r>
            <a:endParaRPr b="0" lang="en-US" sz="5400" spc="-1" strike="noStrike">
              <a:solidFill>
                <a:srgbClr val="f03b5e"/>
              </a:solidFill>
              <a:latin typeface="Calibri Ligh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76080" y="2011320"/>
            <a:ext cx="1075356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90360" indent="-90360">
              <a:lnSpc>
                <a:spcPct val="85000"/>
              </a:lnSpc>
              <a:spcBef>
                <a:spcPts val="1301"/>
              </a:spcBef>
              <a:buClr>
                <a:srgbClr val="262626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 Light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  <a:p>
            <a:pPr lvl="1" marL="345960" indent="-342720">
              <a:lnSpc>
                <a:spcPct val="85000"/>
              </a:lnSpc>
              <a:spcBef>
                <a:spcPts val="1301"/>
              </a:spcBef>
              <a:buClr>
                <a:srgbClr val="262626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 Light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  <a:p>
            <a:pPr lvl="2" marL="547560" indent="-547560">
              <a:lnSpc>
                <a:spcPct val="85000"/>
              </a:lnSpc>
              <a:spcBef>
                <a:spcPts val="1301"/>
              </a:spcBef>
              <a:buClr>
                <a:srgbClr val="262626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 Light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  <a:p>
            <a:pPr lvl="3" marL="822240" indent="-822240">
              <a:lnSpc>
                <a:spcPct val="85000"/>
              </a:lnSpc>
              <a:spcBef>
                <a:spcPts val="1301"/>
              </a:spcBef>
              <a:buClr>
                <a:srgbClr val="262626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 Light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  <a:p>
            <a:pPr lvl="4" marL="1096920" indent="-1096920">
              <a:lnSpc>
                <a:spcPct val="85000"/>
              </a:lnSpc>
              <a:spcBef>
                <a:spcPts val="1301"/>
              </a:spcBef>
              <a:buClr>
                <a:srgbClr val="262626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 Light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  <a:p>
            <a:pPr lvl="5" marL="1096920" indent="-1096920">
              <a:lnSpc>
                <a:spcPct val="85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 Light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  <a:p>
            <a:pPr lvl="6" marL="1096920" indent="-1096920">
              <a:lnSpc>
                <a:spcPct val="85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 Light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411600"/>
            <a:ext cx="41148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685800" y="6554520"/>
            <a:ext cx="5029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8764200" y="5877000"/>
            <a:ext cx="292572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E1D8AD-44A5-475C-8D5F-6DA426534199}" type="slidenum">
              <a:rPr b="0" lang="en-US" sz="10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"/>
          <p:cNvSpPr/>
          <p:nvPr/>
        </p:nvSpPr>
        <p:spPr>
          <a:xfrm>
            <a:off x="7620120" y="0"/>
            <a:ext cx="4572000" cy="6858000"/>
          </a:xfrm>
          <a:prstGeom prst="rect">
            <a:avLst/>
          </a:prstGeom>
          <a:solidFill>
            <a:srgbClr val="f03b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57360" y="500040"/>
            <a:ext cx="10772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03b5e"/>
                </a:solidFill>
                <a:latin typeface="Calibri Light"/>
              </a:rPr>
              <a:t>Click to edit the title text format</a:t>
            </a:r>
            <a:endParaRPr b="0" lang="en-US" sz="5400" spc="-1" strike="noStrike">
              <a:solidFill>
                <a:srgbClr val="f03b5e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76080" y="2011320"/>
            <a:ext cx="1075356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90360" indent="-90360">
              <a:lnSpc>
                <a:spcPct val="85000"/>
              </a:lnSpc>
              <a:spcBef>
                <a:spcPts val="1301"/>
              </a:spcBef>
              <a:buClr>
                <a:srgbClr val="262626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 Light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  <a:p>
            <a:pPr lvl="1" marL="345960" indent="-342720">
              <a:lnSpc>
                <a:spcPct val="85000"/>
              </a:lnSpc>
              <a:spcBef>
                <a:spcPts val="1301"/>
              </a:spcBef>
              <a:buClr>
                <a:srgbClr val="262626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 Light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  <a:p>
            <a:pPr lvl="2" marL="547560" indent="-547560">
              <a:lnSpc>
                <a:spcPct val="85000"/>
              </a:lnSpc>
              <a:spcBef>
                <a:spcPts val="1301"/>
              </a:spcBef>
              <a:buClr>
                <a:srgbClr val="262626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 Light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  <a:p>
            <a:pPr lvl="3" marL="822240" indent="-822240">
              <a:lnSpc>
                <a:spcPct val="85000"/>
              </a:lnSpc>
              <a:spcBef>
                <a:spcPts val="1301"/>
              </a:spcBef>
              <a:buClr>
                <a:srgbClr val="262626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 Light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  <a:p>
            <a:pPr lvl="4" marL="1096920" indent="-1096920">
              <a:lnSpc>
                <a:spcPct val="85000"/>
              </a:lnSpc>
              <a:spcBef>
                <a:spcPts val="1301"/>
              </a:spcBef>
              <a:buClr>
                <a:srgbClr val="262626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 Light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  <a:p>
            <a:pPr lvl="5" marL="1096920" indent="-1096920">
              <a:lnSpc>
                <a:spcPct val="85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 Light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  <a:p>
            <a:pPr lvl="6" marL="1096920" indent="-1096920">
              <a:lnSpc>
                <a:spcPct val="85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 Light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685800" y="6411600"/>
            <a:ext cx="41148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685800" y="6554520"/>
            <a:ext cx="5029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8764200" y="5877000"/>
            <a:ext cx="292572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8E818E4-DEB5-44FD-A3C9-A4E98AA46D42}" type="slidenum">
              <a:rPr b="0" lang="en-US" sz="10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3b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57360" y="500040"/>
            <a:ext cx="10772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03b5e"/>
                </a:solidFill>
                <a:latin typeface="Calibri Light"/>
              </a:rPr>
              <a:t>Click to edit the title text format</a:t>
            </a:r>
            <a:endParaRPr b="0" lang="en-US" sz="5400" spc="-1" strike="noStrike">
              <a:solidFill>
                <a:srgbClr val="f03b5e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76080" y="2011320"/>
            <a:ext cx="1075356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90360" indent="-90360">
              <a:lnSpc>
                <a:spcPct val="85000"/>
              </a:lnSpc>
              <a:spcBef>
                <a:spcPts val="1301"/>
              </a:spcBef>
              <a:buClr>
                <a:srgbClr val="262626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 Light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  <a:p>
            <a:pPr lvl="1" marL="345960" indent="-342720">
              <a:lnSpc>
                <a:spcPct val="85000"/>
              </a:lnSpc>
              <a:spcBef>
                <a:spcPts val="1301"/>
              </a:spcBef>
              <a:buClr>
                <a:srgbClr val="262626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 Light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  <a:p>
            <a:pPr lvl="2" marL="547560" indent="-547560">
              <a:lnSpc>
                <a:spcPct val="85000"/>
              </a:lnSpc>
              <a:spcBef>
                <a:spcPts val="1301"/>
              </a:spcBef>
              <a:buClr>
                <a:srgbClr val="262626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 Light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  <a:p>
            <a:pPr lvl="3" marL="822240" indent="-822240">
              <a:lnSpc>
                <a:spcPct val="85000"/>
              </a:lnSpc>
              <a:spcBef>
                <a:spcPts val="1301"/>
              </a:spcBef>
              <a:buClr>
                <a:srgbClr val="262626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 Light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  <a:p>
            <a:pPr lvl="4" marL="1096920" indent="-1096920">
              <a:lnSpc>
                <a:spcPct val="85000"/>
              </a:lnSpc>
              <a:spcBef>
                <a:spcPts val="1301"/>
              </a:spcBef>
              <a:buClr>
                <a:srgbClr val="262626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 Light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  <a:p>
            <a:pPr lvl="5" marL="1096920" indent="-1096920">
              <a:lnSpc>
                <a:spcPct val="85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 Light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  <a:p>
            <a:pPr lvl="6" marL="1096920" indent="-1096920">
              <a:lnSpc>
                <a:spcPct val="85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 Light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10"/>
          </p:nvPr>
        </p:nvSpPr>
        <p:spPr>
          <a:xfrm>
            <a:off x="685800" y="6411600"/>
            <a:ext cx="41148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11"/>
          </p:nvPr>
        </p:nvSpPr>
        <p:spPr>
          <a:xfrm>
            <a:off x="685800" y="6554520"/>
            <a:ext cx="5029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2"/>
          </p:nvPr>
        </p:nvSpPr>
        <p:spPr>
          <a:xfrm>
            <a:off x="8764200" y="5877000"/>
            <a:ext cx="292572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78D121-BA42-4926-862A-717D0037E8FE}" type="slidenum">
              <a:rPr b="0" lang="en-US" sz="10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3b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093760" y="742680"/>
            <a:ext cx="8366400" cy="215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Calibri Light"/>
              </a:rPr>
              <a:t>Средства контроля доступа к информации</a:t>
            </a:r>
            <a:endParaRPr b="0" lang="en-US" sz="6000" spc="-1" strike="noStrike">
              <a:solidFill>
                <a:srgbClr val="f03b5e"/>
              </a:solidFill>
              <a:latin typeface="Calibri Ligh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666720" y="4206600"/>
            <a:ext cx="9229680" cy="164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 Light"/>
              </a:rPr>
              <a:t>Подготовила студентка 403 группы,</a:t>
            </a:r>
            <a:endParaRPr b="0" lang="en-US" sz="3200" spc="-1" strike="noStrike">
              <a:solidFill>
                <a:srgbClr val="262626"/>
              </a:solidFill>
              <a:latin typeface="Calibri Light"/>
            </a:endParaRPr>
          </a:p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 Light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Calibri Light"/>
              </a:rPr>
              <a:t>Архипова Дарина</a:t>
            </a:r>
            <a:endParaRPr b="0" lang="en-US" sz="3200" spc="-1" strike="noStrike">
              <a:solidFill>
                <a:srgbClr val="262626"/>
              </a:solidFill>
              <a:latin typeface="Calibri Light"/>
            </a:endParaRPr>
          </a:p>
        </p:txBody>
      </p:sp>
      <p:pic>
        <p:nvPicPr>
          <p:cNvPr id="168" name="Рисунок 3" descr=""/>
          <p:cNvPicPr/>
          <p:nvPr/>
        </p:nvPicPr>
        <p:blipFill>
          <a:blip r:embed="rId1"/>
          <a:stretch/>
        </p:blipFill>
        <p:spPr>
          <a:xfrm>
            <a:off x="7066080" y="3036960"/>
            <a:ext cx="4921200" cy="32814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0" y="441000"/>
            <a:ext cx="5472000" cy="171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900" spc="-1" strike="noStrike">
                <a:solidFill>
                  <a:srgbClr val="f03b5e"/>
                </a:solidFill>
                <a:latin typeface="Calibri Light"/>
              </a:rPr>
              <a:t>Идентификация</a:t>
            </a:r>
            <a:br>
              <a:rPr sz="4900"/>
            </a:br>
            <a:r>
              <a:rPr b="1" lang="ru-RU" sz="4900" spc="-1" strike="noStrike">
                <a:solidFill>
                  <a:srgbClr val="f03b5e"/>
                </a:solidFill>
                <a:latin typeface="Calibri Light"/>
              </a:rPr>
              <a:t>Аутентификация</a:t>
            </a:r>
            <a:br>
              <a:rPr sz="4900"/>
            </a:br>
            <a:endParaRPr b="0" lang="en-US" sz="4900" spc="-1" strike="noStrike">
              <a:solidFill>
                <a:srgbClr val="f03b5e"/>
              </a:solidFill>
              <a:latin typeface="Calibri Light"/>
            </a:endParaRPr>
          </a:p>
        </p:txBody>
      </p:sp>
      <p:pic>
        <p:nvPicPr>
          <p:cNvPr id="170" name="Объект 3" descr=""/>
          <p:cNvPicPr/>
          <p:nvPr/>
        </p:nvPicPr>
        <p:blipFill>
          <a:blip r:embed="rId1"/>
          <a:stretch/>
        </p:blipFill>
        <p:spPr>
          <a:xfrm>
            <a:off x="522360" y="1771560"/>
            <a:ext cx="4311720" cy="2481480"/>
          </a:xfrm>
          <a:prstGeom prst="rect">
            <a:avLst/>
          </a:prstGeom>
          <a:ln w="0">
            <a:noFill/>
          </a:ln>
        </p:spPr>
      </p:pic>
      <p:pic>
        <p:nvPicPr>
          <p:cNvPr id="171" name="Рисунок 4" descr=""/>
          <p:cNvPicPr/>
          <p:nvPr/>
        </p:nvPicPr>
        <p:blipFill>
          <a:blip r:embed="rId2"/>
          <a:stretch/>
        </p:blipFill>
        <p:spPr>
          <a:xfrm>
            <a:off x="4137120" y="3619440"/>
            <a:ext cx="3809880" cy="2933640"/>
          </a:xfrm>
          <a:prstGeom prst="rect">
            <a:avLst/>
          </a:prstGeom>
          <a:ln w="0">
            <a:noFill/>
          </a:ln>
        </p:spPr>
      </p:pic>
      <p:pic>
        <p:nvPicPr>
          <p:cNvPr id="172" name="Рисунок 15" descr=""/>
          <p:cNvPicPr/>
          <p:nvPr/>
        </p:nvPicPr>
        <p:blipFill>
          <a:blip r:embed="rId3"/>
          <a:stretch/>
        </p:blipFill>
        <p:spPr>
          <a:xfrm>
            <a:off x="5614920" y="100080"/>
            <a:ext cx="4389480" cy="3309840"/>
          </a:xfrm>
          <a:prstGeom prst="rect">
            <a:avLst/>
          </a:prstGeom>
          <a:ln w="0">
            <a:noFill/>
          </a:ln>
        </p:spPr>
      </p:pic>
      <p:pic>
        <p:nvPicPr>
          <p:cNvPr id="173" name="Схема 13" descr=""/>
          <p:cNvPicPr/>
          <p:nvPr/>
        </p:nvPicPr>
        <p:blipFill>
          <a:blip r:embed="rId4"/>
          <a:stretch/>
        </p:blipFill>
        <p:spPr>
          <a:xfrm>
            <a:off x="5138640" y="2260440"/>
            <a:ext cx="7454880" cy="459756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" dur="250" autoRev="1" fill="hold"/>
                                        <p:tgtEl>
                                          <p:spTgt spid="17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0" y="139680"/>
            <a:ext cx="1202544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03b5e"/>
                </a:solidFill>
                <a:latin typeface="Calibri Light"/>
              </a:rPr>
              <a:t>Средства идентификации и аутентификации в далекие времена</a:t>
            </a:r>
            <a:endParaRPr b="0" lang="en-US" sz="5400" spc="-1" strike="noStrike">
              <a:solidFill>
                <a:srgbClr val="f03b5e"/>
              </a:solidFill>
              <a:latin typeface="Calibri Light"/>
            </a:endParaRPr>
          </a:p>
        </p:txBody>
      </p:sp>
      <p:pic>
        <p:nvPicPr>
          <p:cNvPr id="175" name="Объект 3" descr=""/>
          <p:cNvPicPr/>
          <p:nvPr/>
        </p:nvPicPr>
        <p:blipFill>
          <a:blip r:embed="rId1"/>
          <a:stretch/>
        </p:blipFill>
        <p:spPr>
          <a:xfrm>
            <a:off x="1197000" y="1936800"/>
            <a:ext cx="5075280" cy="4498920"/>
          </a:xfrm>
          <a:prstGeom prst="rect">
            <a:avLst/>
          </a:prstGeom>
          <a:ln w="0">
            <a:noFill/>
          </a:ln>
        </p:spPr>
      </p:pic>
      <p:pic>
        <p:nvPicPr>
          <p:cNvPr id="176" name="Рисунок 4" descr=""/>
          <p:cNvPicPr/>
          <p:nvPr/>
        </p:nvPicPr>
        <p:blipFill>
          <a:blip r:embed="rId2"/>
          <a:stretch/>
        </p:blipFill>
        <p:spPr>
          <a:xfrm>
            <a:off x="7031160" y="2054160"/>
            <a:ext cx="3206520" cy="32068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10758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900"/>
            </a:br>
            <a:r>
              <a:rPr b="0" lang="ru-RU" sz="4900" spc="-1" strike="noStrike">
                <a:solidFill>
                  <a:srgbClr val="f03b5e"/>
                </a:solidFill>
                <a:latin typeface="Calibri Light"/>
              </a:rPr>
              <a:t>Элементы аутентификации</a:t>
            </a:r>
            <a:br>
              <a:rPr sz="4900"/>
            </a:br>
            <a:endParaRPr b="0" lang="en-US" sz="4900" spc="-1" strike="noStrike">
              <a:solidFill>
                <a:srgbClr val="f03b5e"/>
              </a:solidFill>
              <a:latin typeface="Calibri Light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0" y="609480"/>
          <a:ext cx="11987280" cy="6248160"/>
        </p:xfrm>
        <a:graphic>
          <a:graphicData uri="http://schemas.openxmlformats.org/drawingml/2006/table">
            <a:tbl>
              <a:tblPr/>
              <a:tblGrid>
                <a:gridCol w="2997360"/>
                <a:gridCol w="2997000"/>
                <a:gridCol w="2995560"/>
                <a:gridCol w="2997360"/>
              </a:tblGrid>
              <a:tr h="680040">
                <a:tc>
                  <a:txBody>
                    <a:bodyPr lIns="69840" rIns="69840" tIns="34920" bIns="349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Элемент аутентификац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 Light"/>
                      </a:endParaRPr>
                    </a:p>
                  </a:txBody>
                  <a:tcPr anchor="ctr" marL="69840" marR="69840">
                    <a:lnL w="3600">
                      <a:solidFill>
                        <a:srgbClr val="aaaaaa"/>
                      </a:solidFill>
                    </a:lnL>
                    <a:lnR w="3600">
                      <a:solidFill>
                        <a:srgbClr val="aaaaaa"/>
                      </a:solidFill>
                    </a:lnR>
                    <a:lnT w="3600">
                      <a:solidFill>
                        <a:srgbClr val="aaaaaa"/>
                      </a:solidFill>
                    </a:lnT>
                    <a:lnB w="3600">
                      <a:solidFill>
                        <a:srgbClr val="aaaaaa"/>
                      </a:solidFill>
                    </a:lnB>
                    <a:solidFill>
                      <a:srgbClr val="eeeeff"/>
                    </a:solidFill>
                  </a:tcPr>
                </a:tc>
                <a:tc>
                  <a:txBody>
                    <a:bodyPr lIns="69840" rIns="69840" tIns="34920" bIns="349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Пещера 40 разбойник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 Light"/>
                      </a:endParaRPr>
                    </a:p>
                  </a:txBody>
                  <a:tcPr anchor="ctr" marL="69840" marR="69840">
                    <a:lnL w="3600">
                      <a:solidFill>
                        <a:srgbClr val="aaaaaa"/>
                      </a:solidFill>
                    </a:lnL>
                    <a:lnR w="3600">
                      <a:solidFill>
                        <a:srgbClr val="aaaaaa"/>
                      </a:solidFill>
                    </a:lnR>
                    <a:lnT w="3600">
                      <a:solidFill>
                        <a:srgbClr val="aaaaaa"/>
                      </a:solidFill>
                    </a:lnT>
                    <a:lnB w="3600">
                      <a:solidFill>
                        <a:srgbClr val="aaaaaa"/>
                      </a:solidFill>
                    </a:lnB>
                    <a:solidFill>
                      <a:srgbClr val="eeeeff"/>
                    </a:solidFill>
                  </a:tcPr>
                </a:tc>
                <a:tc>
                  <a:txBody>
                    <a:bodyPr lIns="69840" rIns="69840" tIns="34920" bIns="349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Регистрация в систем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 Light"/>
                      </a:endParaRPr>
                    </a:p>
                  </a:txBody>
                  <a:tcPr anchor="ctr" marL="69840" marR="69840">
                    <a:lnL w="3600">
                      <a:solidFill>
                        <a:srgbClr val="aaaaaa"/>
                      </a:solidFill>
                    </a:lnL>
                    <a:lnR w="3600">
                      <a:solidFill>
                        <a:srgbClr val="aaaaaa"/>
                      </a:solidFill>
                    </a:lnR>
                    <a:lnT w="3600">
                      <a:solidFill>
                        <a:srgbClr val="aaaaaa"/>
                      </a:solidFill>
                    </a:lnT>
                    <a:lnB w="3600">
                      <a:solidFill>
                        <a:srgbClr val="aaaaaa"/>
                      </a:solidFill>
                    </a:lnB>
                    <a:solidFill>
                      <a:srgbClr val="eeeeff"/>
                    </a:solidFill>
                  </a:tcPr>
                </a:tc>
                <a:tc>
                  <a:txBody>
                    <a:bodyPr lIns="69840" rIns="69840" tIns="34920" bIns="349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Банкома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 Light"/>
                      </a:endParaRPr>
                    </a:p>
                  </a:txBody>
                  <a:tcPr anchor="ctr" marL="69840" marR="69840">
                    <a:lnL w="3600">
                      <a:solidFill>
                        <a:srgbClr val="aaaaaa"/>
                      </a:solidFill>
                    </a:lnL>
                    <a:lnR w="3600">
                      <a:solidFill>
                        <a:srgbClr val="aaaaaa"/>
                      </a:solidFill>
                    </a:lnR>
                    <a:lnT w="3600">
                      <a:solidFill>
                        <a:srgbClr val="aaaaaa"/>
                      </a:solidFill>
                    </a:lnT>
                    <a:lnB w="3600">
                      <a:solidFill>
                        <a:srgbClr val="aaaaaa"/>
                      </a:solidFill>
                    </a:lnB>
                    <a:solidFill>
                      <a:srgbClr val="eeeeff"/>
                    </a:solidFill>
                  </a:tcPr>
                </a:tc>
              </a:tr>
              <a:tr h="680040">
                <a:tc>
                  <a:txBody>
                    <a:bodyPr lIns="69840" rIns="69840" tIns="34920" bIns="349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Субъек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 Light"/>
                      </a:endParaRPr>
                    </a:p>
                  </a:txBody>
                  <a:tcPr anchor="ctr" marL="69840" marR="69840">
                    <a:lnL w="3600">
                      <a:solidFill>
                        <a:srgbClr val="aaaaaa"/>
                      </a:solidFill>
                    </a:lnL>
                    <a:lnR w="3600">
                      <a:solidFill>
                        <a:srgbClr val="aaaaaa"/>
                      </a:solidFill>
                    </a:lnR>
                    <a:lnT w="3600">
                      <a:solidFill>
                        <a:srgbClr val="aaaaaa"/>
                      </a:solidFill>
                    </a:lnT>
                    <a:lnB w="3600">
                      <a:solidFill>
                        <a:srgbClr val="aaaaaa"/>
                      </a:solidFill>
                    </a:lnB>
                    <a:solidFill>
                      <a:srgbClr val="eeeeff"/>
                    </a:solidFill>
                  </a:tcPr>
                </a:tc>
                <a:tc>
                  <a:txBody>
                    <a:bodyPr lIns="69840" rIns="69840" tIns="34920" bIns="349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Человек, знающий парол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 Light"/>
                      </a:endParaRPr>
                    </a:p>
                  </a:txBody>
                  <a:tcPr anchor="ctr" marL="69840" marR="69840">
                    <a:lnL w="3600">
                      <a:solidFill>
                        <a:srgbClr val="aaaaaa"/>
                      </a:solidFill>
                    </a:lnL>
                    <a:lnR w="3600">
                      <a:solidFill>
                        <a:srgbClr val="aaaaaa"/>
                      </a:solidFill>
                    </a:lnR>
                    <a:lnT w="3600">
                      <a:solidFill>
                        <a:srgbClr val="aaaaaa"/>
                      </a:solidFill>
                    </a:lnT>
                    <a:lnB w="3600">
                      <a:solidFill>
                        <a:srgbClr val="aaa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9840" rIns="69840" tIns="34920" bIns="349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Авторизованный пользовател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 Light"/>
                      </a:endParaRPr>
                    </a:p>
                  </a:txBody>
                  <a:tcPr anchor="ctr" marL="69840" marR="69840">
                    <a:lnL w="3600">
                      <a:solidFill>
                        <a:srgbClr val="aaaaaa"/>
                      </a:solidFill>
                    </a:lnL>
                    <a:lnR w="3600">
                      <a:solidFill>
                        <a:srgbClr val="aaaaaa"/>
                      </a:solidFill>
                    </a:lnR>
                    <a:lnT w="3600">
                      <a:solidFill>
                        <a:srgbClr val="aaaaaa"/>
                      </a:solidFill>
                    </a:lnT>
                    <a:lnB w="3600">
                      <a:solidFill>
                        <a:srgbClr val="aaa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9840" rIns="69840" tIns="34920" bIns="349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Владелец банковской карт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 Light"/>
                      </a:endParaRPr>
                    </a:p>
                  </a:txBody>
                  <a:tcPr anchor="ctr" marL="69840" marR="69840">
                    <a:lnL w="3600">
                      <a:solidFill>
                        <a:srgbClr val="aaaaaa"/>
                      </a:solidFill>
                    </a:lnL>
                    <a:lnR w="3600">
                      <a:solidFill>
                        <a:srgbClr val="aaaaaa"/>
                      </a:solidFill>
                    </a:lnR>
                    <a:lnT w="3600">
                      <a:solidFill>
                        <a:srgbClr val="aaaaaa"/>
                      </a:solidFill>
                    </a:lnT>
                    <a:lnB w="3600">
                      <a:solidFill>
                        <a:srgbClr val="aaa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84960">
                <a:tc>
                  <a:txBody>
                    <a:bodyPr lIns="69840" rIns="69840" tIns="34920" bIns="349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Характеристи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 Light"/>
                      </a:endParaRPr>
                    </a:p>
                  </a:txBody>
                  <a:tcPr anchor="ctr" marL="69840" marR="69840">
                    <a:lnL w="3600">
                      <a:solidFill>
                        <a:srgbClr val="aaaaaa"/>
                      </a:solidFill>
                    </a:lnL>
                    <a:lnR w="3600">
                      <a:solidFill>
                        <a:srgbClr val="aaaaaa"/>
                      </a:solidFill>
                    </a:lnR>
                    <a:lnT w="3600">
                      <a:solidFill>
                        <a:srgbClr val="aaaaaa"/>
                      </a:solidFill>
                    </a:lnT>
                    <a:lnB w="3600">
                      <a:solidFill>
                        <a:srgbClr val="aaaaaa"/>
                      </a:solidFill>
                    </a:lnB>
                    <a:solidFill>
                      <a:srgbClr val="eeeeff"/>
                    </a:solidFill>
                  </a:tcPr>
                </a:tc>
                <a:tc>
                  <a:txBody>
                    <a:bodyPr lIns="69840" rIns="69840" tIns="34920" bIns="349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Пароль "Сезам, откройся!"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 Light"/>
                      </a:endParaRPr>
                    </a:p>
                  </a:txBody>
                  <a:tcPr anchor="ctr" marL="69840" marR="69840">
                    <a:lnL w="3600">
                      <a:solidFill>
                        <a:srgbClr val="aaaaaa"/>
                      </a:solidFill>
                    </a:lnL>
                    <a:lnR w="3600">
                      <a:solidFill>
                        <a:srgbClr val="aaaaaa"/>
                      </a:solidFill>
                    </a:lnR>
                    <a:lnT w="3600">
                      <a:solidFill>
                        <a:srgbClr val="aaaaaa"/>
                      </a:solidFill>
                    </a:lnT>
                    <a:lnB w="3600">
                      <a:solidFill>
                        <a:srgbClr val="aaa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9840" rIns="69840" tIns="34920" bIns="349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Тайный парол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 Light"/>
                      </a:endParaRPr>
                    </a:p>
                  </a:txBody>
                  <a:tcPr anchor="ctr" marL="69840" marR="69840">
                    <a:lnL w="3600">
                      <a:solidFill>
                        <a:srgbClr val="aaaaaa"/>
                      </a:solidFill>
                    </a:lnL>
                    <a:lnR w="3600">
                      <a:solidFill>
                        <a:srgbClr val="aaaaaa"/>
                      </a:solidFill>
                    </a:lnR>
                    <a:lnT w="3600">
                      <a:solidFill>
                        <a:srgbClr val="aaaaaa"/>
                      </a:solidFill>
                    </a:lnT>
                    <a:lnB w="3600">
                      <a:solidFill>
                        <a:srgbClr val="aaa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9840" rIns="69840" tIns="34920" bIns="349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Банковская карта и персональный идентификато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 Light"/>
                      </a:endParaRPr>
                    </a:p>
                  </a:txBody>
                  <a:tcPr anchor="ctr" marL="69840" marR="69840">
                    <a:lnL w="3600">
                      <a:solidFill>
                        <a:srgbClr val="aaaaaa"/>
                      </a:solidFill>
                    </a:lnL>
                    <a:lnR w="3600">
                      <a:solidFill>
                        <a:srgbClr val="aaaaaa"/>
                      </a:solidFill>
                    </a:lnR>
                    <a:lnT w="3600">
                      <a:solidFill>
                        <a:srgbClr val="aaaaaa"/>
                      </a:solidFill>
                    </a:lnT>
                    <a:lnB w="3600">
                      <a:solidFill>
                        <a:srgbClr val="aaa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89880">
                <a:tc>
                  <a:txBody>
                    <a:bodyPr lIns="69840" rIns="69840" tIns="34920" bIns="349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Хозяин систем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 Light"/>
                      </a:endParaRPr>
                    </a:p>
                  </a:txBody>
                  <a:tcPr anchor="ctr" marL="69840" marR="69840">
                    <a:lnL w="3600">
                      <a:solidFill>
                        <a:srgbClr val="aaaaaa"/>
                      </a:solidFill>
                    </a:lnL>
                    <a:lnR w="3600">
                      <a:solidFill>
                        <a:srgbClr val="aaaaaa"/>
                      </a:solidFill>
                    </a:lnR>
                    <a:lnT w="3600">
                      <a:solidFill>
                        <a:srgbClr val="aaaaaa"/>
                      </a:solidFill>
                    </a:lnT>
                    <a:lnB w="3600">
                      <a:solidFill>
                        <a:srgbClr val="aaaaaa"/>
                      </a:solidFill>
                    </a:lnB>
                    <a:solidFill>
                      <a:srgbClr val="eeeeff"/>
                    </a:solidFill>
                  </a:tcPr>
                </a:tc>
                <a:tc>
                  <a:txBody>
                    <a:bodyPr lIns="69840" rIns="69840" tIns="34920" bIns="349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40 разбойник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 Light"/>
                      </a:endParaRPr>
                    </a:p>
                  </a:txBody>
                  <a:tcPr anchor="ctr" marL="69840" marR="69840">
                    <a:lnL w="3600">
                      <a:solidFill>
                        <a:srgbClr val="aaaaaa"/>
                      </a:solidFill>
                    </a:lnL>
                    <a:lnR w="3600">
                      <a:solidFill>
                        <a:srgbClr val="aaaaaa"/>
                      </a:solidFill>
                    </a:lnR>
                    <a:lnT w="3600">
                      <a:solidFill>
                        <a:srgbClr val="aaaaaa"/>
                      </a:solidFill>
                    </a:lnT>
                    <a:lnB w="3600">
                      <a:solidFill>
                        <a:srgbClr val="aaa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9840" rIns="69840" tIns="34920" bIns="349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Предприятие, которому принадлежит систем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 Light"/>
                      </a:endParaRPr>
                    </a:p>
                  </a:txBody>
                  <a:tcPr anchor="ctr" marL="69840" marR="69840">
                    <a:lnL w="3600">
                      <a:solidFill>
                        <a:srgbClr val="aaaaaa"/>
                      </a:solidFill>
                    </a:lnL>
                    <a:lnR w="3600">
                      <a:solidFill>
                        <a:srgbClr val="aaaaaa"/>
                      </a:solidFill>
                    </a:lnR>
                    <a:lnT w="3600">
                      <a:solidFill>
                        <a:srgbClr val="aaaaaa"/>
                      </a:solidFill>
                    </a:lnT>
                    <a:lnB w="3600">
                      <a:solidFill>
                        <a:srgbClr val="aaa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9840" rIns="69840" tIns="34920" bIns="349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Бан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 Light"/>
                      </a:endParaRPr>
                    </a:p>
                  </a:txBody>
                  <a:tcPr anchor="ctr" marL="69840" marR="69840">
                    <a:lnL w="3600">
                      <a:solidFill>
                        <a:srgbClr val="aaaaaa"/>
                      </a:solidFill>
                    </a:lnL>
                    <a:lnR w="3600">
                      <a:solidFill>
                        <a:srgbClr val="aaaaaa"/>
                      </a:solidFill>
                    </a:lnR>
                    <a:lnT w="3600">
                      <a:solidFill>
                        <a:srgbClr val="aaaaaa"/>
                      </a:solidFill>
                    </a:lnT>
                    <a:lnB w="3600">
                      <a:solidFill>
                        <a:srgbClr val="aaa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94800">
                <a:tc>
                  <a:txBody>
                    <a:bodyPr lIns="69840" rIns="69840" tIns="34920" bIns="349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Механизм аутентификац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 Light"/>
                      </a:endParaRPr>
                    </a:p>
                  </a:txBody>
                  <a:tcPr anchor="ctr" marL="69840" marR="69840">
                    <a:lnL w="3600">
                      <a:solidFill>
                        <a:srgbClr val="aaaaaa"/>
                      </a:solidFill>
                    </a:lnL>
                    <a:lnR w="3600">
                      <a:solidFill>
                        <a:srgbClr val="aaaaaa"/>
                      </a:solidFill>
                    </a:lnR>
                    <a:lnT w="3600">
                      <a:solidFill>
                        <a:srgbClr val="aaaaaa"/>
                      </a:solidFill>
                    </a:lnT>
                    <a:lnB w="3600">
                      <a:solidFill>
                        <a:srgbClr val="aaaaaa"/>
                      </a:solidFill>
                    </a:lnB>
                    <a:solidFill>
                      <a:srgbClr val="eeeeff"/>
                    </a:solidFill>
                  </a:tcPr>
                </a:tc>
                <a:tc>
                  <a:txBody>
                    <a:bodyPr lIns="69840" rIns="69840" tIns="34920" bIns="349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Волшебное устройство, реагирующее на слов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 Light"/>
                      </a:endParaRPr>
                    </a:p>
                  </a:txBody>
                  <a:tcPr anchor="ctr" marL="69840" marR="69840">
                    <a:lnL w="3600">
                      <a:solidFill>
                        <a:srgbClr val="aaaaaa"/>
                      </a:solidFill>
                    </a:lnL>
                    <a:lnR w="3600">
                      <a:solidFill>
                        <a:srgbClr val="aaaaaa"/>
                      </a:solidFill>
                    </a:lnR>
                    <a:lnT w="3600">
                      <a:solidFill>
                        <a:srgbClr val="aaaaaa"/>
                      </a:solidFill>
                    </a:lnT>
                    <a:lnB w="3600">
                      <a:solidFill>
                        <a:srgbClr val="aaa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9840" rIns="69840" tIns="34920" bIns="349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Программное обеспечение, проверяющее парол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 Light"/>
                      </a:endParaRPr>
                    </a:p>
                  </a:txBody>
                  <a:tcPr anchor="ctr" marL="69840" marR="69840">
                    <a:lnL w="3600">
                      <a:solidFill>
                        <a:srgbClr val="aaaaaa"/>
                      </a:solidFill>
                    </a:lnL>
                    <a:lnR w="3600">
                      <a:solidFill>
                        <a:srgbClr val="aaaaaa"/>
                      </a:solidFill>
                    </a:lnR>
                    <a:lnT w="3600">
                      <a:solidFill>
                        <a:srgbClr val="aaaaaa"/>
                      </a:solidFill>
                    </a:lnT>
                    <a:lnB w="3600">
                      <a:solidFill>
                        <a:srgbClr val="aaa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9840" rIns="69840" tIns="34920" bIns="349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Программное обеспечение, проверяющее карту и персональный идентификато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 Light"/>
                      </a:endParaRPr>
                    </a:p>
                  </a:txBody>
                  <a:tcPr anchor="ctr" marL="69840" marR="69840">
                    <a:lnL w="3600">
                      <a:solidFill>
                        <a:srgbClr val="aaaaaa"/>
                      </a:solidFill>
                    </a:lnL>
                    <a:lnR w="3600">
                      <a:solidFill>
                        <a:srgbClr val="aaaaaa"/>
                      </a:solidFill>
                    </a:lnR>
                    <a:lnT w="3600">
                      <a:solidFill>
                        <a:srgbClr val="aaaaaa"/>
                      </a:solidFill>
                    </a:lnT>
                    <a:lnB w="3600">
                      <a:solidFill>
                        <a:srgbClr val="aaa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89880">
                <a:tc>
                  <a:txBody>
                    <a:bodyPr lIns="69840" rIns="69840" tIns="34920" bIns="349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Механизм управления доступо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 Light"/>
                      </a:endParaRPr>
                    </a:p>
                  </a:txBody>
                  <a:tcPr anchor="ctr" marL="69840" marR="69840">
                    <a:lnL w="3600">
                      <a:solidFill>
                        <a:srgbClr val="aaaaaa"/>
                      </a:solidFill>
                    </a:lnL>
                    <a:lnR w="3600">
                      <a:solidFill>
                        <a:srgbClr val="aaaaaa"/>
                      </a:solidFill>
                    </a:lnR>
                    <a:lnT w="3600">
                      <a:solidFill>
                        <a:srgbClr val="aaaaaa"/>
                      </a:solidFill>
                    </a:lnT>
                    <a:lnB w="3600">
                      <a:solidFill>
                        <a:srgbClr val="aaaaaa"/>
                      </a:solidFill>
                    </a:lnB>
                    <a:solidFill>
                      <a:srgbClr val="eeeeff"/>
                    </a:solidFill>
                  </a:tcPr>
                </a:tc>
                <a:tc>
                  <a:txBody>
                    <a:bodyPr lIns="69840" rIns="69840" tIns="34920" bIns="349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Механизм, отодвигающий камень от входа в пещер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 Light"/>
                      </a:endParaRPr>
                    </a:p>
                  </a:txBody>
                  <a:tcPr anchor="ctr" marL="69840" marR="69840">
                    <a:lnL w="3600">
                      <a:solidFill>
                        <a:srgbClr val="aaaaaa"/>
                      </a:solidFill>
                    </a:lnL>
                    <a:lnR w="3600">
                      <a:solidFill>
                        <a:srgbClr val="aaaaaa"/>
                      </a:solidFill>
                    </a:lnR>
                    <a:lnT w="3600">
                      <a:solidFill>
                        <a:srgbClr val="aaaaaa"/>
                      </a:solidFill>
                    </a:lnT>
                    <a:lnB w="3600">
                      <a:solidFill>
                        <a:srgbClr val="aaa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9840" rIns="69840" tIns="34920" bIns="349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Процесс регистрации, управления доступо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 Light"/>
                      </a:endParaRPr>
                    </a:p>
                  </a:txBody>
                  <a:tcPr anchor="ctr" marL="69840" marR="69840">
                    <a:lnL w="3600">
                      <a:solidFill>
                        <a:srgbClr val="aaaaaa"/>
                      </a:solidFill>
                    </a:lnL>
                    <a:lnR w="3600">
                      <a:solidFill>
                        <a:srgbClr val="aaaaaa"/>
                      </a:solidFill>
                    </a:lnR>
                    <a:lnT w="3600">
                      <a:solidFill>
                        <a:srgbClr val="aaaaaa"/>
                      </a:solidFill>
                    </a:lnT>
                    <a:lnB w="3600">
                      <a:solidFill>
                        <a:srgbClr val="aaa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9840" rIns="69840" tIns="34920" bIns="349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Разрешение на выполнение банковских действ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 Light"/>
                      </a:endParaRPr>
                    </a:p>
                  </a:txBody>
                  <a:tcPr anchor="ctr" marL="69840" marR="69840">
                    <a:lnL w="3600">
                      <a:solidFill>
                        <a:srgbClr val="aaaaaa"/>
                      </a:solidFill>
                    </a:lnL>
                    <a:lnR w="3600">
                      <a:solidFill>
                        <a:srgbClr val="aaaaaa"/>
                      </a:solidFill>
                    </a:lnR>
                    <a:lnT w="3600">
                      <a:solidFill>
                        <a:srgbClr val="aaaaaa"/>
                      </a:solidFill>
                    </a:lnT>
                    <a:lnB w="3600">
                      <a:solidFill>
                        <a:srgbClr val="aaa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 spd="slow">
    <p:split dir="out" orient="vert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76440" y="195120"/>
            <a:ext cx="10772640" cy="110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03b5e"/>
                </a:solidFill>
                <a:latin typeface="Calibri Light"/>
              </a:rPr>
              <a:t>Одноразовые и многоразовые пароли</a:t>
            </a:r>
            <a:endParaRPr b="0" lang="en-US" sz="5400" spc="-1" strike="noStrike">
              <a:solidFill>
                <a:srgbClr val="f03b5e"/>
              </a:solidFill>
              <a:latin typeface="Calibri Light"/>
            </a:endParaRPr>
          </a:p>
        </p:txBody>
      </p:sp>
      <p:pic>
        <p:nvPicPr>
          <p:cNvPr id="180" name="Объект 3" descr=""/>
          <p:cNvPicPr/>
          <p:nvPr/>
        </p:nvPicPr>
        <p:blipFill>
          <a:blip r:embed="rId1"/>
          <a:stretch/>
        </p:blipFill>
        <p:spPr>
          <a:xfrm>
            <a:off x="1038240" y="1511280"/>
            <a:ext cx="3749760" cy="2685960"/>
          </a:xfrm>
          <a:prstGeom prst="rect">
            <a:avLst/>
          </a:prstGeom>
          <a:ln w="0">
            <a:noFill/>
          </a:ln>
        </p:spPr>
      </p:pic>
      <p:pic>
        <p:nvPicPr>
          <p:cNvPr id="181" name="Рисунок 4" descr=""/>
          <p:cNvPicPr/>
          <p:nvPr/>
        </p:nvPicPr>
        <p:blipFill>
          <a:blip r:embed="rId2"/>
          <a:srcRect l="1825" t="15893" r="3177" b="30373"/>
          <a:stretch/>
        </p:blipFill>
        <p:spPr>
          <a:xfrm>
            <a:off x="934920" y="4405320"/>
            <a:ext cx="11141280" cy="2452680"/>
          </a:xfrm>
          <a:prstGeom prst="rect">
            <a:avLst/>
          </a:prstGeom>
          <a:ln w="0">
            <a:noFill/>
          </a:ln>
        </p:spPr>
      </p:pic>
      <p:pic>
        <p:nvPicPr>
          <p:cNvPr id="182" name="Рисунок 5" descr=""/>
          <p:cNvPicPr/>
          <p:nvPr/>
        </p:nvPicPr>
        <p:blipFill>
          <a:blip r:embed="rId3"/>
          <a:srcRect l="0" t="0" r="33807" b="55444"/>
          <a:stretch/>
        </p:blipFill>
        <p:spPr>
          <a:xfrm>
            <a:off x="5408640" y="1646280"/>
            <a:ext cx="6202440" cy="255096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0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3680" y="-360"/>
            <a:ext cx="107726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900" spc="-1" strike="noStrike">
                <a:solidFill>
                  <a:srgbClr val="f03b5e"/>
                </a:solidFill>
                <a:latin typeface="Calibri Light"/>
              </a:rPr>
              <a:t>Способы аутентификации</a:t>
            </a:r>
            <a:endParaRPr b="0" lang="en-US" sz="4900" spc="-1" strike="noStrike">
              <a:solidFill>
                <a:srgbClr val="f03b5e"/>
              </a:solidFill>
              <a:latin typeface="Calibri Light"/>
            </a:endParaRPr>
          </a:p>
        </p:txBody>
      </p:sp>
      <p:pic>
        <p:nvPicPr>
          <p:cNvPr id="184" name="Объект 5" descr=""/>
          <p:cNvPicPr/>
          <p:nvPr/>
        </p:nvPicPr>
        <p:blipFill>
          <a:blip r:embed="rId1"/>
          <a:stretch/>
        </p:blipFill>
        <p:spPr>
          <a:xfrm>
            <a:off x="176040" y="460440"/>
            <a:ext cx="11863440" cy="2173320"/>
          </a:xfrm>
          <a:prstGeom prst="rect">
            <a:avLst/>
          </a:prstGeom>
          <a:ln w="0">
            <a:noFill/>
          </a:ln>
        </p:spPr>
      </p:pic>
      <p:pic>
        <p:nvPicPr>
          <p:cNvPr id="185" name="Схема 6" descr=""/>
          <p:cNvPicPr/>
          <p:nvPr/>
        </p:nvPicPr>
        <p:blipFill>
          <a:blip r:embed="rId2"/>
          <a:stretch/>
        </p:blipFill>
        <p:spPr>
          <a:xfrm>
            <a:off x="285840" y="2298600"/>
            <a:ext cx="11918880" cy="1676520"/>
          </a:xfrm>
          <a:prstGeom prst="rect">
            <a:avLst/>
          </a:prstGeom>
          <a:ln w="0">
            <a:noFill/>
          </a:ln>
        </p:spPr>
      </p:pic>
      <p:pic>
        <p:nvPicPr>
          <p:cNvPr id="186" name="Схема 7" descr=""/>
          <p:cNvPicPr/>
          <p:nvPr/>
        </p:nvPicPr>
        <p:blipFill>
          <a:blip r:embed="rId3"/>
          <a:stretch/>
        </p:blipFill>
        <p:spPr>
          <a:xfrm>
            <a:off x="176040" y="3449520"/>
            <a:ext cx="12198600" cy="27432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2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5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8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Рисунок 2" descr=""/>
          <p:cNvPicPr/>
          <p:nvPr/>
        </p:nvPicPr>
        <p:blipFill>
          <a:blip r:embed="rId1"/>
          <a:stretch/>
        </p:blipFill>
        <p:spPr>
          <a:xfrm>
            <a:off x="6756480" y="1978200"/>
            <a:ext cx="3085920" cy="2800080"/>
          </a:xfrm>
          <a:prstGeom prst="rect">
            <a:avLst/>
          </a:prstGeom>
          <a:ln w="0">
            <a:noFill/>
          </a:ln>
        </p:spPr>
      </p:pic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-690480" y="1727280"/>
            <a:ext cx="1077264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endParaRPr b="0" lang="en-US" sz="5400" spc="-1" strike="noStrike">
              <a:solidFill>
                <a:srgbClr val="f03b5e"/>
              </a:solidFill>
              <a:latin typeface="Calibri Light"/>
            </a:endParaRPr>
          </a:p>
        </p:txBody>
      </p:sp>
      <p:pic>
        <p:nvPicPr>
          <p:cNvPr id="189" name="Рисунок 7" descr=""/>
          <p:cNvPicPr/>
          <p:nvPr/>
        </p:nvPicPr>
        <p:blipFill>
          <a:blip r:embed="rId2"/>
          <a:stretch/>
        </p:blipFill>
        <p:spPr>
          <a:xfrm>
            <a:off x="800280" y="0"/>
            <a:ext cx="4214520" cy="3956040"/>
          </a:xfrm>
          <a:prstGeom prst="rect">
            <a:avLst/>
          </a:prstGeom>
          <a:ln w="0">
            <a:noFill/>
          </a:ln>
        </p:spPr>
      </p:pic>
      <p:pic>
        <p:nvPicPr>
          <p:cNvPr id="190" name="Рисунок 8" descr=""/>
          <p:cNvPicPr/>
          <p:nvPr/>
        </p:nvPicPr>
        <p:blipFill>
          <a:blip r:embed="rId3"/>
          <a:stretch/>
        </p:blipFill>
        <p:spPr>
          <a:xfrm>
            <a:off x="750960" y="4309920"/>
            <a:ext cx="4263840" cy="2378160"/>
          </a:xfrm>
          <a:prstGeom prst="rect">
            <a:avLst/>
          </a:prstGeom>
          <a:ln w="0">
            <a:noFill/>
          </a:ln>
        </p:spPr>
      </p:pic>
      <p:pic>
        <p:nvPicPr>
          <p:cNvPr id="191" name="Схема 13" descr=""/>
          <p:cNvPicPr/>
          <p:nvPr/>
        </p:nvPicPr>
        <p:blipFill>
          <a:blip r:embed="rId4"/>
          <a:stretch/>
        </p:blipFill>
        <p:spPr>
          <a:xfrm>
            <a:off x="3425760" y="334800"/>
            <a:ext cx="10045800" cy="571212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65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9-18T15:28:27Z</dcterms:created>
  <dc:creator>Дарина Архипова</dc:creator>
  <dc:description/>
  <dc:language>en-US</dc:language>
  <cp:lastModifiedBy>vtc</cp:lastModifiedBy>
  <dcterms:modified xsi:type="dcterms:W3CDTF">2015-04-29T10:23:41Z</dcterms:modified>
  <cp:revision>15</cp:revision>
  <dc:subject/>
  <dc:title>Средства контроля доступа к информации</dc:title>
</cp:coreProperties>
</file>