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9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E8A3-0432-462B-B30A-38260BFF3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6080" y="397908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0B9D-BCDA-493D-B281-945A6FD5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18660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18F3-28C0-41F4-A05F-5DBC16C94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2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8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6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2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8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BD2C-2F4E-4A2E-B1B6-F824F397B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9D156-9FEC-432A-98FA-EE25F9165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16F2-4FFC-4657-8F1F-6979BA5A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B55E-8520-4BF5-9C51-DC174A9C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C190-1CF4-4A87-87E0-078AC5B2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C5748-5B25-4121-AE0D-49E62931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57360" y="500040"/>
            <a:ext cx="1077264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077D2-11D9-454E-B62C-5784D467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CDC1-A322-4495-8104-CDBCB750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A37F-618D-49FA-947B-07478AC8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18660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45BF-F45C-42B0-8DC6-E97FCEC7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63DF-0521-4684-AD6E-2FC4A04D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6080" y="397908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3772-C2F9-448C-AE8A-41018386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18660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450F-8E87-4963-9BFD-77538C3B5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12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8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76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12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8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515B-615A-4CBE-B4F1-C33CE3E07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8838F-AD1D-4CCB-82B4-49D5B4A0E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0AA40-A7EE-42A2-94DC-8F1D245C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BAF6B-D61F-48DC-BAE2-8C8909F2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FE5EB-2D3E-4882-A9BB-F1C4F057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264FA-79BC-4534-9C8A-A38CD050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B06B-3CB6-42AE-B147-01441F34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57360" y="500040"/>
            <a:ext cx="1077264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12B17-BC28-44B4-8292-EB654D1F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9974F-6299-49D1-A867-C35AA2AF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8660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D936F-7834-42A2-AA09-6340A33E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7D407-1EF0-4B98-8121-F2FCFF5F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76080" y="397908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98D20-E0CB-4490-95A8-0278F587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18660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21B7C-E0B8-48F6-8002-852515CCF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12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48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76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12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948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19D15-6131-45FC-A0B3-1E1ECBF87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CE7DF-59A3-4C05-8302-F606D9ACF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0F36A-49CB-4614-B4D4-EB159ABC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57015-ECE5-476A-984A-8227E5B2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504F-9791-4274-A108-7A55CE19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ECF5C-D719-4BBE-9494-6091765E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404FF-CA8F-465E-83C8-C3FEF683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57360" y="500040"/>
            <a:ext cx="1077264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CB7F1-0735-47B6-9F7D-460163D6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E2965-8B75-4CF4-B0B3-66552C28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8660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1E84F-9B9F-4F75-A0ED-24A1204E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1FC90-9DA8-4C38-BA39-9EED6681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76080" y="397908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0632F-A56A-4449-9C51-703E99D9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18660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8CD40-59BE-4F64-833C-05A6BF6BB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312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948080" y="201132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76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312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7948080" y="3979080"/>
            <a:ext cx="34624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C8269-7D30-4416-9DFA-B38C7EF6A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8B4D-5697-48E4-9F64-89FAE67B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7360" y="500040"/>
            <a:ext cx="1077264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492B-1D68-4D1E-BDB7-567EE104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E1EF-7144-4CDF-83A3-4F4A8A0D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186600" y="397908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5A7B-125F-44F9-8BC2-09259E19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608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186600" y="2011320"/>
            <a:ext cx="5247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6080" y="3979080"/>
            <a:ext cx="1075356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FA6C-20E5-41F6-94F0-D240BB41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03b5e"/>
                </a:solidFill>
                <a:latin typeface="Calibri Light"/>
              </a:rPr>
              <a:t>Click to edit the title text format</a:t>
            </a: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1" marL="345960" indent="-3427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11600"/>
            <a:ext cx="4114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800" y="6554520"/>
            <a:ext cx="502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64200" y="5877000"/>
            <a:ext cx="292572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300" spc="-1" strike="noStrike">
                <a:solidFill>
                  <a:srgbClr val="f03b5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8838E2-04A8-4822-A820-C0A4282686D7}" type="slidenum">
              <a:rPr b="0" lang="en-US" sz="10300" spc="-1" strike="noStrike">
                <a:solidFill>
                  <a:srgbClr val="f03b5e"/>
                </a:solidFill>
                <a:latin typeface="Times New Roman"/>
              </a:rPr>
              <a:t>&lt;number&gt;</a:t>
            </a:fld>
            <a:endParaRPr b="0" lang="en-US" sz="10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3b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03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03b5e"/>
                </a:solidFill>
                <a:latin typeface="Calibri Light"/>
              </a:rPr>
              <a:t>Click to edit the title text format</a:t>
            </a: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1" marL="345960" indent="-3427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411600"/>
            <a:ext cx="4114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685800" y="6554520"/>
            <a:ext cx="502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764200" y="5877000"/>
            <a:ext cx="292572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CADADC-8C74-4535-8DD4-F1E973C441CB}" type="slidenum">
              <a:rPr b="0" lang="en-US" sz="10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7620120" y="0"/>
            <a:ext cx="4572000" cy="6858000"/>
          </a:xfrm>
          <a:prstGeom prst="rect">
            <a:avLst/>
          </a:prstGeom>
          <a:solidFill>
            <a:srgbClr val="f03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03b5e"/>
                </a:solidFill>
                <a:latin typeface="Calibri Light"/>
              </a:rPr>
              <a:t>Click to edit the title text format</a:t>
            </a: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1" marL="345960" indent="-3427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85800" y="6411600"/>
            <a:ext cx="4114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85800" y="6554520"/>
            <a:ext cx="502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764200" y="5877000"/>
            <a:ext cx="292572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5828F3-7319-473C-BC9B-19DC6B7C517D}" type="slidenum">
              <a:rPr b="0" lang="en-US" sz="10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3b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7360" y="50004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03b5e"/>
                </a:solidFill>
                <a:latin typeface="Calibri Light"/>
              </a:rPr>
              <a:t>Click to edit the title text format</a:t>
            </a: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6080" y="2011320"/>
            <a:ext cx="1075356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1" marL="345960" indent="-3427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685800" y="6411600"/>
            <a:ext cx="4114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685800" y="6554520"/>
            <a:ext cx="502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8764200" y="5877000"/>
            <a:ext cx="292572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5A26CB-6FE0-4AAB-AF39-6E4FF5044096}" type="slidenum">
              <a:rPr b="0" lang="en-US" sz="10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3b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093760" y="742680"/>
            <a:ext cx="8366400" cy="21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 Light"/>
              </a:rPr>
              <a:t>Средства контроля доступа к информации</a:t>
            </a:r>
            <a:endParaRPr b="0" lang="en-US" sz="6000" spc="-1" strike="noStrike">
              <a:solidFill>
                <a:srgbClr val="f03b5e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66720" y="4206600"/>
            <a:ext cx="9229680" cy="16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 Light"/>
              </a:rPr>
              <a:t>Подготовила студентка 403 группы,</a:t>
            </a:r>
            <a:endParaRPr b="0" lang="en-US" sz="3200" spc="-1" strike="noStrike">
              <a:solidFill>
                <a:srgbClr val="262626"/>
              </a:solidFill>
              <a:latin typeface="Calibri Light"/>
            </a:endParaRPr>
          </a:p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 Light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 Light"/>
              </a:rPr>
              <a:t>Архипова Дарина</a:t>
            </a:r>
            <a:endParaRPr b="0" lang="en-US" sz="3200" spc="-1" strike="noStrike">
              <a:solidFill>
                <a:srgbClr val="262626"/>
              </a:solidFill>
              <a:latin typeface="Calibri Light"/>
            </a:endParaRPr>
          </a:p>
        </p:txBody>
      </p:sp>
      <p:pic>
        <p:nvPicPr>
          <p:cNvPr id="168" name="Рисунок 3" descr=""/>
          <p:cNvPicPr/>
          <p:nvPr/>
        </p:nvPicPr>
        <p:blipFill>
          <a:blip r:embed="rId1"/>
          <a:stretch/>
        </p:blipFill>
        <p:spPr>
          <a:xfrm>
            <a:off x="7066080" y="3036960"/>
            <a:ext cx="4921200" cy="3281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441000"/>
            <a:ext cx="5472000" cy="17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03b5e"/>
                </a:solidFill>
                <a:latin typeface="Calibri Light"/>
              </a:rPr>
              <a:t>Идентификация</a:t>
            </a:r>
            <a:br>
              <a:rPr sz="4900"/>
            </a:br>
            <a:r>
              <a:rPr b="1" lang="ru-RU" sz="4900" spc="-1" strike="noStrike">
                <a:solidFill>
                  <a:srgbClr val="f03b5e"/>
                </a:solidFill>
                <a:latin typeface="Calibri Light"/>
              </a:rPr>
              <a:t>Аутентификация</a:t>
            </a:r>
            <a:br>
              <a:rPr sz="4900"/>
            </a:br>
            <a:endParaRPr b="0" lang="en-US" sz="4900" spc="-1" strike="noStrike">
              <a:solidFill>
                <a:srgbClr val="f03b5e"/>
              </a:solidFill>
              <a:latin typeface="Calibri Light"/>
            </a:endParaRPr>
          </a:p>
        </p:txBody>
      </p:sp>
      <p:pic>
        <p:nvPicPr>
          <p:cNvPr id="170" name="Объект 3" descr=""/>
          <p:cNvPicPr/>
          <p:nvPr/>
        </p:nvPicPr>
        <p:blipFill>
          <a:blip r:embed="rId1"/>
          <a:stretch/>
        </p:blipFill>
        <p:spPr>
          <a:xfrm>
            <a:off x="522360" y="1771560"/>
            <a:ext cx="4311720" cy="248148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4" descr=""/>
          <p:cNvPicPr/>
          <p:nvPr/>
        </p:nvPicPr>
        <p:blipFill>
          <a:blip r:embed="rId2"/>
          <a:stretch/>
        </p:blipFill>
        <p:spPr>
          <a:xfrm>
            <a:off x="4137120" y="3619440"/>
            <a:ext cx="3809880" cy="293364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15" descr=""/>
          <p:cNvPicPr/>
          <p:nvPr/>
        </p:nvPicPr>
        <p:blipFill>
          <a:blip r:embed="rId3"/>
          <a:stretch/>
        </p:blipFill>
        <p:spPr>
          <a:xfrm>
            <a:off x="5614920" y="100080"/>
            <a:ext cx="4389480" cy="3309840"/>
          </a:xfrm>
          <a:prstGeom prst="rect">
            <a:avLst/>
          </a:prstGeom>
          <a:ln w="0">
            <a:noFill/>
          </a:ln>
        </p:spPr>
      </p:pic>
      <p:pic>
        <p:nvPicPr>
          <p:cNvPr id="173" name="Схема 13" descr=""/>
          <p:cNvPicPr/>
          <p:nvPr/>
        </p:nvPicPr>
        <p:blipFill>
          <a:blip r:embed="rId4"/>
          <a:stretch/>
        </p:blipFill>
        <p:spPr>
          <a:xfrm>
            <a:off x="5138640" y="2260440"/>
            <a:ext cx="7454880" cy="4597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139680"/>
            <a:ext cx="120254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03b5e"/>
                </a:solidFill>
                <a:latin typeface="Calibri Light"/>
              </a:rPr>
              <a:t>Средства идентификации и аутентификации в далекие времена</a:t>
            </a: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pic>
        <p:nvPicPr>
          <p:cNvPr id="175" name="Объект 3" descr=""/>
          <p:cNvPicPr/>
          <p:nvPr/>
        </p:nvPicPr>
        <p:blipFill>
          <a:blip r:embed="rId1"/>
          <a:stretch/>
        </p:blipFill>
        <p:spPr>
          <a:xfrm>
            <a:off x="1197000" y="1936800"/>
            <a:ext cx="5075280" cy="449892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4" descr=""/>
          <p:cNvPicPr/>
          <p:nvPr/>
        </p:nvPicPr>
        <p:blipFill>
          <a:blip r:embed="rId2"/>
          <a:stretch/>
        </p:blipFill>
        <p:spPr>
          <a:xfrm>
            <a:off x="7031160" y="2054160"/>
            <a:ext cx="3206520" cy="3206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10758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0" lang="ru-RU" sz="4900" spc="-1" strike="noStrike">
                <a:solidFill>
                  <a:srgbClr val="f03b5e"/>
                </a:solidFill>
                <a:latin typeface="Calibri Light"/>
              </a:rPr>
              <a:t>Элементы аутентификации</a:t>
            </a:r>
            <a:br>
              <a:rPr sz="4900"/>
            </a:br>
            <a:endParaRPr b="0" lang="en-US" sz="4900" spc="-1" strike="noStrike">
              <a:solidFill>
                <a:srgbClr val="f03b5e"/>
              </a:solidFill>
              <a:latin typeface="Calibri Light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0" y="609480"/>
          <a:ext cx="11987280" cy="6248160"/>
        </p:xfrm>
        <a:graphic>
          <a:graphicData uri="http://schemas.openxmlformats.org/drawingml/2006/table">
            <a:tbl>
              <a:tblPr/>
              <a:tblGrid>
                <a:gridCol w="2997360"/>
                <a:gridCol w="2997000"/>
                <a:gridCol w="2995560"/>
                <a:gridCol w="2997360"/>
              </a:tblGrid>
              <a:tr h="680040">
                <a:tc>
                  <a:txBody>
                    <a:bodyPr lIns="69840" rIns="69840" tIns="34920" bIns="34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Элемент аутентифик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 Light"/>
                      </a:endParaRPr>
                    </a:p>
                  </a:txBody>
                  <a:tcPr anchor="ctr" marL="69840" marR="69840">
                    <a:lnL w="3600">
                      <a:solidFill>
                        <a:srgbClr val="aaaaaa"/>
                      </a:solidFill>
                    </a:lnL>
                    <a:lnR w="3600">
                      <a:solidFill>
                        <a:srgbClr val="aaaaaa"/>
                      </a:solidFill>
                    </a:lnR>
                    <a:lnT w="3600">
                      <a:solidFill>
                        <a:srgbClr val="aaaaaa"/>
                      </a:solidFill>
                    </a:lnT>
                    <a:lnB w="3600">
                      <a:solidFill>
                        <a:srgbClr val="aaaaaa"/>
                      </a:solidFill>
                    </a:lnB>
                    <a:solidFill>
                      <a:srgbClr val="eeeeff"/>
                    </a:solidFill>
                  </a:tcPr>
                </a:tc>
                <a:tc>
                  <a:txBody>
                    <a:bodyPr lIns="69840" rIns="69840" tIns="34920" bIns="34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Пещера 40 разбойни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 Light"/>
                      </a:endParaRPr>
                    </a:p>
                  </a:txBody>
                  <a:tcPr anchor="ctr" marL="69840" marR="69840">
                    <a:lnL w="3600">
                      <a:solidFill>
                        <a:srgbClr val="aaaaaa"/>
                      </a:solidFill>
                    </a:lnL>
                    <a:lnR w="3600">
                      <a:solidFill>
                        <a:srgbClr val="aaaaaa"/>
                      </a:solidFill>
                    </a:lnR>
                    <a:lnT w="3600">
                      <a:solidFill>
                        <a:srgbClr val="aaaaaa"/>
                      </a:solidFill>
                    </a:lnT>
                    <a:lnB w="3600">
                      <a:solidFill>
                        <a:srgbClr val="aaaaaa"/>
                      </a:solidFill>
                    </a:lnB>
                    <a:solidFill>
                      <a:srgbClr val="eeeeff"/>
                    </a:solidFill>
                  </a:tcPr>
                </a:tc>
                <a:tc>
                  <a:txBody>
                    <a:bodyPr lIns="69840" rIns="69840" tIns="34920" bIns="34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Регистрация в систем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 Light"/>
                      </a:endParaRPr>
                    </a:p>
                  </a:txBody>
                  <a:tcPr anchor="ctr" marL="69840" marR="69840">
                    <a:lnL w="3600">
                      <a:solidFill>
                        <a:srgbClr val="aaaaaa"/>
                      </a:solidFill>
                    </a:lnL>
                    <a:lnR w="3600">
                      <a:solidFill>
                        <a:srgbClr val="aaaaaa"/>
                      </a:solidFill>
                    </a:lnR>
                    <a:lnT w="3600">
                      <a:solidFill>
                        <a:srgbClr val="aaaaaa"/>
                      </a:solidFill>
                    </a:lnT>
                    <a:lnB w="3600">
                      <a:solidFill>
                        <a:srgbClr val="aaaaaa"/>
                      </a:solidFill>
                    </a:lnB>
                    <a:solidFill>
                      <a:srgbClr val="eeeeff"/>
                    </a:solidFill>
                  </a:tcPr>
                </a:tc>
                <a:tc>
                  <a:txBody>
                    <a:bodyPr lIns="69840" rIns="69840" tIns="34920" bIns="34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Банком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 Light"/>
                      </a:endParaRPr>
                    </a:p>
                  </a:txBody>
                  <a:tcPr anchor="ctr" marL="69840" marR="69840">
                    <a:lnL w="3600">
                      <a:solidFill>
                        <a:srgbClr val="aaaaaa"/>
                      </a:solidFill>
                    </a:lnL>
                    <a:lnR w="3600">
                      <a:solidFill>
                        <a:srgbClr val="aaaaaa"/>
                      </a:solidFill>
                    </a:lnR>
                    <a:lnT w="3600">
                      <a:solidFill>
                        <a:srgbClr val="aaaaaa"/>
                      </a:solidFill>
                    </a:lnT>
                    <a:lnB w="3600">
                      <a:solidFill>
                        <a:srgbClr val="aaaaaa"/>
                      </a:solidFill>
                    </a:lnB>
                    <a:solidFill>
                      <a:srgbClr val="eeeeff"/>
                    </a:solidFill>
                  </a:tcPr>
                </a:tc>
              </a:tr>
              <a:tr h="680040">
                <a:tc>
                  <a:txBody>
                    <a:bodyPr lIns="69840" rIns="69840" tIns="34920" bIns="34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Субъе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 Light"/>
                      </a:endParaRPr>
                    </a:p>
                  </a:txBody>
                  <a:tcPr anchor="ctr" marL="69840" marR="69840">
                    <a:lnL w="3600">
                      <a:solidFill>
                        <a:srgbClr val="aaaaaa"/>
                      </a:solidFill>
                    </a:lnL>
                    <a:lnR w="3600">
                      <a:solidFill>
                        <a:srgbClr val="aaaaaa"/>
                      </a:solidFill>
                    </a:lnR>
                    <a:lnT w="3600">
                      <a:solidFill>
                        <a:srgbClr val="aaaaaa"/>
                      </a:solidFill>
                    </a:lnT>
                    <a:lnB w="3600">
                      <a:solidFill>
                        <a:srgbClr val="aaaaaa"/>
                      </a:solidFill>
                    </a:lnB>
                    <a:solidFill>
                      <a:srgbClr val="eeeeff"/>
                    </a:solidFill>
                  </a:tcPr>
                </a:tc>
                <a:tc>
                  <a:txBody>
                    <a:bodyPr lIns="69840" rIns="69840" tIns="34920" bIns="34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Человек, знающий пар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 Light"/>
                      </a:endParaRPr>
                    </a:p>
                  </a:txBody>
                  <a:tcPr anchor="ctr" marL="69840" marR="69840">
                    <a:lnL w="3600">
                      <a:solidFill>
                        <a:srgbClr val="aaaaaa"/>
                      </a:solidFill>
                    </a:lnL>
                    <a:lnR w="3600">
                      <a:solidFill>
                        <a:srgbClr val="aaaaaa"/>
                      </a:solidFill>
                    </a:lnR>
                    <a:lnT w="3600">
                      <a:solidFill>
                        <a:srgbClr val="aaaaaa"/>
                      </a:solidFill>
                    </a:lnT>
                    <a:lnB w="360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9840" rIns="69840" tIns="34920" bIns="34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Авторизованный пользов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 Light"/>
                      </a:endParaRPr>
                    </a:p>
                  </a:txBody>
                  <a:tcPr anchor="ctr" marL="69840" marR="69840">
                    <a:lnL w="3600">
                      <a:solidFill>
                        <a:srgbClr val="aaaaaa"/>
                      </a:solidFill>
                    </a:lnL>
                    <a:lnR w="3600">
                      <a:solidFill>
                        <a:srgbClr val="aaaaaa"/>
                      </a:solidFill>
                    </a:lnR>
                    <a:lnT w="3600">
                      <a:solidFill>
                        <a:srgbClr val="aaaaaa"/>
                      </a:solidFill>
                    </a:lnT>
                    <a:lnB w="360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9840" rIns="69840" tIns="34920" bIns="34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Владелец банковской кар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 Light"/>
                      </a:endParaRPr>
                    </a:p>
                  </a:txBody>
                  <a:tcPr anchor="ctr" marL="69840" marR="69840">
                    <a:lnL w="3600">
                      <a:solidFill>
                        <a:srgbClr val="aaaaaa"/>
                      </a:solidFill>
                    </a:lnL>
                    <a:lnR w="3600">
                      <a:solidFill>
                        <a:srgbClr val="aaaaaa"/>
                      </a:solidFill>
                    </a:lnR>
                    <a:lnT w="3600">
                      <a:solidFill>
                        <a:srgbClr val="aaaaaa"/>
                      </a:solidFill>
                    </a:lnT>
                    <a:lnB w="360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84960">
                <a:tc>
                  <a:txBody>
                    <a:bodyPr lIns="69840" rIns="69840" tIns="34920" bIns="34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Характери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 Light"/>
                      </a:endParaRPr>
                    </a:p>
                  </a:txBody>
                  <a:tcPr anchor="ctr" marL="69840" marR="69840">
                    <a:lnL w="3600">
                      <a:solidFill>
                        <a:srgbClr val="aaaaaa"/>
                      </a:solidFill>
                    </a:lnL>
                    <a:lnR w="3600">
                      <a:solidFill>
                        <a:srgbClr val="aaaaaa"/>
                      </a:solidFill>
                    </a:lnR>
                    <a:lnT w="3600">
                      <a:solidFill>
                        <a:srgbClr val="aaaaaa"/>
                      </a:solidFill>
                    </a:lnT>
                    <a:lnB w="3600">
                      <a:solidFill>
                        <a:srgbClr val="aaaaaa"/>
                      </a:solidFill>
                    </a:lnB>
                    <a:solidFill>
                      <a:srgbClr val="eeeeff"/>
                    </a:solidFill>
                  </a:tcPr>
                </a:tc>
                <a:tc>
                  <a:txBody>
                    <a:bodyPr lIns="69840" rIns="69840" tIns="34920" bIns="34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Пароль "Сезам, откройся!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 Light"/>
                      </a:endParaRPr>
                    </a:p>
                  </a:txBody>
                  <a:tcPr anchor="ctr" marL="69840" marR="69840">
                    <a:lnL w="3600">
                      <a:solidFill>
                        <a:srgbClr val="aaaaaa"/>
                      </a:solidFill>
                    </a:lnL>
                    <a:lnR w="3600">
                      <a:solidFill>
                        <a:srgbClr val="aaaaaa"/>
                      </a:solidFill>
                    </a:lnR>
                    <a:lnT w="3600">
                      <a:solidFill>
                        <a:srgbClr val="aaaaaa"/>
                      </a:solidFill>
                    </a:lnT>
                    <a:lnB w="360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9840" rIns="69840" tIns="34920" bIns="34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Тайный пар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 Light"/>
                      </a:endParaRPr>
                    </a:p>
                  </a:txBody>
                  <a:tcPr anchor="ctr" marL="69840" marR="69840">
                    <a:lnL w="3600">
                      <a:solidFill>
                        <a:srgbClr val="aaaaaa"/>
                      </a:solidFill>
                    </a:lnL>
                    <a:lnR w="3600">
                      <a:solidFill>
                        <a:srgbClr val="aaaaaa"/>
                      </a:solidFill>
                    </a:lnR>
                    <a:lnT w="3600">
                      <a:solidFill>
                        <a:srgbClr val="aaaaaa"/>
                      </a:solidFill>
                    </a:lnT>
                    <a:lnB w="360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9840" rIns="69840" tIns="34920" bIns="34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Банковская карта и персональный идентификат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 Light"/>
                      </a:endParaRPr>
                    </a:p>
                  </a:txBody>
                  <a:tcPr anchor="ctr" marL="69840" marR="69840">
                    <a:lnL w="3600">
                      <a:solidFill>
                        <a:srgbClr val="aaaaaa"/>
                      </a:solidFill>
                    </a:lnL>
                    <a:lnR w="3600">
                      <a:solidFill>
                        <a:srgbClr val="aaaaaa"/>
                      </a:solidFill>
                    </a:lnR>
                    <a:lnT w="3600">
                      <a:solidFill>
                        <a:srgbClr val="aaaaaa"/>
                      </a:solidFill>
                    </a:lnT>
                    <a:lnB w="360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9880">
                <a:tc>
                  <a:txBody>
                    <a:bodyPr lIns="69840" rIns="69840" tIns="34920" bIns="34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Хозяин систе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 Light"/>
                      </a:endParaRPr>
                    </a:p>
                  </a:txBody>
                  <a:tcPr anchor="ctr" marL="69840" marR="69840">
                    <a:lnL w="3600">
                      <a:solidFill>
                        <a:srgbClr val="aaaaaa"/>
                      </a:solidFill>
                    </a:lnL>
                    <a:lnR w="3600">
                      <a:solidFill>
                        <a:srgbClr val="aaaaaa"/>
                      </a:solidFill>
                    </a:lnR>
                    <a:lnT w="3600">
                      <a:solidFill>
                        <a:srgbClr val="aaaaaa"/>
                      </a:solidFill>
                    </a:lnT>
                    <a:lnB w="3600">
                      <a:solidFill>
                        <a:srgbClr val="aaaaaa"/>
                      </a:solidFill>
                    </a:lnB>
                    <a:solidFill>
                      <a:srgbClr val="eeeeff"/>
                    </a:solidFill>
                  </a:tcPr>
                </a:tc>
                <a:tc>
                  <a:txBody>
                    <a:bodyPr lIns="69840" rIns="69840" tIns="34920" bIns="34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0 разбойни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 Light"/>
                      </a:endParaRPr>
                    </a:p>
                  </a:txBody>
                  <a:tcPr anchor="ctr" marL="69840" marR="69840">
                    <a:lnL w="3600">
                      <a:solidFill>
                        <a:srgbClr val="aaaaaa"/>
                      </a:solidFill>
                    </a:lnL>
                    <a:lnR w="3600">
                      <a:solidFill>
                        <a:srgbClr val="aaaaaa"/>
                      </a:solidFill>
                    </a:lnR>
                    <a:lnT w="3600">
                      <a:solidFill>
                        <a:srgbClr val="aaaaaa"/>
                      </a:solidFill>
                    </a:lnT>
                    <a:lnB w="360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9840" rIns="69840" tIns="34920" bIns="34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Предприятие, которому принадлежит систе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 Light"/>
                      </a:endParaRPr>
                    </a:p>
                  </a:txBody>
                  <a:tcPr anchor="ctr" marL="69840" marR="69840">
                    <a:lnL w="3600">
                      <a:solidFill>
                        <a:srgbClr val="aaaaaa"/>
                      </a:solidFill>
                    </a:lnL>
                    <a:lnR w="3600">
                      <a:solidFill>
                        <a:srgbClr val="aaaaaa"/>
                      </a:solidFill>
                    </a:lnR>
                    <a:lnT w="3600">
                      <a:solidFill>
                        <a:srgbClr val="aaaaaa"/>
                      </a:solidFill>
                    </a:lnT>
                    <a:lnB w="360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9840" rIns="69840" tIns="34920" bIns="34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 Light"/>
                      </a:endParaRPr>
                    </a:p>
                  </a:txBody>
                  <a:tcPr anchor="ctr" marL="69840" marR="69840">
                    <a:lnL w="3600">
                      <a:solidFill>
                        <a:srgbClr val="aaaaaa"/>
                      </a:solidFill>
                    </a:lnL>
                    <a:lnR w="3600">
                      <a:solidFill>
                        <a:srgbClr val="aaaaaa"/>
                      </a:solidFill>
                    </a:lnR>
                    <a:lnT w="3600">
                      <a:solidFill>
                        <a:srgbClr val="aaaaaa"/>
                      </a:solidFill>
                    </a:lnT>
                    <a:lnB w="360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94800">
                <a:tc>
                  <a:txBody>
                    <a:bodyPr lIns="69840" rIns="69840" tIns="34920" bIns="34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Механизм аутентифик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 Light"/>
                      </a:endParaRPr>
                    </a:p>
                  </a:txBody>
                  <a:tcPr anchor="ctr" marL="69840" marR="69840">
                    <a:lnL w="3600">
                      <a:solidFill>
                        <a:srgbClr val="aaaaaa"/>
                      </a:solidFill>
                    </a:lnL>
                    <a:lnR w="3600">
                      <a:solidFill>
                        <a:srgbClr val="aaaaaa"/>
                      </a:solidFill>
                    </a:lnR>
                    <a:lnT w="3600">
                      <a:solidFill>
                        <a:srgbClr val="aaaaaa"/>
                      </a:solidFill>
                    </a:lnT>
                    <a:lnB w="3600">
                      <a:solidFill>
                        <a:srgbClr val="aaaaaa"/>
                      </a:solidFill>
                    </a:lnB>
                    <a:solidFill>
                      <a:srgbClr val="eeeeff"/>
                    </a:solidFill>
                  </a:tcPr>
                </a:tc>
                <a:tc>
                  <a:txBody>
                    <a:bodyPr lIns="69840" rIns="69840" tIns="34920" bIns="34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Волшебное устройство, реагирующее на сл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 Light"/>
                      </a:endParaRPr>
                    </a:p>
                  </a:txBody>
                  <a:tcPr anchor="ctr" marL="69840" marR="69840">
                    <a:lnL w="3600">
                      <a:solidFill>
                        <a:srgbClr val="aaaaaa"/>
                      </a:solidFill>
                    </a:lnL>
                    <a:lnR w="3600">
                      <a:solidFill>
                        <a:srgbClr val="aaaaaa"/>
                      </a:solidFill>
                    </a:lnR>
                    <a:lnT w="3600">
                      <a:solidFill>
                        <a:srgbClr val="aaaaaa"/>
                      </a:solidFill>
                    </a:lnT>
                    <a:lnB w="360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9840" rIns="69840" tIns="34920" bIns="34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Программное обеспечение, проверяющее пар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 Light"/>
                      </a:endParaRPr>
                    </a:p>
                  </a:txBody>
                  <a:tcPr anchor="ctr" marL="69840" marR="69840">
                    <a:lnL w="3600">
                      <a:solidFill>
                        <a:srgbClr val="aaaaaa"/>
                      </a:solidFill>
                    </a:lnL>
                    <a:lnR w="3600">
                      <a:solidFill>
                        <a:srgbClr val="aaaaaa"/>
                      </a:solidFill>
                    </a:lnR>
                    <a:lnT w="3600">
                      <a:solidFill>
                        <a:srgbClr val="aaaaaa"/>
                      </a:solidFill>
                    </a:lnT>
                    <a:lnB w="360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9840" rIns="69840" tIns="34920" bIns="34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Программное обеспечение, проверяющее карту и персональный идентификат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 Light"/>
                      </a:endParaRPr>
                    </a:p>
                  </a:txBody>
                  <a:tcPr anchor="ctr" marL="69840" marR="69840">
                    <a:lnL w="3600">
                      <a:solidFill>
                        <a:srgbClr val="aaaaaa"/>
                      </a:solidFill>
                    </a:lnL>
                    <a:lnR w="3600">
                      <a:solidFill>
                        <a:srgbClr val="aaaaaa"/>
                      </a:solidFill>
                    </a:lnR>
                    <a:lnT w="3600">
                      <a:solidFill>
                        <a:srgbClr val="aaaaaa"/>
                      </a:solidFill>
                    </a:lnT>
                    <a:lnB w="360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9880">
                <a:tc>
                  <a:txBody>
                    <a:bodyPr lIns="69840" rIns="69840" tIns="34920" bIns="34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Механизм управления доступ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 Light"/>
                      </a:endParaRPr>
                    </a:p>
                  </a:txBody>
                  <a:tcPr anchor="ctr" marL="69840" marR="69840">
                    <a:lnL w="3600">
                      <a:solidFill>
                        <a:srgbClr val="aaaaaa"/>
                      </a:solidFill>
                    </a:lnL>
                    <a:lnR w="3600">
                      <a:solidFill>
                        <a:srgbClr val="aaaaaa"/>
                      </a:solidFill>
                    </a:lnR>
                    <a:lnT w="3600">
                      <a:solidFill>
                        <a:srgbClr val="aaaaaa"/>
                      </a:solidFill>
                    </a:lnT>
                    <a:lnB w="3600">
                      <a:solidFill>
                        <a:srgbClr val="aaaaaa"/>
                      </a:solidFill>
                    </a:lnB>
                    <a:solidFill>
                      <a:srgbClr val="eeeeff"/>
                    </a:solidFill>
                  </a:tcPr>
                </a:tc>
                <a:tc>
                  <a:txBody>
                    <a:bodyPr lIns="69840" rIns="69840" tIns="34920" bIns="34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Механизм, отодвигающий камень от входа в пещер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 Light"/>
                      </a:endParaRPr>
                    </a:p>
                  </a:txBody>
                  <a:tcPr anchor="ctr" marL="69840" marR="69840">
                    <a:lnL w="3600">
                      <a:solidFill>
                        <a:srgbClr val="aaaaaa"/>
                      </a:solidFill>
                    </a:lnL>
                    <a:lnR w="3600">
                      <a:solidFill>
                        <a:srgbClr val="aaaaaa"/>
                      </a:solidFill>
                    </a:lnR>
                    <a:lnT w="3600">
                      <a:solidFill>
                        <a:srgbClr val="aaaaaa"/>
                      </a:solidFill>
                    </a:lnT>
                    <a:lnB w="360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9840" rIns="69840" tIns="34920" bIns="34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Процесс регистрации, управления доступ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 Light"/>
                      </a:endParaRPr>
                    </a:p>
                  </a:txBody>
                  <a:tcPr anchor="ctr" marL="69840" marR="69840">
                    <a:lnL w="3600">
                      <a:solidFill>
                        <a:srgbClr val="aaaaaa"/>
                      </a:solidFill>
                    </a:lnL>
                    <a:lnR w="3600">
                      <a:solidFill>
                        <a:srgbClr val="aaaaaa"/>
                      </a:solidFill>
                    </a:lnR>
                    <a:lnT w="3600">
                      <a:solidFill>
                        <a:srgbClr val="aaaaaa"/>
                      </a:solidFill>
                    </a:lnT>
                    <a:lnB w="360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9840" rIns="69840" tIns="34920" bIns="34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Разрешение на выполнение банковских действ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 Light"/>
                      </a:endParaRPr>
                    </a:p>
                  </a:txBody>
                  <a:tcPr anchor="ctr" marL="69840" marR="69840">
                    <a:lnL w="3600">
                      <a:solidFill>
                        <a:srgbClr val="aaaaaa"/>
                      </a:solidFill>
                    </a:lnL>
                    <a:lnR w="3600">
                      <a:solidFill>
                        <a:srgbClr val="aaaaaa"/>
                      </a:solidFill>
                    </a:lnR>
                    <a:lnT w="3600">
                      <a:solidFill>
                        <a:srgbClr val="aaaaaa"/>
                      </a:solidFill>
                    </a:lnT>
                    <a:lnB w="360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split dir="out" orient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76440" y="195120"/>
            <a:ext cx="10772640" cy="110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03b5e"/>
                </a:solidFill>
                <a:latin typeface="Calibri Light"/>
              </a:rPr>
              <a:t>Одноразовые и многоразовые пароли</a:t>
            </a: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pic>
        <p:nvPicPr>
          <p:cNvPr id="180" name="Объект 3" descr=""/>
          <p:cNvPicPr/>
          <p:nvPr/>
        </p:nvPicPr>
        <p:blipFill>
          <a:blip r:embed="rId1"/>
          <a:stretch/>
        </p:blipFill>
        <p:spPr>
          <a:xfrm>
            <a:off x="1038240" y="1511280"/>
            <a:ext cx="3749760" cy="268596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4" descr=""/>
          <p:cNvPicPr/>
          <p:nvPr/>
        </p:nvPicPr>
        <p:blipFill>
          <a:blip r:embed="rId2"/>
          <a:srcRect l="1825" t="15893" r="3177" b="30373"/>
          <a:stretch/>
        </p:blipFill>
        <p:spPr>
          <a:xfrm>
            <a:off x="934920" y="4405320"/>
            <a:ext cx="11141280" cy="245268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5" descr=""/>
          <p:cNvPicPr/>
          <p:nvPr/>
        </p:nvPicPr>
        <p:blipFill>
          <a:blip r:embed="rId3"/>
          <a:srcRect l="0" t="0" r="33807" b="55444"/>
          <a:stretch/>
        </p:blipFill>
        <p:spPr>
          <a:xfrm>
            <a:off x="5408640" y="1646280"/>
            <a:ext cx="6202440" cy="2550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3680" y="-360"/>
            <a:ext cx="107726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03b5e"/>
                </a:solidFill>
                <a:latin typeface="Calibri Light"/>
              </a:rPr>
              <a:t>Способы аутентификации</a:t>
            </a:r>
            <a:endParaRPr b="0" lang="en-US" sz="4900" spc="-1" strike="noStrike">
              <a:solidFill>
                <a:srgbClr val="f03b5e"/>
              </a:solidFill>
              <a:latin typeface="Calibri Light"/>
            </a:endParaRPr>
          </a:p>
        </p:txBody>
      </p:sp>
      <p:pic>
        <p:nvPicPr>
          <p:cNvPr id="184" name="Объект 5" descr=""/>
          <p:cNvPicPr/>
          <p:nvPr/>
        </p:nvPicPr>
        <p:blipFill>
          <a:blip r:embed="rId1"/>
          <a:stretch/>
        </p:blipFill>
        <p:spPr>
          <a:xfrm>
            <a:off x="176040" y="460440"/>
            <a:ext cx="11863440" cy="2173320"/>
          </a:xfrm>
          <a:prstGeom prst="rect">
            <a:avLst/>
          </a:prstGeom>
          <a:ln w="0">
            <a:noFill/>
          </a:ln>
        </p:spPr>
      </p:pic>
      <p:pic>
        <p:nvPicPr>
          <p:cNvPr id="185" name="Схема 6" descr=""/>
          <p:cNvPicPr/>
          <p:nvPr/>
        </p:nvPicPr>
        <p:blipFill>
          <a:blip r:embed="rId2"/>
          <a:stretch/>
        </p:blipFill>
        <p:spPr>
          <a:xfrm>
            <a:off x="285840" y="2298600"/>
            <a:ext cx="11918880" cy="1676520"/>
          </a:xfrm>
          <a:prstGeom prst="rect">
            <a:avLst/>
          </a:prstGeom>
          <a:ln w="0">
            <a:noFill/>
          </a:ln>
        </p:spPr>
      </p:pic>
      <p:pic>
        <p:nvPicPr>
          <p:cNvPr id="186" name="Схема 7" descr=""/>
          <p:cNvPicPr/>
          <p:nvPr/>
        </p:nvPicPr>
        <p:blipFill>
          <a:blip r:embed="rId3"/>
          <a:stretch/>
        </p:blipFill>
        <p:spPr>
          <a:xfrm>
            <a:off x="176040" y="3449520"/>
            <a:ext cx="1219860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Рисунок 2" descr=""/>
          <p:cNvPicPr/>
          <p:nvPr/>
        </p:nvPicPr>
        <p:blipFill>
          <a:blip r:embed="rId1"/>
          <a:stretch/>
        </p:blipFill>
        <p:spPr>
          <a:xfrm>
            <a:off x="6756480" y="1978200"/>
            <a:ext cx="3085920" cy="280008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690480" y="1727280"/>
            <a:ext cx="10772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f03b5e"/>
              </a:solidFill>
              <a:latin typeface="Calibri Light"/>
            </a:endParaRPr>
          </a:p>
        </p:txBody>
      </p:sp>
      <p:pic>
        <p:nvPicPr>
          <p:cNvPr id="189" name="Рисунок 7" descr=""/>
          <p:cNvPicPr/>
          <p:nvPr/>
        </p:nvPicPr>
        <p:blipFill>
          <a:blip r:embed="rId2"/>
          <a:stretch/>
        </p:blipFill>
        <p:spPr>
          <a:xfrm>
            <a:off x="800280" y="0"/>
            <a:ext cx="4214520" cy="395604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8" descr=""/>
          <p:cNvPicPr/>
          <p:nvPr/>
        </p:nvPicPr>
        <p:blipFill>
          <a:blip r:embed="rId3"/>
          <a:stretch/>
        </p:blipFill>
        <p:spPr>
          <a:xfrm>
            <a:off x="750960" y="4309920"/>
            <a:ext cx="4263840" cy="2378160"/>
          </a:xfrm>
          <a:prstGeom prst="rect">
            <a:avLst/>
          </a:prstGeom>
          <a:ln w="0">
            <a:noFill/>
          </a:ln>
        </p:spPr>
      </p:pic>
      <p:pic>
        <p:nvPicPr>
          <p:cNvPr id="191" name="Схема 13" descr=""/>
          <p:cNvPicPr/>
          <p:nvPr/>
        </p:nvPicPr>
        <p:blipFill>
          <a:blip r:embed="rId4"/>
          <a:stretch/>
        </p:blipFill>
        <p:spPr>
          <a:xfrm>
            <a:off x="3425760" y="334800"/>
            <a:ext cx="10045800" cy="5712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8T15:28:27Z</dcterms:created>
  <dc:creator>Дарина Архипова</dc:creator>
  <dc:description/>
  <dc:language>en-US</dc:language>
  <cp:lastModifiedBy>vtc</cp:lastModifiedBy>
  <dcterms:modified xsi:type="dcterms:W3CDTF">2015-04-29T10:23:41Z</dcterms:modified>
  <cp:revision>15</cp:revision>
  <dc:subject/>
  <dc:title>Средства контроля доступа к информации</dc:title>
</cp:coreProperties>
</file>