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BD3-68AF-4E35-877F-B4523505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A04-C6C1-4CEF-AB2C-28A6934D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47A-AC05-4089-B776-BB57D418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F84-684B-4AF3-9A5F-6DD3F4C0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7D6-B993-46CF-B7DF-79C4AFDB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557-9586-4E99-BDA4-7F2FCBB6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2EA-E22C-4DE8-878D-9FB726E6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81F-ABF4-4689-93BF-6634DA3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1D9-3F59-4BAB-8D0D-131A2BB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B2F-44EB-45A5-A0CC-0F3DFD2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385-F09C-464D-880E-8A0DF22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FE8-BBAC-448E-838A-116259E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9BB-44CD-4169-A32C-FCB3A8DD65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63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Муниципальное автономное дошкольное образовательное учреждение- детский сад комбинированного вида № 15 «Солнышко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40000" y="2637000"/>
            <a:ext cx="66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200"/>
                </a:solidFill>
                <a:latin typeface="Times New Roman"/>
              </a:rPr>
              <a:t>По страницам Великой Побе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00"/>
                </a:solidFill>
                <a:latin typeface="Times New Roman"/>
              </a:rPr>
              <a:t>Выполнила: воспитатель Сергань С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00"/>
                </a:solidFill>
                <a:latin typeface="Times New Roman"/>
              </a:rPr>
              <a:t>ст. Старомин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896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7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345276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1261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94828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Женя</cp:lastModifiedBy>
  <dcterms:modified xsi:type="dcterms:W3CDTF">2015-04-29T16:41:53Z</dcterms:modified>
  <cp:revision>26</cp:revision>
  <dc:subject/>
  <dc:title>Слайд 1</dc:title>
</cp:coreProperties>
</file>