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E4D-05EA-4D56-BA5C-EACBA9A6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E7F-4E87-4A92-BCD8-F0414352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AE1-32F1-407E-8758-FBF2518C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257-8DD6-4659-8537-1B79901C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B56-9D3D-4407-AA51-C49C460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F1F-FBBE-4424-A3C1-25D26E51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ACE-6B1E-4108-BFB3-D741D034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B5E-3362-4E23-8A8B-E7BBD53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ACC-1E8A-45F8-A7F3-96022EEE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A36-F09C-4FC7-8CDF-3036296A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B66-BADE-49E5-B1DB-8E3A4D1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E0B-5B30-4B7E-8DE5-5E8F9C5E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0197-F8E8-4954-8F9E-BAE6295F7E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63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2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4200"/>
                </a:solidFill>
                <a:latin typeface="Times New Roman"/>
              </a:rPr>
              <a:t>Муниципальное автономное дошкольное образовательное учреждение- детский сад комбинированного вида № 15 «Солнышко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40000" y="2637000"/>
            <a:ext cx="6696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200"/>
                </a:solidFill>
                <a:latin typeface="Times New Roman"/>
              </a:rPr>
              <a:t>По страницам Великой Побе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00"/>
                </a:solidFill>
                <a:latin typeface="Times New Roman"/>
              </a:rPr>
              <a:t>Выполнила: воспитатель Сергань С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00"/>
                </a:solidFill>
                <a:latin typeface="Times New Roman"/>
              </a:rPr>
              <a:t>ст. Староминск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896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07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43280" y="1125360"/>
            <a:ext cx="345276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1261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94828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Женя</cp:lastModifiedBy>
  <dcterms:modified xsi:type="dcterms:W3CDTF">2015-04-29T16:41:53Z</dcterms:modified>
  <cp:revision>26</cp:revision>
  <dc:subject/>
  <dc:title>Слайд 1</dc:title>
</cp:coreProperties>
</file>