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7F1-E208-4C9A-8D03-6C9FD3E2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8CC-13F3-4E9E-BAE7-DD8C713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972-DFEB-4BCF-A6A0-036397C0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143-9C1C-41CD-A4E0-FD3CEEFC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5430-7CB7-4ECE-8D55-BE98399A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5D46-3091-4A46-B2F7-D4C41BB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9320-4986-4F1B-BCB7-5420106C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CCF9-B78A-4A67-A684-A46D8C5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004A-16A8-4536-837E-18B5EB3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87F-28B6-4646-97D3-5A6291C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1C1-EB12-42C1-9329-AC02630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407-044C-4858-8A71-9666C82C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C59E-5867-4E55-A1E4-53CAE9E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B96A-1351-4C72-B598-D5CFB94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3DD-5090-49F5-BA1B-6CAF6E37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B07-9113-4410-AF3B-526FD5F5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A792-3F39-4F71-AB75-B5360A19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339E6-9FC9-4DE7-95B5-257533A4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CD35F-030D-4122-86CE-77D90CCF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82C88-AB78-41F2-83A5-31A144E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F484B-B450-4D32-B198-5BBE76B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A0F47-67CC-4BCA-9EB6-1120971C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9AF-3E45-4C27-B6BB-7105F52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CA329-800E-4309-AD81-9B635272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CFB13-B96B-4D36-AE9F-65DCA5D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BE236-F83C-4439-8107-BBCBBD6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B013B-73D8-40DD-B5D4-D16337B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DF6E9-8194-4553-8FAF-C7B65BC1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0AA70-51C7-4886-A4A3-DDD7530A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B91EF-8B19-45D6-9DCA-3B4DEDB1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ABD7-B38E-4294-937C-71A2127C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22B6-06BB-4CBF-9BD3-8D7931D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90BF-C95C-4BA2-B125-528415A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4EC-FDBD-47A5-9A62-5C218330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6705-3892-472A-A213-CFFC4E83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7BFC-C5B9-4738-A926-AE0FEBA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A683-7697-4B96-8121-5AE6F1DA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7A4A9-C2E4-4CE7-A78D-9A2C439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B63E-C809-4F1F-92E2-53E98CF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F2E5-34EE-4402-9A83-21115AE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4072-04B6-4370-943C-DAB9A12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6365-656F-422B-AFCA-3610D2D8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1EE0-72B0-44DF-9033-630B526C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75711-1325-4130-B738-A9CE3EF9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8F6-08E3-481C-959C-982B21A0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BD4F2-A287-4C3E-93A5-58BF0879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F8BC9-7196-4B6B-B963-0307BEC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5E907-B455-4C75-9905-5B57CE85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12998-8C9A-44EC-B77F-AA210FC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D2E70-568F-40BC-B112-0206B44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59E26-1D37-4AC9-9315-9088617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7AEBC-B291-469C-8202-A3AE872B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8F6A3-CD60-42C1-B20A-0A86ED0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FD117-4F58-45C6-92CE-596198F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6D249-6E88-4E92-A5BC-7F13D99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673-8206-413B-B7AE-F9707876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81816-BFDC-4843-A119-628753D0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66EB1-6E42-4BA5-B0C3-89B9DE71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B4254-2210-44BD-82C5-C084D4A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92E8F-AE79-4F0C-8F43-32F203E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7DFD5-55C8-4C4F-8B80-2F463C7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251EA-4D61-420D-82CA-7A0A450C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50A7A-BA53-4B6E-9A53-49F054F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1C7D4-E026-44D8-886E-A4F319F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4BD56-38E6-42A5-95F7-0629922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B09B0-B665-4547-9D4E-C9F252D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FE7-0DEC-4AE7-BF76-DEF3396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DD1A5-5F92-4744-AC1C-70B86C3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96859-2158-4A90-ADF3-090C8BEB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6B29A-8F6F-48BE-AEA7-59FE693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D9CAC-4E49-443E-ABF6-46FF6B65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730EA-F43F-41F2-B08D-CD05D12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14F43-4320-47D7-AA82-AD44559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E3681-C538-4781-B403-32D2D53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C247B-13E6-482B-9B5A-0DAF74E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6C98E-2B7E-4D36-A89F-68FE1045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4B228-2F7D-4C44-85B6-73650B46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AC7-EA17-4380-919B-9DB1C8B8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0D955-B297-4D38-A083-5469EBC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02C22-C2E0-497C-B488-1C5AE8B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8240B-DE1D-4377-88F1-DF2916B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57541-09D6-4D58-BF54-1A1F7084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61872-5BCE-425D-9A27-DF6D90D7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FA9-B53D-4CF2-B9C6-FB4C748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032-A691-42EF-8F81-08CFDAF031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DD9-94DE-4ADC-991B-2A93F94810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6F6-8F19-4D4B-8C2E-94834EB4D5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AC29-2B43-4955-B60F-ECAF545375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2C7-F06B-4BCE-9DAB-D3F5F2D34C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58A-5451-4FF2-A17D-434CC5D4EE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770-D5D4-4355-9FCC-8985612FD4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«МОЙ ПРАДЕДУШКА – ГЕРОЙ»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Выполнили: Рудакова Поли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Федорова Поли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Рыжов Никит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Руководитель  проекта: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Воспитатель высшей квалификационной  категории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Енякина Маргарита Николаев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ЕДОРОВА ПОЛИ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C:\Users\Администратор\Documents\IMG_3625.JPG"/>
          <p:cNvPicPr/>
          <p:nvPr/>
        </p:nvPicPr>
        <p:blipFill>
          <a:blip r:embed="rId1"/>
          <a:stretch/>
        </p:blipFill>
        <p:spPr>
          <a:xfrm>
            <a:off x="1257480" y="1484280"/>
            <a:ext cx="63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ЫЖОВ НИКИ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Users\Администратор\Documents\IMG_3633.JPG"/>
          <p:cNvPicPr/>
          <p:nvPr/>
        </p:nvPicPr>
        <p:blipFill>
          <a:blip r:embed="rId1"/>
          <a:stretch/>
        </p:blipFill>
        <p:spPr>
          <a:xfrm>
            <a:off x="1187280" y="1628640"/>
            <a:ext cx="6432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55640" y="1268280"/>
            <a:ext cx="73454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ые материал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ые фотоальбо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хранившиеся письма, документы, награ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иги о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лижается самый главный праздник нашей страны - День Победы. Мы в детском саду готовимся к нему: учим стихи, песни, читаем книги, слушаем рассказы воспитателей о том трудном времени. И нам  захотелось узнать, кто из наших  родственников воевал с фашистами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стники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воспитанники подготовительной группы, воспитатель, роди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оки реализации:  краткосрочный (апрел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ГИПОТЕ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 рассказов воспитателей мы узнали, что Великая Отечественная война была самой страшной войной.  Длилась она четыре года.  Война - это горе и страх, разруха и смерть. В годы войны погибли миллионы людей. Мы думаем, что и  наши семьи она не обошла стороной. Были и в наших  семьях участники тех страшных событ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56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ЦЕЛЬ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0920" y="1341000"/>
            <a:ext cx="73134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иск информации   о  жизни наших семей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Познакомиться с  семейными  документами, фотограф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Собрать  сведения о  том,  где воевали,  кем служили прадедушки и прабабушки,  получали ли боевые награ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Оформить вместе с родителями  стенгазету о наших родственниках, воевавших  в воне с фашистами и рассказать об этом   в детском са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640" y="836280"/>
            <a:ext cx="74167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ъек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емейные архив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дме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зучение исторических фактов о жизни семьи в годы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тоаппара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сты бумаги, карандаши, фломастер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етод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седы, опрос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сматривание семейных фотографий, документ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исковая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ение кни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жидаемые результат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полнение знаний о сопричастности  своей семьи к победе над фашизм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зентация исследовательской работ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езентация  стенгазеты   «Мой прадедушка  - герой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68360" y="836280"/>
            <a:ext cx="79200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держание раб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Беседы с родственниками  с целью выяснения  воевали ли старшие члены семьи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Сбор совместно с родителями исторических материалов о семье: награды прадедушек, фотографии, письма, личные вещи, газетные публикации, кни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Составление индивидуальных рассказов детей совместно с родителями об истории своей семьи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Запись рассказов  с помощью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Оформление стенгаз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 Презентация исследовательской работы в детском са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39640" y="692280"/>
            <a:ext cx="79200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Ход исследования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Спрашивали у родителей, у бабушек и дедушек  были ли в наших семьях участники Великой Отечественной войны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Слушали  воспоминания  родственников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Вместе с родителями, бабушками и дедушками рассматривали семейные фотографии, письма  военных лет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Узнавали, как воевали наши прадедушки и прабабушки в годы  Великой Отечественной войны, где они воевали, кем служили, о чем писали домой, как закончили войну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Очень интересно было рассматривать военные письма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Узнали, что  во время войны конвертов не хватало. С фронта приходили письма-треугольники. Отправляли их бесплатно. Треугольник — это обычный лист из тетради, который сначала загибали справа, потом слева направо. Оставшуюся полоску бумаги вставляли внутрь треугольника. Писали письма простыми карандашам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Рассматривали награды наших прадедушек. Узнали, что за подвиги и отвагу солдаты на войне  получали ордена  и медал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7. Вместе с родителями посетили  библиотеку, прочитали  книгу  нашего земляка  П. Русяева  «Земля Глушицкая». В этой книге записаны  имена и фамилии наших земляков, воевавших в Великой Отечественной войне. В ней есть имена и наших родственников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8. Посетили районный краеведческий музей,  познакомились с   выставкой  «Сороковые грозовые»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Здесь мы увидели  вещи военных лет: бинокль, котелок, фляжку, планшет;  боеприпасы: гранаты,  пули, патроны,  узнали,  как боролись наши земляки над фашизмом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9. Составляли  вместе с родителями рассказы о подвигах наших прадедушек и прабабушек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0. Оформляли  вместе с родителями стенгазеты, в которых  помещали   фотографии наших прабабушек и прадедушек,  рассказы о нелегком военном труде, об их подвигах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1. Рассказывали  в детском саду своим товарищам о своих родственниках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2. Оформляли к празднику 9  мая  в  холле детского сада   стенд  «Наши славные прадеды»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94920" y="549000"/>
            <a:ext cx="828036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 познакомились с  судьбой  наших  прадедушек и прабабушек – участников военных событ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выяснили,  что наши прадедушки и прабабушки  пошли сражаться с фашистами, чтобы освободить нашу родину от немецких оккупантов, чтобы у их детей, внуков и правнуков было счастливое будущ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думаем, что они были настоящими героями. Мы гордимся 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решили, что нельзя забывать наших прадедов, надо помнить о них с великой благодарностью, надо хранить память о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УДАКОВА ПОЛИ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Users\Администратор\Documents\IMG_3629.JPG"/>
          <p:cNvPicPr/>
          <p:nvPr/>
        </p:nvPicPr>
        <p:blipFill>
          <a:blip r:embed="rId1"/>
          <a:stretch/>
        </p:blipFill>
        <p:spPr>
          <a:xfrm>
            <a:off x="1163520" y="1628640"/>
            <a:ext cx="587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18:52:07Z</dcterms:created>
  <dc:creator>DNA7 X86</dc:creator>
  <dc:description/>
  <dc:language>en-US</dc:language>
  <cp:lastModifiedBy>DNA7 X86</cp:lastModifiedBy>
  <dcterms:modified xsi:type="dcterms:W3CDTF">2015-04-29T19:00:30Z</dcterms:modified>
  <cp:revision>1</cp:revision>
  <dc:subject/>
  <dc:title>Исследовательская работа «Мой прадедушка – герой»</dc:title>
</cp:coreProperties>
</file>