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03F-A278-4505-93D4-7274C1E6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E84-8F45-4D19-95D6-B657CD20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CEFC-151A-4954-AEFD-571629CD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B0C2-0B0B-4579-B708-43B461D8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791E-E696-4E7A-8585-03577F14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46B9-5B74-4022-9379-3D8DDE21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97F7-3ADC-41C2-A1F0-F7B85F36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6EFB-0D68-41B9-9549-E0930EA1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EE4A-D5C0-4688-BF49-A8272F3B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1CF9-2FB0-4770-B102-789B967A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B9B1-0125-44BE-90AA-A5A1095A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5971-E22F-42E7-9DFD-8303A9B9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E038-F9AB-49C8-B341-5B25744B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9B6A-8DA0-4E8B-97D3-D381A432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C099-80C8-4EBF-905B-4BB150F9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3AA2-7EF4-4568-8759-FAC3E2F8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0CE8-31A8-4D12-8A05-0FC82323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D661C2-CE84-4381-B8A8-5E709E30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E3363-829B-497F-9D9F-E83DD5EC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64DEA-2865-4EA2-BE17-35EB3381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6DF50-D218-465B-A9DE-E91592AB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DEC5B-D335-4D31-A5C1-09856069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67E-D1EC-4EFD-9E35-963C5E1A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3E1D8-9269-4C90-A6F7-B6ED1BD7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98FF5-FB22-46F3-9A25-2382AEE6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0698D-FCF0-426E-91E6-22F21E42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678F4-AECC-4AB8-A150-01CC8AAD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C2392-23E7-47BF-A352-61FC595E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A8905-BCB6-4C6B-91C3-16B1300D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67D6C-C9C1-442E-A533-4E49B243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87063-83E3-44E1-BBCA-A74ACFFA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71EF5-5DF5-41A0-B75A-1F64FE03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6BA7A-2CFE-4C10-BBB8-5F89AFB2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AF06-A08D-4450-ABA6-00031297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D9EF8-F586-471B-A813-D9E2A01F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3A79F-58AD-44F9-9C60-72249DA4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93318-1E66-412C-8CF9-A01E4633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439BD-D5C0-4C38-9F0C-3AB5B57B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DC5CA-F4D0-496C-BC9E-C2478C68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3839F-B2C3-4CA2-B71C-806FAA88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6CA63-6A56-4E81-9367-57AAAA14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5F2EA-659E-4680-BB9A-81F658C5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305A4-5C39-425F-909A-0DBAA441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7D8F66-E2D1-4A7F-8D9C-78EABEA9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3AD-8831-4C5A-8257-83CB5E85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DC7C0-A87F-43B4-82DE-FB60E2CD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F860C2-00E8-40DD-8804-A12961D2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666FB-E27B-4C64-AFE0-6CE75F67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FB949-9C66-4043-8ACA-E87AE52D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53F447-6E49-4FB3-AD99-998C6685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15C460-E6C6-4B2C-B08D-CFF563B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DA7A52-250D-4CD7-B3CE-E72EE8FB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FDEF3E-3BCA-4360-BD47-20B30966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10B0B8-FEBD-4C03-9081-713CDB71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1AA902-80DE-484F-A4E8-AD009B2C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F042-9FD7-480D-BC0B-52CB031A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0464C0-8562-4388-AB0F-E0F107AD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D9692E-CB57-4975-8B2C-47259B63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D24BF5-49DF-484C-B930-D2D77DAA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8A2900-D072-4813-9A86-EC0CEE06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5D77CF-6321-4760-A689-4C42E667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E8EA35-513A-4038-A297-8DED09E7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1C20F9-312F-47A6-A726-B433FDA1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99AD7-63B7-4D40-9CA3-4C22E775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240374-BB2A-465C-8C17-52623A74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16B27C-2301-44F4-9CCD-69ADD95A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731-4545-41B2-914C-EC8A3244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B8487-B502-4D85-BF3A-78D07A8B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8BBD36-EFED-4807-8614-71A62BB4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291D1-8F2B-4053-845C-01A14120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08B18F-D3E9-4F62-979B-FFBF0841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D35F09-70C9-467F-8ECF-007C496A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321F6D-84D8-4ED3-A215-11517A20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662B36-9072-4005-8B94-5F23A116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9A2D3C-FA7B-4B68-BF03-2388B2EC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01DA40-DD21-45A7-9C93-DE23AFB3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834AE-DC0B-4C46-B3A7-A097EFD2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0B2-7654-42E3-848B-99A7493B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0EA176-9DCE-433F-AD84-28856979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9F979-45AE-4CD1-A14F-316FDEA0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84DD55-C9A4-425D-9F58-F7553A8A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86339D-0C23-459D-B7DE-634F2864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9EAE42-210C-4D2E-92E2-493197F1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07DC-6626-4E0E-A100-1BD39EED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6FB0-BC14-452D-99FB-C31E472C0E9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2A56-F79D-4C2C-B923-806DA14A40F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A672-0592-433B-9C46-4A1418951E2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DA03-EE25-4056-8199-FF17DB4DF67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AFA5-C397-4D91-8468-07CF9EDE7F5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3358-3E9B-4DEF-821B-A326BB677D2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00E6-98AD-487A-B195-2ADE4B8F925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ИССЛЕДОВАТЕЛЬСКАЯ РАБОТА «МОЙ ПРАДЕДУШКА – ГЕРОЙ»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75f6d"/>
                </a:solidFill>
                <a:latin typeface="Century Schoolbook"/>
              </a:rPr>
              <a:t>Выполнили: Рудакова Полина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75f6d"/>
                </a:solidFill>
                <a:latin typeface="Century Schoolbook"/>
              </a:rPr>
              <a:t>Федорова Полина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75f6d"/>
                </a:solidFill>
                <a:latin typeface="Century Schoolbook"/>
              </a:rPr>
              <a:t>Рыжов Никита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75f6d"/>
                </a:solidFill>
                <a:latin typeface="Century Schoolbook"/>
              </a:rPr>
              <a:t>Руководитель  проекта: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75f6d"/>
                </a:solidFill>
                <a:latin typeface="Century Schoolbook"/>
              </a:rPr>
              <a:t>Воспитатель высшей квалификационной  категории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75f6d"/>
                </a:solidFill>
                <a:latin typeface="Century Schoolbook"/>
              </a:rPr>
              <a:t>Енякина Маргарита Николаевна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ФЕДОРОВА ПОЛИН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Picture 2" descr="C:\Users\Администратор\Documents\IMG_3625.JPG"/>
          <p:cNvPicPr/>
          <p:nvPr/>
        </p:nvPicPr>
        <p:blipFill>
          <a:blip r:embed="rId1"/>
          <a:stretch/>
        </p:blipFill>
        <p:spPr>
          <a:xfrm>
            <a:off x="1257480" y="1484280"/>
            <a:ext cx="6337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ЫЖОВ НИКИ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2" descr="C:\Users\Администратор\Documents\IMG_3633.JPG"/>
          <p:cNvPicPr/>
          <p:nvPr/>
        </p:nvPicPr>
        <p:blipFill>
          <a:blip r:embed="rId1"/>
          <a:stretch/>
        </p:blipFill>
        <p:spPr>
          <a:xfrm>
            <a:off x="1187280" y="1628640"/>
            <a:ext cx="64328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755640" y="1268280"/>
            <a:ext cx="73454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спользуемые материал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мейные фотоальбо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хранившиеся письма, документы, наград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ниги о Великой Отечественной войн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АКТУАЛЬНОСТЬ ТЕ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ближается самый главный праздник нашей страны - День Победы. Мы в детском саду готовимся к нему: учим стихи, песни, читаем книги, слушаем рассказы воспитателей о том трудном времени. И нам  захотелось узнать, кто из наших  родственников воевал с фашистами.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астники исследования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воспитанники подготовительной группы, воспитатель, родител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роки реализации:  краткосрочный (апрель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ГИПОТЕЗА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 рассказов воспитателей мы узнали, что Великая Отечественная война была самой страшной войной.  Длилась она четыре года.  Война - это горе и страх, разруха и смерть. В годы войны погибли миллионы людей. Мы думаем, что и  наши семьи она не обошла стороной. Были и в наших  семьях участники тех страшных событ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4563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ЦЕЛЬ ИССЛЕДОВАН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0920" y="1341000"/>
            <a:ext cx="7313400" cy="51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иск информации   о  жизни наших семей в годы Великой Отечественной войн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Познакомиться с  семейными  документами, фотография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Собрать  сведения о  том,  где воевали,  кем служили прадедушки и прабабушки,  получали ли боевые наград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Оформить вместе с родителями  стенгазету о наших родственниках, воевавших  в воне с фашистами и рассказать об этом   в детском сад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640" y="836280"/>
            <a:ext cx="7416720" cy="56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бъект 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семейные архив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едмет исследования: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изучение исторических фактов о жизни семьи в годы Великой Отечественной войн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борудование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Фотоаппарат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омпьютер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Листы бумаги, карандаши, фломастер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Метод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еседы, опрос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ассматривание семейных фотографий, документо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исковая деятель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нализ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Чтение книг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жидаемые результат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полнение знаний о сопричастности  своей семьи к победе над фашизмо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езентация исследовательской работы: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Презентация  стенгазеты   «Мой прадедушка  - герой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68360" y="836280"/>
            <a:ext cx="7920000" cy="56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одержание рабо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Беседы с родственниками  с целью выяснения  воевали ли старшие члены семьи в годы Великой Отечественной войн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Сбор совместно с родителями исторических материалов о семье: награды прадедушек, фотографии, письма, личные вещи, газетные публикации, книг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Составление индивидуальных рассказов детей совместно с родителями об истории своей семьи в годы Великой Отечественной войн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.Запись рассказов  с помощью родител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.Оформление стенгазе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6. Презентация исследовательской работы в детском сад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539640" y="692280"/>
            <a:ext cx="792000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entury Schoolbook"/>
              </a:rPr>
              <a:t>Ход исследования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1.Спрашивали у родителей, у бабушек и дедушек  были ли в наших семьях участники Великой Отечественной войны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2. Слушали  воспоминания  родственников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3.Вместе с родителями, бабушками и дедушками рассматривали семейные фотографии, письма  военных лет. 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4. Узнавали, как воевали наши прадедушки и прабабушки в годы  Великой Отечественной войны, где они воевали, кем служили, о чем писали домой, как закончили войну. 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5.Очень интересно было рассматривать военные письма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Узнали, что  во время войны конвертов не хватало. С фронта приходили письма-треугольники. Отправляли их бесплатно. Треугольник — это обычный лист из тетради, который сначала загибали справа, потом слева направо. Оставшуюся полоску бумаги вставляли внутрь треугольника. Писали письма простыми карандашами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Рассматривали награды наших прадедушек. Узнали, что за подвиги и отвагу солдаты на войне  получали ордена  и медали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7. Вместе с родителями посетили  библиотеку, прочитали  книгу  нашего земляка  П. Русяева  «Земля Глушицкая». В этой книге записаны  имена и фамилии наших земляков, воевавших в Великой Отечественной войне. В ней есть имена и наших родственников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8. Посетили районный краеведческий музей,  познакомились с   выставкой  «Сороковые грозовые». 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Здесь мы увидели  вещи военных лет: бинокль, котелок, фляжку, планшет;  боеприпасы: гранаты,  пули, патроны,  узнали,  как боролись наши земляки над фашизмом. 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9. Составляли  вместе с родителями рассказы о подвигах наших прадедушек и прабабушек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10. Оформляли  вместе с родителями стенгазеты, в которых  помещали   фотографии наших прабабушек и прадедушек,  рассказы о нелегком военном труде, об их подвигах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11. Рассказывали  в детском саду своим товарищам о своих родственниках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12. Оформляли к празднику 9  мая  в  холле детского сада   стенд  «Наши славные прадеды»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94920" y="549000"/>
            <a:ext cx="8280360" cy="59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ы  познакомились с  судьбой  наших  прадедушек и прабабушек – участников военных событ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ы выяснили,  что наши прадедушки и прабабушки  пошли сражаться с фашистами, чтобы освободить нашу родину от немецких оккупантов, чтобы у их детей, внуков и правнуков было счастливое будуще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ы думаем, что они были настоящими героями. Мы гордимся и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ы решили, что нельзя забывать наших прадедов, надо помнить о них с великой благодарностью, надо хранить память о н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УДАКОВА ПОЛИН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2" descr="C:\Users\Администратор\Documents\IMG_3629.JPG"/>
          <p:cNvPicPr/>
          <p:nvPr/>
        </p:nvPicPr>
        <p:blipFill>
          <a:blip r:embed="rId1"/>
          <a:stretch/>
        </p:blipFill>
        <p:spPr>
          <a:xfrm>
            <a:off x="1163520" y="1628640"/>
            <a:ext cx="58737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9T18:52:07Z</dcterms:created>
  <dc:creator>DNA7 X86</dc:creator>
  <dc:description/>
  <dc:language>en-US</dc:language>
  <cp:lastModifiedBy>DNA7 X86</cp:lastModifiedBy>
  <dcterms:modified xsi:type="dcterms:W3CDTF">2015-04-29T19:00:30Z</dcterms:modified>
  <cp:revision>1</cp:revision>
  <dc:subject/>
  <dc:title>Исследовательская работа «Мой прадедушка – герой»</dc:title>
</cp:coreProperties>
</file>