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FFBD-E23E-4B4B-B3E7-D0CFFDA9D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AEC4-130D-4400-B1D7-FD93C578D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63C9-BC59-4B16-930D-D3AAEDDD6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010A-A972-477C-9631-4F8C02C17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DFE5-9E61-42AE-BC4D-071C79ACCF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949E-AE39-4FD1-B828-DDAD8AA88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D6F5-0E5B-4477-993E-D0B311ACE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1663-23FC-4970-97C1-053F6C624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D936-3B55-49F5-AAC3-D8DFE7DC4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EF96-5D61-4BAB-8045-E2B7B9080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92F5-A343-49C6-9838-BD203C8FA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3FD7-AD6D-47CF-8B6D-8654A7C41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51968-0B48-4A69-9DBD-4A8CBCE026E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-228600"/>
            <a:ext cx="777240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к школьному обучению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универсальных учебных действи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чащихся первых класс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7168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УУД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е учебные действия обеспечивают ценностно-смысловую ориентацию учащих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носить поступки и события с принятыми этическими принцип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ие моральных норм и умение выделить нравственный аспект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ентацию в социальных ролях и межличностных отношен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 действия обеспечивают организацию учащимся своей учебной деятельности.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ая саморегуляция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86240" y="2786040"/>
            <a:ext cx="3500640" cy="34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УУ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21428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учеб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и выделение необходимой информ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труктурировать зн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сознанно и произвольно строить речевое высказывание в уст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исьменной фор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бъектов с целью выделения признаков (существенных, несущественны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 как составление целого из частей, в том числе самостоятельно достраивая, восполняя недостающие компонен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оснований и критериев для равнения, сериации, классификации объе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причинно-следственных связ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логической цепи рассу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 постановки и решения проб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УУ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действия обеспечивают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иальную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етентность и учет позиции других людей, партнера по общению или деятельност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ие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 и вступать в диалог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вовать в коллективном обсуждении проблем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грироваться в группу сверстников и строить продуктивное взаимодействие и сотрудничество со сверстниками и взрослым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иторинг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8020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ллектуальный блок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8020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ностика интеллектуального уровня и сформированности регулятивных компонентов УУ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8020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8020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чностный и коммуникативный блок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явление  эмоционального уровня самооценки и сформированности коммуникативных УУ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8020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к школьному обучению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к школь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ю состоит из следующ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о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волева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54640" y="3240000"/>
            <a:ext cx="328608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готов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12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ая готовность определяется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м ребенка об окружающем мире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вой и неживой природе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социальных  явлений и отношений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 познавательных процессов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онная готов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12480">
              <a:lnSpc>
                <a:spcPct val="100000"/>
              </a:lnSpc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учитьс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100000"/>
              </a:lnSpc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общественно значимой деятельности, к новой социальной позици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100000"/>
              </a:lnSpc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школьник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7840" y="3857760"/>
            <a:ext cx="392904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волевая готов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14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ая степень сформированность произвольных процессов, т. е. ребенок должен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 управлять своими желаниями, эмоциями и поступкам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 подчиняться правилам поведения в той или иной ситуаци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 действия по образцу и правила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 правильно оценить свою работу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ая  готов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084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ебенка выстраивать взаимоотношения со сверстниками и педагог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гласовывать свои действия с действиями сверстни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яться правилам 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й обстанов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ться с новыми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72080" y="3643200"/>
            <a:ext cx="300060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универсальных учебных действий (УУ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59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е  учебные действия (УУД) 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ют умение учиться, т.е. способность субъекта к саморазвитию и самосовершенствованию путем сознательного и активного присвоения нового социального опыта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ее узком (собственно психологическом значении) этот термин можно определить как совокупность способов действия учащегося (а также связанных с ними навыков учебной работы), обеспечивающих его способность к самостоятельному усвоению новых знаний и умений, включая организацию этого процесс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й характер УУ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й характер УУД проявляется том, что они нося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предметный, метапредметный характ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лизую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остность общекультурного, личностного и познавательного развития и саморазвития лич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ечиваю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емственность всех степен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а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снове организации и регуляции любой деятельности учащегося независимо от ее специально-предметного содерж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е учебные действия обеспечивают этапы усвоения учебного содержания и формирования психологических способностей учащего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У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124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е основных видов универсальных учебных действий,  можно выделить четыре блок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й  (включающий также действия саморегуляции)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86240" y="4214880"/>
            <a:ext cx="3214800" cy="242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7:53:23Z</dcterms:created>
  <dc:creator>1</dc:creator>
  <dc:description/>
  <dc:language>en-US</dc:language>
  <cp:lastModifiedBy>Мария</cp:lastModifiedBy>
  <dcterms:modified xsi:type="dcterms:W3CDTF">2014-03-31T18:36:22Z</dcterms:modified>
  <cp:revision>22</cp:revision>
  <dc:subject/>
  <dc:title>  Психологическая готовность к школьному обучению.   Сформированность универсальных учебных действий  у учащихся первых классов. </dc:title>
</cp:coreProperties>
</file>