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2A22-12BC-42C9-B99D-5AF0430EF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C86B-7622-4150-BEDD-2EE524FA7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50CF-ACC6-40A3-8BC0-724192E67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D1B4-A5FF-4CB2-8DFA-F00B992C4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FFA9-7709-4BDA-97AF-791CB42FC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5EF2-E5C5-4966-91B9-A13FE1260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6FA8-5B30-475E-B603-79B95D01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B842-B6B3-4844-B5F4-35A948F9B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DAB0-B18B-4353-B729-1164F243D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13C5-35C3-4D45-A438-246F74032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0F5D-C3DB-4845-B061-2691008CD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E3D1-39B2-491D-9B8B-E65545DBA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107A9-4B45-47C0-93DD-9C2DDDD459B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-228600"/>
            <a:ext cx="77724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 обучению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ниверсальных учебных действ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чащихся первых класс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7168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УД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учебные действия обеспечивают ценностно-смысловую ориентацию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носить поступки и события с принятыми этическими принцип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е моральных норм и умение выделить нравственный аспект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нтацию в социальных ролях и межличностных отношен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действия обеспечивают организацию учащимся своей учебной деятельности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ая саморегуляция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86240" y="2786040"/>
            <a:ext cx="350064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21428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выделение необходимой информ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уктурировать зн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нно и произвольно строить речевое высказывание в уст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сьменной фор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бъектов с целью выделения признаков (существенных, несущественны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как составление целого из частей, в том числе самостоятельно достраивая, восполняя недостающие компонен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снований и критериев для равнения, сериации,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причинно-следственных связ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логической цепи рассу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 постановки и решения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действия обеспечивают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альную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етентность и учет позиции других людей, партнера по общению или деятельност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и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и вступать в диалог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вовать в коллективном обсуждении проблем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грироваться в группу сверстников и строить продуктивное взаимодействие и сотрудничество со сверстниками и взрослы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иторинг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ллектуальный блок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ностика интеллектуального уровня и сформированности регулятивных компонентов У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ый и коммуникативный блок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ие  эмоционального уровня самооценки и сформированности коммуникативных УУ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8020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 обучени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ь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ю состоит из следующ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54640" y="3240000"/>
            <a:ext cx="328608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ая готовность определяется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м ребенка об окружающем мире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й и неживой природе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социальных  явлений и отношени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познавательных процессов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учитьс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общественно значимой деятельности, к новой социальной пози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школьник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7840" y="3857760"/>
            <a:ext cx="392904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волевая готов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ая степень сформированность произвольных процессов, т. е. ребенок должен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 управлять своими желаниями, эмоциями и поступка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 подчиняться правилам поведения в той или иной ситуаци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 действия по образцу и правила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0200" indent="-3142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7380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 правильно оценить свою работу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 готов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084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ебенка выстраивать взаимоотношения со сверстниками и педаг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гласовывать свои действия с действиями сверстни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яться правилам 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обстанов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16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08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9404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ться с новы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72080" y="3643200"/>
            <a:ext cx="30006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универсальных учебных действий (УУ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 учебные действия (УУД) 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ют умение учиться, т.е.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узком (собственно психологическом значении) этот термин можно определить как 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характер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й характер УУД проявляется том, что они нося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редметный, метапредметн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лизу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стность общекультурного, личностного и познавательного развития и саморазвития ли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ечива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емственность всех степен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е организации и регуляции любой деятельности учащегося независимо от ее специально-предметного содер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 учебные действия обеспечивают этапы усвоения учебного содержания и формирования психологических способностей учащего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У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12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основных видов универсальных учебных действий,  можно выделить четыре блок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й  (включающий также действия саморегуляции)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2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316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524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86240" y="42148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7:53:23Z</dcterms:created>
  <dc:creator>1</dc:creator>
  <dc:description/>
  <dc:language>en-US</dc:language>
  <cp:lastModifiedBy>Мария</cp:lastModifiedBy>
  <dcterms:modified xsi:type="dcterms:W3CDTF">2014-03-31T18:36:22Z</dcterms:modified>
  <cp:revision>22</cp:revision>
  <dc:subject/>
  <dc:title>  Психологическая готовность к школьному обучению.   Сформированность универсальных учебных действий  у учащихся первых классов. </dc:title>
</cp:coreProperties>
</file>