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move the slide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A0D54-8262-4614-AC86-D78E8DC8630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CA331-8B36-401D-A0BA-0794D762739D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A2521-8E9C-4B1E-9881-A8F485476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71316-7706-43DA-AB39-3F1247A57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7C0BB-401C-4949-802D-63ED1DCBC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8896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6880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8896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6880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D1EC7-2906-471C-8A00-F45A64168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84CFB-CC73-490D-980C-D5A9AFAC2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59E88-06AF-4E0B-8DAD-B22D53004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7F86D-564D-4772-9A57-1A2C290A5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EB0DF-9507-436A-99D4-B55FE858B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D4E6C-907D-49DC-A452-A31F95517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7925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F9F77-9AB4-428E-AEE9-78735DA81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DF185-A1A2-45C7-9305-0232F43B1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87FA2-FD09-4F1E-A8AF-2AE078572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755AD-627A-4026-BAC1-FFFDBF8E1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6F27F-3654-47F2-8AED-2BFBAD529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2E785-4CF5-49F9-84D0-985C02C9A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DE996-658E-4EE8-95F2-2C7B1D02D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8896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6880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8896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6880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84305-F73B-4EBE-BFCC-CBA6963B0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607D88-451B-4D43-855D-C853A6DB0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80F3CD-95C9-44FA-97EA-A8585CACC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3E62BB-D617-47D4-B0AF-D90E37F1D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3D0559-411D-4651-9B5D-9810AB9F7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C19EE3-6F51-47C7-B463-4A02F7D04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E3F64-D2D6-4E2F-849A-23BBDC7C7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7925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5E2767-D7F6-4FBE-9713-80C66D5C5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EA6505-9446-46FF-8863-B8E0D8CD9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AADCDC-3B8A-432B-B0B9-68DB1642A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1B9EB3-A4EB-42FE-80B5-4BAC715BD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0E6241-735F-40B1-8318-6FD0E8E98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F2EA08-E3D1-41F3-9E7E-631A590A4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8896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96880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8896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596880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B9800B-1F6B-4783-ACE6-3A41F051D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F43D0A-A2F3-4B6B-80C9-74ABB75E4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9203A5-12EC-4B3F-B13E-E4EB893C3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73AFF6-706B-4D51-9DD8-0CFF46DE5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CDC9A-1541-4C76-B57B-1DB30ACD2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07B0CE-450D-4C65-94AC-03598B145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2ECD75-B387-4453-B8DF-482A93F80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7925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5BFC9C-4C33-4783-8B1C-9E18DB174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54E91D-FBD9-409C-924D-844FE64A1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77DD72-AF24-4230-B075-47026E8CE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35A5AC-E5E5-4F9F-8EF1-6DD6FFCD3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88F73F-59D1-4360-9A13-BEBB79650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43CDB8-96F9-4C01-9EE4-F911585E2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8896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96880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8896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96880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A37C6A-BAF5-4341-B166-FF32F2CFA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1860E-8149-46C5-92E5-FE68CFD30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7925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55A5F-E981-410A-842B-C0B17C74A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478C8-190D-4E74-9F17-F056960A7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D7425-E13C-44B0-AB60-5E49A5BBC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5F6E8-79BE-4FE1-8458-9AF6DFB9D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horizon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3" marL="16002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4" marL="20574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5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6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5714640" y="6356520"/>
            <a:ext cx="152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609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543800" y="6356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F9D2B-84C7-4453-8CE8-4688C1EE611B}" type="slidenum"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6" descr="horizon.png"/>
          <p:cNvPicPr/>
          <p:nvPr/>
        </p:nvPicPr>
        <p:blipFill>
          <a:blip r:embed="rId2"/>
          <a:srcRect l="0" t="33333" r="0" b="0"/>
          <a:stretch/>
        </p:blipFill>
        <p:spPr>
          <a:xfrm>
            <a:off x="0" y="0"/>
            <a:ext cx="9144000" cy="4572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3" marL="16002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4" marL="20574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5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6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5714640" y="6356520"/>
            <a:ext cx="152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609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7543800" y="6356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4B8EF-B8C6-4549-A267-4C187EFBA028}" type="slidenum"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3" marL="16002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4" marL="20574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5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6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5714640" y="6356520"/>
            <a:ext cx="152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609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7543800" y="6356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3617F-E87F-4CDB-AE3D-4CF6D5176A6A}" type="slidenum"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10" descr="horizon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3" marL="16002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4" marL="20574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5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6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5714640" y="6356520"/>
            <a:ext cx="152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609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7543800" y="6356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7E665-2153-41C9-BCFE-C8F461F04329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04920" y="1483920"/>
            <a:ext cx="8610480" cy="224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br>
              <a:rPr sz="3000"/>
            </a:br>
            <a:br>
              <a:rPr sz="3000"/>
            </a:br>
            <a:br>
              <a:rPr sz="3000"/>
            </a:br>
            <a:br>
              <a:rPr sz="3000"/>
            </a:br>
            <a:br>
              <a:rPr sz="3000"/>
            </a:br>
            <a:r>
              <a:rPr b="0" lang="ru-RU" sz="3000" spc="-1" strike="noStrike">
                <a:solidFill>
                  <a:srgbClr val="ffffff"/>
                </a:solidFill>
                <a:latin typeface="Arial Narrow"/>
                <a:ea typeface="Tunga"/>
              </a:rPr>
              <a:t>ТЕМА УРОКА:</a:t>
            </a:r>
            <a:br>
              <a:rPr sz="3000"/>
            </a:br>
            <a:br>
              <a:rPr sz="3000"/>
            </a:br>
            <a:r>
              <a:rPr b="0" lang="ru-RU" sz="3000" spc="-1" strike="noStrike">
                <a:solidFill>
                  <a:srgbClr val="ffbe00"/>
                </a:solidFill>
                <a:latin typeface="Arial Narrow"/>
                <a:ea typeface="Tunga"/>
              </a:rPr>
              <a:t> </a:t>
            </a:r>
            <a:r>
              <a:rPr b="0" lang="en-US" sz="3000" spc="-1" strike="noStrike">
                <a:solidFill>
                  <a:srgbClr val="ffbe00"/>
                </a:solidFill>
                <a:latin typeface="Arial Narrow"/>
                <a:ea typeface="Tunga"/>
              </a:rPr>
              <a:t> </a:t>
            </a:r>
            <a:r>
              <a:rPr b="0" lang="ru-RU" sz="3000" spc="-1" strike="noStrike">
                <a:solidFill>
                  <a:srgbClr val="ffbe00"/>
                </a:solidFill>
                <a:latin typeface="Arial Narrow"/>
                <a:ea typeface="Tunga"/>
              </a:rPr>
              <a:t>«УРАВНЕНИЕ КАСАТЕЛЬНОЙ. </a:t>
            </a:r>
            <a:br>
              <a:rPr sz="3000"/>
            </a:br>
            <a:r>
              <a:rPr b="0" lang="ru-RU" sz="3000" spc="-1" strike="noStrike">
                <a:solidFill>
                  <a:srgbClr val="ffbe00"/>
                </a:solidFill>
                <a:latin typeface="Arial Narrow"/>
                <a:ea typeface="Tunga"/>
              </a:rPr>
              <a:t>УСЛОВИЕ КАСАНИЯ.»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5" name="AutoShape 5">
            <a:hlinkClick r:id="" action="ppaction://hlinkshowjump?jump=nextslide"/>
          </p:cNvPr>
          <p:cNvSpPr/>
          <p:nvPr/>
        </p:nvSpPr>
        <p:spPr>
          <a:xfrm>
            <a:off x="8277120" y="5757840"/>
            <a:ext cx="540000" cy="539640"/>
          </a:xfrm>
          <a:custGeom>
            <a:avLst/>
            <a:gdLst>
              <a:gd name="textAreaLeft" fmla="*/ 34920 w 540000"/>
              <a:gd name="textAreaRight" fmla="*/ 505080 w 540000"/>
              <a:gd name="textAreaTop" fmla="*/ 34920 h 539640"/>
              <a:gd name="textAreaBottom" fmla="*/ 504720 h 539640"/>
            </a:gdLst>
            <a:ahLst/>
            <a:rect l="textAreaLeft" t="textAreaTop" r="textAreaRight" b="textAreaBottom"/>
            <a:pathLst>
              <a:path w="21614" h="21600">
                <a:moveTo>
                  <a:pt x="0" y="0"/>
                </a:moveTo>
                <a:lnTo>
                  <a:pt x="21614" y="0"/>
                </a:lnTo>
                <a:lnTo>
                  <a:pt x="21614" y="21600"/>
                </a:lnTo>
                <a:lnTo>
                  <a:pt x="0" y="21600"/>
                </a:lnTo>
                <a:close/>
              </a:path>
              <a:path fill="lightenLess" w="21614" h="21600">
                <a:moveTo>
                  <a:pt x="0" y="0"/>
                </a:moveTo>
                <a:lnTo>
                  <a:pt x="21614" y="0"/>
                </a:lnTo>
                <a:lnTo>
                  <a:pt x="20214" y="1400"/>
                </a:lnTo>
                <a:lnTo>
                  <a:pt x="1400" y="1400"/>
                </a:lnTo>
                <a:close/>
              </a:path>
              <a:path fill="darken" w="21614" h="21600">
                <a:moveTo>
                  <a:pt x="21614" y="0"/>
                </a:moveTo>
                <a:lnTo>
                  <a:pt x="21614" y="21600"/>
                </a:lnTo>
                <a:lnTo>
                  <a:pt x="20214" y="20200"/>
                </a:lnTo>
                <a:lnTo>
                  <a:pt x="20214" y="1400"/>
                </a:lnTo>
                <a:close/>
              </a:path>
              <a:path fill="darkenLess" w="21614" h="21600">
                <a:moveTo>
                  <a:pt x="216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4" y="20200"/>
                </a:lnTo>
                <a:close/>
              </a:path>
              <a:path fill="lighten" w="216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4" h="21600">
                <a:moveTo>
                  <a:pt x="3801" y="3794"/>
                </a:moveTo>
                <a:lnTo>
                  <a:pt x="17814" y="10800"/>
                </a:lnTo>
                <a:lnTo>
                  <a:pt x="3801" y="17806"/>
                </a:lnTo>
                <a:close/>
              </a:path>
            </a:pathLst>
          </a:custGeom>
          <a:solidFill>
            <a:srgbClr val="7e97a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/>
          </p:nvPr>
        </p:nvSpPr>
        <p:spPr>
          <a:xfrm>
            <a:off x="900000" y="142920"/>
            <a:ext cx="7315200" cy="235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3412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3412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При каких значениях аргумента производная функции, заданной графиком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а) равна 0;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б) больше 0;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в) меньше 0?</a:t>
            </a:r>
            <a:r>
              <a:rPr b="0" lang="ru-RU" sz="2400" spc="-1" strike="noStrike">
                <a:solidFill>
                  <a:srgbClr val="caf7f1"/>
                </a:solidFill>
                <a:latin typeface="Arial Narrow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51" name="Picture 1" descr=""/>
          <p:cNvPicPr/>
          <p:nvPr/>
        </p:nvPicPr>
        <p:blipFill>
          <a:blip r:embed="rId1"/>
          <a:srcRect l="0" t="2779" r="0" b="2779"/>
          <a:stretch/>
        </p:blipFill>
        <p:spPr>
          <a:xfrm>
            <a:off x="2568600" y="2714760"/>
            <a:ext cx="6575400" cy="37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72880" y="115560"/>
            <a:ext cx="8305920" cy="2017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 Narrow"/>
                <a:ea typeface="Tunga"/>
              </a:rPr>
              <a:t>УРАВНЕНИЕ ВИДА У=</a:t>
            </a:r>
            <a:r>
              <a:rPr b="0" lang="en-US" sz="3000" spc="-1" strike="noStrike">
                <a:solidFill>
                  <a:srgbClr val="ffffff"/>
                </a:solidFill>
                <a:latin typeface="Arial Narrow"/>
                <a:ea typeface="Tunga"/>
              </a:rPr>
              <a:t>F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</a:t>
            </a:r>
            <a:r>
              <a:rPr b="0" lang="ru-RU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</a:t>
            </a:r>
            <a:r>
              <a:rPr b="0" lang="en-US" sz="3000" spc="-1" strike="noStrike">
                <a:solidFill>
                  <a:srgbClr val="ffffff"/>
                </a:solidFill>
                <a:latin typeface="Arial Narrow"/>
                <a:ea typeface="Tunga"/>
              </a:rPr>
              <a:t>)+F’(</a:t>
            </a:r>
            <a:r>
              <a:rPr b="0" lang="ru-RU" sz="3000" spc="-1" strike="noStrike">
                <a:solidFill>
                  <a:srgbClr val="ffffff"/>
                </a:solidFill>
                <a:latin typeface="Arial Narrow"/>
                <a:ea typeface="Tunga"/>
              </a:rPr>
              <a:t>а</a:t>
            </a:r>
            <a:r>
              <a:rPr b="0" lang="en-US" sz="3000" spc="-1" strike="noStrike">
                <a:solidFill>
                  <a:srgbClr val="ffffff"/>
                </a:solidFill>
                <a:latin typeface="Arial Narrow"/>
                <a:ea typeface="Tunga"/>
              </a:rPr>
              <a:t>)(</a:t>
            </a:r>
            <a:r>
              <a:rPr b="0" lang="ru-RU" sz="3000" spc="-1" strike="noStrike">
                <a:solidFill>
                  <a:srgbClr val="ffffff"/>
                </a:solidFill>
                <a:latin typeface="Arial Narrow"/>
                <a:ea typeface="Tunga"/>
              </a:rPr>
              <a:t>х-а</a:t>
            </a:r>
            <a:r>
              <a:rPr b="0" lang="en-US" sz="3000" spc="-1" strike="noStrike">
                <a:solidFill>
                  <a:srgbClr val="ffffff"/>
                </a:solidFill>
                <a:latin typeface="Arial Narrow"/>
                <a:ea typeface="Tunga"/>
              </a:rPr>
              <a:t>)</a:t>
            </a:r>
            <a:r>
              <a:rPr b="0" lang="ru-RU" sz="3000" spc="-1" strike="noStrike">
                <a:solidFill>
                  <a:srgbClr val="ffffff"/>
                </a:solidFill>
                <a:latin typeface="Arial Narrow"/>
                <a:ea typeface="Tunga"/>
              </a:rPr>
              <a:t> ЯВЛЯЕТСЯ УРАВНЕНИЕМ КАСАТЕЛЬНОЙ К ГРАФИКУ ФУНКЦИИ.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53" name="AutoShape 3">
            <a:hlinkClick r:id="" action="ppaction://hlinkshowjump?jump=nextslide"/>
          </p:cNvPr>
          <p:cNvSpPr/>
          <p:nvPr/>
        </p:nvSpPr>
        <p:spPr>
          <a:xfrm>
            <a:off x="8277120" y="5757840"/>
            <a:ext cx="540000" cy="539640"/>
          </a:xfrm>
          <a:custGeom>
            <a:avLst/>
            <a:gdLst>
              <a:gd name="textAreaLeft" fmla="*/ 34920 w 540000"/>
              <a:gd name="textAreaRight" fmla="*/ 505080 w 540000"/>
              <a:gd name="textAreaTop" fmla="*/ 34920 h 539640"/>
              <a:gd name="textAreaBottom" fmla="*/ 504720 h 539640"/>
            </a:gdLst>
            <a:ahLst/>
            <a:rect l="textAreaLeft" t="textAreaTop" r="textAreaRight" b="textAreaBottom"/>
            <a:pathLst>
              <a:path w="21614" h="21600">
                <a:moveTo>
                  <a:pt x="0" y="0"/>
                </a:moveTo>
                <a:lnTo>
                  <a:pt x="21614" y="0"/>
                </a:lnTo>
                <a:lnTo>
                  <a:pt x="21614" y="21600"/>
                </a:lnTo>
                <a:lnTo>
                  <a:pt x="0" y="21600"/>
                </a:lnTo>
                <a:close/>
              </a:path>
              <a:path fill="lightenLess" w="21614" h="21600">
                <a:moveTo>
                  <a:pt x="0" y="0"/>
                </a:moveTo>
                <a:lnTo>
                  <a:pt x="21614" y="0"/>
                </a:lnTo>
                <a:lnTo>
                  <a:pt x="20214" y="1400"/>
                </a:lnTo>
                <a:lnTo>
                  <a:pt x="1400" y="1400"/>
                </a:lnTo>
                <a:close/>
              </a:path>
              <a:path fill="darken" w="21614" h="21600">
                <a:moveTo>
                  <a:pt x="21614" y="0"/>
                </a:moveTo>
                <a:lnTo>
                  <a:pt x="21614" y="21600"/>
                </a:lnTo>
                <a:lnTo>
                  <a:pt x="20214" y="20200"/>
                </a:lnTo>
                <a:lnTo>
                  <a:pt x="20214" y="1400"/>
                </a:lnTo>
                <a:close/>
              </a:path>
              <a:path fill="darkenLess" w="21614" h="21600">
                <a:moveTo>
                  <a:pt x="216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4" y="20200"/>
                </a:lnTo>
                <a:close/>
              </a:path>
              <a:path fill="lighten" w="216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4" h="21600">
                <a:moveTo>
                  <a:pt x="3801" y="3794"/>
                </a:moveTo>
                <a:lnTo>
                  <a:pt x="17814" y="10800"/>
                </a:lnTo>
                <a:lnTo>
                  <a:pt x="3801" y="17806"/>
                </a:lnTo>
                <a:close/>
              </a:path>
            </a:pathLst>
          </a:custGeom>
          <a:solidFill>
            <a:srgbClr val="7e97a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AutoShape 4">
            <a:hlinkClick r:id="" action="ppaction://hlinkshowjump?jump=previousslide"/>
          </p:cNvPr>
          <p:cNvSpPr/>
          <p:nvPr/>
        </p:nvSpPr>
        <p:spPr>
          <a:xfrm>
            <a:off x="7556400" y="5757840"/>
            <a:ext cx="540000" cy="539640"/>
          </a:xfrm>
          <a:custGeom>
            <a:avLst/>
            <a:gdLst>
              <a:gd name="textAreaLeft" fmla="*/ 34920 w 540000"/>
              <a:gd name="textAreaRight" fmla="*/ 505080 w 540000"/>
              <a:gd name="textAreaTop" fmla="*/ 34920 h 539640"/>
              <a:gd name="textAreaBottom" fmla="*/ 504720 h 539640"/>
            </a:gdLst>
            <a:ahLst/>
            <a:rect l="textAreaLeft" t="textAreaTop" r="textAreaRight" b="textAreaBottom"/>
            <a:pathLst>
              <a:path w="21614" h="21600">
                <a:moveTo>
                  <a:pt x="0" y="0"/>
                </a:moveTo>
                <a:lnTo>
                  <a:pt x="21614" y="0"/>
                </a:lnTo>
                <a:lnTo>
                  <a:pt x="21614" y="21600"/>
                </a:lnTo>
                <a:lnTo>
                  <a:pt x="0" y="21600"/>
                </a:lnTo>
                <a:close/>
              </a:path>
              <a:path fill="lightenLess" w="21614" h="21600">
                <a:moveTo>
                  <a:pt x="0" y="0"/>
                </a:moveTo>
                <a:lnTo>
                  <a:pt x="21614" y="0"/>
                </a:lnTo>
                <a:lnTo>
                  <a:pt x="20214" y="1400"/>
                </a:lnTo>
                <a:lnTo>
                  <a:pt x="1400" y="1400"/>
                </a:lnTo>
                <a:close/>
              </a:path>
              <a:path fill="darken" w="21614" h="21600">
                <a:moveTo>
                  <a:pt x="21614" y="0"/>
                </a:moveTo>
                <a:lnTo>
                  <a:pt x="21614" y="21600"/>
                </a:lnTo>
                <a:lnTo>
                  <a:pt x="20214" y="20200"/>
                </a:lnTo>
                <a:lnTo>
                  <a:pt x="20214" y="1400"/>
                </a:lnTo>
                <a:close/>
              </a:path>
              <a:path fill="darkenLess" w="21614" h="21600">
                <a:moveTo>
                  <a:pt x="216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4" y="20200"/>
                </a:lnTo>
                <a:close/>
              </a:path>
              <a:path fill="lighten" w="216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4" h="21600">
                <a:moveTo>
                  <a:pt x="3801" y="10800"/>
                </a:moveTo>
                <a:lnTo>
                  <a:pt x="17814" y="3794"/>
                </a:lnTo>
                <a:lnTo>
                  <a:pt x="17814" y="17806"/>
                </a:lnTo>
                <a:close/>
              </a:path>
            </a:pathLst>
          </a:custGeom>
          <a:solidFill>
            <a:srgbClr val="7e97a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AutoShape 8"/>
          <p:cNvSpPr/>
          <p:nvPr/>
        </p:nvSpPr>
        <p:spPr>
          <a:xfrm>
            <a:off x="912960" y="5757840"/>
            <a:ext cx="539640" cy="539640"/>
          </a:xfrm>
          <a:custGeom>
            <a:avLst/>
            <a:gdLst>
              <a:gd name="textAreaLeft" fmla="*/ 34920 w 539640"/>
              <a:gd name="textAreaRight" fmla="*/ 504720 w 539640"/>
              <a:gd name="textAreaTop" fmla="*/ 34920 h 539640"/>
              <a:gd name="textAreaBottom" fmla="*/ 504720 h 53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7e97a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Прямоугольник 1"/>
          <p:cNvSpPr/>
          <p:nvPr/>
        </p:nvSpPr>
        <p:spPr>
          <a:xfrm>
            <a:off x="684360" y="2828880"/>
            <a:ext cx="7592760" cy="162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unga"/>
              </a:rPr>
              <a:t>Уравнение вида у=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unga"/>
              </a:rPr>
              <a:t>f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</a:t>
            </a:r>
            <a:r>
              <a:rPr b="0" lang="ru-RU" sz="32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о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unga"/>
              </a:rPr>
              <a:t>)+f’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х</a:t>
            </a:r>
            <a:r>
              <a:rPr b="0" lang="ru-RU" sz="32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о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unga"/>
              </a:rPr>
              <a:t>)(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unga"/>
              </a:rPr>
              <a:t>х-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</a:t>
            </a:r>
            <a:r>
              <a:rPr b="0" lang="ru-RU" sz="32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о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r>
              <a:rPr b="0" lang="ru-RU" sz="32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unga"/>
              </a:rPr>
              <a:t>является уравнением касательной к графику функции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539640" y="404280"/>
            <a:ext cx="7848720" cy="230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1f2123"/>
                </a:solidFill>
                <a:uFillTx/>
                <a:latin typeface="Arial Narrow"/>
                <a:ea typeface="Times New Roman"/>
              </a:rPr>
              <a:t>1. Если задана точка касания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f2123"/>
                </a:solidFill>
                <a:latin typeface="Arial Narrow"/>
                <a:ea typeface="Times New Roman"/>
              </a:rPr>
              <a:t>Написать уравнение касательной к графику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f2123"/>
                </a:solidFill>
                <a:latin typeface="Arial Narrow"/>
                <a:ea typeface="Times New Roman"/>
              </a:rPr>
              <a:t>функции </a:t>
            </a:r>
            <a:r>
              <a:rPr b="0" i="1" lang="ru-RU" sz="2800" spc="-1" strike="noStrike">
                <a:solidFill>
                  <a:srgbClr val="1f2123"/>
                </a:solidFill>
                <a:latin typeface="Arial Narrow"/>
                <a:ea typeface="Times New Roman"/>
              </a:rPr>
              <a:t>f(x) = x</a:t>
            </a:r>
            <a:r>
              <a:rPr b="0" i="1" lang="ru-RU" sz="2800" spc="-1" strike="noStrike" baseline="30000">
                <a:solidFill>
                  <a:srgbClr val="1f2123"/>
                </a:solidFill>
                <a:latin typeface="Arial Narrow"/>
                <a:ea typeface="Times New Roman"/>
              </a:rPr>
              <a:t>3</a:t>
            </a:r>
            <a:r>
              <a:rPr b="0" i="1" lang="ru-RU" sz="2800" spc="-1" strike="noStrike">
                <a:solidFill>
                  <a:srgbClr val="1f2123"/>
                </a:solidFill>
                <a:latin typeface="Arial Narrow"/>
                <a:ea typeface="Times New Roman"/>
              </a:rPr>
              <a:t> – 3x – 1</a:t>
            </a:r>
            <a:r>
              <a:rPr b="0" lang="ru-RU" sz="2800" spc="-1" strike="noStrike">
                <a:solidFill>
                  <a:srgbClr val="1f2123"/>
                </a:solidFill>
                <a:latin typeface="Arial Narrow"/>
                <a:ea typeface="Times New Roman"/>
              </a:rPr>
              <a:t> в точке М с абсциссой  2. 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539640" y="3357720"/>
            <a:ext cx="7848720" cy="2087280"/>
          </a:xfrm>
          <a:prstGeom prst="rect">
            <a:avLst/>
          </a:prstGeom>
          <a:solidFill>
            <a:srgbClr val="ebe9e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1f2123"/>
                </a:solidFill>
                <a:uFillTx/>
                <a:latin typeface="Arial Narrow"/>
                <a:ea typeface="Times New Roman"/>
              </a:rPr>
              <a:t>2.</a:t>
            </a:r>
            <a:r>
              <a:rPr b="0" lang="ru-RU" sz="2800" spc="-1" strike="noStrike">
                <a:solidFill>
                  <a:srgbClr val="1f2123"/>
                </a:solidFill>
                <a:latin typeface="Arial Narrow"/>
                <a:ea typeface="Times New Roman"/>
              </a:rPr>
              <a:t> </a:t>
            </a:r>
            <a:r>
              <a:rPr b="0" lang="ru-RU" sz="2800" spc="-1" strike="noStrike" u="sng">
                <a:solidFill>
                  <a:srgbClr val="1f2123"/>
                </a:solidFill>
                <a:uFillTx/>
                <a:latin typeface="Arial Narrow"/>
                <a:ea typeface="Times New Roman"/>
              </a:rPr>
              <a:t>По ординате точки касания.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f2123"/>
                </a:solidFill>
                <a:latin typeface="Arial Narrow"/>
                <a:ea typeface="Times New Roman"/>
              </a:rPr>
              <a:t>Написать  уравнение касательной в точке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f2123"/>
                </a:solidFill>
                <a:latin typeface="Arial Narrow"/>
                <a:ea typeface="Times New Roman"/>
              </a:rPr>
              <a:t>графика                      с ординатой y</a:t>
            </a:r>
            <a:r>
              <a:rPr b="0" lang="ru-RU" sz="2800" spc="-1" strike="noStrike" baseline="-25000">
                <a:solidFill>
                  <a:srgbClr val="1f2123"/>
                </a:solidFill>
                <a:latin typeface="Arial Narrow"/>
                <a:ea typeface="Times New Roman"/>
              </a:rPr>
              <a:t>0</a:t>
            </a:r>
            <a:r>
              <a:rPr b="0" lang="ru-RU" sz="2800" spc="-1" strike="noStrike">
                <a:solidFill>
                  <a:srgbClr val="1f2123"/>
                </a:solidFill>
                <a:latin typeface="Arial Narrow"/>
                <a:ea typeface="Times New Roman"/>
              </a:rPr>
              <a:t>  = 1.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9" name="Object 5"/>
              <p:cNvSpPr txBox="1"/>
              <p:nvPr/>
            </p:nvSpPr>
            <p:spPr>
              <a:xfrm>
                <a:off x="2050920" y="4292640"/>
                <a:ext cx="144000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Прямоугольник 1"/>
          <p:cNvSpPr/>
          <p:nvPr/>
        </p:nvSpPr>
        <p:spPr>
          <a:xfrm>
            <a:off x="684360" y="620640"/>
            <a:ext cx="8064360" cy="583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11120" indent="-34272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 Написать  уравнения всех касательных к графику  функции  </a:t>
            </a:r>
            <a:r>
              <a:rPr b="0" i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(x) = x</a:t>
            </a:r>
            <a:r>
              <a:rPr b="0" i="1" lang="ru-RU" sz="40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i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i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 4</a:t>
            </a:r>
            <a:r>
              <a:rPr b="0" i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 + </a:t>
            </a:r>
            <a:r>
              <a:rPr b="0" i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, проходящих через  точку М (-3; -1)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411120" indent="-34272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0efe0"/>
                </a:solidFill>
                <a:latin typeface="Times New Roman"/>
                <a:ea typeface="Times New Roman"/>
              </a:rPr>
              <a:t>2.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Правильно ли составлено уравнение касательной к графику функции  </a:t>
            </a:r>
            <a:r>
              <a:rPr b="0" i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(x)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=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ru-RU" sz="40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-3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ru-RU" sz="40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+1, если угловой коэффициент касательной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= -3,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= -3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+7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411120" indent="-34272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/>
          </p:nvPr>
        </p:nvSpPr>
        <p:spPr>
          <a:xfrm>
            <a:off x="380880" y="259920"/>
            <a:ext cx="8763120" cy="575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Написать  уравнения всех касательных к графику функции   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411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F(x)</a:t>
            </a:r>
            <a:r>
              <a:rPr b="0" lang="ru-RU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 = х</a:t>
            </a:r>
            <a:r>
              <a:rPr b="0" lang="ru-RU" sz="2000" spc="-1" strike="noStrike" baseline="30000">
                <a:solidFill>
                  <a:srgbClr val="ffffff"/>
                </a:solidFill>
                <a:latin typeface="Arial Narrow"/>
                <a:ea typeface="Times New Roman"/>
              </a:rPr>
              <a:t>2</a:t>
            </a:r>
            <a:r>
              <a:rPr b="0" lang="ru-RU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 +4х+6  проходящих через точку М(-3;-1).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411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 Narrow"/>
                <a:ea typeface="Times New Roman"/>
              </a:rPr>
              <a:t>Решение.</a:t>
            </a:r>
            <a:r>
              <a:rPr b="0" lang="ru-RU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  1. Точка М(-3;-1) не является точкой касания, так как  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f</a:t>
            </a:r>
            <a:r>
              <a:rPr b="0" lang="ru-RU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(-3)=3.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4111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2. а – абсцисса точки касания.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4111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3. </a:t>
            </a:r>
            <a:r>
              <a:rPr b="0" lang="ru-RU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Найдем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   f(a):     f(a) = a 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 Narrow"/>
                <a:ea typeface="Times New Roman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+4a+6.    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4111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4.  Найдем  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f</a:t>
            </a:r>
            <a:r>
              <a:rPr b="0" lang="ru-RU" sz="20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’(x) </a:t>
            </a:r>
            <a:r>
              <a:rPr b="0" lang="ru-RU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и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 f</a:t>
            </a:r>
            <a:r>
              <a:rPr b="0" lang="ru-RU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’(a)</a:t>
            </a:r>
            <a:r>
              <a:rPr b="0" lang="ru-RU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: 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 f</a:t>
            </a:r>
            <a:r>
              <a:rPr b="0" lang="ru-RU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’(x)</a:t>
            </a:r>
            <a:r>
              <a:rPr b="0" lang="ru-RU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=2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x</a:t>
            </a:r>
            <a:r>
              <a:rPr b="0" lang="ru-RU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+4,   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f</a:t>
            </a:r>
            <a:r>
              <a:rPr b="0" lang="ru-RU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’(a)</a:t>
            </a:r>
            <a:r>
              <a:rPr b="0" lang="ru-RU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=2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a</a:t>
            </a:r>
            <a:r>
              <a:rPr b="0" lang="ru-RU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+4. 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4111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5. Подставим числа а, 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f</a:t>
            </a:r>
            <a:r>
              <a:rPr b="0" lang="ru-RU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(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a</a:t>
            </a:r>
            <a:r>
              <a:rPr b="0" lang="ru-RU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),  в общее уравнение касательной  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4111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у= 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f</a:t>
            </a:r>
            <a:r>
              <a:rPr b="0" lang="ru-RU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(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a</a:t>
            </a:r>
            <a:r>
              <a:rPr b="0" lang="ru-RU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)+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 f’(a)</a:t>
            </a:r>
            <a:r>
              <a:rPr b="0" lang="ru-RU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(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x</a:t>
            </a:r>
            <a:r>
              <a:rPr b="0" lang="ru-RU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–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a</a:t>
            </a:r>
            <a:r>
              <a:rPr b="0" lang="ru-RU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):       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y</a:t>
            </a:r>
            <a:r>
              <a:rPr b="0" lang="ru-RU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=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a</a:t>
            </a:r>
            <a:r>
              <a:rPr b="0" lang="ru-RU" sz="2000" spc="-1" strike="noStrike" baseline="30000">
                <a:solidFill>
                  <a:srgbClr val="ffffff"/>
                </a:solidFill>
                <a:latin typeface="Arial Narrow"/>
                <a:ea typeface="Times New Roman"/>
              </a:rPr>
              <a:t>2</a:t>
            </a:r>
            <a:r>
              <a:rPr b="0" lang="ru-RU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+4a+6+(2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a</a:t>
            </a:r>
            <a:r>
              <a:rPr b="0" lang="ru-RU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+4)(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x</a:t>
            </a:r>
            <a:r>
              <a:rPr b="0" lang="ru-RU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–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a</a:t>
            </a:r>
            <a:r>
              <a:rPr b="0" lang="ru-RU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) – уравнение касательной.  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4111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Так как касательная проходит через точку М(-3;-1), то   -1=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a</a:t>
            </a:r>
            <a:r>
              <a:rPr b="0" lang="ru-RU" sz="2000" spc="-1" strike="noStrike" baseline="30000">
                <a:solidFill>
                  <a:srgbClr val="ffffff"/>
                </a:solidFill>
                <a:latin typeface="Arial Narrow"/>
                <a:ea typeface="Times New Roman"/>
              </a:rPr>
              <a:t>2</a:t>
            </a:r>
            <a:r>
              <a:rPr b="0" lang="ru-RU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+4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a</a:t>
            </a:r>
            <a:r>
              <a:rPr b="0" lang="ru-RU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+6+(2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a</a:t>
            </a:r>
            <a:r>
              <a:rPr b="0" lang="ru-RU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+4)(-3–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a</a:t>
            </a:r>
            <a:r>
              <a:rPr b="0" lang="ru-RU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),   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a</a:t>
            </a:r>
            <a:r>
              <a:rPr b="0" lang="ru-RU" sz="2000" spc="-1" strike="noStrike" baseline="30000">
                <a:solidFill>
                  <a:srgbClr val="ffffff"/>
                </a:solidFill>
                <a:latin typeface="Arial Narrow"/>
                <a:ea typeface="Times New Roman"/>
              </a:rPr>
              <a:t>2</a:t>
            </a:r>
            <a:r>
              <a:rPr b="0" lang="ru-RU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+6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a</a:t>
            </a:r>
            <a:r>
              <a:rPr b="0" lang="ru-RU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+5=0,   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a</a:t>
            </a:r>
            <a:r>
              <a:rPr b="0" lang="ru-RU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=-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5</a:t>
            </a:r>
            <a:r>
              <a:rPr b="0" lang="ru-RU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  или  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a</a:t>
            </a:r>
            <a:r>
              <a:rPr b="0" lang="ru-RU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=-1.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4111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Если  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a</a:t>
            </a:r>
            <a:r>
              <a:rPr b="0" lang="ru-RU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=-5,  то  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y</a:t>
            </a:r>
            <a:r>
              <a:rPr b="0" lang="ru-RU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=-6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x</a:t>
            </a:r>
            <a:r>
              <a:rPr b="0" lang="ru-RU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–19 – уравнение касательной.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4111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Если 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a</a:t>
            </a:r>
            <a:r>
              <a:rPr b="0" lang="ru-RU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=-1,   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y</a:t>
            </a:r>
            <a:r>
              <a:rPr b="0" lang="ru-RU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=2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x</a:t>
            </a:r>
            <a:r>
              <a:rPr b="0" lang="ru-RU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+5  – уравнение касательной.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4111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 Narrow"/>
                <a:ea typeface="Times New Roman"/>
              </a:rPr>
              <a:t>Ответ:</a:t>
            </a:r>
            <a:r>
              <a:rPr b="0" lang="ru-RU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y</a:t>
            </a:r>
            <a:r>
              <a:rPr b="0" lang="ru-RU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=-6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x</a:t>
            </a:r>
            <a:r>
              <a:rPr b="0" lang="ru-RU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–19,     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y</a:t>
            </a:r>
            <a:r>
              <a:rPr b="0" lang="ru-RU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=2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x</a:t>
            </a:r>
            <a:r>
              <a:rPr b="0" lang="ru-RU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+5.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411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2" name="AutoShape 2">
            <a:hlinkClick r:id="" action="ppaction://hlinkshowjump?jump=nextslide"/>
          </p:cNvPr>
          <p:cNvSpPr/>
          <p:nvPr/>
        </p:nvSpPr>
        <p:spPr>
          <a:xfrm>
            <a:off x="8277120" y="5757840"/>
            <a:ext cx="540000" cy="539640"/>
          </a:xfrm>
          <a:custGeom>
            <a:avLst/>
            <a:gdLst>
              <a:gd name="textAreaLeft" fmla="*/ 34920 w 540000"/>
              <a:gd name="textAreaRight" fmla="*/ 505080 w 540000"/>
              <a:gd name="textAreaTop" fmla="*/ 34920 h 539640"/>
              <a:gd name="textAreaBottom" fmla="*/ 504720 h 539640"/>
            </a:gdLst>
            <a:ahLst/>
            <a:rect l="textAreaLeft" t="textAreaTop" r="textAreaRight" b="textAreaBottom"/>
            <a:pathLst>
              <a:path w="21614" h="21600">
                <a:moveTo>
                  <a:pt x="0" y="0"/>
                </a:moveTo>
                <a:lnTo>
                  <a:pt x="21614" y="0"/>
                </a:lnTo>
                <a:lnTo>
                  <a:pt x="21614" y="21600"/>
                </a:lnTo>
                <a:lnTo>
                  <a:pt x="0" y="21600"/>
                </a:lnTo>
                <a:close/>
              </a:path>
              <a:path fill="lightenLess" w="21614" h="21600">
                <a:moveTo>
                  <a:pt x="0" y="0"/>
                </a:moveTo>
                <a:lnTo>
                  <a:pt x="21614" y="0"/>
                </a:lnTo>
                <a:lnTo>
                  <a:pt x="20214" y="1400"/>
                </a:lnTo>
                <a:lnTo>
                  <a:pt x="1400" y="1400"/>
                </a:lnTo>
                <a:close/>
              </a:path>
              <a:path fill="darken" w="21614" h="21600">
                <a:moveTo>
                  <a:pt x="21614" y="0"/>
                </a:moveTo>
                <a:lnTo>
                  <a:pt x="21614" y="21600"/>
                </a:lnTo>
                <a:lnTo>
                  <a:pt x="20214" y="20200"/>
                </a:lnTo>
                <a:lnTo>
                  <a:pt x="20214" y="1400"/>
                </a:lnTo>
                <a:close/>
              </a:path>
              <a:path fill="darkenLess" w="21614" h="21600">
                <a:moveTo>
                  <a:pt x="216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4" y="20200"/>
                </a:lnTo>
                <a:close/>
              </a:path>
              <a:path fill="lighten" w="216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4" h="21600">
                <a:moveTo>
                  <a:pt x="3801" y="3794"/>
                </a:moveTo>
                <a:lnTo>
                  <a:pt x="17814" y="10800"/>
                </a:lnTo>
                <a:lnTo>
                  <a:pt x="3801" y="17806"/>
                </a:lnTo>
                <a:close/>
              </a:path>
            </a:pathLst>
          </a:custGeom>
          <a:solidFill>
            <a:srgbClr val="7e97a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AutoShape 1">
            <a:hlinkClick r:id="" action="ppaction://hlinkshowjump?jump=previousslide"/>
          </p:cNvPr>
          <p:cNvSpPr/>
          <p:nvPr/>
        </p:nvSpPr>
        <p:spPr>
          <a:xfrm>
            <a:off x="7556400" y="5757840"/>
            <a:ext cx="540000" cy="539640"/>
          </a:xfrm>
          <a:custGeom>
            <a:avLst/>
            <a:gdLst>
              <a:gd name="textAreaLeft" fmla="*/ 34920 w 540000"/>
              <a:gd name="textAreaRight" fmla="*/ 505080 w 540000"/>
              <a:gd name="textAreaTop" fmla="*/ 34920 h 539640"/>
              <a:gd name="textAreaBottom" fmla="*/ 504720 h 539640"/>
            </a:gdLst>
            <a:ahLst/>
            <a:rect l="textAreaLeft" t="textAreaTop" r="textAreaRight" b="textAreaBottom"/>
            <a:pathLst>
              <a:path w="21614" h="21600">
                <a:moveTo>
                  <a:pt x="0" y="0"/>
                </a:moveTo>
                <a:lnTo>
                  <a:pt x="21614" y="0"/>
                </a:lnTo>
                <a:lnTo>
                  <a:pt x="21614" y="21600"/>
                </a:lnTo>
                <a:lnTo>
                  <a:pt x="0" y="21600"/>
                </a:lnTo>
                <a:close/>
              </a:path>
              <a:path fill="lightenLess" w="21614" h="21600">
                <a:moveTo>
                  <a:pt x="0" y="0"/>
                </a:moveTo>
                <a:lnTo>
                  <a:pt x="21614" y="0"/>
                </a:lnTo>
                <a:lnTo>
                  <a:pt x="20214" y="1400"/>
                </a:lnTo>
                <a:lnTo>
                  <a:pt x="1400" y="1400"/>
                </a:lnTo>
                <a:close/>
              </a:path>
              <a:path fill="darken" w="21614" h="21600">
                <a:moveTo>
                  <a:pt x="21614" y="0"/>
                </a:moveTo>
                <a:lnTo>
                  <a:pt x="21614" y="21600"/>
                </a:lnTo>
                <a:lnTo>
                  <a:pt x="20214" y="20200"/>
                </a:lnTo>
                <a:lnTo>
                  <a:pt x="20214" y="1400"/>
                </a:lnTo>
                <a:close/>
              </a:path>
              <a:path fill="darkenLess" w="21614" h="21600">
                <a:moveTo>
                  <a:pt x="216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4" y="20200"/>
                </a:lnTo>
                <a:close/>
              </a:path>
              <a:path fill="lighten" w="216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4" h="21600">
                <a:moveTo>
                  <a:pt x="3801" y="10800"/>
                </a:moveTo>
                <a:lnTo>
                  <a:pt x="17814" y="3794"/>
                </a:lnTo>
                <a:lnTo>
                  <a:pt x="17814" y="17806"/>
                </a:lnTo>
                <a:close/>
              </a:path>
            </a:pathLst>
          </a:custGeom>
          <a:solidFill>
            <a:srgbClr val="7e97a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AutoShape 0"/>
          <p:cNvSpPr/>
          <p:nvPr/>
        </p:nvSpPr>
        <p:spPr>
          <a:xfrm>
            <a:off x="912960" y="5757840"/>
            <a:ext cx="539640" cy="539640"/>
          </a:xfrm>
          <a:custGeom>
            <a:avLst/>
            <a:gdLst>
              <a:gd name="textAreaLeft" fmla="*/ 34920 w 539640"/>
              <a:gd name="textAreaRight" fmla="*/ 504720 w 539640"/>
              <a:gd name="textAreaTop" fmla="*/ 34920 h 539640"/>
              <a:gd name="textAreaBottom" fmla="*/ 504720 h 53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7e97a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Прямоугольник 1"/>
          <p:cNvSpPr/>
          <p:nvPr/>
        </p:nvSpPr>
        <p:spPr>
          <a:xfrm>
            <a:off x="684360" y="692280"/>
            <a:ext cx="770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  <a:ea typeface="Tunga"/>
              </a:rPr>
              <a:t> </a:t>
            </a:r>
            <a:r>
              <a:rPr b="0" lang="ru-RU" sz="3600" spc="-1" strike="noStrike">
                <a:solidFill>
                  <a:srgbClr val="ffff00"/>
                </a:solidFill>
                <a:latin typeface="Times New Roman"/>
                <a:ea typeface="Tunga"/>
              </a:rPr>
              <a:t>Условия параллельности и перпендикулярности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Times New Roman"/>
                <a:ea typeface="Tunga"/>
              </a:rPr>
              <a:t>двух прямых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Прямоугольник 2"/>
          <p:cNvSpPr/>
          <p:nvPr/>
        </p:nvSpPr>
        <p:spPr>
          <a:xfrm>
            <a:off x="934920" y="2924280"/>
            <a:ext cx="7201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11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усть даны две прямые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11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у1=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1x+b1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и  у2=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x+b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2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11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Если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1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=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k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2, то прямая  у1 параллельна  у2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11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Если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1</a:t>
            </a:r>
            <a:r>
              <a:rPr b="0" lang="ru-RU" sz="2800" spc="-1" strike="noStrike">
                <a:solidFill>
                  <a:srgbClr val="ffffff"/>
                </a:solidFill>
                <a:latin typeface="Symbol"/>
                <a:ea typeface="Symbol"/>
              </a:rPr>
              <a:t>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2= –1, то данные прямые взаимно перпендикулярны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 txBox="1"/>
          <p:nvPr/>
        </p:nvSpPr>
        <p:spPr>
          <a:xfrm>
            <a:off x="611280" y="765000"/>
            <a:ext cx="7772400" cy="175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 Составить уравнение касательной к графику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ункции  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(x)</a:t>
            </a:r>
            <a:r>
              <a:rPr b="0" i="1" lang="ru-RU" sz="28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 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=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</a:t>
            </a:r>
            <a:r>
              <a:rPr b="0" lang="ru-RU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4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1, перпендикулярной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ямой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= -1/4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8. 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68" name="Прямоугольник 1" descr=""/>
          <p:cNvPicPr/>
          <p:nvPr/>
        </p:nvPicPr>
        <p:blipFill>
          <a:blip r:embed="rId1"/>
          <a:stretch/>
        </p:blipFill>
        <p:spPr>
          <a:xfrm>
            <a:off x="658800" y="3213000"/>
            <a:ext cx="7485120" cy="199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744480" y="7650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 Narrow"/>
              </a:rPr>
              <a:t>Условие касания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  <a:p>
            <a:pPr marL="411120" indent="-34272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Narrow"/>
              </a:rPr>
              <a:t>     </a:t>
            </a:r>
            <a:r>
              <a:rPr b="0" lang="ru-RU" sz="3200" spc="-1" strike="noStrike">
                <a:solidFill>
                  <a:srgbClr val="ffffff"/>
                </a:solidFill>
                <a:latin typeface="Arial Narrow"/>
              </a:rPr>
              <a:t>Прямая у=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k</a:t>
            </a:r>
            <a:r>
              <a:rPr b="0" lang="ru-RU" sz="3200" spc="-1" strike="noStrike">
                <a:solidFill>
                  <a:srgbClr val="ffffff"/>
                </a:solidFill>
                <a:latin typeface="Arial Narrow"/>
              </a:rPr>
              <a:t>х+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b</a:t>
            </a:r>
            <a:r>
              <a:rPr b="0" lang="ru-RU" sz="3200" spc="-1" strike="noStrike">
                <a:solidFill>
                  <a:srgbClr val="ffffff"/>
                </a:solidFill>
                <a:latin typeface="Arial Narrow"/>
              </a:rPr>
              <a:t> является касательной к графику функции у=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f(x)</a:t>
            </a:r>
            <a:r>
              <a:rPr b="0" lang="ru-RU" sz="3200" spc="-1" strike="noStrike">
                <a:solidFill>
                  <a:srgbClr val="ffffff"/>
                </a:solidFill>
                <a:latin typeface="Arial Narrow"/>
              </a:rPr>
              <a:t>  тогда и только тогда, когда существует хотя бы одна  точка касания  а, для которой  выполняется система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11120" indent="-34272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11120" indent="-34272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Narrow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f(a)=ka+b,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11120" indent="-34272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f</a:t>
            </a:r>
            <a:r>
              <a:rPr b="0" lang="ru-RU" sz="32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’(a)=k.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0" name="AutoShape 3"/>
          <p:cNvSpPr/>
          <p:nvPr/>
        </p:nvSpPr>
        <p:spPr>
          <a:xfrm>
            <a:off x="1182600" y="4292640"/>
            <a:ext cx="152640" cy="914400"/>
          </a:xfrm>
          <a:custGeom>
            <a:avLst/>
            <a:gdLst>
              <a:gd name="textAreaLeft" fmla="*/ 97560 w 152640"/>
              <a:gd name="textAreaRight" fmla="*/ 153000 w 15264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AutoShape 2">
            <a:hlinkClick r:id="" action="ppaction://hlinkshowjump?jump=nextslide"/>
          </p:cNvPr>
          <p:cNvSpPr/>
          <p:nvPr/>
        </p:nvSpPr>
        <p:spPr>
          <a:xfrm>
            <a:off x="8277120" y="5757840"/>
            <a:ext cx="540000" cy="539640"/>
          </a:xfrm>
          <a:custGeom>
            <a:avLst/>
            <a:gdLst>
              <a:gd name="textAreaLeft" fmla="*/ 34920 w 540000"/>
              <a:gd name="textAreaRight" fmla="*/ 505080 w 540000"/>
              <a:gd name="textAreaTop" fmla="*/ 34920 h 539640"/>
              <a:gd name="textAreaBottom" fmla="*/ 504720 h 539640"/>
            </a:gdLst>
            <a:ahLst/>
            <a:rect l="textAreaLeft" t="textAreaTop" r="textAreaRight" b="textAreaBottom"/>
            <a:pathLst>
              <a:path w="21614" h="21600">
                <a:moveTo>
                  <a:pt x="0" y="0"/>
                </a:moveTo>
                <a:lnTo>
                  <a:pt x="21614" y="0"/>
                </a:lnTo>
                <a:lnTo>
                  <a:pt x="21614" y="21600"/>
                </a:lnTo>
                <a:lnTo>
                  <a:pt x="0" y="21600"/>
                </a:lnTo>
                <a:close/>
              </a:path>
              <a:path fill="lightenLess" w="21614" h="21600">
                <a:moveTo>
                  <a:pt x="0" y="0"/>
                </a:moveTo>
                <a:lnTo>
                  <a:pt x="21614" y="0"/>
                </a:lnTo>
                <a:lnTo>
                  <a:pt x="20214" y="1400"/>
                </a:lnTo>
                <a:lnTo>
                  <a:pt x="1400" y="1400"/>
                </a:lnTo>
                <a:close/>
              </a:path>
              <a:path fill="darken" w="21614" h="21600">
                <a:moveTo>
                  <a:pt x="21614" y="0"/>
                </a:moveTo>
                <a:lnTo>
                  <a:pt x="21614" y="21600"/>
                </a:lnTo>
                <a:lnTo>
                  <a:pt x="20214" y="20200"/>
                </a:lnTo>
                <a:lnTo>
                  <a:pt x="20214" y="1400"/>
                </a:lnTo>
                <a:close/>
              </a:path>
              <a:path fill="darkenLess" w="21614" h="21600">
                <a:moveTo>
                  <a:pt x="216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4" y="20200"/>
                </a:lnTo>
                <a:close/>
              </a:path>
              <a:path fill="lighten" w="216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4" h="21600">
                <a:moveTo>
                  <a:pt x="3801" y="3794"/>
                </a:moveTo>
                <a:lnTo>
                  <a:pt x="17814" y="10800"/>
                </a:lnTo>
                <a:lnTo>
                  <a:pt x="3801" y="17806"/>
                </a:lnTo>
                <a:close/>
              </a:path>
            </a:pathLst>
          </a:custGeom>
          <a:solidFill>
            <a:srgbClr val="7e97a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AutoShape 1">
            <a:hlinkClick r:id="" action="ppaction://hlinkshowjump?jump=previousslide"/>
          </p:cNvPr>
          <p:cNvSpPr/>
          <p:nvPr/>
        </p:nvSpPr>
        <p:spPr>
          <a:xfrm>
            <a:off x="7556400" y="5757840"/>
            <a:ext cx="540000" cy="539640"/>
          </a:xfrm>
          <a:custGeom>
            <a:avLst/>
            <a:gdLst>
              <a:gd name="textAreaLeft" fmla="*/ 34920 w 540000"/>
              <a:gd name="textAreaRight" fmla="*/ 505080 w 540000"/>
              <a:gd name="textAreaTop" fmla="*/ 34920 h 539640"/>
              <a:gd name="textAreaBottom" fmla="*/ 504720 h 539640"/>
            </a:gdLst>
            <a:ahLst/>
            <a:rect l="textAreaLeft" t="textAreaTop" r="textAreaRight" b="textAreaBottom"/>
            <a:pathLst>
              <a:path w="21614" h="21600">
                <a:moveTo>
                  <a:pt x="0" y="0"/>
                </a:moveTo>
                <a:lnTo>
                  <a:pt x="21614" y="0"/>
                </a:lnTo>
                <a:lnTo>
                  <a:pt x="21614" y="21600"/>
                </a:lnTo>
                <a:lnTo>
                  <a:pt x="0" y="21600"/>
                </a:lnTo>
                <a:close/>
              </a:path>
              <a:path fill="lightenLess" w="21614" h="21600">
                <a:moveTo>
                  <a:pt x="0" y="0"/>
                </a:moveTo>
                <a:lnTo>
                  <a:pt x="21614" y="0"/>
                </a:lnTo>
                <a:lnTo>
                  <a:pt x="20214" y="1400"/>
                </a:lnTo>
                <a:lnTo>
                  <a:pt x="1400" y="1400"/>
                </a:lnTo>
                <a:close/>
              </a:path>
              <a:path fill="darken" w="21614" h="21600">
                <a:moveTo>
                  <a:pt x="21614" y="0"/>
                </a:moveTo>
                <a:lnTo>
                  <a:pt x="21614" y="21600"/>
                </a:lnTo>
                <a:lnTo>
                  <a:pt x="20214" y="20200"/>
                </a:lnTo>
                <a:lnTo>
                  <a:pt x="20214" y="1400"/>
                </a:lnTo>
                <a:close/>
              </a:path>
              <a:path fill="darkenLess" w="21614" h="21600">
                <a:moveTo>
                  <a:pt x="216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4" y="20200"/>
                </a:lnTo>
                <a:close/>
              </a:path>
              <a:path fill="lighten" w="216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4" h="21600">
                <a:moveTo>
                  <a:pt x="3801" y="10800"/>
                </a:moveTo>
                <a:lnTo>
                  <a:pt x="17814" y="3794"/>
                </a:lnTo>
                <a:lnTo>
                  <a:pt x="17814" y="17806"/>
                </a:lnTo>
                <a:close/>
              </a:path>
            </a:pathLst>
          </a:custGeom>
          <a:solidFill>
            <a:srgbClr val="7e97a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AutoShape 0"/>
          <p:cNvSpPr/>
          <p:nvPr/>
        </p:nvSpPr>
        <p:spPr>
          <a:xfrm>
            <a:off x="912960" y="5757840"/>
            <a:ext cx="539640" cy="539640"/>
          </a:xfrm>
          <a:custGeom>
            <a:avLst/>
            <a:gdLst>
              <a:gd name="textAreaLeft" fmla="*/ 34920 w 539640"/>
              <a:gd name="textAreaRight" fmla="*/ 504720 w 539640"/>
              <a:gd name="textAreaTop" fmla="*/ 34920 h 539640"/>
              <a:gd name="textAreaBottom" fmla="*/ 504720 h 53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7e97a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00000" y="256500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 Narrow"/>
              </a:rPr>
              <a:t>ЦЕЛЬ УРОКА:</a:t>
            </a:r>
            <a:br>
              <a:rPr sz="3000"/>
            </a:br>
            <a:br>
              <a:rPr sz="3000"/>
            </a:br>
            <a:r>
              <a:rPr b="0" lang="ru-RU" sz="3000" spc="-1" strike="noStrike">
                <a:solidFill>
                  <a:srgbClr val="ffffff"/>
                </a:solidFill>
                <a:latin typeface="Arial Narrow"/>
              </a:rPr>
              <a:t>НА ОСНОВЕ РЕШЕНИЯ ЗАДАЧ ВЫВЕСТИ УСЛОВИЕ КАСАНИЯ  ПРЯМОЙ </a:t>
            </a:r>
            <a:r>
              <a:rPr b="0" lang="ru-RU" sz="3000" spc="-1" strike="noStrike">
                <a:solidFill>
                  <a:srgbClr val="ffffff"/>
                </a:solidFill>
                <a:latin typeface="Arial Narrow"/>
              </a:rPr>
              <a:t>у=</a:t>
            </a: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k</a:t>
            </a:r>
            <a:r>
              <a:rPr b="0" lang="ru-RU" sz="3000" spc="-1" strike="noStrike">
                <a:solidFill>
                  <a:srgbClr val="ffffff"/>
                </a:solidFill>
                <a:latin typeface="Arial Narrow"/>
              </a:rPr>
              <a:t>х+</a:t>
            </a: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b</a:t>
            </a:r>
            <a:r>
              <a:rPr b="0" lang="ru-RU" sz="3000" spc="-1" strike="noStrike">
                <a:solidFill>
                  <a:srgbClr val="ffffff"/>
                </a:solidFill>
                <a:latin typeface="Arial Narrow"/>
              </a:rPr>
              <a:t> С Г</a:t>
            </a:r>
            <a:r>
              <a:rPr b="0" lang="ru-RU" sz="3000" spc="-1" strike="noStrike">
                <a:solidFill>
                  <a:srgbClr val="ffffff"/>
                </a:solidFill>
                <a:latin typeface="Arial Narrow"/>
              </a:rPr>
              <a:t>РАФИКОМ  ФУНКЦИИ    </a:t>
            </a:r>
            <a:r>
              <a:rPr b="0" lang="ru-RU" sz="3000" spc="-1" strike="noStrike">
                <a:solidFill>
                  <a:srgbClr val="ffffff"/>
                </a:solidFill>
                <a:latin typeface="Arial Narrow"/>
              </a:rPr>
              <a:t>у=</a:t>
            </a: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f(x)</a:t>
            </a:r>
            <a:r>
              <a:rPr b="0" lang="ru-RU" sz="30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3716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be00"/>
                </a:solidFill>
                <a:latin typeface="Arial Narrow"/>
                <a:ea typeface="Times New Roman"/>
              </a:rPr>
              <a:t>СОГЛАСНЫ ЛИ ВЫ С УТВЕРЖДЕНИЕМ: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347840" y="2491920"/>
            <a:ext cx="7796160" cy="20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«Касательная – это прямая, имеющая с данной кривой одну общую точку»</a:t>
            </a:r>
            <a:endParaRPr b="0" lang="en-US" sz="34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9" name="Freeform 1"/>
          <p:cNvSpPr/>
          <p:nvPr/>
        </p:nvSpPr>
        <p:spPr>
          <a:xfrm>
            <a:off x="5533920" y="5375160"/>
            <a:ext cx="3610080" cy="1482840"/>
          </a:xfrm>
          <a:custGeom>
            <a:avLst/>
            <a:gdLst>
              <a:gd name="textAreaLeft" fmla="*/ 0 w 3610080"/>
              <a:gd name="textAreaRight" fmla="*/ 3610440 w 3610080"/>
              <a:gd name="textAreaTop" fmla="*/ 0 h 1482840"/>
              <a:gd name="textAreaBottom" fmla="*/ 1483200 h 1482840"/>
            </a:gdLst>
            <a:ahLst/>
            <a:rect l="textAreaLeft" t="textAreaTop" r="textAreaRight" b="textAreaBottom"/>
            <a:pathLst>
              <a:path w="5685" h="2335">
                <a:moveTo>
                  <a:pt x="0" y="2080"/>
                </a:moveTo>
                <a:cubicBezTo>
                  <a:pt x="442" y="1145"/>
                  <a:pt x="885" y="210"/>
                  <a:pt x="1410" y="250"/>
                </a:cubicBezTo>
                <a:cubicBezTo>
                  <a:pt x="1935" y="290"/>
                  <a:pt x="2578" y="2305"/>
                  <a:pt x="3150" y="2320"/>
                </a:cubicBezTo>
                <a:cubicBezTo>
                  <a:pt x="3722" y="2335"/>
                  <a:pt x="4423" y="680"/>
                  <a:pt x="4845" y="340"/>
                </a:cubicBezTo>
                <a:cubicBezTo>
                  <a:pt x="5267" y="0"/>
                  <a:pt x="5476" y="140"/>
                  <a:pt x="5685" y="280"/>
                </a:cubicBezTo>
              </a:path>
            </a:pathLst>
          </a:custGeom>
          <a:solidFill>
            <a:srgbClr val="e5dfec"/>
          </a:solidFill>
          <a:ln w="31680">
            <a:solidFill>
              <a:srgbClr val="5f497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Прямая соединительная линия 30"/>
          <p:cNvSpPr/>
          <p:nvPr/>
        </p:nvSpPr>
        <p:spPr>
          <a:xfrm>
            <a:off x="7357320" y="3143160"/>
            <a:ext cx="71640" cy="3502080"/>
          </a:xfrm>
          <a:prstGeom prst="line">
            <a:avLst/>
          </a:prstGeom>
          <a:ln w="38160">
            <a:solidFill>
              <a:srgbClr val="ff0000">
                <a:alpha val="84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Text Box 38"/>
          <p:cNvSpPr/>
          <p:nvPr/>
        </p:nvSpPr>
        <p:spPr>
          <a:xfrm>
            <a:off x="2000160" y="3286080"/>
            <a:ext cx="316080" cy="378000"/>
          </a:xfrm>
          <a:prstGeom prst="rect">
            <a:avLst/>
          </a:prstGeom>
          <a:noFill/>
          <a:ln w="0">
            <a:noFill/>
          </a:ln>
          <a:effectLst>
            <a:outerShdw dist="4284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2f2f2"/>
                </a:solidFill>
                <a:latin typeface="Arial Narrow"/>
                <a:ea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2" name="Group 32"/>
          <p:cNvGrpSpPr/>
          <p:nvPr/>
        </p:nvGrpSpPr>
        <p:grpSpPr>
          <a:xfrm>
            <a:off x="357120" y="428400"/>
            <a:ext cx="3796200" cy="3995640"/>
            <a:chOff x="357120" y="428400"/>
            <a:chExt cx="3796200" cy="3995640"/>
          </a:xfrm>
        </p:grpSpPr>
        <p:cxnSp>
          <p:nvCxnSpPr>
            <p:cNvPr id="183" name="AutoShape 33"/>
            <p:cNvCxnSpPr/>
            <p:nvPr/>
          </p:nvCxnSpPr>
          <p:spPr>
            <a:xfrm flipV="1">
              <a:off x="1777680" y="428400"/>
              <a:ext cx="1080" cy="3996000"/>
            </a:xfrm>
            <a:prstGeom prst="straightConnector1">
              <a:avLst/>
            </a:prstGeom>
            <a:ln w="25560">
              <a:solidFill>
                <a:srgbClr val="d8d4c5"/>
              </a:solidFill>
              <a:miter/>
              <a:tailEnd len="med" type="triangle" w="med"/>
            </a:ln>
          </p:spPr>
        </p:cxnSp>
        <p:cxnSp>
          <p:nvCxnSpPr>
            <p:cNvPr id="184" name="AutoShape 34"/>
            <p:cNvCxnSpPr/>
            <p:nvPr/>
          </p:nvCxnSpPr>
          <p:spPr>
            <a:xfrm>
              <a:off x="357120" y="3171600"/>
              <a:ext cx="3796560" cy="1080"/>
            </a:xfrm>
            <a:prstGeom prst="straightConnector1">
              <a:avLst/>
            </a:prstGeom>
            <a:ln w="25560">
              <a:solidFill>
                <a:srgbClr val="d8d4c5"/>
              </a:solidFill>
              <a:miter/>
              <a:tailEnd len="med" type="triangle" w="med"/>
            </a:ln>
          </p:spPr>
        </p:cxnSp>
      </p:grpSp>
      <p:grpSp>
        <p:nvGrpSpPr>
          <p:cNvPr id="185" name="Text Box 37"/>
          <p:cNvGrpSpPr/>
          <p:nvPr/>
        </p:nvGrpSpPr>
        <p:grpSpPr>
          <a:xfrm>
            <a:off x="3444840" y="5505480"/>
            <a:ext cx="1054080" cy="663480"/>
            <a:chOff x="3444840" y="5505480"/>
            <a:chExt cx="1054080" cy="663480"/>
          </a:xfrm>
        </p:grpSpPr>
        <p:pic>
          <p:nvPicPr>
            <p:cNvPr id="186" name="Text Box 37" descr=""/>
            <p:cNvPicPr/>
            <p:nvPr/>
          </p:nvPicPr>
          <p:blipFill>
            <a:blip r:embed="rId1"/>
            <a:stretch/>
          </p:blipFill>
          <p:spPr>
            <a:xfrm>
              <a:off x="3444840" y="5505480"/>
              <a:ext cx="1054080" cy="66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"/>
            <p:cNvSpPr/>
            <p:nvPr/>
          </p:nvSpPr>
          <p:spPr>
            <a:xfrm>
              <a:off x="3571920" y="5572080"/>
              <a:ext cx="857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2f2f2"/>
                  </a:solidFill>
                  <a:latin typeface="Arial Narrow"/>
                  <a:ea typeface="Times New Roman"/>
                </a:rPr>
                <a:t>y  = </a:t>
              </a:r>
              <a:r>
                <a:rPr b="0" lang="ru-RU" sz="2000" spc="-1" strike="noStrike">
                  <a:solidFill>
                    <a:srgbClr val="f2f2f2"/>
                  </a:solidFill>
                  <a:latin typeface="Arial Narrow"/>
                  <a:ea typeface="Times New Roman"/>
                </a:rPr>
                <a:t>-1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8" name="Text Box 38"/>
          <p:cNvGrpSpPr/>
          <p:nvPr/>
        </p:nvGrpSpPr>
        <p:grpSpPr>
          <a:xfrm>
            <a:off x="8315280" y="4730760"/>
            <a:ext cx="536760" cy="658800"/>
            <a:chOff x="8315280" y="4730760"/>
            <a:chExt cx="536760" cy="658800"/>
          </a:xfrm>
        </p:grpSpPr>
        <p:pic>
          <p:nvPicPr>
            <p:cNvPr id="189" name="Text Box 38" descr=""/>
            <p:cNvPicPr/>
            <p:nvPr/>
          </p:nvPicPr>
          <p:blipFill>
            <a:blip r:embed="rId2"/>
            <a:stretch/>
          </p:blipFill>
          <p:spPr>
            <a:xfrm>
              <a:off x="8315280" y="4730760"/>
              <a:ext cx="536760" cy="65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8440560" y="4795920"/>
              <a:ext cx="316080" cy="37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2f2f2"/>
                  </a:solidFill>
                  <a:latin typeface="Arial Narrow"/>
                  <a:ea typeface="Times New Roman"/>
                </a:rPr>
                <a:t>x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1" name="Text Box 39"/>
          <p:cNvGrpSpPr/>
          <p:nvPr/>
        </p:nvGrpSpPr>
        <p:grpSpPr>
          <a:xfrm>
            <a:off x="5456160" y="3127320"/>
            <a:ext cx="542880" cy="658800"/>
            <a:chOff x="5456160" y="3127320"/>
            <a:chExt cx="542880" cy="658800"/>
          </a:xfrm>
        </p:grpSpPr>
        <p:pic>
          <p:nvPicPr>
            <p:cNvPr id="192" name="Text Box 39" descr=""/>
            <p:cNvPicPr/>
            <p:nvPr/>
          </p:nvPicPr>
          <p:blipFill>
            <a:blip r:embed="rId3"/>
            <a:stretch/>
          </p:blipFill>
          <p:spPr>
            <a:xfrm>
              <a:off x="5456160" y="3127320"/>
              <a:ext cx="542880" cy="65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3" name=""/>
            <p:cNvSpPr/>
            <p:nvPr/>
          </p:nvSpPr>
          <p:spPr>
            <a:xfrm>
              <a:off x="5584680" y="3192480"/>
              <a:ext cx="316080" cy="37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2f2f2"/>
                  </a:solidFill>
                  <a:latin typeface="Arial Narrow"/>
                  <a:ea typeface="Times New Roman"/>
                </a:rPr>
                <a:t>y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4" name="Text Box 40"/>
          <p:cNvGrpSpPr/>
          <p:nvPr/>
        </p:nvGrpSpPr>
        <p:grpSpPr>
          <a:xfrm>
            <a:off x="6029280" y="3365640"/>
            <a:ext cx="1305000" cy="620640"/>
            <a:chOff x="6029280" y="3365640"/>
            <a:chExt cx="1305000" cy="620640"/>
          </a:xfrm>
        </p:grpSpPr>
        <p:pic>
          <p:nvPicPr>
            <p:cNvPr id="195" name="Text Box 40" descr=""/>
            <p:cNvPicPr/>
            <p:nvPr/>
          </p:nvPicPr>
          <p:blipFill>
            <a:blip r:embed="rId4"/>
            <a:stretch/>
          </p:blipFill>
          <p:spPr>
            <a:xfrm>
              <a:off x="6029280" y="3365640"/>
              <a:ext cx="1305000" cy="62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6143760" y="3429000"/>
              <a:ext cx="1123920" cy="36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2f2f2"/>
                  </a:solidFill>
                  <a:latin typeface="Arial Narrow"/>
                  <a:ea typeface="Times New Roman"/>
                </a:rPr>
                <a:t>y  = cos 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7" name="Text Box 41"/>
          <p:cNvGrpSpPr/>
          <p:nvPr/>
        </p:nvGrpSpPr>
        <p:grpSpPr>
          <a:xfrm>
            <a:off x="4121280" y="4078440"/>
            <a:ext cx="676080" cy="658800"/>
            <a:chOff x="4121280" y="4078440"/>
            <a:chExt cx="676080" cy="658800"/>
          </a:xfrm>
        </p:grpSpPr>
        <p:pic>
          <p:nvPicPr>
            <p:cNvPr id="198" name="Text Box 41" descr=""/>
            <p:cNvPicPr/>
            <p:nvPr/>
          </p:nvPicPr>
          <p:blipFill>
            <a:blip r:embed="rId5"/>
            <a:stretch/>
          </p:blipFill>
          <p:spPr>
            <a:xfrm>
              <a:off x="4121280" y="4078440"/>
              <a:ext cx="676080" cy="65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"/>
            <p:cNvSpPr/>
            <p:nvPr/>
          </p:nvSpPr>
          <p:spPr>
            <a:xfrm>
              <a:off x="4251240" y="4143240"/>
              <a:ext cx="479520" cy="50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2f2f2"/>
                  </a:solidFill>
                  <a:latin typeface="Arial Narrow"/>
                  <a:ea typeface="Times New Roman"/>
                </a:rPr>
                <a:t>-π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0" name="Group 43"/>
          <p:cNvGrpSpPr/>
          <p:nvPr/>
        </p:nvGrpSpPr>
        <p:grpSpPr>
          <a:xfrm>
            <a:off x="3429000" y="3071520"/>
            <a:ext cx="5501160" cy="3286440"/>
            <a:chOff x="3429000" y="3071520"/>
            <a:chExt cx="5501160" cy="3286440"/>
          </a:xfrm>
        </p:grpSpPr>
        <p:cxnSp>
          <p:nvCxnSpPr>
            <p:cNvPr id="201" name="AutoShape 44"/>
            <p:cNvCxnSpPr/>
            <p:nvPr/>
          </p:nvCxnSpPr>
          <p:spPr>
            <a:xfrm flipV="1">
              <a:off x="6014160" y="3071520"/>
              <a:ext cx="1080" cy="3286800"/>
            </a:xfrm>
            <a:prstGeom prst="straightConnector1">
              <a:avLst/>
            </a:prstGeom>
            <a:ln w="25560">
              <a:solidFill>
                <a:srgbClr val="d8d4c5"/>
              </a:solidFill>
              <a:miter/>
              <a:tailEnd len="med" type="triangle" w="med"/>
            </a:ln>
          </p:spPr>
        </p:cxnSp>
        <p:cxnSp>
          <p:nvCxnSpPr>
            <p:cNvPr id="202" name="AutoShape 45"/>
            <p:cNvCxnSpPr/>
            <p:nvPr/>
          </p:nvCxnSpPr>
          <p:spPr>
            <a:xfrm>
              <a:off x="3429000" y="4714920"/>
              <a:ext cx="5501520" cy="2160"/>
            </a:xfrm>
            <a:prstGeom prst="straightConnector1">
              <a:avLst/>
            </a:prstGeom>
            <a:ln w="12600">
              <a:solidFill>
                <a:srgbClr val="d8d4c5"/>
              </a:solidFill>
              <a:miter/>
              <a:tailEnd len="med" type="triangle" w="med"/>
            </a:ln>
          </p:spPr>
        </p:cxnSp>
      </p:grpSp>
      <p:grpSp>
        <p:nvGrpSpPr>
          <p:cNvPr id="203" name="Group 46"/>
          <p:cNvGrpSpPr/>
          <p:nvPr/>
        </p:nvGrpSpPr>
        <p:grpSpPr>
          <a:xfrm>
            <a:off x="3828960" y="3949200"/>
            <a:ext cx="4319640" cy="1535760"/>
            <a:chOff x="3828960" y="3949200"/>
            <a:chExt cx="4319640" cy="1535760"/>
          </a:xfrm>
        </p:grpSpPr>
        <p:sp>
          <p:nvSpPr>
            <p:cNvPr id="204" name="Freeform 47"/>
            <p:cNvSpPr/>
            <p:nvPr/>
          </p:nvSpPr>
          <p:spPr>
            <a:xfrm>
              <a:off x="3828960" y="4718160"/>
              <a:ext cx="1440000" cy="766800"/>
            </a:xfrm>
            <a:custGeom>
              <a:avLst/>
              <a:gdLst/>
              <a:ahLst/>
              <a:rect l="l" t="t" r="r" b="b"/>
              <a:pathLst>
                <a:path w="1695" h="855">
                  <a:moveTo>
                    <a:pt x="0" y="0"/>
                  </a:moveTo>
                  <a:cubicBezTo>
                    <a:pt x="264" y="427"/>
                    <a:pt x="528" y="855"/>
                    <a:pt x="810" y="855"/>
                  </a:cubicBezTo>
                  <a:cubicBezTo>
                    <a:pt x="1092" y="855"/>
                    <a:pt x="1393" y="427"/>
                    <a:pt x="1695" y="0"/>
                  </a:cubicBezTo>
                </a:path>
              </a:pathLst>
            </a:custGeom>
            <a:noFill/>
            <a:ln w="25560">
              <a:solidFill>
                <a:srgbClr val="ba60c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Freeform 48"/>
            <p:cNvSpPr/>
            <p:nvPr/>
          </p:nvSpPr>
          <p:spPr>
            <a:xfrm rot="10800000">
              <a:off x="5268960" y="3949200"/>
              <a:ext cx="1440000" cy="768600"/>
            </a:xfrm>
            <a:custGeom>
              <a:avLst/>
              <a:gdLst/>
              <a:ahLst/>
              <a:rect l="l" t="t" r="r" b="b"/>
              <a:pathLst>
                <a:path w="1695" h="855">
                  <a:moveTo>
                    <a:pt x="0" y="0"/>
                  </a:moveTo>
                  <a:cubicBezTo>
                    <a:pt x="264" y="427"/>
                    <a:pt x="528" y="855"/>
                    <a:pt x="810" y="855"/>
                  </a:cubicBezTo>
                  <a:cubicBezTo>
                    <a:pt x="1092" y="855"/>
                    <a:pt x="1393" y="427"/>
                    <a:pt x="1695" y="0"/>
                  </a:cubicBezTo>
                </a:path>
              </a:pathLst>
            </a:custGeom>
            <a:noFill/>
            <a:ln w="25560">
              <a:solidFill>
                <a:srgbClr val="ba60c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Freeform 49"/>
            <p:cNvSpPr/>
            <p:nvPr/>
          </p:nvSpPr>
          <p:spPr>
            <a:xfrm>
              <a:off x="6708960" y="4718160"/>
              <a:ext cx="1439640" cy="766800"/>
            </a:xfrm>
            <a:custGeom>
              <a:avLst/>
              <a:gdLst/>
              <a:ahLst/>
              <a:rect l="l" t="t" r="r" b="b"/>
              <a:pathLst>
                <a:path w="1695" h="855">
                  <a:moveTo>
                    <a:pt x="0" y="0"/>
                  </a:moveTo>
                  <a:cubicBezTo>
                    <a:pt x="264" y="427"/>
                    <a:pt x="528" y="855"/>
                    <a:pt x="810" y="855"/>
                  </a:cubicBezTo>
                  <a:cubicBezTo>
                    <a:pt x="1092" y="855"/>
                    <a:pt x="1393" y="427"/>
                    <a:pt x="1695" y="0"/>
                  </a:cubicBezTo>
                </a:path>
              </a:pathLst>
            </a:custGeom>
            <a:noFill/>
            <a:ln w="25560">
              <a:solidFill>
                <a:srgbClr val="ba60c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cxnSp>
        <p:nvCxnSpPr>
          <p:cNvPr id="207" name="AutoShape 50"/>
          <p:cNvCxnSpPr/>
          <p:nvPr/>
        </p:nvCxnSpPr>
        <p:spPr>
          <a:xfrm>
            <a:off x="4000680" y="5500440"/>
            <a:ext cx="4342320" cy="1080"/>
          </a:xfrm>
          <a:prstGeom prst="straightConnector1">
            <a:avLst/>
          </a:prstGeom>
          <a:ln w="25560">
            <a:solidFill>
              <a:srgbClr val="00b050"/>
            </a:solidFill>
            <a:miter/>
          </a:ln>
        </p:spPr>
      </p:cxnSp>
      <p:cxnSp>
        <p:nvCxnSpPr>
          <p:cNvPr id="208" name="AutoShape 51"/>
          <p:cNvCxnSpPr/>
          <p:nvPr/>
        </p:nvCxnSpPr>
        <p:spPr>
          <a:xfrm flipV="1">
            <a:off x="7395840" y="4714560"/>
            <a:ext cx="1080" cy="768960"/>
          </a:xfrm>
          <a:prstGeom prst="straightConnector1">
            <a:avLst/>
          </a:prstGeom>
          <a:ln w="9360">
            <a:solidFill>
              <a:srgbClr val="c4bea9"/>
            </a:solidFill>
            <a:prstDash val="dash"/>
            <a:miter/>
          </a:ln>
        </p:spPr>
      </p:cxnSp>
      <p:cxnSp>
        <p:nvCxnSpPr>
          <p:cNvPr id="209" name="AutoShape 52"/>
          <p:cNvCxnSpPr/>
          <p:nvPr/>
        </p:nvCxnSpPr>
        <p:spPr>
          <a:xfrm flipV="1">
            <a:off x="4517640" y="4716000"/>
            <a:ext cx="1080" cy="76752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grpSp>
        <p:nvGrpSpPr>
          <p:cNvPr id="210" name="Text Box 53"/>
          <p:cNvGrpSpPr/>
          <p:nvPr/>
        </p:nvGrpSpPr>
        <p:grpSpPr>
          <a:xfrm>
            <a:off x="7516800" y="4145040"/>
            <a:ext cx="620640" cy="664920"/>
            <a:chOff x="7516800" y="4145040"/>
            <a:chExt cx="620640" cy="664920"/>
          </a:xfrm>
        </p:grpSpPr>
        <p:pic>
          <p:nvPicPr>
            <p:cNvPr id="211" name="Text Box 53" descr=""/>
            <p:cNvPicPr/>
            <p:nvPr/>
          </p:nvPicPr>
          <p:blipFill>
            <a:blip r:embed="rId6"/>
            <a:stretch/>
          </p:blipFill>
          <p:spPr>
            <a:xfrm>
              <a:off x="7516800" y="4145040"/>
              <a:ext cx="620640" cy="66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2" name=""/>
            <p:cNvSpPr/>
            <p:nvPr/>
          </p:nvSpPr>
          <p:spPr>
            <a:xfrm>
              <a:off x="7643880" y="4214880"/>
              <a:ext cx="42840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2f2f2"/>
                  </a:solidFill>
                  <a:latin typeface="Arial Narrow"/>
                  <a:ea typeface="Times New Roman"/>
                </a:rPr>
                <a:t>π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3" name="Text Box 38"/>
          <p:cNvGrpSpPr/>
          <p:nvPr/>
        </p:nvGrpSpPr>
        <p:grpSpPr>
          <a:xfrm>
            <a:off x="3591000" y="3219480"/>
            <a:ext cx="536400" cy="663480"/>
            <a:chOff x="3591000" y="3219480"/>
            <a:chExt cx="536400" cy="663480"/>
          </a:xfrm>
        </p:grpSpPr>
        <p:pic>
          <p:nvPicPr>
            <p:cNvPr id="214" name="Text Box 38" descr=""/>
            <p:cNvPicPr/>
            <p:nvPr/>
          </p:nvPicPr>
          <p:blipFill>
            <a:blip r:embed="rId7"/>
            <a:stretch/>
          </p:blipFill>
          <p:spPr>
            <a:xfrm>
              <a:off x="3591000" y="3219480"/>
              <a:ext cx="536400" cy="66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5" name=""/>
            <p:cNvSpPr/>
            <p:nvPr/>
          </p:nvSpPr>
          <p:spPr>
            <a:xfrm>
              <a:off x="3714840" y="3286080"/>
              <a:ext cx="315720" cy="37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2f2f2"/>
                  </a:solidFill>
                  <a:latin typeface="Arial Narrow"/>
                  <a:ea typeface="Times New Roman"/>
                </a:rPr>
                <a:t>x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6" name="Text Box 39"/>
          <p:cNvGrpSpPr/>
          <p:nvPr/>
        </p:nvGrpSpPr>
        <p:grpSpPr>
          <a:xfrm>
            <a:off x="1085760" y="285840"/>
            <a:ext cx="541440" cy="664920"/>
            <a:chOff x="1085760" y="285840"/>
            <a:chExt cx="541440" cy="664920"/>
          </a:xfrm>
        </p:grpSpPr>
        <p:pic>
          <p:nvPicPr>
            <p:cNvPr id="217" name="Text Box 39" descr=""/>
            <p:cNvPicPr/>
            <p:nvPr/>
          </p:nvPicPr>
          <p:blipFill>
            <a:blip r:embed="rId8"/>
            <a:stretch/>
          </p:blipFill>
          <p:spPr>
            <a:xfrm>
              <a:off x="1085760" y="285840"/>
              <a:ext cx="541440" cy="66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" name=""/>
            <p:cNvSpPr/>
            <p:nvPr/>
          </p:nvSpPr>
          <p:spPr>
            <a:xfrm>
              <a:off x="1214280" y="357120"/>
              <a:ext cx="316080" cy="37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2f2f2"/>
                  </a:solidFill>
                  <a:latin typeface="Arial Narrow"/>
                  <a:ea typeface="Times New Roman"/>
                </a:rPr>
                <a:t>y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9" name="Полилиния 59"/>
          <p:cNvSpPr/>
          <p:nvPr/>
        </p:nvSpPr>
        <p:spPr>
          <a:xfrm>
            <a:off x="701640" y="838080"/>
            <a:ext cx="2163960" cy="2333880"/>
          </a:xfrm>
          <a:custGeom>
            <a:avLst/>
            <a:gdLst/>
            <a:ahLst/>
            <a:rect l="l" t="t" r="r" b="b"/>
            <a:pathLst>
              <a:path w="2164080" h="2334260">
                <a:moveTo>
                  <a:pt x="0" y="0"/>
                </a:moveTo>
                <a:cubicBezTo>
                  <a:pt x="168910" y="681990"/>
                  <a:pt x="337820" y="1363980"/>
                  <a:pt x="518160" y="1752600"/>
                </a:cubicBezTo>
                <a:cubicBezTo>
                  <a:pt x="698500" y="2141220"/>
                  <a:pt x="889000" y="2329180"/>
                  <a:pt x="1082040" y="2331720"/>
                </a:cubicBezTo>
                <a:cubicBezTo>
                  <a:pt x="1275080" y="2334260"/>
                  <a:pt x="1496060" y="2153920"/>
                  <a:pt x="1676400" y="1767840"/>
                </a:cubicBezTo>
                <a:cubicBezTo>
                  <a:pt x="1856740" y="1381760"/>
                  <a:pt x="2010410" y="698500"/>
                  <a:pt x="2164080" y="15240"/>
                </a:cubicBezTo>
              </a:path>
            </a:pathLst>
          </a:custGeom>
          <a:noFill/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Прямая соединительная линия 61"/>
          <p:cNvSpPr/>
          <p:nvPr/>
        </p:nvSpPr>
        <p:spPr>
          <a:xfrm>
            <a:off x="2320200" y="857160"/>
            <a:ext cx="36360" cy="3714840"/>
          </a:xfrm>
          <a:prstGeom prst="line">
            <a:avLst/>
          </a:prstGeom>
          <a:ln w="284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Прямая соединительная линия 66"/>
          <p:cNvSpPr/>
          <p:nvPr/>
        </p:nvSpPr>
        <p:spPr>
          <a:xfrm flipH="1">
            <a:off x="1499760" y="1000080"/>
            <a:ext cx="1714680" cy="32860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2" name="Прямоугольник 68"/>
          <p:cNvGrpSpPr/>
          <p:nvPr/>
        </p:nvGrpSpPr>
        <p:grpSpPr>
          <a:xfrm>
            <a:off x="85680" y="2571840"/>
            <a:ext cx="1120680" cy="664920"/>
            <a:chOff x="85680" y="2571840"/>
            <a:chExt cx="1120680" cy="664920"/>
          </a:xfrm>
        </p:grpSpPr>
        <p:pic>
          <p:nvPicPr>
            <p:cNvPr id="223" name="Прямоугольник 68" descr=""/>
            <p:cNvPicPr/>
            <p:nvPr/>
          </p:nvPicPr>
          <p:blipFill>
            <a:blip r:embed="rId9"/>
            <a:stretch/>
          </p:blipFill>
          <p:spPr>
            <a:xfrm>
              <a:off x="85680" y="2571840"/>
              <a:ext cx="1120680" cy="66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4" name=""/>
            <p:cNvSpPr/>
            <p:nvPr/>
          </p:nvSpPr>
          <p:spPr>
            <a:xfrm>
              <a:off x="273600" y="2643120"/>
              <a:ext cx="808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2f2f2"/>
                  </a:solidFill>
                  <a:latin typeface="Arial Narrow"/>
                  <a:ea typeface="Times New Roman"/>
                </a:rPr>
                <a:t>y  =  x</a:t>
              </a:r>
              <a:r>
                <a:rPr b="0" lang="ru-RU" sz="2000" spc="-1" strike="noStrike" baseline="30000">
                  <a:solidFill>
                    <a:srgbClr val="f2f2f2"/>
                  </a:solidFill>
                  <a:latin typeface="Arial Narrow"/>
                  <a:ea typeface="Times New Roman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5" name="Text Box 37"/>
          <p:cNvGrpSpPr/>
          <p:nvPr/>
        </p:nvGrpSpPr>
        <p:grpSpPr>
          <a:xfrm>
            <a:off x="2305080" y="4005360"/>
            <a:ext cx="1047600" cy="658800"/>
            <a:chOff x="2305080" y="4005360"/>
            <a:chExt cx="1047600" cy="658800"/>
          </a:xfrm>
        </p:grpSpPr>
        <p:pic>
          <p:nvPicPr>
            <p:cNvPr id="226" name="Text Box 37" descr=""/>
            <p:cNvPicPr/>
            <p:nvPr/>
          </p:nvPicPr>
          <p:blipFill>
            <a:blip r:embed="rId10"/>
            <a:stretch/>
          </p:blipFill>
          <p:spPr>
            <a:xfrm>
              <a:off x="2305080" y="4005360"/>
              <a:ext cx="1047600" cy="65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"/>
            <p:cNvSpPr/>
            <p:nvPr/>
          </p:nvSpPr>
          <p:spPr>
            <a:xfrm>
              <a:off x="2428920" y="4071960"/>
              <a:ext cx="857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2f2f2"/>
                  </a:solidFill>
                  <a:latin typeface="Arial Narrow"/>
                  <a:ea typeface="Times New Roman"/>
                </a:rPr>
                <a:t>х</a:t>
              </a:r>
              <a:r>
                <a:rPr b="0" lang="en-US" sz="2000" spc="-1" strike="noStrike">
                  <a:solidFill>
                    <a:srgbClr val="f2f2f2"/>
                  </a:solidFill>
                  <a:latin typeface="Arial Narrow"/>
                  <a:ea typeface="Times New Roman"/>
                </a:rPr>
                <a:t>  = </a:t>
              </a:r>
              <a:r>
                <a:rPr b="0" lang="ru-RU" sz="2000" spc="-1" strike="noStrike">
                  <a:solidFill>
                    <a:srgbClr val="f2f2f2"/>
                  </a:solidFill>
                  <a:latin typeface="Arial Narrow"/>
                  <a:ea typeface="Times New Roman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8" name="Text Box 37"/>
          <p:cNvGrpSpPr/>
          <p:nvPr/>
        </p:nvGrpSpPr>
        <p:grpSpPr>
          <a:xfrm>
            <a:off x="3017880" y="1504800"/>
            <a:ext cx="1481040" cy="658800"/>
            <a:chOff x="3017880" y="1504800"/>
            <a:chExt cx="1481040" cy="658800"/>
          </a:xfrm>
        </p:grpSpPr>
        <p:pic>
          <p:nvPicPr>
            <p:cNvPr id="229" name="Text Box 37" descr=""/>
            <p:cNvPicPr/>
            <p:nvPr/>
          </p:nvPicPr>
          <p:blipFill>
            <a:blip r:embed="rId11"/>
            <a:stretch/>
          </p:blipFill>
          <p:spPr>
            <a:xfrm>
              <a:off x="3017880" y="1504800"/>
              <a:ext cx="1481040" cy="65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"/>
            <p:cNvSpPr/>
            <p:nvPr/>
          </p:nvSpPr>
          <p:spPr>
            <a:xfrm>
              <a:off x="3143160" y="1571760"/>
              <a:ext cx="1285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2f2f2"/>
                  </a:solidFill>
                  <a:latin typeface="Arial Narrow"/>
                  <a:ea typeface="Times New Roman"/>
                </a:rPr>
                <a:t>y  =</a:t>
              </a:r>
              <a:r>
                <a:rPr b="0" lang="ru-RU" sz="2000" spc="-1" strike="noStrike">
                  <a:solidFill>
                    <a:srgbClr val="f2f2f2"/>
                  </a:solidFill>
                  <a:latin typeface="Arial Narrow"/>
                  <a:ea typeface="Times New Roman"/>
                </a:rPr>
                <a:t> 2х - 1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1" name="Text Box 53"/>
          <p:cNvGrpSpPr/>
          <p:nvPr/>
        </p:nvGrpSpPr>
        <p:grpSpPr>
          <a:xfrm>
            <a:off x="7375680" y="5931000"/>
            <a:ext cx="1049040" cy="664920"/>
            <a:chOff x="7375680" y="5931000"/>
            <a:chExt cx="1049040" cy="664920"/>
          </a:xfrm>
        </p:grpSpPr>
        <p:pic>
          <p:nvPicPr>
            <p:cNvPr id="232" name="Text Box 53" descr=""/>
            <p:cNvPicPr/>
            <p:nvPr/>
          </p:nvPicPr>
          <p:blipFill>
            <a:blip r:embed="rId12"/>
            <a:stretch/>
          </p:blipFill>
          <p:spPr>
            <a:xfrm>
              <a:off x="7375680" y="5931000"/>
              <a:ext cx="1049040" cy="66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"/>
            <p:cNvSpPr/>
            <p:nvPr/>
          </p:nvSpPr>
          <p:spPr>
            <a:xfrm>
              <a:off x="7500960" y="6000840"/>
              <a:ext cx="85716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2f2f2"/>
                  </a:solidFill>
                  <a:latin typeface="Arial Narrow"/>
                  <a:ea typeface="Times New Roman"/>
                </a:rPr>
                <a:t>х =</a:t>
              </a:r>
              <a:r>
                <a:rPr b="0" lang="en-US" sz="2000" spc="-1" strike="noStrike">
                  <a:solidFill>
                    <a:srgbClr val="f2f2f2"/>
                  </a:solidFill>
                  <a:latin typeface="Arial Narrow"/>
                  <a:ea typeface="Times New Roman"/>
                </a:rPr>
                <a:t>π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06160" y="609480"/>
            <a:ext cx="8637480" cy="1190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be00"/>
                </a:solidFill>
                <a:latin typeface="Arial Narrow"/>
                <a:ea typeface="Tunga"/>
              </a:rPr>
              <a:t>ОПРЕДЕЛЕНИЕ КАСАТЕЛЬНОЙ К ГРАФИКУ ФУНКЦИИ У=</a:t>
            </a:r>
            <a:r>
              <a:rPr b="0" lang="en-US" sz="3600" spc="-1" strike="noStrike">
                <a:solidFill>
                  <a:srgbClr val="ffbe00"/>
                </a:solidFill>
                <a:latin typeface="Arial Narrow"/>
                <a:ea typeface="Tunga"/>
              </a:rPr>
              <a:t>F(</a:t>
            </a:r>
            <a:r>
              <a:rPr b="0" lang="ru-RU" sz="3600" spc="-1" strike="noStrike">
                <a:solidFill>
                  <a:srgbClr val="ffbe00"/>
                </a:solidFill>
                <a:latin typeface="Arial Narrow"/>
                <a:ea typeface="Tunga"/>
              </a:rPr>
              <a:t>Х</a:t>
            </a:r>
            <a:r>
              <a:rPr b="0" lang="en-US" sz="3600" spc="-1" strike="noStrike">
                <a:solidFill>
                  <a:srgbClr val="ffbe00"/>
                </a:solidFill>
                <a:latin typeface="Arial Narrow"/>
                <a:ea typeface="Tunga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35" name="Picture 0" descr="image001"/>
          <p:cNvPicPr/>
          <p:nvPr/>
        </p:nvPicPr>
        <p:blipFill>
          <a:blip r:embed="rId1"/>
          <a:stretch/>
        </p:blipFill>
        <p:spPr>
          <a:xfrm>
            <a:off x="990720" y="2293920"/>
            <a:ext cx="3124080" cy="3144960"/>
          </a:xfrm>
          <a:prstGeom prst="rect">
            <a:avLst/>
          </a:prstGeom>
          <a:ln w="0">
            <a:noFill/>
          </a:ln>
        </p:spPr>
      </p:pic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3846600" y="2101680"/>
            <a:ext cx="4727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Arial Narrow"/>
              </a:rPr>
              <a:t>     </a:t>
            </a: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  </a:t>
            </a:r>
            <a:r>
              <a:rPr b="0" lang="ru-RU" sz="17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 Narrow"/>
              </a:rPr>
              <a:t>Пусть дана некоторая кривая и точка Р на ней. Возьмем на этой кривой другую точку Р1 и проведем прямую через точки Р и Р1. Эту прямую называют секущей. Будем приближать точку Р1 к Р. Положение секущей РР1 будет меняться (стремиться к точки Р) </a:t>
            </a:r>
            <a:r>
              <a:rPr b="0" lang="ru-RU" sz="2800" spc="-1" strike="noStrike">
                <a:solidFill>
                  <a:srgbClr val="ffffff"/>
                </a:solidFill>
                <a:latin typeface="Arial Narrow"/>
              </a:rPr>
              <a:t>предельное положение прямой РР1 </a:t>
            </a:r>
            <a:r>
              <a:rPr b="0" lang="ru-RU" sz="2000" spc="-1" strike="noStrike">
                <a:solidFill>
                  <a:srgbClr val="ffffff"/>
                </a:solidFill>
                <a:latin typeface="Arial Narrow"/>
              </a:rPr>
              <a:t>и будет касательной к кривой в точке Р.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41112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5181120" y="1989000"/>
            <a:ext cx="3962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Narrow"/>
              </a:rPr>
              <a:t>      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38" name="AutoShape 3">
            <a:hlinkClick r:id="" action="ppaction://hlinkshowjump?jump=previousslide"/>
          </p:cNvPr>
          <p:cNvSpPr/>
          <p:nvPr/>
        </p:nvSpPr>
        <p:spPr>
          <a:xfrm>
            <a:off x="7556400" y="5757840"/>
            <a:ext cx="540000" cy="539640"/>
          </a:xfrm>
          <a:custGeom>
            <a:avLst/>
            <a:gdLst>
              <a:gd name="textAreaLeft" fmla="*/ 34920 w 540000"/>
              <a:gd name="textAreaRight" fmla="*/ 505080 w 540000"/>
              <a:gd name="textAreaTop" fmla="*/ 34920 h 539640"/>
              <a:gd name="textAreaBottom" fmla="*/ 504720 h 539640"/>
            </a:gdLst>
            <a:ahLst/>
            <a:rect l="textAreaLeft" t="textAreaTop" r="textAreaRight" b="textAreaBottom"/>
            <a:pathLst>
              <a:path w="21614" h="21600">
                <a:moveTo>
                  <a:pt x="0" y="0"/>
                </a:moveTo>
                <a:lnTo>
                  <a:pt x="21614" y="0"/>
                </a:lnTo>
                <a:lnTo>
                  <a:pt x="21614" y="21600"/>
                </a:lnTo>
                <a:lnTo>
                  <a:pt x="0" y="21600"/>
                </a:lnTo>
                <a:close/>
              </a:path>
              <a:path fill="lightenLess" w="21614" h="21600">
                <a:moveTo>
                  <a:pt x="0" y="0"/>
                </a:moveTo>
                <a:lnTo>
                  <a:pt x="21614" y="0"/>
                </a:lnTo>
                <a:lnTo>
                  <a:pt x="20214" y="1400"/>
                </a:lnTo>
                <a:lnTo>
                  <a:pt x="1400" y="1400"/>
                </a:lnTo>
                <a:close/>
              </a:path>
              <a:path fill="darken" w="21614" h="21600">
                <a:moveTo>
                  <a:pt x="21614" y="0"/>
                </a:moveTo>
                <a:lnTo>
                  <a:pt x="21614" y="21600"/>
                </a:lnTo>
                <a:lnTo>
                  <a:pt x="20214" y="20200"/>
                </a:lnTo>
                <a:lnTo>
                  <a:pt x="20214" y="1400"/>
                </a:lnTo>
                <a:close/>
              </a:path>
              <a:path fill="darkenLess" w="21614" h="21600">
                <a:moveTo>
                  <a:pt x="216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4" y="20200"/>
                </a:lnTo>
                <a:close/>
              </a:path>
              <a:path fill="lighten" w="216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4" h="21600">
                <a:moveTo>
                  <a:pt x="3801" y="10800"/>
                </a:moveTo>
                <a:lnTo>
                  <a:pt x="17814" y="3794"/>
                </a:lnTo>
                <a:lnTo>
                  <a:pt x="17814" y="17806"/>
                </a:lnTo>
                <a:close/>
              </a:path>
            </a:pathLst>
          </a:custGeom>
          <a:solidFill>
            <a:srgbClr val="7e97a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AutoShape 2">
            <a:hlinkClick r:id="" action="ppaction://hlinkshowjump?jump=nextslide"/>
          </p:cNvPr>
          <p:cNvSpPr/>
          <p:nvPr/>
        </p:nvSpPr>
        <p:spPr>
          <a:xfrm>
            <a:off x="8244000" y="5734080"/>
            <a:ext cx="539640" cy="539640"/>
          </a:xfrm>
          <a:custGeom>
            <a:avLst/>
            <a:gdLst>
              <a:gd name="textAreaLeft" fmla="*/ 34920 w 539640"/>
              <a:gd name="textAreaRight" fmla="*/ 504720 w 539640"/>
              <a:gd name="textAreaTop" fmla="*/ 34920 h 539640"/>
              <a:gd name="textAreaBottom" fmla="*/ 504720 h 53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7e97a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AutoShape 1"/>
          <p:cNvSpPr/>
          <p:nvPr/>
        </p:nvSpPr>
        <p:spPr>
          <a:xfrm>
            <a:off x="912960" y="5757840"/>
            <a:ext cx="539640" cy="539640"/>
          </a:xfrm>
          <a:custGeom>
            <a:avLst/>
            <a:gdLst>
              <a:gd name="textAreaLeft" fmla="*/ 34920 w 539640"/>
              <a:gd name="textAreaRight" fmla="*/ 504720 w 539640"/>
              <a:gd name="textAreaTop" fmla="*/ 34920 h 539640"/>
              <a:gd name="textAreaBottom" fmla="*/ 504720 h 53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7e97a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992160" y="1856880"/>
            <a:ext cx="8151840" cy="2792520"/>
          </a:xfrm>
          <a:prstGeom prst="rect">
            <a:avLst/>
          </a:prstGeom>
          <a:noFill/>
          <a:ln w="0">
            <a:noFill/>
          </a:ln>
        </p:spPr>
        <p:txBody>
          <a:bodyPr lIns="82440" bIns="0" anchor="t">
            <a:normAutofit fontScale="98000"/>
          </a:bodyPr>
          <a:p>
            <a:pPr marL="33444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Касательной   к  графику  функции </a:t>
            </a:r>
            <a:r>
              <a:rPr b="1" i="1" lang="en-US" sz="3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f</a:t>
            </a:r>
            <a:r>
              <a:rPr b="1" i="1" lang="ru-RU" sz="3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, </a:t>
            </a:r>
            <a:r>
              <a:rPr b="1" lang="ru-RU" sz="3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дифференцируемой    в точке </a:t>
            </a:r>
            <a:r>
              <a:rPr b="1" i="1" lang="ru-RU" sz="3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х</a:t>
            </a:r>
            <a:r>
              <a:rPr b="1" i="1" lang="ru-RU" sz="3400" spc="-1" strike="noStrike" baseline="-25000">
                <a:solidFill>
                  <a:srgbClr val="ffffff"/>
                </a:solidFill>
                <a:latin typeface="Arial Narrow"/>
                <a:ea typeface="Times New Roman"/>
              </a:rPr>
              <a:t>0</a:t>
            </a:r>
            <a:r>
              <a:rPr b="1" i="1" lang="ru-RU" sz="3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 ,</a:t>
            </a:r>
            <a:r>
              <a:rPr b="1" lang="ru-RU" sz="3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 называется прямая, проходящая через точку  </a:t>
            </a:r>
            <a:r>
              <a:rPr b="1" i="1" lang="ru-RU" sz="3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(</a:t>
            </a:r>
            <a:r>
              <a:rPr b="1" i="1" lang="en-US" sz="3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x</a:t>
            </a:r>
            <a:r>
              <a:rPr b="1" i="1" lang="ru-RU" sz="3400" spc="-1" strike="noStrike" baseline="-25000">
                <a:solidFill>
                  <a:srgbClr val="ffffff"/>
                </a:solidFill>
                <a:latin typeface="Arial Narrow"/>
                <a:ea typeface="Times New Roman"/>
              </a:rPr>
              <a:t>0</a:t>
            </a:r>
            <a:r>
              <a:rPr b="1" i="1" lang="ru-RU" sz="3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, </a:t>
            </a:r>
            <a:r>
              <a:rPr b="1" i="1" lang="en-US" sz="3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f</a:t>
            </a:r>
            <a:r>
              <a:rPr b="1" i="1" lang="ru-RU" sz="3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(</a:t>
            </a:r>
            <a:r>
              <a:rPr b="1" i="1" lang="en-US" sz="3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x</a:t>
            </a:r>
            <a:r>
              <a:rPr b="1" i="1" lang="ru-RU" sz="3400" spc="-1" strike="noStrike" baseline="-25000">
                <a:solidFill>
                  <a:srgbClr val="ffffff"/>
                </a:solidFill>
                <a:latin typeface="Arial Narrow"/>
                <a:ea typeface="Times New Roman"/>
              </a:rPr>
              <a:t>0</a:t>
            </a:r>
            <a:r>
              <a:rPr b="1" i="1" lang="ru-RU" sz="3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)) </a:t>
            </a:r>
            <a:r>
              <a:rPr b="1" lang="ru-RU" sz="3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и имеющая угловой коэффициент </a:t>
            </a:r>
            <a:r>
              <a:rPr b="1" lang="en-US" sz="3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k=</a:t>
            </a:r>
            <a:r>
              <a:rPr b="1" i="1" lang="en-US" sz="3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 f </a:t>
            </a:r>
            <a:r>
              <a:rPr b="1" i="1" lang="ru-RU" sz="3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'(х</a:t>
            </a:r>
            <a:r>
              <a:rPr b="1" i="1" lang="ru-RU" sz="3400" spc="-1" strike="noStrike" baseline="-25000">
                <a:solidFill>
                  <a:srgbClr val="ffffff"/>
                </a:solidFill>
                <a:latin typeface="Arial Narrow"/>
                <a:ea typeface="Times New Roman"/>
              </a:rPr>
              <a:t>0</a:t>
            </a:r>
            <a:r>
              <a:rPr b="1" i="1" lang="ru-RU" sz="3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).</a:t>
            </a:r>
            <a:endParaRPr b="0" lang="en-US" sz="3400" spc="-1" strike="noStrike">
              <a:solidFill>
                <a:srgbClr val="ffffff"/>
              </a:solidFill>
              <a:latin typeface="Arial Narrow"/>
            </a:endParaRPr>
          </a:p>
          <a:p>
            <a:pPr marL="33444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title"/>
          </p:nvPr>
        </p:nvSpPr>
        <p:spPr>
          <a:xfrm>
            <a:off x="987120" y="512280"/>
            <a:ext cx="8156520" cy="776520"/>
          </a:xfrm>
          <a:prstGeom prst="rect">
            <a:avLst/>
          </a:prstGeom>
          <a:noFill/>
          <a:ln w="0">
            <a:noFill/>
          </a:ln>
        </p:spPr>
        <p:txBody>
          <a:bodyPr tIns="64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be00"/>
                </a:solidFill>
                <a:latin typeface="Arial Narrow"/>
                <a:ea typeface="Times New Roman"/>
              </a:rPr>
              <a:t>ОПРЕДЕЛЕНИЕ КАСАТЕЛЬНОЙ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43" name="Freeform 1"/>
          <p:cNvSpPr/>
          <p:nvPr/>
        </p:nvSpPr>
        <p:spPr>
          <a:xfrm>
            <a:off x="5000760" y="5000760"/>
            <a:ext cx="4143240" cy="1857240"/>
          </a:xfrm>
          <a:custGeom>
            <a:avLst/>
            <a:gdLst>
              <a:gd name="textAreaLeft" fmla="*/ 0 w 4143240"/>
              <a:gd name="textAreaRight" fmla="*/ 4143600 w 4143240"/>
              <a:gd name="textAreaTop" fmla="*/ 0 h 1857240"/>
              <a:gd name="textAreaBottom" fmla="*/ 1857600 h 1857240"/>
            </a:gdLst>
            <a:ahLst/>
            <a:rect l="textAreaLeft" t="textAreaTop" r="textAreaRight" b="textAreaBottom"/>
            <a:pathLst>
              <a:path w="5685" h="2335">
                <a:moveTo>
                  <a:pt x="0" y="2080"/>
                </a:moveTo>
                <a:cubicBezTo>
                  <a:pt x="442" y="1145"/>
                  <a:pt x="885" y="210"/>
                  <a:pt x="1410" y="250"/>
                </a:cubicBezTo>
                <a:cubicBezTo>
                  <a:pt x="1935" y="290"/>
                  <a:pt x="2578" y="2305"/>
                  <a:pt x="3150" y="2320"/>
                </a:cubicBezTo>
                <a:cubicBezTo>
                  <a:pt x="3722" y="2335"/>
                  <a:pt x="4423" y="680"/>
                  <a:pt x="4845" y="340"/>
                </a:cubicBezTo>
                <a:cubicBezTo>
                  <a:pt x="5267" y="0"/>
                  <a:pt x="5476" y="140"/>
                  <a:pt x="5685" y="280"/>
                </a:cubicBezTo>
              </a:path>
            </a:pathLst>
          </a:custGeom>
          <a:solidFill>
            <a:srgbClr val="e5dfec"/>
          </a:solidFill>
          <a:ln w="31680">
            <a:solidFill>
              <a:srgbClr val="5f497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1206000" y="2000160"/>
            <a:ext cx="7937640" cy="2649600"/>
          </a:xfrm>
          <a:prstGeom prst="rect">
            <a:avLst/>
          </a:prstGeom>
          <a:noFill/>
          <a:ln w="0">
            <a:noFill/>
          </a:ln>
        </p:spPr>
        <p:txBody>
          <a:bodyPr lIns="82440" bIns="0" anchor="t">
            <a:normAutofit/>
          </a:bodyPr>
          <a:p>
            <a:pPr marL="3412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Угловой коэффициент касательной к графику функции в точке равен значению производной в этой точке.</a:t>
            </a:r>
            <a:endParaRPr b="0" lang="en-US" sz="3400" spc="-1" strike="noStrike">
              <a:solidFill>
                <a:srgbClr val="ffffff"/>
              </a:solidFill>
              <a:latin typeface="Arial Narrow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k</a:t>
            </a:r>
            <a:r>
              <a:rPr b="1" i="1" lang="ru-RU" sz="3400" spc="-1" strike="noStrike" baseline="-25000">
                <a:solidFill>
                  <a:srgbClr val="ffffff"/>
                </a:solidFill>
                <a:latin typeface="Arial Narrow"/>
                <a:ea typeface="Times New Roman"/>
              </a:rPr>
              <a:t>кас.</a:t>
            </a:r>
            <a:r>
              <a:rPr b="1" i="1" lang="en-US" sz="3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 = f </a:t>
            </a:r>
            <a:r>
              <a:rPr b="1" i="1" lang="en-US" sz="3400" spc="-1" strike="noStrike" baseline="30000">
                <a:solidFill>
                  <a:srgbClr val="ffffff"/>
                </a:solidFill>
                <a:latin typeface="Arial Narrow"/>
                <a:ea typeface="Times New Roman"/>
              </a:rPr>
              <a:t>/</a:t>
            </a:r>
            <a:r>
              <a:rPr b="1" i="1" lang="en-US" sz="3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(x</a:t>
            </a:r>
            <a:r>
              <a:rPr b="1" i="1" lang="en-US" sz="3400" spc="-1" strike="noStrike" baseline="-25000">
                <a:solidFill>
                  <a:srgbClr val="ffffff"/>
                </a:solidFill>
                <a:latin typeface="Arial Narrow"/>
                <a:ea typeface="Times New Roman"/>
              </a:rPr>
              <a:t>0</a:t>
            </a:r>
            <a:r>
              <a:rPr b="1" i="1" lang="en-US" sz="3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)</a:t>
            </a:r>
            <a:r>
              <a:rPr b="1" i="1" lang="ru-RU" sz="3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 = </a:t>
            </a: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tg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title"/>
          </p:nvPr>
        </p:nvSpPr>
        <p:spPr>
          <a:xfrm>
            <a:off x="987120" y="512280"/>
            <a:ext cx="8156520" cy="776520"/>
          </a:xfrm>
          <a:prstGeom prst="rect">
            <a:avLst/>
          </a:prstGeom>
          <a:noFill/>
          <a:ln w="0">
            <a:noFill/>
          </a:ln>
        </p:spPr>
        <p:txBody>
          <a:bodyPr tIns="64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be00"/>
                </a:solidFill>
                <a:latin typeface="Arial Narrow"/>
                <a:ea typeface="Times New Roman"/>
              </a:rPr>
              <a:t>ГЕОМЕТРИЧЕСКИЙ СМЫСЛ ПРОИЗВОДНОЙ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46" name="Freeform 1"/>
          <p:cNvSpPr/>
          <p:nvPr/>
        </p:nvSpPr>
        <p:spPr>
          <a:xfrm>
            <a:off x="5000760" y="5000760"/>
            <a:ext cx="4143240" cy="1857240"/>
          </a:xfrm>
          <a:custGeom>
            <a:avLst/>
            <a:gdLst>
              <a:gd name="textAreaLeft" fmla="*/ 0 w 4143240"/>
              <a:gd name="textAreaRight" fmla="*/ 4143600 w 4143240"/>
              <a:gd name="textAreaTop" fmla="*/ 0 h 1857240"/>
              <a:gd name="textAreaBottom" fmla="*/ 1857600 h 1857240"/>
            </a:gdLst>
            <a:ahLst/>
            <a:rect l="textAreaLeft" t="textAreaTop" r="textAreaRight" b="textAreaBottom"/>
            <a:pathLst>
              <a:path w="5685" h="2335">
                <a:moveTo>
                  <a:pt x="0" y="2080"/>
                </a:moveTo>
                <a:cubicBezTo>
                  <a:pt x="442" y="1145"/>
                  <a:pt x="885" y="210"/>
                  <a:pt x="1410" y="250"/>
                </a:cubicBezTo>
                <a:cubicBezTo>
                  <a:pt x="1935" y="290"/>
                  <a:pt x="2578" y="2305"/>
                  <a:pt x="3150" y="2320"/>
                </a:cubicBezTo>
                <a:cubicBezTo>
                  <a:pt x="3722" y="2335"/>
                  <a:pt x="4423" y="680"/>
                  <a:pt x="4845" y="340"/>
                </a:cubicBezTo>
                <a:cubicBezTo>
                  <a:pt x="5267" y="0"/>
                  <a:pt x="5476" y="140"/>
                  <a:pt x="5685" y="280"/>
                </a:cubicBezTo>
              </a:path>
            </a:pathLst>
          </a:custGeom>
          <a:solidFill>
            <a:srgbClr val="e5dfec"/>
          </a:solidFill>
          <a:ln w="31680">
            <a:solidFill>
              <a:srgbClr val="5f497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4" descr=""/>
          <p:cNvPicPr/>
          <p:nvPr/>
        </p:nvPicPr>
        <p:blipFill>
          <a:blip r:embed="rId1"/>
          <a:stretch/>
        </p:blipFill>
        <p:spPr>
          <a:xfrm>
            <a:off x="1714680" y="1341360"/>
            <a:ext cx="721008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/>
          </p:nvPr>
        </p:nvSpPr>
        <p:spPr>
          <a:xfrm>
            <a:off x="928800" y="765000"/>
            <a:ext cx="8215200" cy="194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  </a:t>
            </a:r>
            <a:r>
              <a:rPr b="0" lang="ru-RU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В </a:t>
            </a:r>
            <a:r>
              <a:rPr b="1" lang="ru-RU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каких точках графика касательная к нему 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341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а) горизонтальна;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341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б) образует с осью абсцисс острый угол;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341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в) образует с осью абсцисс тупой угол?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49" name="Picture 1" descr=""/>
          <p:cNvPicPr/>
          <p:nvPr/>
        </p:nvPicPr>
        <p:blipFill>
          <a:blip r:embed="rId1"/>
          <a:srcRect l="0" t="1297" r="0" b="1297"/>
          <a:stretch/>
        </p:blipFill>
        <p:spPr>
          <a:xfrm>
            <a:off x="2997360" y="3143160"/>
            <a:ext cx="6146640" cy="34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31T07:16:54Z</dcterms:created>
  <dc:creator>ws339_11</dc:creator>
  <dc:description/>
  <dc:language>en-US</dc:language>
  <cp:lastModifiedBy>учитель</cp:lastModifiedBy>
  <cp:lastPrinted>2004-05-25T08:13:47Z</cp:lastPrinted>
  <dcterms:modified xsi:type="dcterms:W3CDTF">2014-04-02T06:16:57Z</dcterms:modified>
  <cp:revision>126</cp:revision>
  <dc:subject/>
  <dc:title>«Касательная к графику функции»</dc:title>
</cp:coreProperties>
</file>