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7263-8D8C-48EB-80BE-5B260D44B8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BBD7-AAF4-4EB5-9B76-FBB1C11C66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99C-0D11-47FB-B744-00C039C8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8EC-D1A5-4380-869F-94CEB18F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63E-F2DA-4F14-977A-750D6788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38D-304E-4477-9117-61F186EC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312D-7333-446B-A563-5E0915C2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E91A-343E-4D04-B0AF-11A7559E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F3FE-CE53-430F-915D-2FF9F7E6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9707-9F4C-4560-B5C6-461432C3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6508-CE7C-4056-A401-9D3F57DD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3284-4C4F-47ED-84C6-DC7103DF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E700-F86B-458C-90F2-2A03C21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530-2F83-4377-B8EC-245CA66E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5736-F994-456A-A262-6EB0684B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B634-4115-4CE3-9D09-CE99294A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86B2-29AA-4F15-ACC9-91F9894C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5884-880E-47A2-98A6-171FB418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1954-3D11-4C09-9625-43EC5E8F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6259-63C9-4DFC-8D1B-F05E7112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C608-0F6A-47F0-8A75-F36E774C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FBCC-E114-4CC9-BC44-E7DB17B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EF37-5914-4F20-A31D-D6F968C8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AFC5-7C63-46E0-BB81-F47CB54E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8AC-6DD6-4336-A166-D33B9A95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01F7-E4B1-4465-AE9E-ECC6DA48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0B98-1510-4B5A-9239-FB95DA37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FB33-E07B-4849-A29A-AD5778DF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E427-A225-46BB-8DB7-7823D9D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757E-65AB-4D1F-B474-2BABA8B0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49E1-52F2-44A9-9196-2F164BB6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A714-9E99-4B6C-B0E8-D1C8CAE6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FCAD-5C94-4C6C-BC50-B222047B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4EFAF-8697-401C-8A75-3468E812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9DB6C-9ABB-438B-AAAE-36D53A97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84C-7115-4E7B-9C9D-77FA31E1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E5AD-E19D-49D2-8238-68CE6889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99E69-4017-41A0-9A9B-A954FA92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F2B0-BBE1-410D-BFF6-1AD8D425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3B22-4E7A-4C10-AD8E-2AE5626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32D6-6ED7-49F6-82EB-861E2F8B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7929-B008-4C2E-91A8-5081BC6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4C5C7-6FFD-48E2-AFA1-B2C55297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C996-656F-4794-B313-C16DF243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E6CC-D54C-44F4-82F6-58D5B969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88B-28BC-4C00-92EE-20173138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13F-2904-403C-B9F6-C4DF2830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B91-EE29-41B2-8A1A-68B60CFF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A7A-5BFB-484C-8E7C-713D87E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484-ECCA-44AC-9047-CBE7F4B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41A5-D95A-442B-89CF-A3B63FD32D66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4FCA-B1F1-45DD-98AC-F416186F205F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2E27-C1B1-4F4B-8C6E-14ECE4DFC3D0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D5FB-9B7E-4E8A-9256-34FB5973040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1483920"/>
            <a:ext cx="8610480" cy="224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ТЕМА УРОКА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be00"/>
                </a:solidFill>
                <a:latin typeface="Arial Narrow"/>
                <a:ea typeface="Tunga"/>
              </a:rPr>
              <a:t> </a:t>
            </a:r>
            <a:r>
              <a:rPr b="0" lang="en-US" sz="3000" spc="-1" strike="noStrike">
                <a:solidFill>
                  <a:srgbClr val="ffbe00"/>
                </a:solidFill>
                <a:latin typeface="Arial Narrow"/>
                <a:ea typeface="Tunga"/>
              </a:rPr>
              <a:t> </a:t>
            </a:r>
            <a:r>
              <a:rPr b="0" lang="ru-RU" sz="3000" spc="-1" strike="noStrike">
                <a:solidFill>
                  <a:srgbClr val="ffbe00"/>
                </a:solidFill>
                <a:latin typeface="Arial Narrow"/>
                <a:ea typeface="Tunga"/>
              </a:rPr>
              <a:t>«УРАВНЕНИЕ КАСАТЕЛЬНОЙ. </a:t>
            </a:r>
            <a:br>
              <a:rPr sz="3000"/>
            </a:br>
            <a:r>
              <a:rPr b="0" lang="ru-RU" sz="3000" spc="-1" strike="noStrike">
                <a:solidFill>
                  <a:srgbClr val="ffbe00"/>
                </a:solidFill>
                <a:latin typeface="Arial Narrow"/>
                <a:ea typeface="Tunga"/>
              </a:rPr>
              <a:t>УСЛОВИЕ КАСАНИЯ.»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AutoShape 5">
            <a:hlinkClick r:id="" action="ppaction://hlinkshowjump?jump=nextslide"/>
          </p:cNvPr>
          <p:cNvSpPr/>
          <p:nvPr/>
        </p:nvSpPr>
        <p:spPr>
          <a:xfrm>
            <a:off x="827712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00000" y="142920"/>
            <a:ext cx="73152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При каких значениях аргумента производная функции, заданной графико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а) равна 0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б) больше 0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в) меньше 0?</a:t>
            </a:r>
            <a:r>
              <a:rPr b="0" lang="ru-RU" sz="2400" spc="-1" strike="noStrike">
                <a:solidFill>
                  <a:srgbClr val="caf7f1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1" name="Picture 1" descr=""/>
          <p:cNvPicPr/>
          <p:nvPr/>
        </p:nvPicPr>
        <p:blipFill>
          <a:blip r:embed="rId1"/>
          <a:srcRect l="0" t="2779" r="0" b="2779"/>
          <a:stretch/>
        </p:blipFill>
        <p:spPr>
          <a:xfrm>
            <a:off x="2568600" y="2714760"/>
            <a:ext cx="65754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880" y="115560"/>
            <a:ext cx="830592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УРАВНЕНИЕ ВИДА У=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  <a:ea typeface="Tunga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  <a:ea typeface="Tunga"/>
              </a:rPr>
              <a:t>)+F’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а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  <a:ea typeface="Tunga"/>
              </a:rPr>
              <a:t>)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х-а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  <a:ea typeface="Tunga"/>
              </a:rPr>
              <a:t>)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 ЯВЛЯЕТСЯ УРАВНЕНИЕМ КАСАТЕЛЬНОЙ К ГРАФИКУ ФУНКЦИИ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3" name="AutoShape 3">
            <a:hlinkClick r:id="" action="ppaction://hlinkshowjump?jump=nextslide"/>
          </p:cNvPr>
          <p:cNvSpPr/>
          <p:nvPr/>
        </p:nvSpPr>
        <p:spPr>
          <a:xfrm>
            <a:off x="827712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">
            <a:hlinkClick r:id="" action="ppaction://hlinkshowjump?jump=previousslide"/>
          </p:cNvPr>
          <p:cNvSpPr/>
          <p:nvPr/>
        </p:nvSpPr>
        <p:spPr>
          <a:xfrm>
            <a:off x="755640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912960" y="575784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84360" y="2828880"/>
            <a:ext cx="75927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Уравнение вида у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)+f’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х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)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х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является уравнением касательной к графику функ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9640" y="404280"/>
            <a:ext cx="784872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f2123"/>
                </a:solidFill>
                <a:uFillTx/>
                <a:latin typeface="Arial Narrow"/>
                <a:ea typeface="Times New Roman"/>
              </a:rPr>
              <a:t>1. Если задана точка касания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Написать уравнение касательной к графику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функции </a:t>
            </a:r>
            <a:r>
              <a:rPr b="0" i="1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f(x) = x</a:t>
            </a:r>
            <a:r>
              <a:rPr b="0" i="1" lang="ru-RU" sz="2800" spc="-1" strike="noStrike" baseline="30000">
                <a:solidFill>
                  <a:srgbClr val="1f2123"/>
                </a:solidFill>
                <a:latin typeface="Arial Narrow"/>
                <a:ea typeface="Times New Roman"/>
              </a:rPr>
              <a:t>3</a:t>
            </a:r>
            <a:r>
              <a:rPr b="0" i="1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 – 3x – 1</a:t>
            </a: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 в точке М с абсциссой  2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9640" y="3357720"/>
            <a:ext cx="7848720" cy="2087280"/>
          </a:xfrm>
          <a:prstGeom prst="rect">
            <a:avLst/>
          </a:prstGeom>
          <a:solidFill>
            <a:srgbClr val="ebe9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f2123"/>
                </a:solidFill>
                <a:uFillTx/>
                <a:latin typeface="Arial Narrow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1f2123"/>
                </a:solidFill>
                <a:uFillTx/>
                <a:latin typeface="Arial Narrow"/>
                <a:ea typeface="Times New Roman"/>
              </a:rPr>
              <a:t>По ординате точки касания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Написать  уравнение касательной в точке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графика                      с ординатой y</a:t>
            </a:r>
            <a:r>
              <a:rPr b="0" lang="ru-RU" sz="2800" spc="-1" strike="noStrike" baseline="-25000">
                <a:solidFill>
                  <a:srgbClr val="1f2123"/>
                </a:solidFill>
                <a:latin typeface="Arial Narrow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  = 1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>
                <a:off x="2050920" y="4292640"/>
                <a:ext cx="1440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684360" y="620640"/>
            <a:ext cx="8064360" cy="58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 indent="-342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писать  уравнения всех касательных к графику  функции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(x) = x</a:t>
            </a:r>
            <a:r>
              <a:rPr b="0" i="1" lang="ru-RU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4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 + 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проходящих через  точку М (-3; -1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0efe0"/>
                </a:solidFill>
                <a:latin typeface="Times New Roman"/>
                <a:ea typeface="Times New Roman"/>
              </a:rPr>
              <a:t>2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Правильно ли составлено уравнение касательной к графику функции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(x)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+1, если угловой коэффициент касательной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-3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-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+7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80880" y="259920"/>
            <a:ext cx="87631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аписать  уравнения всех касательных к графику функции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(x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= 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+4х+6  проходящих через точку М(-3;-1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Решение.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1. Точка М(-3;-1) не является точкой касания, так как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-3)=3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. а – абсцисса точки касани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айдем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f(a):     f(a) = a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a+6. 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.  Найдем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’(x)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(a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(x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,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(a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. Подставим числа а,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,  в общее уравнение касательной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у=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’(a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:   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a+6+(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)(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 – уравнение касательной.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Так как касательная проходит через точку М(-3;-1), то   -1=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6+(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)(-3–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,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6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5=0,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или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1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Если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5,  то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6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–19 – уравнение касательной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1,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5  – уравнение касательной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6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–19, 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5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AutoShape 2">
            <a:hlinkClick r:id="" action="ppaction://hlinkshowjump?jump=nextslide"/>
          </p:cNvPr>
          <p:cNvSpPr/>
          <p:nvPr/>
        </p:nvSpPr>
        <p:spPr>
          <a:xfrm>
            <a:off x="827712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1">
            <a:hlinkClick r:id="" action="ppaction://hlinkshowjump?jump=previousslide"/>
          </p:cNvPr>
          <p:cNvSpPr/>
          <p:nvPr/>
        </p:nvSpPr>
        <p:spPr>
          <a:xfrm>
            <a:off x="755640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0"/>
          <p:cNvSpPr/>
          <p:nvPr/>
        </p:nvSpPr>
        <p:spPr>
          <a:xfrm>
            <a:off x="912960" y="575784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684360" y="692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unga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unga"/>
              </a:rPr>
              <a:t>Условия параллельности и перпендикулярно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unga"/>
              </a:rPr>
              <a:t>двух прямы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934920" y="292428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сть даны две прямые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1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1x+b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 у2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+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, то прямая  у1 параллельна  у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= –1, то данные прямые взаимно перпендикуляр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11280" y="765000"/>
            <a:ext cx="7772400" cy="17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ставить уравнение касательной к графику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(x)</a:t>
            </a:r>
            <a:r>
              <a:rPr b="0" i="1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, перпендикулярной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й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-1/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8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8" name="Прямоугольник 1" descr=""/>
          <p:cNvPicPr/>
          <p:nvPr/>
        </p:nvPicPr>
        <p:blipFill>
          <a:blip r:embed="rId1"/>
          <a:stretch/>
        </p:blipFill>
        <p:spPr>
          <a:xfrm>
            <a:off x="658800" y="3213000"/>
            <a:ext cx="748512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44480" y="765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Условие касания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-3427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рямая у=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+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является касательной к графику функции у=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(x)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тогда и только тогда, когда существует хотя бы одна  точка касания  а, для которой  выполняется система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-3427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-3427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(a)=ka+b,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-3427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’(a)=k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82600" y="4292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2">
            <a:hlinkClick r:id="" action="ppaction://hlinkshowjump?jump=nextslide"/>
          </p:cNvPr>
          <p:cNvSpPr/>
          <p:nvPr/>
        </p:nvSpPr>
        <p:spPr>
          <a:xfrm>
            <a:off x="827712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1">
            <a:hlinkClick r:id="" action="ppaction://hlinkshowjump?jump=previousslide"/>
          </p:cNvPr>
          <p:cNvSpPr/>
          <p:nvPr/>
        </p:nvSpPr>
        <p:spPr>
          <a:xfrm>
            <a:off x="755640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0"/>
          <p:cNvSpPr/>
          <p:nvPr/>
        </p:nvSpPr>
        <p:spPr>
          <a:xfrm>
            <a:off x="912960" y="575784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2565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ЦЕЛЬ УРОКА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НА ОСНОВЕ РЕШЕНИЯ ЗАДАЧ ВЫВЕСТИ УСЛОВИЕ КАСАНИЯ  ПРЯМОЙ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у=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х+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С Г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РАФИКОМ  ФУНКЦИИ   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у=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f(x)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be00"/>
                </a:solidFill>
                <a:latin typeface="Arial Narrow"/>
                <a:ea typeface="Times New Roman"/>
              </a:rPr>
              <a:t>СОГЛАСНЫ ЛИ ВЫ С УТВЕРЖДЕНИЕМ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47840" y="2491920"/>
            <a:ext cx="7796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«Касательная – это прямая, имеющая с данной кривой одну общую точку»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Freeform 1"/>
          <p:cNvSpPr/>
          <p:nvPr/>
        </p:nvSpPr>
        <p:spPr>
          <a:xfrm>
            <a:off x="5533920" y="5375160"/>
            <a:ext cx="3610080" cy="1482840"/>
          </a:xfrm>
          <a:custGeom>
            <a:avLst/>
            <a:gdLst>
              <a:gd name="textAreaLeft" fmla="*/ 0 w 3610080"/>
              <a:gd name="textAreaRight" fmla="*/ 3610440 w 361008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5685" h="2335">
                <a:moveTo>
                  <a:pt x="0" y="2080"/>
                </a:moveTo>
                <a:cubicBezTo>
                  <a:pt x="442" y="1145"/>
                  <a:pt x="885" y="210"/>
                  <a:pt x="1410" y="250"/>
                </a:cubicBezTo>
                <a:cubicBezTo>
                  <a:pt x="1935" y="290"/>
                  <a:pt x="2578" y="2305"/>
                  <a:pt x="3150" y="2320"/>
                </a:cubicBezTo>
                <a:cubicBezTo>
                  <a:pt x="3722" y="2335"/>
                  <a:pt x="4423" y="680"/>
                  <a:pt x="4845" y="340"/>
                </a:cubicBezTo>
                <a:cubicBezTo>
                  <a:pt x="5267" y="0"/>
                  <a:pt x="5476" y="140"/>
                  <a:pt x="5685" y="280"/>
                </a:cubicBezTo>
              </a:path>
            </a:pathLst>
          </a:custGeom>
          <a:solidFill>
            <a:srgbClr val="e5dfec"/>
          </a:solidFill>
          <a:ln w="31680">
            <a:solidFill>
              <a:srgbClr val="5f4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ая соединительная линия 30"/>
          <p:cNvSpPr/>
          <p:nvPr/>
        </p:nvSpPr>
        <p:spPr>
          <a:xfrm>
            <a:off x="7357320" y="3143160"/>
            <a:ext cx="71640" cy="3502080"/>
          </a:xfrm>
          <a:prstGeom prst="line">
            <a:avLst/>
          </a:prstGeom>
          <a:ln w="38160">
            <a:solidFill>
              <a:srgbClr val="ff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8"/>
          <p:cNvSpPr/>
          <p:nvPr/>
        </p:nvSpPr>
        <p:spPr>
          <a:xfrm>
            <a:off x="2000160" y="3286080"/>
            <a:ext cx="316080" cy="378000"/>
          </a:xfrm>
          <a:prstGeom prst="rect">
            <a:avLst/>
          </a:prstGeom>
          <a:noFill/>
          <a:ln w="0">
            <a:noFill/>
          </a:ln>
          <a:effectLst>
            <a:outerShdw dist="42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 Narrow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32"/>
          <p:cNvGrpSpPr/>
          <p:nvPr/>
        </p:nvGrpSpPr>
        <p:grpSpPr>
          <a:xfrm>
            <a:off x="357120" y="428400"/>
            <a:ext cx="3796200" cy="3995640"/>
            <a:chOff x="357120" y="428400"/>
            <a:chExt cx="3796200" cy="3995640"/>
          </a:xfrm>
        </p:grpSpPr>
        <p:cxnSp>
          <p:nvCxnSpPr>
            <p:cNvPr id="183" name="AutoShape 33"/>
            <p:cNvCxnSpPr/>
            <p:nvPr/>
          </p:nvCxnSpPr>
          <p:spPr>
            <a:xfrm flipV="1">
              <a:off x="1777680" y="428400"/>
              <a:ext cx="1080" cy="3996000"/>
            </a:xfrm>
            <a:prstGeom prst="straightConnector1">
              <a:avLst/>
            </a:prstGeom>
            <a:ln w="25560">
              <a:solidFill>
                <a:srgbClr val="d8d4c5"/>
              </a:solidFill>
              <a:miter/>
              <a:tailEnd len="med" type="triangle" w="med"/>
            </a:ln>
          </p:spPr>
        </p:cxnSp>
        <p:cxnSp>
          <p:nvCxnSpPr>
            <p:cNvPr id="184" name="AutoShape 34"/>
            <p:cNvCxnSpPr/>
            <p:nvPr/>
          </p:nvCxnSpPr>
          <p:spPr>
            <a:xfrm>
              <a:off x="357120" y="3171600"/>
              <a:ext cx="3796560" cy="1080"/>
            </a:xfrm>
            <a:prstGeom prst="straightConnector1">
              <a:avLst/>
            </a:prstGeom>
            <a:ln w="25560">
              <a:solidFill>
                <a:srgbClr val="d8d4c5"/>
              </a:solidFill>
              <a:miter/>
              <a:tailEnd len="med" type="triangle" w="med"/>
            </a:ln>
          </p:spPr>
        </p:cxnSp>
      </p:grpSp>
      <p:grpSp>
        <p:nvGrpSpPr>
          <p:cNvPr id="185" name="Text Box 37"/>
          <p:cNvGrpSpPr/>
          <p:nvPr/>
        </p:nvGrpSpPr>
        <p:grpSpPr>
          <a:xfrm>
            <a:off x="3444840" y="5505480"/>
            <a:ext cx="1054080" cy="663480"/>
            <a:chOff x="3444840" y="5505480"/>
            <a:chExt cx="1054080" cy="663480"/>
          </a:xfrm>
        </p:grpSpPr>
        <p:pic>
          <p:nvPicPr>
            <p:cNvPr id="186" name="Text Box 37" descr=""/>
            <p:cNvPicPr/>
            <p:nvPr/>
          </p:nvPicPr>
          <p:blipFill>
            <a:blip r:embed="rId1"/>
            <a:stretch/>
          </p:blipFill>
          <p:spPr>
            <a:xfrm>
              <a:off x="3444840" y="5505480"/>
              <a:ext cx="105408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571920" y="557208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  = </a:t>
              </a: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Text Box 38"/>
          <p:cNvGrpSpPr/>
          <p:nvPr/>
        </p:nvGrpSpPr>
        <p:grpSpPr>
          <a:xfrm>
            <a:off x="8315280" y="4730760"/>
            <a:ext cx="536760" cy="658800"/>
            <a:chOff x="8315280" y="4730760"/>
            <a:chExt cx="536760" cy="658800"/>
          </a:xfrm>
        </p:grpSpPr>
        <p:pic>
          <p:nvPicPr>
            <p:cNvPr id="189" name="Text Box 38" descr=""/>
            <p:cNvPicPr/>
            <p:nvPr/>
          </p:nvPicPr>
          <p:blipFill>
            <a:blip r:embed="rId2"/>
            <a:stretch/>
          </p:blipFill>
          <p:spPr>
            <a:xfrm>
              <a:off x="8315280" y="4730760"/>
              <a:ext cx="536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0560" y="4795920"/>
              <a:ext cx="316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Text Box 39"/>
          <p:cNvGrpSpPr/>
          <p:nvPr/>
        </p:nvGrpSpPr>
        <p:grpSpPr>
          <a:xfrm>
            <a:off x="5456160" y="3127320"/>
            <a:ext cx="542880" cy="658800"/>
            <a:chOff x="5456160" y="3127320"/>
            <a:chExt cx="542880" cy="658800"/>
          </a:xfrm>
        </p:grpSpPr>
        <p:pic>
          <p:nvPicPr>
            <p:cNvPr id="192" name="Text Box 39" descr=""/>
            <p:cNvPicPr/>
            <p:nvPr/>
          </p:nvPicPr>
          <p:blipFill>
            <a:blip r:embed="rId3"/>
            <a:stretch/>
          </p:blipFill>
          <p:spPr>
            <a:xfrm>
              <a:off x="5456160" y="3127320"/>
              <a:ext cx="5428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584680" y="3192480"/>
              <a:ext cx="316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Text Box 40"/>
          <p:cNvGrpSpPr/>
          <p:nvPr/>
        </p:nvGrpSpPr>
        <p:grpSpPr>
          <a:xfrm>
            <a:off x="6029280" y="3365640"/>
            <a:ext cx="1305000" cy="620640"/>
            <a:chOff x="6029280" y="3365640"/>
            <a:chExt cx="1305000" cy="620640"/>
          </a:xfrm>
        </p:grpSpPr>
        <p:pic>
          <p:nvPicPr>
            <p:cNvPr id="195" name="Text Box 40" descr=""/>
            <p:cNvPicPr/>
            <p:nvPr/>
          </p:nvPicPr>
          <p:blipFill>
            <a:blip r:embed="rId4"/>
            <a:stretch/>
          </p:blipFill>
          <p:spPr>
            <a:xfrm>
              <a:off x="6029280" y="3365640"/>
              <a:ext cx="13050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143760" y="3429000"/>
              <a:ext cx="11239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  = cos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Text Box 41"/>
          <p:cNvGrpSpPr/>
          <p:nvPr/>
        </p:nvGrpSpPr>
        <p:grpSpPr>
          <a:xfrm>
            <a:off x="4121280" y="4078440"/>
            <a:ext cx="676080" cy="658800"/>
            <a:chOff x="4121280" y="4078440"/>
            <a:chExt cx="676080" cy="658800"/>
          </a:xfrm>
        </p:grpSpPr>
        <p:pic>
          <p:nvPicPr>
            <p:cNvPr id="198" name="Text Box 41" descr=""/>
            <p:cNvPicPr/>
            <p:nvPr/>
          </p:nvPicPr>
          <p:blipFill>
            <a:blip r:embed="rId5"/>
            <a:stretch/>
          </p:blipFill>
          <p:spPr>
            <a:xfrm>
              <a:off x="4121280" y="4078440"/>
              <a:ext cx="6760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251240" y="4143240"/>
              <a:ext cx="479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-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Group 43"/>
          <p:cNvGrpSpPr/>
          <p:nvPr/>
        </p:nvGrpSpPr>
        <p:grpSpPr>
          <a:xfrm>
            <a:off x="3429000" y="3071520"/>
            <a:ext cx="5501160" cy="3286440"/>
            <a:chOff x="3429000" y="3071520"/>
            <a:chExt cx="5501160" cy="3286440"/>
          </a:xfrm>
        </p:grpSpPr>
        <p:cxnSp>
          <p:nvCxnSpPr>
            <p:cNvPr id="201" name="AutoShape 44"/>
            <p:cNvCxnSpPr/>
            <p:nvPr/>
          </p:nvCxnSpPr>
          <p:spPr>
            <a:xfrm flipV="1">
              <a:off x="6014160" y="3071520"/>
              <a:ext cx="1080" cy="3286800"/>
            </a:xfrm>
            <a:prstGeom prst="straightConnector1">
              <a:avLst/>
            </a:prstGeom>
            <a:ln w="25560">
              <a:solidFill>
                <a:srgbClr val="d8d4c5"/>
              </a:solidFill>
              <a:miter/>
              <a:tailEnd len="med" type="triangle" w="med"/>
            </a:ln>
          </p:spPr>
        </p:cxnSp>
        <p:cxnSp>
          <p:nvCxnSpPr>
            <p:cNvPr id="202" name="AutoShape 45"/>
            <p:cNvCxnSpPr/>
            <p:nvPr/>
          </p:nvCxnSpPr>
          <p:spPr>
            <a:xfrm>
              <a:off x="3429000" y="4714920"/>
              <a:ext cx="5501520" cy="2160"/>
            </a:xfrm>
            <a:prstGeom prst="straightConnector1">
              <a:avLst/>
            </a:prstGeom>
            <a:ln w="12600">
              <a:solidFill>
                <a:srgbClr val="d8d4c5"/>
              </a:solidFill>
              <a:miter/>
              <a:tailEnd len="med" type="triangle" w="med"/>
            </a:ln>
          </p:spPr>
        </p:cxnSp>
      </p:grpSp>
      <p:grpSp>
        <p:nvGrpSpPr>
          <p:cNvPr id="203" name="Group 46"/>
          <p:cNvGrpSpPr/>
          <p:nvPr/>
        </p:nvGrpSpPr>
        <p:grpSpPr>
          <a:xfrm>
            <a:off x="3828960" y="3949200"/>
            <a:ext cx="4319640" cy="1535760"/>
            <a:chOff x="3828960" y="3949200"/>
            <a:chExt cx="4319640" cy="1535760"/>
          </a:xfrm>
        </p:grpSpPr>
        <p:sp>
          <p:nvSpPr>
            <p:cNvPr id="204" name="Freeform 47"/>
            <p:cNvSpPr/>
            <p:nvPr/>
          </p:nvSpPr>
          <p:spPr>
            <a:xfrm>
              <a:off x="3828960" y="4718160"/>
              <a:ext cx="1440000" cy="7668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 rot="10800000">
              <a:off x="5268960" y="3949200"/>
              <a:ext cx="1440000" cy="7686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6708960" y="4718160"/>
              <a:ext cx="1439640" cy="7668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07" name="AutoShape 50"/>
          <p:cNvCxnSpPr/>
          <p:nvPr/>
        </p:nvCxnSpPr>
        <p:spPr>
          <a:xfrm>
            <a:off x="4000680" y="5500440"/>
            <a:ext cx="43423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</a:ln>
        </p:spPr>
      </p:cxnSp>
      <p:cxnSp>
        <p:nvCxnSpPr>
          <p:cNvPr id="208" name="AutoShape 51"/>
          <p:cNvCxnSpPr/>
          <p:nvPr/>
        </p:nvCxnSpPr>
        <p:spPr>
          <a:xfrm flipV="1">
            <a:off x="7395840" y="4714560"/>
            <a:ext cx="1080" cy="768960"/>
          </a:xfrm>
          <a:prstGeom prst="straightConnector1">
            <a:avLst/>
          </a:prstGeom>
          <a:ln w="9360">
            <a:solidFill>
              <a:srgbClr val="c4bea9"/>
            </a:solidFill>
            <a:prstDash val="dash"/>
            <a:miter/>
          </a:ln>
        </p:spPr>
      </p:cxnSp>
      <p:cxnSp>
        <p:nvCxnSpPr>
          <p:cNvPr id="209" name="AutoShape 52"/>
          <p:cNvCxnSpPr/>
          <p:nvPr/>
        </p:nvCxnSpPr>
        <p:spPr>
          <a:xfrm flipV="1">
            <a:off x="4517640" y="4716000"/>
            <a:ext cx="1080" cy="767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10" name="Text Box 53"/>
          <p:cNvGrpSpPr/>
          <p:nvPr/>
        </p:nvGrpSpPr>
        <p:grpSpPr>
          <a:xfrm>
            <a:off x="7516800" y="4145040"/>
            <a:ext cx="620640" cy="664920"/>
            <a:chOff x="7516800" y="4145040"/>
            <a:chExt cx="620640" cy="664920"/>
          </a:xfrm>
        </p:grpSpPr>
        <p:pic>
          <p:nvPicPr>
            <p:cNvPr id="211" name="Text Box 53" descr=""/>
            <p:cNvPicPr/>
            <p:nvPr/>
          </p:nvPicPr>
          <p:blipFill>
            <a:blip r:embed="rId6"/>
            <a:stretch/>
          </p:blipFill>
          <p:spPr>
            <a:xfrm>
              <a:off x="7516800" y="4145040"/>
              <a:ext cx="6206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643880" y="4214880"/>
              <a:ext cx="4284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Text Box 38"/>
          <p:cNvGrpSpPr/>
          <p:nvPr/>
        </p:nvGrpSpPr>
        <p:grpSpPr>
          <a:xfrm>
            <a:off x="3591000" y="3219480"/>
            <a:ext cx="536400" cy="663480"/>
            <a:chOff x="3591000" y="3219480"/>
            <a:chExt cx="536400" cy="663480"/>
          </a:xfrm>
        </p:grpSpPr>
        <p:pic>
          <p:nvPicPr>
            <p:cNvPr id="214" name="Text Box 38" descr=""/>
            <p:cNvPicPr/>
            <p:nvPr/>
          </p:nvPicPr>
          <p:blipFill>
            <a:blip r:embed="rId7"/>
            <a:stretch/>
          </p:blipFill>
          <p:spPr>
            <a:xfrm>
              <a:off x="3591000" y="3219480"/>
              <a:ext cx="5364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714840" y="3286080"/>
              <a:ext cx="31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Text Box 39"/>
          <p:cNvGrpSpPr/>
          <p:nvPr/>
        </p:nvGrpSpPr>
        <p:grpSpPr>
          <a:xfrm>
            <a:off x="1085760" y="285840"/>
            <a:ext cx="541440" cy="664920"/>
            <a:chOff x="1085760" y="285840"/>
            <a:chExt cx="541440" cy="664920"/>
          </a:xfrm>
        </p:grpSpPr>
        <p:pic>
          <p:nvPicPr>
            <p:cNvPr id="217" name="Text Box 39" descr=""/>
            <p:cNvPicPr/>
            <p:nvPr/>
          </p:nvPicPr>
          <p:blipFill>
            <a:blip r:embed="rId8"/>
            <a:stretch/>
          </p:blipFill>
          <p:spPr>
            <a:xfrm>
              <a:off x="1085760" y="285840"/>
              <a:ext cx="5414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214280" y="357120"/>
              <a:ext cx="3160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Полилиния 59"/>
          <p:cNvSpPr/>
          <p:nvPr/>
        </p:nvSpPr>
        <p:spPr>
          <a:xfrm>
            <a:off x="701640" y="838080"/>
            <a:ext cx="2163960" cy="2333880"/>
          </a:xfrm>
          <a:custGeom>
            <a:avLst/>
            <a:gdLst/>
            <a:ahLst/>
            <a:rect l="l" t="t" r="r" b="b"/>
            <a:pathLst>
              <a:path w="2164080" h="2334260">
                <a:moveTo>
                  <a:pt x="0" y="0"/>
                </a:moveTo>
                <a:cubicBezTo>
                  <a:pt x="168910" y="681990"/>
                  <a:pt x="337820" y="1363980"/>
                  <a:pt x="518160" y="1752600"/>
                </a:cubicBezTo>
                <a:cubicBezTo>
                  <a:pt x="698500" y="2141220"/>
                  <a:pt x="889000" y="2329180"/>
                  <a:pt x="1082040" y="2331720"/>
                </a:cubicBezTo>
                <a:cubicBezTo>
                  <a:pt x="1275080" y="2334260"/>
                  <a:pt x="1496060" y="2153920"/>
                  <a:pt x="1676400" y="1767840"/>
                </a:cubicBezTo>
                <a:cubicBezTo>
                  <a:pt x="1856740" y="1381760"/>
                  <a:pt x="2010410" y="698500"/>
                  <a:pt x="2164080" y="1524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61"/>
          <p:cNvSpPr/>
          <p:nvPr/>
        </p:nvSpPr>
        <p:spPr>
          <a:xfrm>
            <a:off x="2320200" y="857160"/>
            <a:ext cx="36360" cy="371484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66"/>
          <p:cNvSpPr/>
          <p:nvPr/>
        </p:nvSpPr>
        <p:spPr>
          <a:xfrm flipH="1">
            <a:off x="1499760" y="1000080"/>
            <a:ext cx="1714680" cy="32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Прямоугольник 68"/>
          <p:cNvGrpSpPr/>
          <p:nvPr/>
        </p:nvGrpSpPr>
        <p:grpSpPr>
          <a:xfrm>
            <a:off x="85680" y="2571840"/>
            <a:ext cx="1120680" cy="664920"/>
            <a:chOff x="85680" y="2571840"/>
            <a:chExt cx="1120680" cy="664920"/>
          </a:xfrm>
        </p:grpSpPr>
        <p:pic>
          <p:nvPicPr>
            <p:cNvPr id="223" name="Прямоугольник 68" descr=""/>
            <p:cNvPicPr/>
            <p:nvPr/>
          </p:nvPicPr>
          <p:blipFill>
            <a:blip r:embed="rId9"/>
            <a:stretch/>
          </p:blipFill>
          <p:spPr>
            <a:xfrm>
              <a:off x="85680" y="2571840"/>
              <a:ext cx="112068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3600" y="264312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  =  x</a:t>
              </a:r>
              <a:r>
                <a:rPr b="0" lang="ru-RU" sz="2000" spc="-1" strike="noStrike" baseline="30000">
                  <a:solidFill>
                    <a:srgbClr val="f2f2f2"/>
                  </a:solidFill>
                  <a:latin typeface="Arial Narrow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Text Box 37"/>
          <p:cNvGrpSpPr/>
          <p:nvPr/>
        </p:nvGrpSpPr>
        <p:grpSpPr>
          <a:xfrm>
            <a:off x="2305080" y="4005360"/>
            <a:ext cx="1047600" cy="658800"/>
            <a:chOff x="2305080" y="4005360"/>
            <a:chExt cx="1047600" cy="658800"/>
          </a:xfrm>
        </p:grpSpPr>
        <p:pic>
          <p:nvPicPr>
            <p:cNvPr id="226" name="Text Box 37" descr=""/>
            <p:cNvPicPr/>
            <p:nvPr/>
          </p:nvPicPr>
          <p:blipFill>
            <a:blip r:embed="rId10"/>
            <a:stretch/>
          </p:blipFill>
          <p:spPr>
            <a:xfrm>
              <a:off x="2305080" y="4005360"/>
              <a:ext cx="1047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428920" y="407196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х</a:t>
              </a: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  = </a:t>
              </a: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Text Box 37"/>
          <p:cNvGrpSpPr/>
          <p:nvPr/>
        </p:nvGrpSpPr>
        <p:grpSpPr>
          <a:xfrm>
            <a:off x="3017880" y="1504800"/>
            <a:ext cx="1481040" cy="658800"/>
            <a:chOff x="3017880" y="1504800"/>
            <a:chExt cx="1481040" cy="658800"/>
          </a:xfrm>
        </p:grpSpPr>
        <p:pic>
          <p:nvPicPr>
            <p:cNvPr id="229" name="Text Box 37" descr=""/>
            <p:cNvPicPr/>
            <p:nvPr/>
          </p:nvPicPr>
          <p:blipFill>
            <a:blip r:embed="rId11"/>
            <a:stretch/>
          </p:blipFill>
          <p:spPr>
            <a:xfrm>
              <a:off x="3017880" y="1504800"/>
              <a:ext cx="14810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143160" y="157176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  =</a:t>
              </a: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 2х -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Text Box 53"/>
          <p:cNvGrpSpPr/>
          <p:nvPr/>
        </p:nvGrpSpPr>
        <p:grpSpPr>
          <a:xfrm>
            <a:off x="7375680" y="5931000"/>
            <a:ext cx="1049040" cy="664920"/>
            <a:chOff x="7375680" y="5931000"/>
            <a:chExt cx="1049040" cy="664920"/>
          </a:xfrm>
        </p:grpSpPr>
        <p:pic>
          <p:nvPicPr>
            <p:cNvPr id="232" name="Text Box 53" descr=""/>
            <p:cNvPicPr/>
            <p:nvPr/>
          </p:nvPicPr>
          <p:blipFill>
            <a:blip r:embed="rId12"/>
            <a:stretch/>
          </p:blipFill>
          <p:spPr>
            <a:xfrm>
              <a:off x="7375680" y="5931000"/>
              <a:ext cx="1049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500960" y="6000840"/>
              <a:ext cx="857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х =</a:t>
              </a: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6160" y="609480"/>
            <a:ext cx="8637480" cy="119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e00"/>
                </a:solidFill>
                <a:latin typeface="Arial Narrow"/>
                <a:ea typeface="Tunga"/>
              </a:rPr>
              <a:t>ОПРЕДЕЛЕНИЕ КАСАТЕЛЬНОЙ К ГРАФИКУ ФУНКЦИИ У=</a:t>
            </a:r>
            <a:r>
              <a:rPr b="0" lang="en-US" sz="3600" spc="-1" strike="noStrike">
                <a:solidFill>
                  <a:srgbClr val="ffbe00"/>
                </a:solidFill>
                <a:latin typeface="Arial Narrow"/>
                <a:ea typeface="Tunga"/>
              </a:rPr>
              <a:t>F(</a:t>
            </a:r>
            <a:r>
              <a:rPr b="0" lang="ru-RU" sz="3600" spc="-1" strike="noStrike">
                <a:solidFill>
                  <a:srgbClr val="ffbe00"/>
                </a:solidFill>
                <a:latin typeface="Arial Narrow"/>
                <a:ea typeface="Tunga"/>
              </a:rPr>
              <a:t>Х</a:t>
            </a:r>
            <a:r>
              <a:rPr b="0" lang="en-US" sz="3600" spc="-1" strike="noStrike">
                <a:solidFill>
                  <a:srgbClr val="ffbe00"/>
                </a:solidFill>
                <a:latin typeface="Arial Narrow"/>
                <a:ea typeface="Tung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5" name="Picture 0" descr="image001"/>
          <p:cNvPicPr/>
          <p:nvPr/>
        </p:nvPicPr>
        <p:blipFill>
          <a:blip r:embed="rId1"/>
          <a:stretch/>
        </p:blipFill>
        <p:spPr>
          <a:xfrm>
            <a:off x="990720" y="2293920"/>
            <a:ext cx="3124080" cy="3144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46600" y="2101680"/>
            <a:ext cx="47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усть дана некоторая кривая и точка Р на ней. Возьмем на этой кривой другую точку Р1 и проведем прямую через точки Р и Р1. Эту прямую называют секущей. Будем приближать точку Р1 к Р. Положение секущей РР1 будет меняться (стремиться к точки Р)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редельное положение прямой РР1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 будет касательной к кривой в точке Р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1989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AutoShape 3">
            <a:hlinkClick r:id="" action="ppaction://hlinkshowjump?jump=previousslide"/>
          </p:cNvPr>
          <p:cNvSpPr/>
          <p:nvPr/>
        </p:nvSpPr>
        <p:spPr>
          <a:xfrm>
            <a:off x="755640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2">
            <a:hlinkClick r:id="" action="ppaction://hlinkshowjump?jump=nextslide"/>
          </p:cNvPr>
          <p:cNvSpPr/>
          <p:nvPr/>
        </p:nvSpPr>
        <p:spPr>
          <a:xfrm>
            <a:off x="8244000" y="57340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1"/>
          <p:cNvSpPr/>
          <p:nvPr/>
        </p:nvSpPr>
        <p:spPr>
          <a:xfrm>
            <a:off x="912960" y="575784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92160" y="1856880"/>
            <a:ext cx="8151840" cy="27925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334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Касательной   к  графику  функции 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</a:t>
            </a: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дифференцируемой    в точке 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х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,</a:t>
            </a: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называется прямая, проходящая через точку  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) </a:t>
            </a: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и имеющая угловой коэффициент 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=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 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'(х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.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marL="334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98712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tIns="64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be00"/>
                </a:solidFill>
                <a:latin typeface="Arial Narrow"/>
                <a:ea typeface="Times New Roman"/>
              </a:rPr>
              <a:t>ОПРЕДЕЛЕНИЕ КАСАТЕЛЬНО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Freeform 1"/>
          <p:cNvSpPr/>
          <p:nvPr/>
        </p:nvSpPr>
        <p:spPr>
          <a:xfrm>
            <a:off x="5000760" y="5000760"/>
            <a:ext cx="4143240" cy="1857240"/>
          </a:xfrm>
          <a:custGeom>
            <a:avLst/>
            <a:gdLst>
              <a:gd name="textAreaLeft" fmla="*/ 0 w 4143240"/>
              <a:gd name="textAreaRight" fmla="*/ 4143600 w 4143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5685" h="2335">
                <a:moveTo>
                  <a:pt x="0" y="2080"/>
                </a:moveTo>
                <a:cubicBezTo>
                  <a:pt x="442" y="1145"/>
                  <a:pt x="885" y="210"/>
                  <a:pt x="1410" y="250"/>
                </a:cubicBezTo>
                <a:cubicBezTo>
                  <a:pt x="1935" y="290"/>
                  <a:pt x="2578" y="2305"/>
                  <a:pt x="3150" y="2320"/>
                </a:cubicBezTo>
                <a:cubicBezTo>
                  <a:pt x="3722" y="2335"/>
                  <a:pt x="4423" y="680"/>
                  <a:pt x="4845" y="340"/>
                </a:cubicBezTo>
                <a:cubicBezTo>
                  <a:pt x="5267" y="0"/>
                  <a:pt x="5476" y="140"/>
                  <a:pt x="5685" y="280"/>
                </a:cubicBezTo>
              </a:path>
            </a:pathLst>
          </a:custGeom>
          <a:solidFill>
            <a:srgbClr val="e5dfec"/>
          </a:solidFill>
          <a:ln w="31680">
            <a:solidFill>
              <a:srgbClr val="5f4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206000" y="2000160"/>
            <a:ext cx="7937640" cy="26496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Угловой коэффициент касательной к графику функции в точке равен значению производной в этой точке.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кас.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= f </a:t>
            </a:r>
            <a:r>
              <a:rPr b="1" i="1" lang="en-US" sz="34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/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x</a:t>
            </a:r>
            <a:r>
              <a:rPr b="1" i="1" lang="en-US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g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98712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tIns="64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be00"/>
                </a:solidFill>
                <a:latin typeface="Arial Narrow"/>
                <a:ea typeface="Times New Roman"/>
              </a:rPr>
              <a:t>ГЕОМЕТРИЧЕСКИЙ СМЫСЛ ПРОИЗВОДНО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Freeform 1"/>
          <p:cNvSpPr/>
          <p:nvPr/>
        </p:nvSpPr>
        <p:spPr>
          <a:xfrm>
            <a:off x="5000760" y="5000760"/>
            <a:ext cx="4143240" cy="1857240"/>
          </a:xfrm>
          <a:custGeom>
            <a:avLst/>
            <a:gdLst>
              <a:gd name="textAreaLeft" fmla="*/ 0 w 4143240"/>
              <a:gd name="textAreaRight" fmla="*/ 4143600 w 4143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5685" h="2335">
                <a:moveTo>
                  <a:pt x="0" y="2080"/>
                </a:moveTo>
                <a:cubicBezTo>
                  <a:pt x="442" y="1145"/>
                  <a:pt x="885" y="210"/>
                  <a:pt x="1410" y="250"/>
                </a:cubicBezTo>
                <a:cubicBezTo>
                  <a:pt x="1935" y="290"/>
                  <a:pt x="2578" y="2305"/>
                  <a:pt x="3150" y="2320"/>
                </a:cubicBezTo>
                <a:cubicBezTo>
                  <a:pt x="3722" y="2335"/>
                  <a:pt x="4423" y="680"/>
                  <a:pt x="4845" y="340"/>
                </a:cubicBezTo>
                <a:cubicBezTo>
                  <a:pt x="5267" y="0"/>
                  <a:pt x="5476" y="140"/>
                  <a:pt x="5685" y="280"/>
                </a:cubicBezTo>
              </a:path>
            </a:pathLst>
          </a:custGeom>
          <a:solidFill>
            <a:srgbClr val="e5dfec"/>
          </a:solidFill>
          <a:ln w="31680">
            <a:solidFill>
              <a:srgbClr val="5f4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714680" y="1341360"/>
            <a:ext cx="7210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28800" y="765000"/>
            <a:ext cx="8215200" cy="19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каких точках графика касательная к нему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а) горизонтальна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б) образует с осью абсцисс острый угол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в) образует с осью абсцисс тупой угол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9" name="Picture 1" descr=""/>
          <p:cNvPicPr/>
          <p:nvPr/>
        </p:nvPicPr>
        <p:blipFill>
          <a:blip r:embed="rId1"/>
          <a:srcRect l="0" t="1297" r="0" b="1297"/>
          <a:stretch/>
        </p:blipFill>
        <p:spPr>
          <a:xfrm>
            <a:off x="2997360" y="3143160"/>
            <a:ext cx="61466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07:16:54Z</dcterms:created>
  <dc:creator>ws339_11</dc:creator>
  <dc:description/>
  <dc:language>en-US</dc:language>
  <cp:lastModifiedBy>учитель</cp:lastModifiedBy>
  <cp:lastPrinted>2004-05-25T08:13:47Z</cp:lastPrinted>
  <dcterms:modified xsi:type="dcterms:W3CDTF">2014-04-02T06:16:57Z</dcterms:modified>
  <cp:revision>126</cp:revision>
  <dc:subject/>
  <dc:title>«Касательная к графику функции»</dc:title>
</cp:coreProperties>
</file>