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C84-E1BA-4BF6-91B0-55E26B81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D8F-9BFD-4833-800A-51C82CD2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E2A-4016-4DC3-B4DB-3A8E9157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923-81FD-444B-9680-6E7842BB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984-C491-4728-8CBB-131A1B76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29D-7B05-4FB9-8420-E326906D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879-E9CD-4AC5-9B37-5A130C17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7DF-BFCC-4A2C-A08B-80B0F8C9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1FB-A7E7-410A-B6FB-E8B8CED1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AA6-A185-4A34-96CF-2D68DE5E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C59-CD30-4F2E-9E22-EE96ABED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345-2965-4135-AFF2-D97F4628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EF34-DBEF-48F1-A914-64598A239C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1619280" y="2214720"/>
            <a:ext cx="576108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Логические задачи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AutoShape 26"/>
          <p:cNvSpPr/>
          <p:nvPr/>
        </p:nvSpPr>
        <p:spPr>
          <a:xfrm>
            <a:off x="2050920" y="1052640"/>
            <a:ext cx="5113440" cy="1008000"/>
          </a:xfrm>
          <a:custGeom>
            <a:avLst/>
            <a:gdLst>
              <a:gd name="textAreaLeft" fmla="*/ 1278360 w 5113440"/>
              <a:gd name="textAreaRight" fmla="*/ 3835080 w 5113440"/>
              <a:gd name="textAreaTop" fmla="*/ 0 h 1008000"/>
              <a:gd name="textAreaBottom" fmla="*/ 882000 h 100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ДАЧИ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7"/>
          <p:cNvSpPr/>
          <p:nvPr/>
        </p:nvSpPr>
        <p:spPr>
          <a:xfrm>
            <a:off x="324000" y="3284640"/>
            <a:ext cx="576000" cy="5760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8"/>
          <p:cNvSpPr/>
          <p:nvPr/>
        </p:nvSpPr>
        <p:spPr>
          <a:xfrm>
            <a:off x="7667640" y="1773360"/>
            <a:ext cx="576360" cy="50328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9"/>
          <p:cNvSpPr/>
          <p:nvPr/>
        </p:nvSpPr>
        <p:spPr>
          <a:xfrm>
            <a:off x="1763640" y="1125360"/>
            <a:ext cx="504720" cy="43200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0"/>
          <p:cNvSpPr/>
          <p:nvPr/>
        </p:nvSpPr>
        <p:spPr>
          <a:xfrm>
            <a:off x="4284720" y="3645000"/>
            <a:ext cx="431640" cy="504720"/>
          </a:xfrm>
          <a:custGeom>
            <a:avLst/>
            <a:gdLst>
              <a:gd name="textAreaLeft" fmla="*/ 177840 w 431640"/>
              <a:gd name="textAreaRight" fmla="*/ 253800 w 43164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999720" y="3642840"/>
            <a:ext cx="757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 УЧЕ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КЛАССА МОУ «СОШ № 1» г. ВОРКУТЫ КАПУСТИНОЙ АЛЕКСАН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ОВА РАИСА АРК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 парту Оли упал бумажный самолет с нарисованными красными сердечками. Оля развернула его и прочитала: "Ты - лучшая девочка в классе!" Она повернулась в сидящим за ней ребятам: Ивану, Сергею, Алексею. Все три мальчика покраснели.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Кто из вас делает мне такие комплименты? - спросила Оля.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Это Сергей! - сказал Иван.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Я ничего такого не делал! - сказал Сергей.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Не имею никакого представления, о чем ты говоришь! - сказал Алексей.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руга Оли Маша ухмыльнулась: "Двое из них лгут!" Однако она не хочет больше ничего говорить. Кто является тайным поклонником О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5796000" y="620640"/>
            <a:ext cx="1728720" cy="503280"/>
          </a:xfrm>
          <a:prstGeom prst="horizontalScroll">
            <a:avLst>
              <a:gd name="adj" fmla="val 11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троим-самолет"/>
          <p:cNvPicPr/>
          <p:nvPr/>
        </p:nvPicPr>
        <p:blipFill>
          <a:blip r:embed="rId1"/>
          <a:stretch/>
        </p:blipFill>
        <p:spPr>
          <a:xfrm>
            <a:off x="5724360" y="4292640"/>
            <a:ext cx="2449800" cy="1923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getImage"/>
          <p:cNvPicPr/>
          <p:nvPr/>
        </p:nvPicPr>
        <p:blipFill>
          <a:blip r:embed="rId2"/>
          <a:stretch/>
        </p:blipFill>
        <p:spPr>
          <a:xfrm>
            <a:off x="1187280" y="4365720"/>
            <a:ext cx="30956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По условию известно, что двое лгут, значит один из них говорит правду. Рассматриваем 3 случая, в которых каждый по очереди говорит правду.</a:t>
            </a:r>
            <a:br>
              <a:rPr sz="2000"/>
            </a:b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1. Если правду говорит Иван, то поклонником является Сергей. По условию Сергей должен сказать неправду. В данном случае Сергей солгал, что это не он. Но если Алексей врет, то получается, что у Оли два поклонника: Сергей и Алексей.</a:t>
            </a:r>
            <a:br>
              <a:rPr sz="2000"/>
            </a:b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2. Если правду говорит Алексей, то лгут Иван и Сергей, сто невозможно в силу противоречивости.</a:t>
            </a:r>
            <a:br>
              <a:rPr sz="2000"/>
            </a:b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3. Если правду говорит Сергей, Иван и Алексей лгут. Иван лжет, что поклонником является Сергей, Сергей говорит правду, что ничего такого не делал, а Алексей лжет, что не имеет понятия, о чем идет речь. Соответственно поклонником является Алекс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Алек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ff"/>
                </a:solidFill>
                <a:latin typeface="Arial"/>
              </a:rPr>
              <a:t>Задача: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86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Богини Гера, Афродита и Афина пришли к юному Парису, чтобы тот решил, кто из них прекраснее. Представ перед Парисом, богини высказали следующие утвер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Афродита: Я самая прекрасн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Афина: Афродита не самая прекрасн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Гера: Я самая прекрасн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Афродита: Гера не самая прекрасн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Афина: Я самая прекрасн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Парис, прилегший отдохнуть на обочине дороги, не счел нужным даже снять платок, которым прикрыл глаза от яркого солнца. Но богини были настойчивы, и ему во что бы то ни стало нужно было решить, кто из них самая прекрасная. Парис предположил, что все утверждения прекраснейшей из богинь истинны, а все утверждения двух остальных богинь лож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Мог ли Парис, исходя из такого предположения, вынести то решение, которого ожидали от него богини, и если мог, то кто прекраснейшая из богин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i_046"/>
          <p:cNvPicPr/>
          <p:nvPr/>
        </p:nvPicPr>
        <p:blipFill>
          <a:blip r:embed="rId1"/>
          <a:stretch/>
        </p:blipFill>
        <p:spPr>
          <a:xfrm>
            <a:off x="5148360" y="4365720"/>
            <a:ext cx="3024000" cy="192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загруженное (4)"/>
          <p:cNvPicPr/>
          <p:nvPr/>
        </p:nvPicPr>
        <p:blipFill>
          <a:blip r:embed="rId2"/>
          <a:stretch/>
        </p:blipFill>
        <p:spPr>
          <a:xfrm>
            <a:off x="1332000" y="4365720"/>
            <a:ext cx="2390760" cy="19144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1763640" y="907920"/>
            <a:ext cx="936720" cy="649440"/>
          </a:xfrm>
          <a:prstGeom prst="pie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7380360" y="404640"/>
            <a:ext cx="1584360" cy="1152720"/>
          </a:xfrm>
          <a:prstGeom prst="pie">
            <a:avLst/>
          </a:prstGeom>
          <a:solidFill>
            <a:srgbClr val="ff99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ff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Если честна Афродита, то Гера и Афина лгут. Если честна Гера - лгут Афина и Афродита. Если честна Афина, то Гера и Афродита л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Допустим честна Афродита,  то другие это будут отрицать, что и произошло, и сами восхвалили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Допустим честна Гера, то Афродита и Афина солгали бы сказав что она не самая прекрасная, чего не произош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Допустим честна Афина, то Гера и Афродита утверждали бы что это не так, чего не произош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ff"/>
                </a:solidFill>
                <a:latin typeface="Arial"/>
              </a:rPr>
              <a:t>Ответ: Афродита – прекраснейшая из боги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                </a:t>
            </a:r>
            <a:r>
              <a:rPr b="0" lang="ru-RU" sz="4800" spc="-1" strike="noStrike">
                <a:solidFill>
                  <a:srgbClr val="33ccff"/>
                </a:solidFill>
                <a:latin typeface="Arial"/>
              </a:rPr>
              <a:t>КОНЕЦ !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Спасибо за внимание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Презентацию подготовила Капустина А.Э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7а класса, МОУ «СОШ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hqdefault"/>
          <p:cNvPicPr/>
          <p:nvPr/>
        </p:nvPicPr>
        <p:blipFill>
          <a:blip r:embed="rId1"/>
          <a:stretch/>
        </p:blipFill>
        <p:spPr>
          <a:xfrm>
            <a:off x="6659640" y="450864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-SceMZrkuZs"/>
          <p:cNvPicPr/>
          <p:nvPr/>
        </p:nvPicPr>
        <p:blipFill>
          <a:blip r:embed="rId2"/>
          <a:stretch/>
        </p:blipFill>
        <p:spPr>
          <a:xfrm>
            <a:off x="468360" y="1268280"/>
            <a:ext cx="237636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wdzpd8r7akU"/>
          <p:cNvPicPr/>
          <p:nvPr/>
        </p:nvPicPr>
        <p:blipFill>
          <a:blip r:embed="rId3"/>
          <a:stretch/>
        </p:blipFill>
        <p:spPr>
          <a:xfrm>
            <a:off x="6372360" y="1413000"/>
            <a:ext cx="19461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655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Когда Аня, Женя и Нина спросили, какие им поставили оценки за контрольную по математике, учительница ответила: «Попробуйте догадаться сами, если я скажу, что в вашем классе «двоек» нет, а у вас троих оценки разные, причем: У Ани не «тройка» У Нины не «тройка» и не «пятерка» Какую оценку получила каждая ученица?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5_6"/>
          <p:cNvPicPr/>
          <p:nvPr/>
        </p:nvPicPr>
        <p:blipFill>
          <a:blip r:embed="rId1"/>
          <a:stretch/>
        </p:blipFill>
        <p:spPr>
          <a:xfrm>
            <a:off x="6443640" y="404640"/>
            <a:ext cx="136836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3_4"/>
          <p:cNvPicPr/>
          <p:nvPr/>
        </p:nvPicPr>
        <p:blipFill>
          <a:blip r:embed="rId2"/>
          <a:stretch/>
        </p:blipFill>
        <p:spPr>
          <a:xfrm>
            <a:off x="1403280" y="620640"/>
            <a:ext cx="86688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4_8"/>
          <p:cNvPicPr/>
          <p:nvPr/>
        </p:nvPicPr>
        <p:blipFill>
          <a:blip r:embed="rId3"/>
          <a:stretch/>
        </p:blipFill>
        <p:spPr>
          <a:xfrm>
            <a:off x="179280" y="292428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1380016269_2075696455"/>
          <p:cNvPicPr/>
          <p:nvPr/>
        </p:nvPicPr>
        <p:blipFill>
          <a:blip r:embed="rId4"/>
          <a:stretch/>
        </p:blipFill>
        <p:spPr>
          <a:xfrm>
            <a:off x="6156360" y="3500280"/>
            <a:ext cx="1846080" cy="2665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5"/>
          <p:cNvSpPr/>
          <p:nvPr/>
        </p:nvSpPr>
        <p:spPr>
          <a:xfrm>
            <a:off x="468360" y="1197000"/>
            <a:ext cx="718920" cy="504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f_4c530629c4a52"/>
          <p:cNvPicPr/>
          <p:nvPr/>
        </p:nvPicPr>
        <p:blipFill>
          <a:blip r:embed="rId5"/>
          <a:stretch/>
        </p:blipFill>
        <p:spPr>
          <a:xfrm>
            <a:off x="3780000" y="3429000"/>
            <a:ext cx="2089080" cy="269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загруженное (1)"/>
          <p:cNvPicPr/>
          <p:nvPr/>
        </p:nvPicPr>
        <p:blipFill>
          <a:blip r:embed="rId6"/>
          <a:stretch/>
        </p:blipFill>
        <p:spPr>
          <a:xfrm>
            <a:off x="1692360" y="3645000"/>
            <a:ext cx="1857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3860640"/>
            <a:ext cx="6553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У Нины не «3» и не «5», значит,- «4».У Ани не «3»,но и не «4» («4» у Нины), значит, у Ани «5». ТогдА очевидно, у ЖЕНИ «3»( не «4» и не «5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Ответ: у Ани «5», у Жени «3», у Нины «4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47640" y="1484280"/>
          <a:ext cx="6096240" cy="2073240"/>
        </p:xfrm>
        <a:graphic>
          <a:graphicData uri="http://schemas.openxmlformats.org/drawingml/2006/table">
            <a:tbl>
              <a:tblPr/>
              <a:tblGrid>
                <a:gridCol w="1584360"/>
                <a:gridCol w="146376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AutoShape 35"/>
          <p:cNvSpPr/>
          <p:nvPr/>
        </p:nvSpPr>
        <p:spPr>
          <a:xfrm>
            <a:off x="6948360" y="836640"/>
            <a:ext cx="863640" cy="64764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Ералаш-Парам_парам_пам_пу_(mp3.uz.cm).mp3" descr=""/>
          <p:cNvPicPr/>
          <p:nvPr/>
        </p:nvPicPr>
        <p:blipFill>
          <a:blip r:embed="rId1"/>
          <a:stretch/>
        </p:blipFill>
        <p:spPr>
          <a:xfrm>
            <a:off x="7596360" y="5084640"/>
            <a:ext cx="4489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4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08160" y="1341360"/>
            <a:ext cx="7540560" cy="62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Elephant"/>
              </a:rPr>
              <a:t>Коля, Боря, Вова и Юра заняли первые места в соревнований, причем никакие два мальчика не делили между собой одно и тоже место. На вопрос, какие места заняли ребята, трое ответили : Коля- не первое и не четвертое; Боря- второе; Вова – не был последним. Какое место занял каждый из мальчиков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images (4)"/>
          <p:cNvPicPr/>
          <p:nvPr/>
        </p:nvPicPr>
        <p:blipFill>
          <a:blip r:embed="rId1"/>
          <a:stretch/>
        </p:blipFill>
        <p:spPr>
          <a:xfrm>
            <a:off x="1403280" y="4076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727519"/>
          <p:cNvPicPr/>
          <p:nvPr/>
        </p:nvPicPr>
        <p:blipFill>
          <a:blip r:embed="rId2"/>
          <a:stretch/>
        </p:blipFill>
        <p:spPr>
          <a:xfrm>
            <a:off x="4716360" y="3716280"/>
            <a:ext cx="2822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4221000"/>
            <a:ext cx="8075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множеством имен мальчиков и множеством завоеванных мест должно быть взаимно однозначное соответствие. У Коли ни 1-е, ни 4-е, но и ни 2-е (оно у Бори), следовательно, у него 3-е место. У Вовы ни 4-е, ни 3-е, ни 2-е, значит,- 1-е место. Значит, у Юры 4-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в виде таблицы с исходными данны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87280" y="1557360"/>
          <a:ext cx="6697800" cy="2590920"/>
        </p:xfrm>
        <a:graphic>
          <a:graphicData uri="http://schemas.openxmlformats.org/drawingml/2006/table">
            <a:tbl>
              <a:tblPr/>
              <a:tblGrid>
                <a:gridCol w="1341720"/>
                <a:gridCol w="1338120"/>
                <a:gridCol w="1338120"/>
                <a:gridCol w="1338480"/>
                <a:gridCol w="1341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М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К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Бо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В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Ю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69" name="AutoShape 73"/>
          <p:cNvCxnSpPr>
            <a:stCxn id="66" idx="2"/>
            <a:endCxn id="66" idx="2"/>
          </p:cNvCxnSpPr>
          <p:nvPr/>
        </p:nvCxnSpPr>
        <p:spPr>
          <a:xfrm>
            <a:off x="4571640" y="1412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AutoShape 74"/>
          <p:cNvSpPr/>
          <p:nvPr/>
        </p:nvSpPr>
        <p:spPr>
          <a:xfrm>
            <a:off x="1547640" y="90792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Ералаш-Парам_парам_пам_пу_(mp3.uz.cm).mp3" descr=""/>
          <p:cNvPicPr/>
          <p:nvPr/>
        </p:nvPicPr>
        <p:blipFill>
          <a:blip r:embed="rId1"/>
          <a:stretch/>
        </p:blipFill>
        <p:spPr>
          <a:xfrm>
            <a:off x="7236000" y="537372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143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Задача: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СТРЕТИЛИСЬ 3 ДРУГА: СКУЛЬПТОР БЕЛОВ, СКРИПАЧ ЧЕРНОВ И ХУДОЖНИК РЫЖОВ. ХОРОШО ЧТО ОДИН ИЗ НАС БЛОНДИН, ДРУГОЙ БРЮНЕТ, А ТРЕТИЙ РЫЖЕВОЛОСЫЙ, НО НИ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ДНОГО ИЗ НАС, ВОЛОСЫ ПО ЦВЕТУ НЕ СОВПАДАЮТ С ЦВЕТОМ, НА КОТОРЫЙ УКАЗЫВАЕТ ЕГО ФАМИЛИЯ, - ЗАМЕТИЛ БРЮНЕТ. "ТЫ ПРАВ" СКАЗАЛ БЕЛОВ. КАКОЙ ЦВЕТ ВОЛОС У ХУДОЖНИ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1522_2"/>
          <p:cNvPicPr/>
          <p:nvPr/>
        </p:nvPicPr>
        <p:blipFill>
          <a:blip r:embed="rId1"/>
          <a:stretch/>
        </p:blipFill>
        <p:spPr>
          <a:xfrm>
            <a:off x="6012000" y="393372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s83989763"/>
          <p:cNvPicPr/>
          <p:nvPr/>
        </p:nvPicPr>
        <p:blipFill>
          <a:blip r:embed="rId2"/>
          <a:stretch/>
        </p:blipFill>
        <p:spPr>
          <a:xfrm>
            <a:off x="539640" y="4365720"/>
            <a:ext cx="2481480" cy="186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epositphotos_32526021-Boy-builder"/>
          <p:cNvPicPr/>
          <p:nvPr/>
        </p:nvPicPr>
        <p:blipFill>
          <a:blip r:embed="rId3"/>
          <a:stretch/>
        </p:blipFill>
        <p:spPr>
          <a:xfrm>
            <a:off x="3780000" y="4221000"/>
            <a:ext cx="1411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3573000"/>
            <a:ext cx="80755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ь сказал брюнет, а подтвердил Белов, значит уже по определению Белов не может быть брюнетом и блондином быть не может , остаётся ему быть только рыжим. Остаются двое Чернов и Рыжов один из которых брюнет, а другой блондин. Чернов брюнетом быть не может, т.к. на это указывает его фамилия, из чего следует, что он блондин. А исходя из всего вышесказанного следует что художник Рыжов - БРЮ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в виде таблицы с исходными данны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1397160"/>
          <a:ext cx="6096240" cy="2103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н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юн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34"/>
          <p:cNvSpPr/>
          <p:nvPr/>
        </p:nvSpPr>
        <p:spPr>
          <a:xfrm>
            <a:off x="2484360" y="907920"/>
            <a:ext cx="576360" cy="505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5"/>
          <p:cNvSpPr/>
          <p:nvPr/>
        </p:nvSpPr>
        <p:spPr>
          <a:xfrm>
            <a:off x="7667640" y="620640"/>
            <a:ext cx="934920" cy="765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Ералаш-Парам_парам_пам_пу_(mp3.uz.cm).mp3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14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Arial"/>
              </a:rPr>
              <a:t>Реши самостоятель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лоуны Бам, Бим и Бом вышли на арену в красной, синей и зелёной рубашках. Их туфли были тех же трёх цветов. Туфли и рубашка Бима были одного цвета. На Боме не было ничего красного. Туфли Бама были зелёные, а рубашка — нет. Каких цветов были туфли и рубашки у Бома и Би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загруженное (2)"/>
          <p:cNvPicPr/>
          <p:nvPr/>
        </p:nvPicPr>
        <p:blipFill>
          <a:blip r:embed="rId1"/>
          <a:stretch/>
        </p:blipFill>
        <p:spPr>
          <a:xfrm>
            <a:off x="3492360" y="3860640"/>
            <a:ext cx="1838520" cy="249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загруженное (3)"/>
          <p:cNvPicPr/>
          <p:nvPr/>
        </p:nvPicPr>
        <p:blipFill>
          <a:blip r:embed="rId2"/>
          <a:stretch/>
        </p:blipFill>
        <p:spPr>
          <a:xfrm>
            <a:off x="6659640" y="3645000"/>
            <a:ext cx="1838160" cy="2495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как-лю-и-3-клоуна-цветастые-о-етьнные-смешные-вверх-18553316"/>
          <p:cNvPicPr/>
          <p:nvPr/>
        </p:nvPicPr>
        <p:blipFill>
          <a:blip r:embed="rId3"/>
          <a:stretch/>
        </p:blipFill>
        <p:spPr>
          <a:xfrm>
            <a:off x="611280" y="3906720"/>
            <a:ext cx="1822320" cy="2475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7"/>
          <p:cNvSpPr/>
          <p:nvPr/>
        </p:nvSpPr>
        <p:spPr>
          <a:xfrm>
            <a:off x="8388360" y="620640"/>
            <a:ext cx="647640" cy="7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604360" y="4765680"/>
          <a:ext cx="625320" cy="15541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116000" y="1484280"/>
          <a:ext cx="7093080" cy="1855800"/>
        </p:xfrm>
        <a:graphic>
          <a:graphicData uri="http://schemas.openxmlformats.org/drawingml/2006/table">
            <a:tbl>
              <a:tblPr/>
              <a:tblGrid>
                <a:gridCol w="2305080"/>
                <a:gridCol w="1942920"/>
                <a:gridCol w="1440000"/>
                <a:gridCol w="140508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еж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а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ф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112"/>
          <p:cNvSpPr/>
          <p:nvPr/>
        </p:nvSpPr>
        <p:spPr>
          <a:xfrm>
            <a:off x="539640" y="35164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Рубашка Бама синяя, а Бома — зелё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Туфли Бома не могут быть ни красными, ни зелёными (ибо зелёные туфли у Ба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Поскольку туфли Бама зелёные, то туфли Бома не могут быть ни красными, ни зелёными. Значит, они синие. Биму остаются красные туфли. Поэтому и рубашка у него красная. Тогда рубашка Бама синяя, а Бома — зелё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06:12:28Z</dcterms:created>
  <dc:creator>Admin</dc:creator>
  <dc:description/>
  <dc:language>en-US</dc:language>
  <cp:lastModifiedBy>User</cp:lastModifiedBy>
  <dcterms:modified xsi:type="dcterms:W3CDTF">2015-04-29T17:39:07Z</dcterms:modified>
  <cp:revision>6</cp:revision>
  <dc:subject/>
  <dc:title>Слайд 1</dc:title>
</cp:coreProperties>
</file>