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5AAA-6BE8-4BEC-8058-992C9A46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B323-848A-47A0-B8F6-54083BDE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6F6B-5B8D-4AAA-B6D2-6580C7CB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3B97-3EB2-42CC-A8D4-D824EBE4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4570-8319-4B98-8ADB-67E40E5D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3733-6ACD-4473-B776-69BE3136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BA14-B7EA-4AA9-A05A-B0B9ED07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9BA0-4587-4935-8A1D-4ABF8479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846F-8998-4D3A-B06E-056C1232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66C-7F10-49EE-A0D6-684644E2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3888-1EFD-4BEE-BFF2-ED62CEBA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B7FA-F3C9-4E60-AB83-5447B9A6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6107-D096-43B2-8B8E-714E8C14D3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1619280" y="2214720"/>
            <a:ext cx="5761080" cy="12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Логические задачи 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2" name="AutoShape 26"/>
          <p:cNvSpPr/>
          <p:nvPr/>
        </p:nvSpPr>
        <p:spPr>
          <a:xfrm>
            <a:off x="2050920" y="1052640"/>
            <a:ext cx="5113440" cy="1008000"/>
          </a:xfrm>
          <a:custGeom>
            <a:avLst/>
            <a:gdLst>
              <a:gd name="textAreaLeft" fmla="*/ 1278360 w 5113440"/>
              <a:gd name="textAreaRight" fmla="*/ 3835080 w 5113440"/>
              <a:gd name="textAreaTop" fmla="*/ 0 h 1008000"/>
              <a:gd name="textAreaBottom" fmla="*/ 882000 h 1008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УДАЧИ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27"/>
          <p:cNvSpPr/>
          <p:nvPr/>
        </p:nvSpPr>
        <p:spPr>
          <a:xfrm>
            <a:off x="324000" y="3284640"/>
            <a:ext cx="576000" cy="57600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28"/>
          <p:cNvSpPr/>
          <p:nvPr/>
        </p:nvSpPr>
        <p:spPr>
          <a:xfrm>
            <a:off x="7667640" y="1773360"/>
            <a:ext cx="576360" cy="50328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29"/>
          <p:cNvSpPr/>
          <p:nvPr/>
        </p:nvSpPr>
        <p:spPr>
          <a:xfrm>
            <a:off x="1763640" y="1125360"/>
            <a:ext cx="504720" cy="43200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30"/>
          <p:cNvSpPr/>
          <p:nvPr/>
        </p:nvSpPr>
        <p:spPr>
          <a:xfrm>
            <a:off x="4284720" y="3645000"/>
            <a:ext cx="431640" cy="504720"/>
          </a:xfrm>
          <a:custGeom>
            <a:avLst/>
            <a:gdLst>
              <a:gd name="textAreaLeft" fmla="*/ 177840 w 431640"/>
              <a:gd name="textAreaRight" fmla="*/ 253800 w 431640"/>
              <a:gd name="textAreaTop" fmla="*/ 208080 h 504720"/>
              <a:gd name="textAreaBottom" fmla="*/ 2966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999720" y="3642840"/>
            <a:ext cx="7572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ТЕЛЬСКАЯ РАБОТА УЧЕНИ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 КЛАССА МОУ «СОШ № 1» г. ВОРКУТЫ КАПУСТИНОЙ АЛЕКСАН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ОЗОВА РАИСА АРКАД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Задач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 парту Оли упал бумажный самолет с нарисованными красными сердечками. Оля развернула его и прочитала: "Ты - лучшая девочка в классе!" Она повернулась в сидящим за ней ребятам: Ивану, Сергею, Алексею. Все три мальчика покраснели.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- Кто из вас делает мне такие комплименты? - спросила Оля.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- Это Сергей! - сказал Иван.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- Я ничего такого не делал! - сказал Сергей.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- Не имею никакого представления, о чем ты говоришь! - сказал Алексей.</a:t>
            </a:r>
            <a:br>
              <a:rPr sz="1800"/>
            </a:b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друга Оли Маша ухмыльнулась: "Двое из них лгут!" Однако она не хочет больше ничего говорить. Кто является тайным поклонником О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5796000" y="620640"/>
            <a:ext cx="1728720" cy="503280"/>
          </a:xfrm>
          <a:prstGeom prst="horizontalScroll">
            <a:avLst>
              <a:gd name="adj" fmla="val 110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строим-самолет"/>
          <p:cNvPicPr/>
          <p:nvPr/>
        </p:nvPicPr>
        <p:blipFill>
          <a:blip r:embed="rId1"/>
          <a:stretch/>
        </p:blipFill>
        <p:spPr>
          <a:xfrm>
            <a:off x="5724360" y="4292640"/>
            <a:ext cx="2449800" cy="1923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getImage"/>
          <p:cNvPicPr/>
          <p:nvPr/>
        </p:nvPicPr>
        <p:blipFill>
          <a:blip r:embed="rId2"/>
          <a:stretch/>
        </p:blipFill>
        <p:spPr>
          <a:xfrm>
            <a:off x="1187280" y="4365720"/>
            <a:ext cx="309564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По условию известно, что двое лгут, значит один из них говорит правду. Рассматриваем 3 случая, в которых каждый по очереди говорит правду.</a:t>
            </a:r>
            <a:br>
              <a:rPr sz="2000"/>
            </a:b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1. Если правду говорит Иван, то поклонником является Сергей. По условию Сергей должен сказать неправду. В данном случае Сергей солгал, что это не он. Но если Алексей врет, то получается, что у Оли два поклонника: Сергей и Алексей.</a:t>
            </a:r>
            <a:br>
              <a:rPr sz="2000"/>
            </a:b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2. Если правду говорит Алексей, то лгут Иван и Сергей, сто невозможно в силу противоречивости.</a:t>
            </a:r>
            <a:br>
              <a:rPr sz="2000"/>
            </a:b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3. Если правду говорит Сергей, Иван и Алексей лгут. Иван лжет, что поклонником является Сергей, Сергей говорит правду, что ничего такого не делал, а Алексей лжет, что не имеет понятия, о чем идет речь. Соответственно поклонником является Алекс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тв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:Алек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ff"/>
                </a:solidFill>
                <a:latin typeface="Arial"/>
              </a:rPr>
              <a:t>Задача: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86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ff"/>
                </a:solidFill>
                <a:latin typeface="Arial"/>
              </a:rPr>
              <a:t>Богини Гера, Афродита и Афина пришли к юному Парису, чтобы тот решил, кто из них прекраснее. Представ перед Парисом, богини высказали следующие утверж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ff"/>
                </a:solidFill>
                <a:latin typeface="Arial"/>
              </a:rPr>
              <a:t>Афродита: Я самая прекрасна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ff"/>
                </a:solidFill>
                <a:latin typeface="Arial"/>
              </a:rPr>
              <a:t>Афина: Афродита не самая прекрасна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ff"/>
                </a:solidFill>
                <a:latin typeface="Arial"/>
              </a:rPr>
              <a:t>Гера: Я самая прекрасна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ff"/>
                </a:solidFill>
                <a:latin typeface="Arial"/>
              </a:rPr>
              <a:t>Афродита: Гера не самая прекрасна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ff"/>
                </a:solidFill>
                <a:latin typeface="Arial"/>
              </a:rPr>
              <a:t>Афина: Я самая прекрасна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ff"/>
                </a:solidFill>
                <a:latin typeface="Arial"/>
              </a:rPr>
              <a:t>Парис, прилегший отдохнуть на обочине дороги, не счел нужным даже снять платок, которым прикрыл глаза от яркого солнца. Но богини были настойчивы, и ему во что бы то ни стало нужно было решить, кто из них самая прекрасная. Парис предположил, что все утверждения прекраснейшей из богинь истинны, а все утверждения двух остальных богинь лож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ff"/>
                </a:solidFill>
                <a:latin typeface="Arial"/>
              </a:rPr>
              <a:t>Мог ли Парис, исходя из такого предположения, вынести то решение, которого ожидали от него богини, и если мог, то кто прекраснейшая из богин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i_046"/>
          <p:cNvPicPr/>
          <p:nvPr/>
        </p:nvPicPr>
        <p:blipFill>
          <a:blip r:embed="rId1"/>
          <a:stretch/>
        </p:blipFill>
        <p:spPr>
          <a:xfrm>
            <a:off x="5148360" y="4365720"/>
            <a:ext cx="3024000" cy="1923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загруженное (4)"/>
          <p:cNvPicPr/>
          <p:nvPr/>
        </p:nvPicPr>
        <p:blipFill>
          <a:blip r:embed="rId2"/>
          <a:stretch/>
        </p:blipFill>
        <p:spPr>
          <a:xfrm>
            <a:off x="1332000" y="4365720"/>
            <a:ext cx="2390760" cy="19144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6"/>
          <p:cNvSpPr/>
          <p:nvPr/>
        </p:nvSpPr>
        <p:spPr>
          <a:xfrm>
            <a:off x="1763640" y="907920"/>
            <a:ext cx="936720" cy="649440"/>
          </a:xfrm>
          <a:prstGeom prst="pie">
            <a:avLst/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7380360" y="404640"/>
            <a:ext cx="1584360" cy="1152720"/>
          </a:xfrm>
          <a:prstGeom prst="pie">
            <a:avLst/>
          </a:prstGeom>
          <a:solidFill>
            <a:srgbClr val="ff99cc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ff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ff"/>
                </a:solidFill>
                <a:latin typeface="Arial"/>
              </a:rPr>
              <a:t>Если честна Афродита, то Гера и Афина лгут. Если честна Гера - лгут Афина и Афродита. Если честна Афина, то Гера и Афродита лг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ff"/>
                </a:solidFill>
                <a:latin typeface="Arial"/>
              </a:rPr>
              <a:t>Допустим честна Афродита,  то другие это будут отрицать, что и произошло, и сами восхвалили с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ff"/>
                </a:solidFill>
                <a:latin typeface="Arial"/>
              </a:rPr>
              <a:t>Допустим честна Гера, то Афродита и Афина солгали бы сказав что она не самая прекрасная, чего не произош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ff"/>
                </a:solidFill>
                <a:latin typeface="Arial"/>
              </a:rPr>
              <a:t>Допустим честна Афина, то Гера и Афродита утверждали бы что это не так, чего не произош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ff"/>
                </a:solidFill>
                <a:latin typeface="Arial"/>
              </a:rPr>
              <a:t>Ответ: Афродита – прекраснейшая из боги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ff"/>
                </a:solidFill>
                <a:latin typeface="Arial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ff"/>
                </a:solidFill>
                <a:latin typeface="Arial"/>
              </a:rPr>
              <a:t>                </a:t>
            </a:r>
            <a:r>
              <a:rPr b="0" lang="ru-RU" sz="4800" spc="-1" strike="noStrike">
                <a:solidFill>
                  <a:srgbClr val="33ccff"/>
                </a:solidFill>
                <a:latin typeface="Arial"/>
              </a:rPr>
              <a:t>КОНЕЦ !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33ccff"/>
                </a:solidFill>
                <a:latin typeface="Arial"/>
              </a:rPr>
              <a:t>Спасибо за внимание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Презентацию подготовила Капустина А.Э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7а класса, МОУ «СОШ 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5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hqdefault"/>
          <p:cNvPicPr/>
          <p:nvPr/>
        </p:nvPicPr>
        <p:blipFill>
          <a:blip r:embed="rId1"/>
          <a:stretch/>
        </p:blipFill>
        <p:spPr>
          <a:xfrm>
            <a:off x="6659640" y="450864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-SceMZrkuZs"/>
          <p:cNvPicPr/>
          <p:nvPr/>
        </p:nvPicPr>
        <p:blipFill>
          <a:blip r:embed="rId2"/>
          <a:stretch/>
        </p:blipFill>
        <p:spPr>
          <a:xfrm>
            <a:off x="468360" y="1268280"/>
            <a:ext cx="2376360" cy="2341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wdzpd8r7akU"/>
          <p:cNvPicPr/>
          <p:nvPr/>
        </p:nvPicPr>
        <p:blipFill>
          <a:blip r:embed="rId3"/>
          <a:stretch/>
        </p:blipFill>
        <p:spPr>
          <a:xfrm>
            <a:off x="6372360" y="1413000"/>
            <a:ext cx="194616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Arial"/>
              </a:rPr>
              <a:t>ЗАДАЧА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7655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Когда Аня, Женя и Нина спросили, какие им поставили оценки за контрольную по математике, учительница ответила: «Попробуйте догадаться сами, если я скажу, что в вашем классе «двоек» нет, а у вас троих оценки разные, причем: У Ани не «тройка» У Нины не «тройка» и не «пятерка» Какую оценку получила каждая ученица?</a:t>
            </a: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5_6"/>
          <p:cNvPicPr/>
          <p:nvPr/>
        </p:nvPicPr>
        <p:blipFill>
          <a:blip r:embed="rId1"/>
          <a:stretch/>
        </p:blipFill>
        <p:spPr>
          <a:xfrm>
            <a:off x="6443640" y="404640"/>
            <a:ext cx="1368360" cy="1140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3_4"/>
          <p:cNvPicPr/>
          <p:nvPr/>
        </p:nvPicPr>
        <p:blipFill>
          <a:blip r:embed="rId2"/>
          <a:stretch/>
        </p:blipFill>
        <p:spPr>
          <a:xfrm>
            <a:off x="1403280" y="620640"/>
            <a:ext cx="86688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4_8"/>
          <p:cNvPicPr/>
          <p:nvPr/>
        </p:nvPicPr>
        <p:blipFill>
          <a:blip r:embed="rId3"/>
          <a:stretch/>
        </p:blipFill>
        <p:spPr>
          <a:xfrm>
            <a:off x="179280" y="2924280"/>
            <a:ext cx="1297080" cy="129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1380016269_2075696455"/>
          <p:cNvPicPr/>
          <p:nvPr/>
        </p:nvPicPr>
        <p:blipFill>
          <a:blip r:embed="rId4"/>
          <a:stretch/>
        </p:blipFill>
        <p:spPr>
          <a:xfrm>
            <a:off x="6156360" y="3500280"/>
            <a:ext cx="1846080" cy="266544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5"/>
          <p:cNvSpPr/>
          <p:nvPr/>
        </p:nvSpPr>
        <p:spPr>
          <a:xfrm>
            <a:off x="468360" y="1197000"/>
            <a:ext cx="718920" cy="5047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6" descr="f_4c530629c4a52"/>
          <p:cNvPicPr/>
          <p:nvPr/>
        </p:nvPicPr>
        <p:blipFill>
          <a:blip r:embed="rId5"/>
          <a:stretch/>
        </p:blipFill>
        <p:spPr>
          <a:xfrm>
            <a:off x="3780000" y="3429000"/>
            <a:ext cx="2089080" cy="2692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загруженное (1)"/>
          <p:cNvPicPr/>
          <p:nvPr/>
        </p:nvPicPr>
        <p:blipFill>
          <a:blip r:embed="rId6"/>
          <a:stretch/>
        </p:blipFill>
        <p:spPr>
          <a:xfrm>
            <a:off x="1692360" y="3645000"/>
            <a:ext cx="18572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7280" y="3860640"/>
            <a:ext cx="65534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У Нины не «3» и не «5», значит,- «4».У Ани не «3»,но и не «4» («4» у Нины), значит, у Ани «5». ТогдА очевидно, у ЖЕНИ «3»( не «4» и не «5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Ответ: у Ани «5», у Жени «3», у Нины «4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47640" y="1484280"/>
          <a:ext cx="6096240" cy="2073240"/>
        </p:xfrm>
        <a:graphic>
          <a:graphicData uri="http://schemas.openxmlformats.org/drawingml/2006/table">
            <a:tbl>
              <a:tblPr/>
              <a:tblGrid>
                <a:gridCol w="1584360"/>
                <a:gridCol w="1463760"/>
                <a:gridCol w="152388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AutoShape 35"/>
          <p:cNvSpPr/>
          <p:nvPr/>
        </p:nvSpPr>
        <p:spPr>
          <a:xfrm>
            <a:off x="6948360" y="836640"/>
            <a:ext cx="863640" cy="64764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Ералаш-Парам_парам_пам_пу_(mp3.uz.cm).mp3" descr=""/>
          <p:cNvPicPr/>
          <p:nvPr/>
        </p:nvPicPr>
        <p:blipFill>
          <a:blip r:embed="rId1"/>
          <a:stretch/>
        </p:blipFill>
        <p:spPr>
          <a:xfrm>
            <a:off x="7596360" y="5084640"/>
            <a:ext cx="44892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43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Arial"/>
              </a:rPr>
              <a:t>ЗАДАЧА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08160" y="1341360"/>
            <a:ext cx="7540560" cy="62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Elephant"/>
              </a:rPr>
              <a:t>Коля, Боря, Вова и Юра заняли первые места в соревнований, причем никакие два мальчика не делили между собой одно и тоже место. На вопрос, какие места заняли ребята, трое ответили : Коля- не первое и не четвертое; Боря- второе; Вова – не был последним. Какое место занял каждый из мальчиков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images (4)"/>
          <p:cNvPicPr/>
          <p:nvPr/>
        </p:nvPicPr>
        <p:blipFill>
          <a:blip r:embed="rId1"/>
          <a:stretch/>
        </p:blipFill>
        <p:spPr>
          <a:xfrm>
            <a:off x="1403280" y="4076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727519"/>
          <p:cNvPicPr/>
          <p:nvPr/>
        </p:nvPicPr>
        <p:blipFill>
          <a:blip r:embed="rId2"/>
          <a:stretch/>
        </p:blipFill>
        <p:spPr>
          <a:xfrm>
            <a:off x="4716360" y="3716280"/>
            <a:ext cx="28227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4221000"/>
            <a:ext cx="80755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 множеством имен мальчиков и множеством завоеванных мест должно быть взаимно однозначное соответствие. У Коли ни 1-е, ни 4-е, но и ни 2-е (оно у Бори), следовательно, у него 3-е место. У Вовы ни 4-е, ни 3-е, ни 2-е, значит,- 1-е место. Значит, у Юры 4-е ме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cc00"/>
                </a:solidFill>
                <a:latin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в виде таблицы с исходными данным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187280" y="1557360"/>
          <a:ext cx="6697800" cy="2590920"/>
        </p:xfrm>
        <a:graphic>
          <a:graphicData uri="http://schemas.openxmlformats.org/drawingml/2006/table">
            <a:tbl>
              <a:tblPr/>
              <a:tblGrid>
                <a:gridCol w="1341720"/>
                <a:gridCol w="1338120"/>
                <a:gridCol w="1338120"/>
                <a:gridCol w="1338480"/>
                <a:gridCol w="1341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Мест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Ко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Бо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В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Ю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69" name="AutoShape 73"/>
          <p:cNvCxnSpPr>
            <a:stCxn id="66" idx="2"/>
            <a:endCxn id="66" idx="2"/>
          </p:cNvCxnSpPr>
          <p:nvPr/>
        </p:nvCxnSpPr>
        <p:spPr>
          <a:xfrm>
            <a:off x="4571640" y="1412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0" name="AutoShape 74"/>
          <p:cNvSpPr/>
          <p:nvPr/>
        </p:nvSpPr>
        <p:spPr>
          <a:xfrm>
            <a:off x="1547640" y="907920"/>
            <a:ext cx="720720" cy="576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Ералаш-Парам_парам_пам_пу_(mp3.uz.cm).mp3" descr=""/>
          <p:cNvPicPr/>
          <p:nvPr/>
        </p:nvPicPr>
        <p:blipFill>
          <a:blip r:embed="rId1"/>
          <a:stretch/>
        </p:blipFill>
        <p:spPr>
          <a:xfrm>
            <a:off x="7236000" y="5373720"/>
            <a:ext cx="863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143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Задача: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СТРЕТИЛИСЬ 3 ДРУГА: СКУЛЬПТОР БЕЛОВ, СКРИПАЧ ЧЕРНОВ И ХУДОЖНИК РЫЖОВ. ХОРОШО ЧТО ОДИН ИЗ НАС БЛОНДИН, ДРУГОЙ БРЮНЕТ, А ТРЕТИЙ РЫЖЕВОЛОСЫЙ, НО НИ 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ОДНОГО ИЗ НАС, ВОЛОСЫ ПО ЦВЕТУ НЕ СОВПАДАЮТ С ЦВЕТОМ, НА КОТОРЫЙ УКАЗЫВАЕТ ЕГО ФАМИЛИЯ, - ЗАМЕТИЛ БРЮНЕТ. "ТЫ ПРАВ" СКАЗАЛ БЕЛОВ. КАКОЙ ЦВЕТ ВОЛОС У ХУДОЖНИК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1522_2"/>
          <p:cNvPicPr/>
          <p:nvPr/>
        </p:nvPicPr>
        <p:blipFill>
          <a:blip r:embed="rId1"/>
          <a:stretch/>
        </p:blipFill>
        <p:spPr>
          <a:xfrm>
            <a:off x="6012000" y="393372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s83989763"/>
          <p:cNvPicPr/>
          <p:nvPr/>
        </p:nvPicPr>
        <p:blipFill>
          <a:blip r:embed="rId2"/>
          <a:stretch/>
        </p:blipFill>
        <p:spPr>
          <a:xfrm>
            <a:off x="539640" y="4365720"/>
            <a:ext cx="2481480" cy="1860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depositphotos_32526021-Boy-builder"/>
          <p:cNvPicPr/>
          <p:nvPr/>
        </p:nvPicPr>
        <p:blipFill>
          <a:blip r:embed="rId3"/>
          <a:stretch/>
        </p:blipFill>
        <p:spPr>
          <a:xfrm>
            <a:off x="3780000" y="4221000"/>
            <a:ext cx="14112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1280" y="3573000"/>
            <a:ext cx="807552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ь сказал брюнет, а подтвердил Белов, значит уже по определению Белов не может быть брюнетом и блондином быть не может , остаётся ему быть только рыжим. Остаются двое Чернов и Рыжов один из которых брюнет, а другой блондин. Чернов брюнетом быть не может, т.к. на это указывает его фамилия, из чего следует, что он блондин. А исходя из всего вышесказанного следует что художник Рыжов - БРЮН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в виде таблицы с исходными данным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523880" y="1397160"/>
          <a:ext cx="6096240" cy="21031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ж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онд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юн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ж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AutoShape 34"/>
          <p:cNvSpPr/>
          <p:nvPr/>
        </p:nvSpPr>
        <p:spPr>
          <a:xfrm>
            <a:off x="2484360" y="907920"/>
            <a:ext cx="576360" cy="5050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5"/>
          <p:cNvSpPr/>
          <p:nvPr/>
        </p:nvSpPr>
        <p:spPr>
          <a:xfrm>
            <a:off x="7667640" y="620640"/>
            <a:ext cx="934920" cy="765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Ералаш-Парам_парам_пам_пу_(mp3.uz.cm).mp3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57636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14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cc"/>
                </a:solidFill>
                <a:latin typeface="Arial"/>
              </a:rPr>
              <a:t>Реши самостоятельн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Клоуны Бам, Бим и Бом вышли на арену в красной, синей и зелёной рубашках. Их туфли были тех же трёх цветов. Туфли и рубашка Бима были одного цвета. На Боме не было ничего красного. Туфли Бама были зелёные, а рубашка — нет. Каких цветов были туфли и рубашки у Бома и Би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загруженное (2)"/>
          <p:cNvPicPr/>
          <p:nvPr/>
        </p:nvPicPr>
        <p:blipFill>
          <a:blip r:embed="rId1"/>
          <a:stretch/>
        </p:blipFill>
        <p:spPr>
          <a:xfrm>
            <a:off x="3492360" y="3860640"/>
            <a:ext cx="1838520" cy="2495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загруженное (3)"/>
          <p:cNvPicPr/>
          <p:nvPr/>
        </p:nvPicPr>
        <p:blipFill>
          <a:blip r:embed="rId2"/>
          <a:stretch/>
        </p:blipFill>
        <p:spPr>
          <a:xfrm>
            <a:off x="6659640" y="3645000"/>
            <a:ext cx="1838160" cy="2495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как-лю-и-3-клоуна-цветастые-о-етьнные-смешные-вверх-18553316"/>
          <p:cNvPicPr/>
          <p:nvPr/>
        </p:nvPicPr>
        <p:blipFill>
          <a:blip r:embed="rId3"/>
          <a:stretch/>
        </p:blipFill>
        <p:spPr>
          <a:xfrm>
            <a:off x="611280" y="3906720"/>
            <a:ext cx="1822320" cy="247500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7"/>
          <p:cNvSpPr/>
          <p:nvPr/>
        </p:nvSpPr>
        <p:spPr>
          <a:xfrm>
            <a:off x="8388360" y="620640"/>
            <a:ext cx="647640" cy="7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604360" y="4765680"/>
          <a:ext cx="625320" cy="15541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1116000" y="1484280"/>
          <a:ext cx="7093080" cy="1855800"/>
        </p:xfrm>
        <a:graphic>
          <a:graphicData uri="http://schemas.openxmlformats.org/drawingml/2006/table">
            <a:tbl>
              <a:tblPr/>
              <a:tblGrid>
                <a:gridCol w="2305080"/>
                <a:gridCol w="1942920"/>
                <a:gridCol w="1440000"/>
                <a:gridCol w="140508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ежд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аш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я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е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ф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е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112"/>
          <p:cNvSpPr/>
          <p:nvPr/>
        </p:nvSpPr>
        <p:spPr>
          <a:xfrm>
            <a:off x="539640" y="351648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Рубашка Бама синяя, а Бома — зелё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Туфли Бома не могут быть ни красными, ни зелёными (ибо зелёные туфли у Бам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Поскольку туфли Бама зелёные, то туфли Бома не могут быть ни красными, ни зелёными. Значит, они синие. Биму остаются красные туфли. Поэтому и рубашка у него красная. Тогда рубашка Бама синяя, а Бома — зелё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5T06:12:28Z</dcterms:created>
  <dc:creator>Admin</dc:creator>
  <dc:description/>
  <dc:language>en-US</dc:language>
  <cp:lastModifiedBy>User</cp:lastModifiedBy>
  <dcterms:modified xsi:type="dcterms:W3CDTF">2015-04-29T17:39:07Z</dcterms:modified>
  <cp:revision>6</cp:revision>
  <dc:subject/>
  <dc:title>Слайд 1</dc:title>
</cp:coreProperties>
</file>