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7F7-0015-4BA4-9199-A1FAB008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886-A356-493B-9188-9C78A12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5A8-3D90-4020-8450-6C7CBFEB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F6A-4497-414A-ABEA-4CF78467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550-0773-434F-8090-1814F36E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C61-29F3-42B0-8560-A72A8829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12A-0D3E-49A0-88F5-1E9DF797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AEF-8F73-423A-BA21-F218235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660-88DC-4319-ACF0-F911D0A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0CD-3790-45D3-A341-39F7DA2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A50-50E4-467B-B60E-DC3AC9D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844-3881-4DA5-A0EC-F66083EF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8A8-380B-42DF-BED0-8F98812A2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836640"/>
            <a:ext cx="777240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ектная деятельность в ДОУ, как средство взаимодействия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73000"/>
            <a:ext cx="62276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ахарова Светлана Юр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оспитатель 1 младш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БДОУ г. Омска «Детский сад № 344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9800" y="189000"/>
            <a:ext cx="80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РЕБЯТАМ О ЗВЕРЯ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формирование интереса к познанию мира животных родн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экскурсии в Омский эколого – биологически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наблюдений за домашними живо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презентаций «Как живут животны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вместные творчески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дидактических посо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Пополнение развив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24000" y="189000"/>
            <a:ext cx="8640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КНИЖКА - САМОДЕЛ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интереса детей к книгам и воспитание бережного отношения к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книги в сотрудничестве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В ГОСТЯХ У СК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интереса детей к устному народному творче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атрибутов для любимой сказ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Драматизация сказки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ЛОВКИЕ ПАЛЬЧ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развитие мелкой моторик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Изготовление пособий для развития мел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84360" y="1720800"/>
            <a:ext cx="770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Использование проектного метода позволяет повысить интерес родителей к той или иной проблеме, способствует повышению уровня участников сред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71520" y="105264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ФГОС ДО предусматривает взаимодействие ДОУ с родителями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 семь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468360" y="1197000"/>
            <a:ext cx="818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РОТИВОРЕЧ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 проектов актуален, эффектив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зволяет развивать ребенка, как свободную творческую личность, однако ребенок – дошкольник не может самостоятельно найти противоречия в окружающем мире, сформулировать проблему, определить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00000" y="162864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РОТИВОРЕЧ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огласно ФГОС ДО – родители активные участники образовательного процесса, однако наблюдается низкая активность родителей в силу их занятости или отсутствия интереса к деятельности 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395280" y="1557360"/>
            <a:ext cx="840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ьзовать проектную деятельность, как средство взаимодействия с родителями и вовлечения их в образов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24000" y="639720"/>
            <a:ext cx="79930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оектная деятельность носит характер сотрудничества, объединяющего детей, педагогов 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Совместная деятельность сближает детей и взрослых, формирует партнерские отношения, воспитывает чувство сопереживания за общее дело и его 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042920" y="1052640"/>
            <a:ext cx="67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Задачи проектной деятельности для младшего дошкольного возра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Вхождение детей в проблемную и игровую ситуацию (ведущая роль педаго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Активизация желания искать путь разрешения проблемной ситуации (вместе с взрослы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-Формирование начальных предпосылок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83016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Этапы работы над проек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1.     Постановка цели проекта. Педагог помогает детям выбрать наиболее актуальную и посильную для них задачу на определенный отрезок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2.     Разработка плана достижения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3.     Сбор, нако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4.     Включение в план проекта занятий, игр и других видов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5.     Домашние задания для самостоятельного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6.     Презентац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324000" y="48888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РОЕКТ «ВРЕМЕНА 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ль проекта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 формирование представлений о сезонных изменениях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оль родителей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рганизация циклических наблюдений за объектами и явлениям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наблюдений за трудом взрослых в разные времена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Организация экскурсий в 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бор приро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вместное творчество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Создание альбомов «У природы нет плохой пог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-Пополнение развивающей среды наглядным и дидактическим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8:21:05Z</dcterms:created>
  <dc:creator>сергей</dc:creator>
  <dc:description>http://aida.ucoz.ru</dc:description>
  <dc:language>en-US</dc:language>
  <cp:lastModifiedBy>user</cp:lastModifiedBy>
  <dcterms:modified xsi:type="dcterms:W3CDTF">2015-04-29T14:06:46Z</dcterms:modified>
  <cp:revision>101</cp:revision>
  <dc:subject/>
  <dc:title>Слайд 1</dc:title>
</cp:coreProperties>
</file>