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7DF-3A2E-486B-9284-3A5DA997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FF5-21D3-471E-8992-83AEE0F4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B41-C340-419B-9F32-0EDCBC3B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10F-0E9F-4741-804E-1C59F53E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DEF-E46F-469A-A244-7A80C800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0C5-F1E3-4A0A-B555-64A98F90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943-F726-48B9-A019-A3F7A07B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D49-9893-43C5-B66B-02DAD2D4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7F1-24C4-463E-A664-BF1AEFCB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498-5A13-4BA6-8B2F-87C0A3ED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BF8-A640-4C4D-A723-3DC004D5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994-FB85-466C-B34D-DBC8EDFD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F1E0-7705-4C16-A5D0-EE2E658D48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836640"/>
            <a:ext cx="777240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роектная деятельность в ДОУ, как средство взаимодействия с родител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73000"/>
            <a:ext cx="62276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ахарова Светлана Юр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оспитатель 1 младше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БДОУ г. Омска «Детский сад № 344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69800" y="189000"/>
            <a:ext cx="806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РОЕКТ «РЕБЯТАМ О ЗВЕРЯ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ль проекта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: формирование интереса к познанию мира животных родн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оль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Организация экскурсии в Омский эколого – биологически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Организация наблюдений за домашними живот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Создание презентаций «Как живут животны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Совместные творчески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Изготовление дидактических пособ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Пополнение развивающ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24000" y="189000"/>
            <a:ext cx="8640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РОЕКТ «КНИЖКА - САМОДЕЛ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ль проекта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: развитие интереса детей к книгам и воспитание бережного отношения к 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оль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Изготовление книги в сотрудничестве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РОЕКТ «В ГОСТЯХ У СКАЗ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ль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: развитие интереса детей к устному народному творче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оль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Изготовление атрибутов для любимой сказк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Драматизация сказки 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РОЕКТ «ЛОВКИЕ ПАЛЬЧ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ль проекта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: развитие мелкой моторик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оль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Изготовление пособий для развития мелкой мото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684360" y="1720800"/>
            <a:ext cx="770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Использование проектного метода позволяет повысить интерес родителей к той или иной проблеме, способствует повышению уровня участников среди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371520" y="1052640"/>
            <a:ext cx="820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ФГОС ДО предусматривает взаимодействие ДОУ с родителями по вопросам образования ребенка, непосредственного вовлечения их в образовательную деятельность, в том числе посредством создания образовательных проектов совместно с семь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468360" y="1197000"/>
            <a:ext cx="818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РОТИВОРЕЧИЕ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етод проектов актуален, эффектив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озволяет развивать ребенка, как свободную творческую личность, однако ребенок – дошкольник не может самостоятельно найти противоречия в окружающем мире, сформулировать проблему, определить ц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900000" y="1628640"/>
            <a:ext cx="770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РОТИВОРЕЧИЕ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огласно ФГОС ДО – родители активные участники образовательного процесса, однако наблюдается низкая активность родителей в силу их занятости или отсутствия интереса к деятельности 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"/>
          <p:cNvSpPr/>
          <p:nvPr/>
        </p:nvSpPr>
        <p:spPr>
          <a:xfrm>
            <a:off x="395280" y="1557360"/>
            <a:ext cx="840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Использовать проектную деятельность, как средство взаимодействия с родителями и вовлечения их в образователь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24000" y="639720"/>
            <a:ext cx="799308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Проектная деятельность носит характер сотрудничества, объединяющего детей, педагогов и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Совместная деятельность сближает детей и взрослых, формирует партнерские отношения, воспитывает чувство сопереживания за общее дело и его 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042920" y="1052640"/>
            <a:ext cx="67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Задачи проектной деятельности для младшего дошкольного возра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-Вхождение детей в проблемную и игровую ситуацию (ведущая роль педаго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-Активизация желания искать путь разрешения проблемной ситуации (вместе с взрослы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-Формирование начальных предпосылок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611280" y="83016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Этапы работы над проект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1.     Постановка цели проекта. Педагог помогает детям выбрать наиболее актуальную и посильную для них задачу на определенный отрезок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2.     Разработка плана достижения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3.     Сбор, накопл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4.     Включение в план проекта занятий, игр и других видов дет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5.     Домашние задания для самостоятельного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6.     Презентаци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324000" y="488880"/>
            <a:ext cx="84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РОЕКТ «ВРЕМЕНА Г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ль проекта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: формирование представлений о сезонных изменениях в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оль родителей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рганизация циклических наблюдений за объектами и явлениям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Организация наблюдений за трудом взрослых в разные времена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Организация экскурсий в па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Сбор природ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Совместное творчество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Создание презент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Создание альбомов «У природы нет плохой пог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Пополнение развивающей среды наглядным и дидактическим матери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8:21:05Z</dcterms:created>
  <dc:creator>сергей</dc:creator>
  <dc:description>http://aida.ucoz.ru</dc:description>
  <dc:language>en-US</dc:language>
  <cp:lastModifiedBy>user</cp:lastModifiedBy>
  <dcterms:modified xsi:type="dcterms:W3CDTF">2015-04-29T14:06:46Z</dcterms:modified>
  <cp:revision>101</cp:revision>
  <dc:subject/>
  <dc:title>Слайд 1</dc:title>
</cp:coreProperties>
</file>