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3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EF1488F-BB9F-4699-BA79-89889D75380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antaryamin.files.wordpress.com/2010/02/radiotuning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214200"/>
            <a:ext cx="85377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Verdana"/>
              </a:rPr>
              <a:t>Massenmedien. Welche Rolle spielen sie in unserem Leb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ßte E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ahr der Kultur in der Russischen Fö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http://im3-tub-ru.yandex.net/i?id=204590535-49-72&amp;n=21"/>
          <p:cNvPicPr/>
          <p:nvPr/>
        </p:nvPicPr>
        <p:blipFill>
          <a:blip r:embed="rId1"/>
          <a:stretch/>
        </p:blipFill>
        <p:spPr>
          <a:xfrm>
            <a:off x="2000160" y="2712960"/>
            <a:ext cx="349560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im6-tub-ru.yandex.net/i?id=8845557-05-16f-63508&amp;n=21"/>
          <p:cNvPicPr/>
          <p:nvPr/>
        </p:nvPicPr>
        <p:blipFill>
          <a:blip r:embed="rId2"/>
          <a:stretch/>
        </p:blipFill>
        <p:spPr>
          <a:xfrm>
            <a:off x="6786720" y="192888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http://im5-tub-ru.yandex.net/i?id=497481095-13-72&amp;n=21"/>
          <p:cNvPicPr/>
          <p:nvPr/>
        </p:nvPicPr>
        <p:blipFill>
          <a:blip r:embed="rId3"/>
          <a:stretch/>
        </p:blipFill>
        <p:spPr>
          <a:xfrm>
            <a:off x="6286680" y="3571920"/>
            <a:ext cx="2157120" cy="1431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http://im3-tub-ru.yandex.net/i?id=8161476-04-16f-44726&amp;n=21"/>
          <p:cNvPicPr/>
          <p:nvPr/>
        </p:nvPicPr>
        <p:blipFill>
          <a:blip r:embed="rId4"/>
          <a:stretch/>
        </p:blipFill>
        <p:spPr>
          <a:xfrm>
            <a:off x="5643720" y="5143680"/>
            <a:ext cx="2146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eutsche Send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ilme (Filmkomödie, Melodramen, Spielfilme, Abenteuerfil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acCy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aumschiff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ens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alk im Tu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ag der W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RD-Ratgeber: Gesund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esamstraß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ie Sendung mit der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ssklub 3(Disku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http://im0-tub-ru.yandex.net/i?id=383531251-40-72&amp;n=21"/>
          <p:cNvPicPr/>
          <p:nvPr/>
        </p:nvPicPr>
        <p:blipFill>
          <a:blip r:embed="rId1"/>
          <a:stretch/>
        </p:blipFill>
        <p:spPr>
          <a:xfrm>
            <a:off x="6643800" y="178596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http://im3-tub-ru.yandex.net/i?id=254170646-38-72&amp;n=21"/>
          <p:cNvPicPr/>
          <p:nvPr/>
        </p:nvPicPr>
        <p:blipFill>
          <a:blip r:embed="rId2"/>
          <a:stretch/>
        </p:blipFill>
        <p:spPr>
          <a:xfrm>
            <a:off x="6215040" y="3357720"/>
            <a:ext cx="2603520" cy="1431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http://im4-tub-ru.yandex.net/i?id=284675847-03-72&amp;n=21"/>
          <p:cNvPicPr/>
          <p:nvPr/>
        </p:nvPicPr>
        <p:blipFill>
          <a:blip r:embed="rId3"/>
          <a:stretch/>
        </p:blipFill>
        <p:spPr>
          <a:xfrm>
            <a:off x="7786800" y="4857840"/>
            <a:ext cx="1042920" cy="1431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http://im0-tub-ru.yandex.net/i?id=343221158-36-72&amp;n=21"/>
          <p:cNvPicPr/>
          <p:nvPr/>
        </p:nvPicPr>
        <p:blipFill>
          <a:blip r:embed="rId4"/>
          <a:stretch/>
        </p:blipFill>
        <p:spPr>
          <a:xfrm>
            <a:off x="5286240" y="5425920"/>
            <a:ext cx="2544840" cy="1432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3071880" y="3143160"/>
            <a:ext cx="3706920" cy="933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http://www.de-online.ru/images/N-tv-2008.png"/>
          <p:cNvPicPr/>
          <p:nvPr/>
        </p:nvPicPr>
        <p:blipFill>
          <a:blip r:embed="rId6"/>
          <a:stretch/>
        </p:blipFill>
        <p:spPr>
          <a:xfrm>
            <a:off x="4143240" y="185724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http://www.de-online.ru/images/tva.png"/>
          <p:cNvPicPr/>
          <p:nvPr/>
        </p:nvPicPr>
        <p:blipFill>
          <a:blip r:embed="rId7"/>
          <a:stretch/>
        </p:blipFill>
        <p:spPr>
          <a:xfrm>
            <a:off x="357120" y="214200"/>
            <a:ext cx="192888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Russische Send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Nachrichten heut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Guten Mor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ben gesund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ie Wahrheit ist irgendwo in der Näh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Guten Nacht, Kinder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Warte auf mich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Mein Planet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Genies und clever“ und and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http://im1-tub-ru.yandex.net/i?id=131617370-55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im0-tub-ru.yandex.net/i?id=272673401-69-72&amp;n=21"/>
          <p:cNvPicPr/>
          <p:nvPr/>
        </p:nvPicPr>
        <p:blipFill>
          <a:blip r:embed="rId2"/>
          <a:stretch/>
        </p:blipFill>
        <p:spPr>
          <a:xfrm>
            <a:off x="4000680" y="4286160"/>
            <a:ext cx="145224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im3-tub-ru.yandex.net/i?id=420311335-25-72&amp;n=21"/>
          <p:cNvPicPr/>
          <p:nvPr/>
        </p:nvPicPr>
        <p:blipFill>
          <a:blip r:embed="rId3"/>
          <a:stretch/>
        </p:blipFill>
        <p:spPr>
          <a:xfrm>
            <a:off x="5072040" y="178596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http://im7-tub-ru.yandex.net/i?id=428524181-51-72&amp;n=21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1931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http://im3-tub-ru.yandex.net/i?id=912833585-70-72&amp;n=21"/>
          <p:cNvPicPr/>
          <p:nvPr/>
        </p:nvPicPr>
        <p:blipFill>
          <a:blip r:embed="rId5"/>
          <a:stretch/>
        </p:blipFill>
        <p:spPr>
          <a:xfrm>
            <a:off x="6000840" y="928800"/>
            <a:ext cx="286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олнце 5"/>
          <p:cNvSpPr/>
          <p:nvPr/>
        </p:nvSpPr>
        <p:spPr>
          <a:xfrm>
            <a:off x="214200" y="1214280"/>
            <a:ext cx="2643480" cy="1357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Fernsehen ist es interessant,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ber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P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Viele Funktionen in der Gesellscha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ritisiert Missstän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s Fernsehen hilft den Menschen neue Kenntnisse aus verschiedenen Sachgebieten erwer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breit Inform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r erfahren politische und kulturelle Nachrich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2-конечная звезда 4"/>
          <p:cNvSpPr/>
          <p:nvPr/>
        </p:nvSpPr>
        <p:spPr>
          <a:xfrm>
            <a:off x="4786200" y="1500120"/>
            <a:ext cx="2357640" cy="928800"/>
          </a:xfrm>
          <a:custGeom>
            <a:avLst/>
            <a:gdLst/>
            <a:ahLst/>
            <a:rect l="l" t="t" r="r" b="b"/>
            <a:pathLst>
              <a:path w="2357437" h="928687">
                <a:moveTo>
                  <a:pt x="0" y="464344"/>
                </a:moveTo>
                <a:lnTo>
                  <a:pt x="324803" y="374208"/>
                </a:lnTo>
                <a:lnTo>
                  <a:pt x="157918" y="232172"/>
                </a:lnTo>
                <a:lnTo>
                  <a:pt x="553609" y="218088"/>
                </a:lnTo>
                <a:lnTo>
                  <a:pt x="589359" y="62210"/>
                </a:lnTo>
                <a:lnTo>
                  <a:pt x="949912" y="127952"/>
                </a:lnTo>
                <a:lnTo>
                  <a:pt x="1178719" y="0"/>
                </a:lnTo>
                <a:lnTo>
                  <a:pt x="1407525" y="127952"/>
                </a:lnTo>
                <a:lnTo>
                  <a:pt x="1768078" y="62210"/>
                </a:lnTo>
                <a:lnTo>
                  <a:pt x="1803828" y="218088"/>
                </a:lnTo>
                <a:lnTo>
                  <a:pt x="2199519" y="232172"/>
                </a:lnTo>
                <a:lnTo>
                  <a:pt x="2032634" y="374208"/>
                </a:lnTo>
                <a:lnTo>
                  <a:pt x="2357437" y="464344"/>
                </a:lnTo>
                <a:lnTo>
                  <a:pt x="2032634" y="554479"/>
                </a:lnTo>
                <a:lnTo>
                  <a:pt x="2199519" y="696515"/>
                </a:lnTo>
                <a:lnTo>
                  <a:pt x="1803828" y="710599"/>
                </a:lnTo>
                <a:lnTo>
                  <a:pt x="1768078" y="866477"/>
                </a:lnTo>
                <a:lnTo>
                  <a:pt x="1407525" y="800735"/>
                </a:lnTo>
                <a:lnTo>
                  <a:pt x="1178719" y="928687"/>
                </a:lnTo>
                <a:lnTo>
                  <a:pt x="949912" y="800735"/>
                </a:lnTo>
                <a:lnTo>
                  <a:pt x="589359" y="866477"/>
                </a:lnTo>
                <a:lnTo>
                  <a:pt x="553609" y="710599"/>
                </a:lnTo>
                <a:lnTo>
                  <a:pt x="157918" y="696515"/>
                </a:lnTo>
                <a:lnTo>
                  <a:pt x="324803" y="554479"/>
                </a:lnTo>
                <a:lnTo>
                  <a:pt x="0" y="46434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on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bfc5"/>
                </a:solidFill>
                <a:latin typeface="Arial"/>
              </a:rPr>
              <a:t>wird zu oft einer richtigen Su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bfc5"/>
                </a:solidFill>
                <a:latin typeface="Arial"/>
              </a:rPr>
              <a:t>Die lange Sitzen vor dem Fernseher schadet der Gesundhe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 Kriminalfilme, wo Gewalt eine große Rolle spie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 Werbung geht oft den Zuschauern auf die Nerv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ed3d7"/>
                </a:solidFill>
                <a:latin typeface="Arial"/>
              </a:rPr>
              <a:t>Zu viele schlechte Vorbilder: Gangster, Diebe u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Computer hat  seinen Siegeszug um die Welt angetr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Der Mensch hat mehr Zeit dank dem Comp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Er befreit den Menschen von schwerer Routinearb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Er erleichtert den Unterri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72bfc5"/>
                </a:solidFill>
                <a:latin typeface="Arial"/>
              </a:rPr>
              <a:t>Man kann Projekte machen und vieles andere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http://im4-tub-ru.yandex.net/i?id=305943174-34-72&amp;n=21"/>
          <p:cNvPicPr/>
          <p:nvPr/>
        </p:nvPicPr>
        <p:blipFill>
          <a:blip r:embed="rId1"/>
          <a:stretch/>
        </p:blipFill>
        <p:spPr>
          <a:xfrm>
            <a:off x="6572160" y="5072040"/>
            <a:ext cx="2357640" cy="12891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6" descr=""/>
          <p:cNvPicPr/>
          <p:nvPr/>
        </p:nvPicPr>
        <p:blipFill>
          <a:blip r:embed="rId2"/>
          <a:stretch/>
        </p:blipFill>
        <p:spPr>
          <a:xfrm>
            <a:off x="530280" y="3956040"/>
            <a:ext cx="7394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Der Computer ist eine psychologische Abhängigkeit ge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Für manche wird das Leben ohne Computer sinnlos. Dies kann zu dem Suizid füh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Längeres Sitzen vor dem Computer führt zu den Rückenschmerzen, Epileptischen Anfälle, zu den Problemen mit den Au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Das ist für die Gesundheit ni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                           </a:t>
            </a:r>
            <a:r>
              <a:rPr b="0" lang="de-DE" sz="3200" spc="-1" strike="noStrike">
                <a:solidFill>
                  <a:srgbClr val="9ed3d7"/>
                </a:solidFill>
                <a:latin typeface="Arial"/>
              </a:rPr>
              <a:t>nützl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Internet hat in der letzen Zeit für die Menschen immer mehr Bedeutung gewo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Viele Menschen verbringen jetzt ihre Freizeit im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2bfc5"/>
                </a:solidFill>
                <a:latin typeface="Arial"/>
              </a:rPr>
              <a:t>Das Internet wird oft benutzt um einzukaufen, ohne das Haus zu verl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http://im6-tub-ru.yandex.net/i?id=187280392-01-72&amp;n=21"/>
          <p:cNvPicPr/>
          <p:nvPr/>
        </p:nvPicPr>
        <p:blipFill>
          <a:blip r:embed="rId1"/>
          <a:stretch/>
        </p:blipFill>
        <p:spPr>
          <a:xfrm>
            <a:off x="1714680" y="4000680"/>
            <a:ext cx="321444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http://im6-tub-ru.yandex.net/i?id=512278417-46-72&amp;n=21"/>
          <p:cNvPicPr/>
          <p:nvPr/>
        </p:nvPicPr>
        <p:blipFill>
          <a:blip r:embed="rId2"/>
          <a:stretch/>
        </p:blipFill>
        <p:spPr>
          <a:xfrm>
            <a:off x="5857920" y="3857760"/>
            <a:ext cx="2786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d3d7"/>
                </a:solidFill>
                <a:latin typeface="Arial"/>
              </a:rPr>
              <a:t>Aufgaben der Massenmedi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Горизонтальный свиток 3"/>
          <p:cNvSpPr/>
          <p:nvPr/>
        </p:nvSpPr>
        <p:spPr>
          <a:xfrm>
            <a:off x="785880" y="1500120"/>
            <a:ext cx="214308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ritis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issstä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4"/>
          <p:cNvSpPr/>
          <p:nvPr/>
        </p:nvSpPr>
        <p:spPr>
          <a:xfrm>
            <a:off x="3643200" y="1357200"/>
            <a:ext cx="250056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Kontrol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s Ver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r Amtsinh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Горизонтальный свиток 5"/>
          <p:cNvSpPr/>
          <p:nvPr/>
        </p:nvSpPr>
        <p:spPr>
          <a:xfrm>
            <a:off x="857160" y="3286080"/>
            <a:ext cx="2143080" cy="1500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gen 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inungs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r Bürger b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Горизонтальный свиток 6"/>
          <p:cNvSpPr/>
          <p:nvPr/>
        </p:nvSpPr>
        <p:spPr>
          <a:xfrm>
            <a:off x="3786120" y="3357720"/>
            <a:ext cx="2286000" cy="15714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erbrei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Горизонтальный свиток 7"/>
          <p:cNvSpPr/>
          <p:nvPr/>
        </p:nvSpPr>
        <p:spPr>
          <a:xfrm>
            <a:off x="6357960" y="1285920"/>
            <a:ext cx="2286000" cy="17143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chen politis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blrme und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usammenhä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ins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Горизонтальный свиток 8"/>
          <p:cNvSpPr/>
          <p:nvPr/>
        </p:nvSpPr>
        <p:spPr>
          <a:xfrm>
            <a:off x="6572160" y="3357720"/>
            <a:ext cx="2214720" cy="16430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e Entschei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 politi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itu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ed3d7"/>
                </a:solidFill>
                <a:latin typeface="Arial"/>
              </a:rPr>
              <a:t>Welches Massenmedium ist am populärste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Beantwortet die Fr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bfc5"/>
                </a:solidFill>
                <a:latin typeface="Arial"/>
              </a:rPr>
              <a:t>Eine Umfrage der Schüler der 8. und 9. K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Содержимое 3" descr=""/>
          <p:cNvPicPr/>
          <p:nvPr/>
        </p:nvPicPr>
        <p:blipFill>
          <a:blip r:embed="rId1"/>
          <a:stretch/>
        </p:blipFill>
        <p:spPr>
          <a:xfrm>
            <a:off x="355680" y="1498680"/>
            <a:ext cx="84326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95280" y="189000"/>
            <a:ext cx="803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u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t dieses Thema „Massenmedien“ heute aktui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00000" y="1143000"/>
            <a:ext cx="7704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Wir benutzen Informatio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0520" y="3348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286000" y="236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2286000" y="54291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ht ihr eine Liste von Medien, die du und deine Familie im Alltag am        liebsten benutz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хема 8" descr=""/>
          <p:cNvPicPr/>
          <p:nvPr/>
        </p:nvPicPr>
        <p:blipFill>
          <a:blip r:embed="rId1"/>
          <a:stretch/>
        </p:blipFill>
        <p:spPr>
          <a:xfrm>
            <a:off x="0" y="2236680"/>
            <a:ext cx="9144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ed3d7"/>
                </a:solidFill>
                <a:latin typeface="Arial"/>
              </a:rPr>
              <a:t>Wie viel Zeit verbringst du vor dem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4" descr=""/>
          <p:cNvPicPr/>
          <p:nvPr/>
        </p:nvPicPr>
        <p:blipFill>
          <a:blip r:embed="rId1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Antwor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2 -4 Uhr jeden t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00"/>
                </a:solidFill>
                <a:latin typeface="Arial"/>
              </a:rPr>
              <a:t>Aber wenig Bücher les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enden Sie die Sät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1.Die Massenmedien haben die Aufgabe, Informationen zu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Verbr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2.Sie müssen zur Meinungsbildung der Burge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ei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3.Sie müssen komplizierte politische Probleme ...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machen und politische Ereigniss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nsichtig               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mmen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4.Sie haben die Aufgabe, die Entscheidungen der politischen Institutionen zu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tro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5.Auch das Verhalten der Amtsinhaber müssen sie ...            und Mißstände ...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ontroliere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kritis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 kann man neue Information bekomme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Fernse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http://im2-tub-ru.yandex.net/i?id=175276395-12-72&amp;n=21"/>
          <p:cNvPicPr/>
          <p:nvPr/>
        </p:nvPicPr>
        <p:blipFill>
          <a:blip r:embed="rId1"/>
          <a:stretch/>
        </p:blipFill>
        <p:spPr>
          <a:xfrm rot="20589600">
            <a:off x="3795480" y="1616040"/>
            <a:ext cx="357192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im4-tub-ru.yandex.net/i?id=305943174-34-72&amp;n=21"/>
          <p:cNvPicPr/>
          <p:nvPr/>
        </p:nvPicPr>
        <p:blipFill>
          <a:blip r:embed="rId2"/>
          <a:stretch/>
        </p:blipFill>
        <p:spPr>
          <a:xfrm>
            <a:off x="500040" y="3643200"/>
            <a:ext cx="342900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http://im2-tub-ru.yandex.net/i?id=287912726-38-72&amp;n=21"/>
          <p:cNvPicPr/>
          <p:nvPr/>
        </p:nvPicPr>
        <p:blipFill>
          <a:blip r:embed="rId3"/>
          <a:stretch/>
        </p:blipFill>
        <p:spPr>
          <a:xfrm rot="20656200">
            <a:off x="5307120" y="3467160"/>
            <a:ext cx="314316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http://im7-tub-ru.yandex.net/i?id=429229891-49-72&amp;n=21"/>
          <p:cNvPicPr/>
          <p:nvPr/>
        </p:nvPicPr>
        <p:blipFill>
          <a:blip r:embed="rId4"/>
          <a:stretch/>
        </p:blipFill>
        <p:spPr>
          <a:xfrm>
            <a:off x="7000920" y="49291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 rot="20133000">
            <a:off x="4536720" y="4539960"/>
            <a:ext cx="2000160" cy="1993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http://my-skype-lesson.ru/newspaper_spiegel.jpg"/>
          <p:cNvPicPr/>
          <p:nvPr/>
        </p:nvPicPr>
        <p:blipFill>
          <a:blip r:embed="rId6"/>
          <a:stretch/>
        </p:blipFill>
        <p:spPr>
          <a:xfrm rot="19954200">
            <a:off x="2738520" y="5295600"/>
            <a:ext cx="1904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ü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Arial"/>
              </a:rPr>
              <a:t>Das älteste Massenmedium ist, wie bekannt, das 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-main-pic" descr="Картинка 141 из 4000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im7-tub-ru.yandex.net/i?id=429229891-49-72&amp;n=21"/>
          <p:cNvPicPr/>
          <p:nvPr/>
        </p:nvPicPr>
        <p:blipFill>
          <a:blip r:embed="rId2"/>
          <a:stretch/>
        </p:blipFill>
        <p:spPr>
          <a:xfrm>
            <a:off x="4929120" y="2643120"/>
            <a:ext cx="2908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dfun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ist ein Informationsmitt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857920" y="3500280"/>
            <a:ext cx="29289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eutsche Welle – это единственный глобальный вещатель, уделяющий особое внимание происходящему в Германии и Евр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с двумя вырезанными противолежащими углами 5"/>
          <p:cNvSpPr/>
          <p:nvPr/>
        </p:nvSpPr>
        <p:spPr>
          <a:xfrm>
            <a:off x="2771640" y="5572080"/>
            <a:ext cx="3888000" cy="10717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er! Radiosendungen kann                             man nur      hö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143160" y="3429000"/>
            <a:ext cx="2571840" cy="18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928960" y="2071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428760" y="1714680"/>
            <a:ext cx="2500200" cy="22968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33 из 9176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53160" y="2786040"/>
            <a:ext cx="339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hr müsst deutsche und russische Äquivalente finden</a:t>
            </a:r>
            <a:r>
              <a:rPr b="0" i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s Ferns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Se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Nach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eit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Zusch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Zusammen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s Rundf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Amtsinh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Massen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Verfass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br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mit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nterhalt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ства массовой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ви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рост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ладелец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р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з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есный, заним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ур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ди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anze Welt ist vor Auge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4400"/>
            </a:b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Sehen, Hören und auch 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http://im1-tub-ru.yandex.net/i?id=43002571-49-72&amp;n=21"/>
          <p:cNvPicPr/>
          <p:nvPr/>
        </p:nvPicPr>
        <p:blipFill>
          <a:blip r:embed="rId1"/>
          <a:stretch/>
        </p:blipFill>
        <p:spPr>
          <a:xfrm>
            <a:off x="357120" y="1714680"/>
            <a:ext cx="4168800" cy="285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://im4-tub-ru.yandex.net/i?id=122981026-18-72&amp;n=21"/>
          <p:cNvPicPr/>
          <p:nvPr/>
        </p:nvPicPr>
        <p:blipFill>
          <a:blip r:embed="rId2"/>
          <a:stretch/>
        </p:blipFill>
        <p:spPr>
          <a:xfrm>
            <a:off x="4500720" y="2857680"/>
            <a:ext cx="4643280" cy="2643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http://www.de-online.ru/images/N-tv-2008.png"/>
          <p:cNvPicPr/>
          <p:nvPr/>
        </p:nvPicPr>
        <p:blipFill>
          <a:blip r:embed="rId3"/>
          <a:stretch/>
        </p:blipFill>
        <p:spPr>
          <a:xfrm>
            <a:off x="5000760" y="1785960"/>
            <a:ext cx="1460520" cy="566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http://www.de-online.ru/images/tva.png"/>
          <p:cNvPicPr/>
          <p:nvPr/>
        </p:nvPicPr>
        <p:blipFill>
          <a:blip r:embed="rId4"/>
          <a:stretch/>
        </p:blipFill>
        <p:spPr>
          <a:xfrm>
            <a:off x="6786720" y="1714680"/>
            <a:ext cx="1928520" cy="537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2500200" y="5715000"/>
            <a:ext cx="3706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ßte E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1430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ie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XXII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Olympische Spielen in Sot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http://im0-tub-ru.yandex.net/i?id=674628994-39-72&amp;n=21"/>
          <p:cNvPicPr/>
          <p:nvPr/>
        </p:nvPicPr>
        <p:blipFill>
          <a:blip r:embed="rId1"/>
          <a:stretch/>
        </p:blipFill>
        <p:spPr>
          <a:xfrm>
            <a:off x="7891560" y="0"/>
            <a:ext cx="125244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http://im0-tub-ru.yandex.net/i?id=5872741-05-16f-90226&amp;n=21"/>
          <p:cNvPicPr/>
          <p:nvPr/>
        </p:nvPicPr>
        <p:blipFill>
          <a:blip r:embed="rId2"/>
          <a:stretch/>
        </p:blipFill>
        <p:spPr>
          <a:xfrm>
            <a:off x="0" y="2928960"/>
            <a:ext cx="3444840" cy="2000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http://im6-tub-ru.yandex.net/i?id=267603369-32-72&amp;n=21"/>
          <p:cNvPicPr/>
          <p:nvPr/>
        </p:nvPicPr>
        <p:blipFill>
          <a:blip r:embed="rId3"/>
          <a:stretch/>
        </p:blipFill>
        <p:spPr>
          <a:xfrm>
            <a:off x="6429240" y="4572000"/>
            <a:ext cx="27147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http://im4-tub-ru.yandex.net/i?id=159045637-60-72&amp;n=21"/>
          <p:cNvPicPr/>
          <p:nvPr/>
        </p:nvPicPr>
        <p:blipFill>
          <a:blip r:embed="rId4"/>
          <a:stretch/>
        </p:blipFill>
        <p:spPr>
          <a:xfrm>
            <a:off x="6381720" y="2571840"/>
            <a:ext cx="276228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http://im3-tub-ru.yandex.net/i?id=257738224-31-72&amp;n=21"/>
          <p:cNvPicPr/>
          <p:nvPr/>
        </p:nvPicPr>
        <p:blipFill>
          <a:blip r:embed="rId5"/>
          <a:stretch/>
        </p:blipFill>
        <p:spPr>
          <a:xfrm>
            <a:off x="2714760" y="4929120"/>
            <a:ext cx="321444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http://im2-tub-ru.yandex.net/i?id=193696485-40-72&amp;n=21"/>
          <p:cNvPicPr/>
          <p:nvPr/>
        </p:nvPicPr>
        <p:blipFill>
          <a:blip r:embed="rId6"/>
          <a:stretch/>
        </p:blipFill>
        <p:spPr>
          <a:xfrm>
            <a:off x="0" y="0"/>
            <a:ext cx="2001960" cy="1930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http://im6-tub-ru.yandex.net/i?id=154098570-25-72&amp;n=21"/>
          <p:cNvPicPr/>
          <p:nvPr/>
        </p:nvPicPr>
        <p:blipFill>
          <a:blip r:embed="rId7"/>
          <a:stretch/>
        </p:blipFill>
        <p:spPr>
          <a:xfrm>
            <a:off x="3857760" y="3143160"/>
            <a:ext cx="197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Alles, was in der Welt passiert</a:t>
            </a: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Die grösste Erreig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r 80-jährige Jubiläum der Geburt des ersten Kosmonauten Gag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i="1" lang="de-DE" sz="2400" spc="-1" strike="noStrike">
                <a:solidFill>
                  <a:srgbClr val="ffc000"/>
                </a:solidFill>
                <a:latin typeface="Arial"/>
              </a:rPr>
              <a:t>kann man Flug  von Gagarin in den Weltraum 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http://im2-tub-ru.yandex.net/i?id=5531966-50-72&amp;n=21"/>
          <p:cNvPicPr/>
          <p:nvPr/>
        </p:nvPicPr>
        <p:blipFill>
          <a:blip r:embed="rId1"/>
          <a:stretch/>
        </p:blipFill>
        <p:spPr>
          <a:xfrm>
            <a:off x="0" y="3000240"/>
            <a:ext cx="3408480" cy="2146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http://im7-tub-ru.yandex.net/i?id=337399507-02-72&amp;n=21"/>
          <p:cNvPicPr/>
          <p:nvPr/>
        </p:nvPicPr>
        <p:blipFill>
          <a:blip r:embed="rId2"/>
          <a:stretch/>
        </p:blipFill>
        <p:spPr>
          <a:xfrm>
            <a:off x="3714840" y="3214800"/>
            <a:ext cx="4429080" cy="28573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3117960" y="26431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c000"/>
                </a:solidFill>
                <a:latin typeface="Arial"/>
              </a:rPr>
              <a:t>Mit seinen eigenen Au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Ульяна</cp:lastModifiedBy>
  <dcterms:modified xsi:type="dcterms:W3CDTF">2015-04-29T09:01:39Z</dcterms:modified>
  <cp:revision>95</cp:revision>
  <dc:subject/>
  <dc:title>Hand Carrying Earth</dc:title>
</cp:coreProperties>
</file>