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7.jpeg" ContentType="image/jpeg"/>
  <Override PartName="/ppt/media/image13.png" ContentType="image/pn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11.png" ContentType="image/png"/>
  <Override PartName="/ppt/media/image9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8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7" descr="nb v rufghjf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49655B90-AD8C-4D5D-8386-2E25B84E2B38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hyperlink" Target="http://antaryamin.files.wordpress.com/2010/02/radiotuning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3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2" descr="bvcb dfbvcdf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34920" y="214200"/>
            <a:ext cx="853776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c0000"/>
                </a:solidFill>
                <a:latin typeface="Verdana"/>
              </a:rPr>
              <a:t>Massenmedien. Welche Rolle spielen sie in unserem Leb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Alles, was in der Welt passiert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Die größte Ereigni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Jahr der Kultur in der Russischen Fö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http://im3-tub-ru.yandex.net/i?id=204590535-49-72&amp;n=21"/>
          <p:cNvPicPr/>
          <p:nvPr/>
        </p:nvPicPr>
        <p:blipFill>
          <a:blip r:embed="rId1"/>
          <a:stretch/>
        </p:blipFill>
        <p:spPr>
          <a:xfrm>
            <a:off x="2000160" y="2712960"/>
            <a:ext cx="3495600" cy="25732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http://im6-tub-ru.yandex.net/i?id=8845557-05-16f-63508&amp;n=21"/>
          <p:cNvPicPr/>
          <p:nvPr/>
        </p:nvPicPr>
        <p:blipFill>
          <a:blip r:embed="rId2"/>
          <a:stretch/>
        </p:blipFill>
        <p:spPr>
          <a:xfrm>
            <a:off x="6786720" y="1928880"/>
            <a:ext cx="1908000" cy="14317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" descr="http://im5-tub-ru.yandex.net/i?id=497481095-13-72&amp;n=21"/>
          <p:cNvPicPr/>
          <p:nvPr/>
        </p:nvPicPr>
        <p:blipFill>
          <a:blip r:embed="rId3"/>
          <a:stretch/>
        </p:blipFill>
        <p:spPr>
          <a:xfrm>
            <a:off x="6286680" y="3571920"/>
            <a:ext cx="2157120" cy="14317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6" descr="http://im3-tub-ru.yandex.net/i?id=8161476-04-16f-44726&amp;n=21"/>
          <p:cNvPicPr/>
          <p:nvPr/>
        </p:nvPicPr>
        <p:blipFill>
          <a:blip r:embed="rId4"/>
          <a:stretch/>
        </p:blipFill>
        <p:spPr>
          <a:xfrm>
            <a:off x="5643720" y="5143680"/>
            <a:ext cx="214632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Deutsche Sendu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Filme (Filmkomödie, Melodramen, Spielfilme, Abenteuerfil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MacCy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Raumschiff Enterp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Sensat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Talk im Tu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Tag der W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ARD-Ratgeber: Gesundh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Sesamstraß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Die Sendung mit der Ma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Pressklub 3(Diskus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" descr="http://im0-tub-ru.yandex.net/i?id=383531251-40-72&amp;n=21"/>
          <p:cNvPicPr/>
          <p:nvPr/>
        </p:nvPicPr>
        <p:blipFill>
          <a:blip r:embed="rId1"/>
          <a:stretch/>
        </p:blipFill>
        <p:spPr>
          <a:xfrm>
            <a:off x="6643800" y="178596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http://im3-tub-ru.yandex.net/i?id=254170646-38-72&amp;n=21"/>
          <p:cNvPicPr/>
          <p:nvPr/>
        </p:nvPicPr>
        <p:blipFill>
          <a:blip r:embed="rId2"/>
          <a:stretch/>
        </p:blipFill>
        <p:spPr>
          <a:xfrm>
            <a:off x="6215040" y="3357720"/>
            <a:ext cx="2603520" cy="14317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http://im4-tub-ru.yandex.net/i?id=284675847-03-72&amp;n=21"/>
          <p:cNvPicPr/>
          <p:nvPr/>
        </p:nvPicPr>
        <p:blipFill>
          <a:blip r:embed="rId3"/>
          <a:stretch/>
        </p:blipFill>
        <p:spPr>
          <a:xfrm>
            <a:off x="7786800" y="4857840"/>
            <a:ext cx="1042920" cy="14317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http://im0-tub-ru.yandex.net/i?id=343221158-36-72&amp;n=21"/>
          <p:cNvPicPr/>
          <p:nvPr/>
        </p:nvPicPr>
        <p:blipFill>
          <a:blip r:embed="rId4"/>
          <a:stretch/>
        </p:blipFill>
        <p:spPr>
          <a:xfrm>
            <a:off x="5286240" y="5425920"/>
            <a:ext cx="2544840" cy="14320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7" descr="http://www.de-online.ru/images/erste.png"/>
          <p:cNvPicPr/>
          <p:nvPr/>
        </p:nvPicPr>
        <p:blipFill>
          <a:blip r:embed="rId5"/>
          <a:stretch/>
        </p:blipFill>
        <p:spPr>
          <a:xfrm>
            <a:off x="3071880" y="3143160"/>
            <a:ext cx="3706920" cy="9334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http://www.de-online.ru/images/N-tv-2008.png"/>
          <p:cNvPicPr/>
          <p:nvPr/>
        </p:nvPicPr>
        <p:blipFill>
          <a:blip r:embed="rId6"/>
          <a:stretch/>
        </p:blipFill>
        <p:spPr>
          <a:xfrm>
            <a:off x="4143240" y="1857240"/>
            <a:ext cx="1460520" cy="5670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6" descr="http://www.de-online.ru/images/tva.png"/>
          <p:cNvPicPr/>
          <p:nvPr/>
        </p:nvPicPr>
        <p:blipFill>
          <a:blip r:embed="rId7"/>
          <a:stretch/>
        </p:blipFill>
        <p:spPr>
          <a:xfrm>
            <a:off x="357120" y="214200"/>
            <a:ext cx="192888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Russische Sendu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Nachrichten heut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Guten Morg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Leben gesund!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Die Wahrheit ist irgendwo in der Näh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Guten Nacht, Kinder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!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Warte auf mich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Mein Planet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Genies und clever“ und ande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3" descr="http://im1-tub-ru.yandex.net/i?id=131617370-55-72&amp;n=21"/>
          <p:cNvPicPr/>
          <p:nvPr/>
        </p:nvPicPr>
        <p:blipFill>
          <a:blip r:embed="rId1"/>
          <a:stretch/>
        </p:blipFill>
        <p:spPr>
          <a:xfrm>
            <a:off x="357120" y="214200"/>
            <a:ext cx="1432080" cy="14320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http://im0-tub-ru.yandex.net/i?id=272673401-69-72&amp;n=21"/>
          <p:cNvPicPr/>
          <p:nvPr/>
        </p:nvPicPr>
        <p:blipFill>
          <a:blip r:embed="rId2"/>
          <a:stretch/>
        </p:blipFill>
        <p:spPr>
          <a:xfrm>
            <a:off x="4000680" y="4286160"/>
            <a:ext cx="1452240" cy="16430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http://im3-tub-ru.yandex.net/i?id=420311335-25-72&amp;n=21"/>
          <p:cNvPicPr/>
          <p:nvPr/>
        </p:nvPicPr>
        <p:blipFill>
          <a:blip r:embed="rId3"/>
          <a:stretch/>
        </p:blipFill>
        <p:spPr>
          <a:xfrm>
            <a:off x="5072040" y="1785960"/>
            <a:ext cx="1908360" cy="14320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6" descr="http://im7-tub-ru.yandex.net/i?id=428524181-51-72&amp;n=21"/>
          <p:cNvPicPr/>
          <p:nvPr/>
        </p:nvPicPr>
        <p:blipFill>
          <a:blip r:embed="rId4"/>
          <a:stretch/>
        </p:blipFill>
        <p:spPr>
          <a:xfrm>
            <a:off x="6072120" y="3857760"/>
            <a:ext cx="2786040" cy="19317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7" descr="http://im3-tub-ru.yandex.net/i?id=912833585-70-72&amp;n=21"/>
          <p:cNvPicPr/>
          <p:nvPr/>
        </p:nvPicPr>
        <p:blipFill>
          <a:blip r:embed="rId5"/>
          <a:stretch/>
        </p:blipFill>
        <p:spPr>
          <a:xfrm>
            <a:off x="6000840" y="928800"/>
            <a:ext cx="28620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Солнце 5"/>
          <p:cNvSpPr/>
          <p:nvPr/>
        </p:nvSpPr>
        <p:spPr>
          <a:xfrm>
            <a:off x="214200" y="1214280"/>
            <a:ext cx="2643480" cy="1357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Fernsehen ist es interessant,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aber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de-DE" sz="4000" spc="-1" strike="noStrike">
                <a:solidFill>
                  <a:srgbClr val="ff0000"/>
                </a:solidFill>
                <a:latin typeface="Arial"/>
              </a:rPr>
              <a:t>P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Viele Funktionen in der Gesellscha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ritisiert Missstän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s Fernsehen hilft den Menschen neue Kenntnisse aus verschiedenen Sachgebieten erwer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breit Inform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r erfahren politische und kulturelle Nachrich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2-конечная звезда 4"/>
          <p:cNvSpPr/>
          <p:nvPr/>
        </p:nvSpPr>
        <p:spPr>
          <a:xfrm>
            <a:off x="4786200" y="1500120"/>
            <a:ext cx="2357640" cy="928800"/>
          </a:xfrm>
          <a:custGeom>
            <a:avLst/>
            <a:gdLst/>
            <a:ahLst/>
            <a:rect l="l" t="t" r="r" b="b"/>
            <a:pathLst>
              <a:path w="2357437" h="928687">
                <a:moveTo>
                  <a:pt x="0" y="464344"/>
                </a:moveTo>
                <a:lnTo>
                  <a:pt x="324803" y="374208"/>
                </a:lnTo>
                <a:lnTo>
                  <a:pt x="157918" y="232172"/>
                </a:lnTo>
                <a:lnTo>
                  <a:pt x="553609" y="218088"/>
                </a:lnTo>
                <a:lnTo>
                  <a:pt x="589359" y="62210"/>
                </a:lnTo>
                <a:lnTo>
                  <a:pt x="949912" y="127952"/>
                </a:lnTo>
                <a:lnTo>
                  <a:pt x="1178719" y="0"/>
                </a:lnTo>
                <a:lnTo>
                  <a:pt x="1407525" y="127952"/>
                </a:lnTo>
                <a:lnTo>
                  <a:pt x="1768078" y="62210"/>
                </a:lnTo>
                <a:lnTo>
                  <a:pt x="1803828" y="218088"/>
                </a:lnTo>
                <a:lnTo>
                  <a:pt x="2199519" y="232172"/>
                </a:lnTo>
                <a:lnTo>
                  <a:pt x="2032634" y="374208"/>
                </a:lnTo>
                <a:lnTo>
                  <a:pt x="2357437" y="464344"/>
                </a:lnTo>
                <a:lnTo>
                  <a:pt x="2032634" y="554479"/>
                </a:lnTo>
                <a:lnTo>
                  <a:pt x="2199519" y="696515"/>
                </a:lnTo>
                <a:lnTo>
                  <a:pt x="1803828" y="710599"/>
                </a:lnTo>
                <a:lnTo>
                  <a:pt x="1768078" y="866477"/>
                </a:lnTo>
                <a:lnTo>
                  <a:pt x="1407525" y="800735"/>
                </a:lnTo>
                <a:lnTo>
                  <a:pt x="1178719" y="928687"/>
                </a:lnTo>
                <a:lnTo>
                  <a:pt x="949912" y="800735"/>
                </a:lnTo>
                <a:lnTo>
                  <a:pt x="589359" y="866477"/>
                </a:lnTo>
                <a:lnTo>
                  <a:pt x="553609" y="710599"/>
                </a:lnTo>
                <a:lnTo>
                  <a:pt x="157918" y="696515"/>
                </a:lnTo>
                <a:lnTo>
                  <a:pt x="324803" y="554479"/>
                </a:lnTo>
                <a:lnTo>
                  <a:pt x="0" y="46434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Cont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72bfc5"/>
                </a:solidFill>
                <a:latin typeface="Arial"/>
              </a:rPr>
              <a:t>wird zu oft einer richtigen Such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72bfc5"/>
                </a:solidFill>
                <a:latin typeface="Arial"/>
              </a:rPr>
              <a:t>Die lange Sitzen vor dem Fernseher schadet der Gesundhei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ed3d7"/>
                </a:solidFill>
                <a:latin typeface="Arial"/>
              </a:rPr>
              <a:t>Zu viel Kriminalfilme, wo Gewalt eine große Rolle spie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ed3d7"/>
                </a:solidFill>
                <a:latin typeface="Arial"/>
              </a:rPr>
              <a:t>Zu viel Werbung geht oft den Zuschauern auf die Nerv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ed3d7"/>
                </a:solidFill>
                <a:latin typeface="Arial"/>
              </a:rPr>
              <a:t>Zu viele schlechte Vorbilder: Gangster, Diebe u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d3d7"/>
                </a:solidFill>
                <a:latin typeface="Arial"/>
              </a:rPr>
              <a:t>Computer hat  seinen Siegeszug um die Welt angetr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72bfc5"/>
                </a:solidFill>
                <a:latin typeface="Arial"/>
              </a:rPr>
              <a:t>Der Mensch hat mehr Zeit dank dem Comput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72bfc5"/>
                </a:solidFill>
                <a:latin typeface="Arial"/>
              </a:rPr>
              <a:t>Er befreit den Menschen von schwerer Routinearbe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72bfc5"/>
                </a:solidFill>
                <a:latin typeface="Arial"/>
              </a:rPr>
              <a:t>Er erleichtert den Unterric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72bfc5"/>
                </a:solidFill>
                <a:latin typeface="Arial"/>
              </a:rPr>
              <a:t>Man kann Projekte machen und vieles andere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5" descr="http://im4-tub-ru.yandex.net/i?id=305943174-34-72&amp;n=21"/>
          <p:cNvPicPr/>
          <p:nvPr/>
        </p:nvPicPr>
        <p:blipFill>
          <a:blip r:embed="rId1"/>
          <a:stretch/>
        </p:blipFill>
        <p:spPr>
          <a:xfrm>
            <a:off x="6572160" y="5072040"/>
            <a:ext cx="2357640" cy="128916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6" descr=""/>
          <p:cNvPicPr/>
          <p:nvPr/>
        </p:nvPicPr>
        <p:blipFill>
          <a:blip r:embed="rId2"/>
          <a:stretch/>
        </p:blipFill>
        <p:spPr>
          <a:xfrm>
            <a:off x="530280" y="3956040"/>
            <a:ext cx="73944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d3d7"/>
                </a:solidFill>
                <a:latin typeface="Arial"/>
              </a:rPr>
              <a:t>Der Computer ist eine psychologische Abhängigkeit ge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72bfc5"/>
                </a:solidFill>
                <a:latin typeface="Arial"/>
              </a:rPr>
              <a:t>Für manche wird das Leben ohne Computer sinnlos. Dies kann zu dem Suizid füh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72bfc5"/>
                </a:solidFill>
                <a:latin typeface="Arial"/>
              </a:rPr>
              <a:t>Längeres Sitzen vor dem Computer führt zu den Rückenschmerzen, Epileptischen Anfälle, zu den Problemen mit den Au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de-DE" sz="3200" spc="-1" strike="noStrike">
                <a:solidFill>
                  <a:srgbClr val="9ed3d7"/>
                </a:solidFill>
                <a:latin typeface="Arial"/>
              </a:rPr>
              <a:t>Das ist für die Gesundheit nic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d3d7"/>
                </a:solidFill>
                <a:latin typeface="Arial"/>
              </a:rPr>
              <a:t>                           </a:t>
            </a:r>
            <a:r>
              <a:rPr b="0" lang="de-DE" sz="3200" spc="-1" strike="noStrike">
                <a:solidFill>
                  <a:srgbClr val="9ed3d7"/>
                </a:solidFill>
                <a:latin typeface="Arial"/>
              </a:rPr>
              <a:t>nützli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as Internet hat in der letzen Zeit für die Menschen immer mehr Bedeutung gewo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72bfc5"/>
                </a:solidFill>
                <a:latin typeface="Arial"/>
              </a:rPr>
              <a:t>Viele Menschen verbringen jetzt ihre Freizeit im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72bfc5"/>
                </a:solidFill>
                <a:latin typeface="Arial"/>
              </a:rPr>
              <a:t>Das Internet wird oft benutzt um einzukaufen, ohne das Haus zu verl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4" descr="http://im6-tub-ru.yandex.net/i?id=187280392-01-72&amp;n=21"/>
          <p:cNvPicPr/>
          <p:nvPr/>
        </p:nvPicPr>
        <p:blipFill>
          <a:blip r:embed="rId1"/>
          <a:stretch/>
        </p:blipFill>
        <p:spPr>
          <a:xfrm>
            <a:off x="1714680" y="4000680"/>
            <a:ext cx="3214440" cy="16430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5" descr="http://im6-tub-ru.yandex.net/i?id=512278417-46-72&amp;n=21"/>
          <p:cNvPicPr/>
          <p:nvPr/>
        </p:nvPicPr>
        <p:blipFill>
          <a:blip r:embed="rId2"/>
          <a:stretch/>
        </p:blipFill>
        <p:spPr>
          <a:xfrm>
            <a:off x="5857920" y="3857760"/>
            <a:ext cx="2786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d3d7"/>
                </a:solidFill>
                <a:latin typeface="Arial"/>
              </a:rPr>
              <a:t>Aufgaben der Massenmedi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Горизонтальный свиток 3"/>
          <p:cNvSpPr/>
          <p:nvPr/>
        </p:nvSpPr>
        <p:spPr>
          <a:xfrm>
            <a:off x="785880" y="1500120"/>
            <a:ext cx="2143080" cy="16430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Kritisie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issstä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Горизонтальный свиток 4"/>
          <p:cNvSpPr/>
          <p:nvPr/>
        </p:nvSpPr>
        <p:spPr>
          <a:xfrm>
            <a:off x="3643200" y="1357200"/>
            <a:ext cx="2500560" cy="16430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Kontroll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as Verha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r Amtsinha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Горизонтальный свиток 5"/>
          <p:cNvSpPr/>
          <p:nvPr/>
        </p:nvSpPr>
        <p:spPr>
          <a:xfrm>
            <a:off x="857160" y="3286080"/>
            <a:ext cx="2143080" cy="15001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agen 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einungsbil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r Bürger b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Горизонтальный свиток 6"/>
          <p:cNvSpPr/>
          <p:nvPr/>
        </p:nvSpPr>
        <p:spPr>
          <a:xfrm>
            <a:off x="3786120" y="3357720"/>
            <a:ext cx="2286000" cy="15714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erbrei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nfor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Горизонтальный свиток 7"/>
          <p:cNvSpPr/>
          <p:nvPr/>
        </p:nvSpPr>
        <p:spPr>
          <a:xfrm>
            <a:off x="6357960" y="1285920"/>
            <a:ext cx="2286000" cy="17143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achen politis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oblrme und 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usammenhä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einsicht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Горизонтальный свиток 8"/>
          <p:cNvSpPr/>
          <p:nvPr/>
        </p:nvSpPr>
        <p:spPr>
          <a:xfrm>
            <a:off x="6572160" y="3357720"/>
            <a:ext cx="2214720" cy="16430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ontroll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e Entscheid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r politis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itu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9ed3d7"/>
                </a:solidFill>
                <a:latin typeface="Arial"/>
              </a:rPr>
              <a:t>Welches Massenmedium ist am populärsten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Beantwortet die Fra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bfc5"/>
                </a:solidFill>
                <a:latin typeface="Arial"/>
              </a:rPr>
              <a:t>Eine Umfrage der Schüler der 8. und 9. K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Содержимое 3" descr=""/>
          <p:cNvPicPr/>
          <p:nvPr/>
        </p:nvPicPr>
        <p:blipFill>
          <a:blip r:embed="rId1"/>
          <a:stretch/>
        </p:blipFill>
        <p:spPr>
          <a:xfrm>
            <a:off x="355680" y="1498680"/>
            <a:ext cx="843264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395280" y="189000"/>
            <a:ext cx="803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aru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st dieses Thema „Massenmedien“ heute aktui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900000" y="1143000"/>
            <a:ext cx="770436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Wir benutzen Information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20520" y="33480"/>
            <a:ext cx="256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2286000" y="2367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7"/>
          <p:cNvSpPr/>
          <p:nvPr/>
        </p:nvSpPr>
        <p:spPr>
          <a:xfrm>
            <a:off x="2286000" y="5429160"/>
            <a:ext cx="66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cht ihr eine Liste von Medien, die du und deine Familie im Alltag am        liebsten benutz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Схема 8" descr=""/>
          <p:cNvPicPr/>
          <p:nvPr/>
        </p:nvPicPr>
        <p:blipFill>
          <a:blip r:embed="rId1"/>
          <a:stretch/>
        </p:blipFill>
        <p:spPr>
          <a:xfrm>
            <a:off x="0" y="2236680"/>
            <a:ext cx="9144000" cy="35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ed3d7"/>
                </a:solidFill>
                <a:latin typeface="Arial"/>
              </a:rPr>
              <a:t>Wie viel Zeit verbringst du vor dem Compu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одержимое 4" descr=""/>
          <p:cNvPicPr/>
          <p:nvPr/>
        </p:nvPicPr>
        <p:blipFill>
          <a:blip r:embed="rId1"/>
          <a:stretch/>
        </p:blipFill>
        <p:spPr>
          <a:xfrm>
            <a:off x="3575160" y="27288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ffff00"/>
                </a:solidFill>
                <a:latin typeface="Arial"/>
              </a:rPr>
              <a:t>Antwor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ffff00"/>
                </a:solidFill>
                <a:latin typeface="Arial"/>
              </a:rPr>
              <a:t>2 -4 Uhr jeden tag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ffff00"/>
                </a:solidFill>
                <a:latin typeface="Arial"/>
              </a:rPr>
              <a:t>Aber wenig Bücher lese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enden Sie die Sätz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1.Die Massenmedien haben die Aufgabe, Informationen zu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Verbr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2.Sie müssen zur Meinungsbildung der Burge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Bei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3.Sie müssen komplizierte politische Probleme ...        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machen und politische Ereignisse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insichtig                                  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komment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4.Sie haben die Aufgabe, die Entscheidungen der politischen Institutionen zu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kontrol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5.Auch das Verhalten der Amtsinhaber müssen sie ...            und Mißstände ...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Kontrolieren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kritis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e kann man neue Information bekommen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 Ra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 Fernse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http://im2-tub-ru.yandex.net/i?id=175276395-12-72&amp;n=21"/>
          <p:cNvPicPr/>
          <p:nvPr/>
        </p:nvPicPr>
        <p:blipFill>
          <a:blip r:embed="rId1"/>
          <a:stretch/>
        </p:blipFill>
        <p:spPr>
          <a:xfrm rot="20589600">
            <a:off x="3795480" y="1616040"/>
            <a:ext cx="357192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http://im4-tub-ru.yandex.net/i?id=305943174-34-72&amp;n=21"/>
          <p:cNvPicPr/>
          <p:nvPr/>
        </p:nvPicPr>
        <p:blipFill>
          <a:blip r:embed="rId2"/>
          <a:stretch/>
        </p:blipFill>
        <p:spPr>
          <a:xfrm>
            <a:off x="500040" y="3643200"/>
            <a:ext cx="3429000" cy="16430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http://im2-tub-ru.yandex.net/i?id=287912726-38-72&amp;n=21"/>
          <p:cNvPicPr/>
          <p:nvPr/>
        </p:nvPicPr>
        <p:blipFill>
          <a:blip r:embed="rId3"/>
          <a:stretch/>
        </p:blipFill>
        <p:spPr>
          <a:xfrm rot="20656200">
            <a:off x="5307120" y="3467160"/>
            <a:ext cx="3143160" cy="16430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http://im7-tub-ru.yandex.net/i?id=429229891-49-72&amp;n=21"/>
          <p:cNvPicPr/>
          <p:nvPr/>
        </p:nvPicPr>
        <p:blipFill>
          <a:blip r:embed="rId4"/>
          <a:stretch/>
        </p:blipFill>
        <p:spPr>
          <a:xfrm>
            <a:off x="7000920" y="492912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5"/>
          <a:stretch/>
        </p:blipFill>
        <p:spPr>
          <a:xfrm rot="20133000">
            <a:off x="4536720" y="4539960"/>
            <a:ext cx="2000160" cy="19936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8" descr="http://my-skype-lesson.ru/newspaper_spiegel.jpg"/>
          <p:cNvPicPr/>
          <p:nvPr/>
        </p:nvPicPr>
        <p:blipFill>
          <a:blip r:embed="rId6"/>
          <a:stretch/>
        </p:blipFill>
        <p:spPr>
          <a:xfrm rot="19954200">
            <a:off x="2738520" y="5295600"/>
            <a:ext cx="190476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ü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ff"/>
                </a:solidFill>
                <a:latin typeface="Arial"/>
              </a:rPr>
              <a:t>Das älteste Massenmedium ist, wie bekannt, das 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-main-pic" descr="Картинка 141 из 4000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http://im7-tub-ru.yandex.net/i?id=429229891-49-72&amp;n=21"/>
          <p:cNvPicPr/>
          <p:nvPr/>
        </p:nvPicPr>
        <p:blipFill>
          <a:blip r:embed="rId2"/>
          <a:stretch/>
        </p:blipFill>
        <p:spPr>
          <a:xfrm>
            <a:off x="4929120" y="2643120"/>
            <a:ext cx="29084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dfun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ist ein Informationsmitt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5857920" y="3500280"/>
            <a:ext cx="292896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Deutsche Welle – это единственный глобальный вещатель, уделяющий особое внимание происходящему в Германии и Европ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с двумя вырезанными противолежащими углами 5"/>
          <p:cNvSpPr/>
          <p:nvPr/>
        </p:nvSpPr>
        <p:spPr>
          <a:xfrm>
            <a:off x="2771640" y="5572080"/>
            <a:ext cx="3888000" cy="107172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er! Radiosendungen kann                             man nur      hör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3143160" y="3429000"/>
            <a:ext cx="2571840" cy="187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2928960" y="2071800"/>
            <a:ext cx="2857320" cy="1785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3"/>
          <a:stretch/>
        </p:blipFill>
        <p:spPr>
          <a:xfrm>
            <a:off x="428760" y="1714680"/>
            <a:ext cx="2500200" cy="2296800"/>
          </a:xfrm>
          <a:prstGeom prst="rect">
            <a:avLst/>
          </a:prstGeom>
          <a:ln w="0">
            <a:noFill/>
          </a:ln>
        </p:spPr>
      </p:pic>
      <p:pic>
        <p:nvPicPr>
          <p:cNvPr id="66" name="i-main-pic" descr="Картинка 33 из 91766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53160" y="2786040"/>
            <a:ext cx="339084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Ihr müsst deutsche und russische Äquivalente finden</a:t>
            </a:r>
            <a:r>
              <a:rPr b="0" i="1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as Fernse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e Zei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e Entschei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e Sen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e Nachr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e Zeitschr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er Zuscha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er Zusammen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as Rundf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er Amtsinha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e Massenmed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e Verfass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erbr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ermitt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unterhalt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редства массовой 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о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леви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яз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простран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нститу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еда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ладелец пред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едач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ри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аз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тересный, занимате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авитель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Журн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ди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Die ganze Welt ist vor Augen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!</a:t>
            </a:r>
            <a:br>
              <a:rPr sz="4400"/>
            </a:br>
            <a:r>
              <a:rPr b="1" i="1" lang="ru-RU" sz="4000" spc="-1" strike="noStrike">
                <a:solidFill>
                  <a:srgbClr val="ffc000"/>
                </a:solidFill>
                <a:latin typeface="Arial"/>
              </a:rPr>
              <a:t>Sehen, Hören und auch Lese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http://im1-tub-ru.yandex.net/i?id=43002571-49-72&amp;n=21"/>
          <p:cNvPicPr/>
          <p:nvPr/>
        </p:nvPicPr>
        <p:blipFill>
          <a:blip r:embed="rId1"/>
          <a:stretch/>
        </p:blipFill>
        <p:spPr>
          <a:xfrm>
            <a:off x="357120" y="1714680"/>
            <a:ext cx="4168800" cy="28573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http://im4-tub-ru.yandex.net/i?id=122981026-18-72&amp;n=21"/>
          <p:cNvPicPr/>
          <p:nvPr/>
        </p:nvPicPr>
        <p:blipFill>
          <a:blip r:embed="rId2"/>
          <a:stretch/>
        </p:blipFill>
        <p:spPr>
          <a:xfrm>
            <a:off x="4500720" y="2857680"/>
            <a:ext cx="4643280" cy="26431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" descr="http://www.de-online.ru/images/N-tv-2008.png"/>
          <p:cNvPicPr/>
          <p:nvPr/>
        </p:nvPicPr>
        <p:blipFill>
          <a:blip r:embed="rId3"/>
          <a:stretch/>
        </p:blipFill>
        <p:spPr>
          <a:xfrm>
            <a:off x="5000760" y="1785960"/>
            <a:ext cx="1460520" cy="5666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" descr="http://www.de-online.ru/images/tva.png"/>
          <p:cNvPicPr/>
          <p:nvPr/>
        </p:nvPicPr>
        <p:blipFill>
          <a:blip r:embed="rId4"/>
          <a:stretch/>
        </p:blipFill>
        <p:spPr>
          <a:xfrm>
            <a:off x="6786720" y="1714680"/>
            <a:ext cx="1928520" cy="5378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7" descr="http://www.de-online.ru/images/erste.png"/>
          <p:cNvPicPr/>
          <p:nvPr/>
        </p:nvPicPr>
        <p:blipFill>
          <a:blip r:embed="rId5"/>
          <a:stretch/>
        </p:blipFill>
        <p:spPr>
          <a:xfrm>
            <a:off x="2500200" y="5715000"/>
            <a:ext cx="37069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Alles, was in der Welt passiert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Die größte Ereigni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14308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Die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XXII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Olympische Spielen in Sot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4" descr="http://im0-tub-ru.yandex.net/i?id=674628994-39-72&amp;n=21"/>
          <p:cNvPicPr/>
          <p:nvPr/>
        </p:nvPicPr>
        <p:blipFill>
          <a:blip r:embed="rId1"/>
          <a:stretch/>
        </p:blipFill>
        <p:spPr>
          <a:xfrm>
            <a:off x="7891560" y="0"/>
            <a:ext cx="1252440" cy="15001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http://im0-tub-ru.yandex.net/i?id=5872741-05-16f-90226&amp;n=21"/>
          <p:cNvPicPr/>
          <p:nvPr/>
        </p:nvPicPr>
        <p:blipFill>
          <a:blip r:embed="rId2"/>
          <a:stretch/>
        </p:blipFill>
        <p:spPr>
          <a:xfrm>
            <a:off x="0" y="2928960"/>
            <a:ext cx="3444840" cy="20001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http://im6-tub-ru.yandex.net/i?id=267603369-32-72&amp;n=21"/>
          <p:cNvPicPr/>
          <p:nvPr/>
        </p:nvPicPr>
        <p:blipFill>
          <a:blip r:embed="rId3"/>
          <a:stretch/>
        </p:blipFill>
        <p:spPr>
          <a:xfrm>
            <a:off x="6429240" y="4572000"/>
            <a:ext cx="2714760" cy="17096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http://im4-tub-ru.yandex.net/i?id=159045637-60-72&amp;n=21"/>
          <p:cNvPicPr/>
          <p:nvPr/>
        </p:nvPicPr>
        <p:blipFill>
          <a:blip r:embed="rId4"/>
          <a:stretch/>
        </p:blipFill>
        <p:spPr>
          <a:xfrm>
            <a:off x="6381720" y="2571840"/>
            <a:ext cx="2762280" cy="17143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7" descr="http://im3-tub-ru.yandex.net/i?id=257738224-31-72&amp;n=21"/>
          <p:cNvPicPr/>
          <p:nvPr/>
        </p:nvPicPr>
        <p:blipFill>
          <a:blip r:embed="rId5"/>
          <a:stretch/>
        </p:blipFill>
        <p:spPr>
          <a:xfrm>
            <a:off x="2714760" y="4929120"/>
            <a:ext cx="3214440" cy="19288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8" descr="http://im2-tub-ru.yandex.net/i?id=193696485-40-72&amp;n=21"/>
          <p:cNvPicPr/>
          <p:nvPr/>
        </p:nvPicPr>
        <p:blipFill>
          <a:blip r:embed="rId6"/>
          <a:stretch/>
        </p:blipFill>
        <p:spPr>
          <a:xfrm>
            <a:off x="0" y="0"/>
            <a:ext cx="2001960" cy="19303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9" descr="http://im6-tub-ru.yandex.net/i?id=154098570-25-72&amp;n=21"/>
          <p:cNvPicPr/>
          <p:nvPr/>
        </p:nvPicPr>
        <p:blipFill>
          <a:blip r:embed="rId7"/>
          <a:stretch/>
        </p:blipFill>
        <p:spPr>
          <a:xfrm>
            <a:off x="3857760" y="3143160"/>
            <a:ext cx="19731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Alles, was in der Welt passiert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Die grösste Erreigni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Der 80-jährige Jubiläum der Geburt des ersten Kosmonauten Gaga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c000"/>
                </a:solidFill>
                <a:latin typeface="Arial"/>
              </a:rPr>
              <a:t>                  </a:t>
            </a:r>
            <a:r>
              <a:rPr b="0" i="1" lang="de-DE" sz="2400" spc="-1" strike="noStrike">
                <a:solidFill>
                  <a:srgbClr val="ffc000"/>
                </a:solidFill>
                <a:latin typeface="Arial"/>
              </a:rPr>
              <a:t>kann man Flug  von Gagarin in den Weltraum s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http://im2-tub-ru.yandex.net/i?id=5531966-50-72&amp;n=21"/>
          <p:cNvPicPr/>
          <p:nvPr/>
        </p:nvPicPr>
        <p:blipFill>
          <a:blip r:embed="rId1"/>
          <a:stretch/>
        </p:blipFill>
        <p:spPr>
          <a:xfrm>
            <a:off x="0" y="3000240"/>
            <a:ext cx="3408480" cy="21463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http://im7-tub-ru.yandex.net/i?id=337399507-02-72&amp;n=21"/>
          <p:cNvPicPr/>
          <p:nvPr/>
        </p:nvPicPr>
        <p:blipFill>
          <a:blip r:embed="rId2"/>
          <a:stretch/>
        </p:blipFill>
        <p:spPr>
          <a:xfrm>
            <a:off x="3714840" y="3214800"/>
            <a:ext cx="4429080" cy="28573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5"/>
          <p:cNvSpPr/>
          <p:nvPr/>
        </p:nvSpPr>
        <p:spPr>
          <a:xfrm>
            <a:off x="3117960" y="264312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c000"/>
                </a:solidFill>
                <a:latin typeface="Arial"/>
              </a:rPr>
              <a:t>Mit seinen eigenen Au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Ульяна</cp:lastModifiedBy>
  <dcterms:modified xsi:type="dcterms:W3CDTF">2015-04-29T09:01:39Z</dcterms:modified>
  <cp:revision>95</cp:revision>
  <dc:subject/>
  <dc:title>Hand Carrying Earth</dc:title>
</cp:coreProperties>
</file>