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4E9-4D11-466C-A147-0E1B482A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E31-D531-462B-918A-1206CC5D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0E9-3F87-40CB-B1A8-D7460443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9AD-4DA9-4C78-8EE4-C48407F1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1B4A-367A-485A-82DE-D4AAF57E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96AB-6630-4AC4-8F33-92CECF30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574F-3893-4C7B-B367-F50AD1D2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8994-EB9B-41E4-A9A7-49AE52A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A87-8BD1-4B97-A2A7-E9F7C5D3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97A6-52CF-4A05-A430-FF6BD2F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527-20E9-4D77-B3B3-EA3727BF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BE7-ABF1-4FE6-AE4A-212549BA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DF2F-5241-42EF-8C90-92B70ED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DAB0-8A03-49E1-8FC3-5508B09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14B1-3764-45E8-ACA6-FFF763F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0AB1-49F2-447B-8CE4-C8C10A2F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EF19-7596-41C9-94F8-764D2E6F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9B0-0BB5-449E-B799-7287FE61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B07-FA34-4795-AF52-24A31629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60F-E8D8-445E-A3F0-2459569E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9C7-8455-4880-8133-0986BFE1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4D2-532F-4DC2-9DC6-2EEDA20E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866-EC4E-4D10-BF69-1CD06EB5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BD1-B6E2-458E-896A-3842DD9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2B21-EE5F-4A39-AC61-AE74566D8F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CE34-2FB7-461D-B8F7-AB979FEF52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ССР в 1930 гг. Коллективизация и индустриализ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80920" y="4952520"/>
            <a:ext cx="5334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История Отечества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XX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 в.   9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читель ис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МАОУ Богдановская СОШ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Мережко Е.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зучение нового материал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76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блемное задание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Докажите, что социально-экономические преобразования 30-х гг. 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 в. изменили облик стра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300" spc="-1" strike="noStrike" u="sng">
                <a:solidFill>
                  <a:srgbClr val="000000"/>
                </a:solidFill>
                <a:uFillTx/>
                <a:latin typeface="Verdana"/>
              </a:rPr>
              <a:t>       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Verdana"/>
              </a:rPr>
              <a:t>Коллективизация </a:t>
            </a: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это создание коллективных хозяйств  ( колхозов )  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и ликвидация кулачества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Verdana"/>
              </a:rPr>
              <a:t>( зажиточного крестьянства ), как класса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Коллективизация и ее итог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914400"/>
            <a:ext cx="28195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638680" y="914400"/>
            <a:ext cx="35053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819520" y="914400"/>
            <a:ext cx="28191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828800"/>
            <a:ext cx="2819520" cy="5029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 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устриализац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озд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хоз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квид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ач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Ликвид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ар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асе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638680" y="1828800"/>
            <a:ext cx="3505320" cy="5029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зданы условия дл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устриал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ничтожены един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крестьянс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зяйства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ны колхо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Ликвидирова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ар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асел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819520" y="1828800"/>
            <a:ext cx="2819160" cy="5029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опаганд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житочн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стьянин-вра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кулачи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Репресс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Паспор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Индустриализация  в годы первых пятилет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Verdana"/>
              </a:rPr>
              <a:t>Индустриализация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создание тяжелой промышленности, крупного машинного производств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ервый пятилетний план - 1927 – 1932 г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торой пятилетний план - 1932 – 1937 г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дустриализация  в годы первых пятилеток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143000"/>
            <a:ext cx="25909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590920" y="1143000"/>
            <a:ext cx="25905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181480" y="1143000"/>
            <a:ext cx="396252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2057400"/>
            <a:ext cx="2590920" cy="4800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мощ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Ликвидация тех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-экономическ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талости стра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Достиж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номическ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зависим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Развитие базовы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сл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ечеств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590920" y="2057400"/>
            <a:ext cx="2590560" cy="4800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Перекачка средст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дерев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Продажа сырье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х ресур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ивле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ств насе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Труд заключенн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Трудов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тузиазм нар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81480" y="2057400"/>
            <a:ext cx="3962520" cy="48006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Второе место в мире по раз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ию тяжелой промышлен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Сокращение отставания о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ых капиталистическ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Создание новой базы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ке   стра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 Развитие новых отрасл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Скачок за счет отста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х отрасл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0000"/>
                </a:solidFill>
                <a:uFillTx/>
                <a:latin typeface="Verdana"/>
              </a:rPr>
              <a:t>Итоги урока. Закрепление изученного.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верка проблемного зад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ывод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езультате социально-экономических преобразований 30-х гг.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в. наша страна превоатилась в мощную индустриальную державу, в которой жили люди с уверенностью, что лишения и трудности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Это временно, что выполнение пятилетних планов позволит построить новое общество, быстро подънять уровень жизни насе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агра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ция</cp:lastModifiedBy>
  <dcterms:modified xsi:type="dcterms:W3CDTF">2015-04-29T15:30:1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