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0E7-9A9D-465B-9D48-A538B616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9AF-B7EF-43C8-BF12-A1B219A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0E1-4B79-45BF-B0FD-BC587427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179-C70F-4C69-B5E3-BEFC9542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2BFB-3CFF-4B0A-9285-82DF1039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850-2525-46CE-89F8-5A11C72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0F52-8B3D-4798-908F-39EF797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94DF-25B6-4655-94B8-BEAFF03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A445-3572-40F3-9162-E68C461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43B3-B290-4CD7-9333-B09429B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3B25-7FFB-4FDF-910F-E29161E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546-9773-4892-8A4F-C7F0A89F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577-1233-446D-A383-E52D736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11F5-BD0A-4773-A8EB-FC8E6969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F5F7-CFA8-4B76-8CDE-BDC76CF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B20A-850A-486A-A58B-BB22757A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291-D614-4218-9C77-A1AAFB75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4FC-5343-4213-80B6-CA0C850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6D2-EC5A-435C-A22A-AD6BBAE5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745-385F-43AC-9C60-EFD9CBB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38D-2D6D-48A9-81E1-5D5D532D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A6A-8569-46B2-A437-2B48392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ABE-1FBC-45E5-9D7C-CF5A639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8D5-5B12-4CE9-917A-B4E305C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0C54-995B-436E-BBF5-EE5752288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F009-EF8C-4734-B594-4AC17EBF6C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ССР в 1930 гг. Коллективизация и индустри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80920" y="4952520"/>
            <a:ext cx="533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стория Отечеств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XX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в.   9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читель ис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МАОУ Богдановская СО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Мережко Е.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зучение нового материал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76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блемное задани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Докажите, что социально-экономические преобразования 30-х гг.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в. изменили облик стра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300" spc="-1" strike="noStrike" u="sng">
                <a:solidFill>
                  <a:srgbClr val="000000"/>
                </a:solidFill>
                <a:uFillTx/>
                <a:latin typeface="Verdana"/>
              </a:rPr>
              <a:t>       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Verdana"/>
              </a:rPr>
              <a:t>Коллективизация </a:t>
            </a: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это создание коллективных хозяйств  ( колхозов )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и ликвидация кулачества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( зажиточного крестьянства ), как класса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Коллективизация и ее итог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914400"/>
            <a:ext cx="28195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638680" y="914400"/>
            <a:ext cx="35053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819520" y="914400"/>
            <a:ext cx="28191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828800"/>
            <a:ext cx="281952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 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устриализац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зд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хоз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квид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а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Ликвид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ар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асе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638680" y="1828800"/>
            <a:ext cx="350532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зданы условия д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устриал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ничтожены един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крестьянс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зяйства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ы колхо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Ликвидиров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ар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асел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19520" y="1828800"/>
            <a:ext cx="281916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опаганд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житочн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ин-вра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кулачи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Репресс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аспор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 в годы первых пятилет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оздание тяжелой промышленности, крупного машинного производств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рвый пятилетний план - 1927 – 1932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торой пятилетний план - 1932 – 1937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 в годы первых пятилеток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143000"/>
            <a:ext cx="25909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90920" y="1143000"/>
            <a:ext cx="25905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181480" y="1143000"/>
            <a:ext cx="39625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057400"/>
            <a:ext cx="259092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мощ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Ликвидация тех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-экономическ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талости стр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Достиж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ческ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зависим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витие базовы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че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590920" y="2057400"/>
            <a:ext cx="259056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ерекачка сред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ерев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Продажа сырь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х ресур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ивле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 насе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Труд заключенн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Трудов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тузиазм нар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81480" y="2057400"/>
            <a:ext cx="396252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торое место в мире по раз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ию тяжелой 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Сокращение отставания о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ых капиталистическ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Создание новой базы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ке   стр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 Развитие новых 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Скачок за счет отста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х 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Verdana"/>
              </a:rPr>
              <a:t>Итоги урока. Закрепление изученного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верка проблемного зад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ыв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езультате социально-экономических преобразований 30-х гг.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в. наша страна превоатилась в мощную индустриальную державу, в которой жили люди с уверенностью, что лишения и трудности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Это временно, что выполнение пятилетних планов позволит построить новое общество, быстро подънять уровень жизни насе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гра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15-04-29T15:30:1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