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C89A-9880-4209-A48A-DE4D89FC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DF1-E264-407B-A7B2-9C1897D4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FE8-5BEE-405D-8176-B96E7616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0FE-28AB-4199-9AE7-5260014E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A0E6-2AE7-423F-B62C-97C1D4CE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5CD3-6BDB-4FE8-9AFF-EA14DA61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B125-C432-4396-9C71-A05F612D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5432-F33D-4BFF-8A5C-037D5060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BB9D-FD9A-4889-94D6-2FE0E23C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5E63-9B0D-42CC-8549-B54A7462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77C4-D0E3-4175-9BA9-99F92625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DD0E-4DD3-4510-82EA-F04ED1C1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7907-924E-40E1-B996-FFF2A565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0108-4C4B-49AD-900F-8EDF4A9F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BE8B-A22A-4D47-B487-6AEAEA8F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16F0-ECCE-4B33-B676-2CF3549E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2DA4-4D9F-47B0-9DCB-F1DD2878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53ECD-340E-4007-90F2-A0B3B5CA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4CE0A-DD06-43BA-81CF-3AF4E780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E0E4C-8D96-47DD-B32B-5072C4D0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ADD21-0863-4085-B590-C5F71165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9781F-C286-45D0-B4F4-457F14F8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D946-2C11-40B0-B70D-AF0A9C5F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C0F10-3121-40A2-87B0-E10B84D5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711CC-2D8A-42FA-BBBB-F52B627B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F500A-BFD9-4408-B0C1-D9BE9A24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8CAC4-4CCE-4019-8E5D-71CB3F9D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36CF9-9D30-42A9-980A-165EF0F4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9453D-0101-44C9-8EF2-3DDACD84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31CE6-21B8-4E59-BEF2-E203960D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C2E1F-7EA0-4E26-9A29-76411704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B9D51-C999-451C-9FD1-FCE738D6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AC0D5-56EF-4085-A1D5-D8EA6D27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0F1-81C9-455B-83B5-75602B01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4A770-2B01-4C3B-AD3A-8F25BBF1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91282-EE1A-45B8-9C40-087774BE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879F3-1A0C-46B9-A8CB-62806B08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EFB0C-0787-440E-B8AB-F061E4BF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FA29F-DBD6-46FA-8B1D-BE984117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D25AC-64E3-4BFE-A1F2-664E5D5D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B55FE-0205-4483-BB31-F1F37BA2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352C6-57AF-4DE6-99B8-8C82200F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50F8E-3558-417E-AFBE-44AB48BE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91362-3A63-4324-857E-C4CD5AE0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3DF-34CF-431E-9A4A-0E40DC18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EA82F-1134-48F9-93CC-D59E2FBE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1A92D-4471-4450-81B6-9D0F9752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BA055-3ACD-4E55-889F-0020C162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93DA6-A16C-482B-9A37-FB40EAD5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F243C-CD02-4926-87FF-C180E240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EE291-D00A-4F41-AB87-03944EAD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EA17A-C1EB-4CB4-AC00-8E24CD33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5AF50-263B-4748-8A88-B4EB0387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26A18-E51B-429C-BCF3-5937E0CC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2C3CC-AE98-4904-AAB8-1FD82742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2D78-6B5E-4D78-9C5C-FBC2772C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0C8DE-2E11-41B9-88DC-920575FF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1FD30-D880-45DF-9542-53A6954E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428BF-C752-44FE-AFB1-40CC1476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9D137-138E-4AED-84A1-14A63DCF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3FC49-053C-4607-8FA9-B760B17C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E8CAC-483C-4DAD-928E-358AFD6D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83543-23C6-4008-9264-C9570416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5141C-9238-447E-AC1E-F18571F3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EB8FB-DC99-48F8-860D-4775AA93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48D9F-3713-4457-853C-9DA5CA2A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36D4-D9A8-4170-B302-44B45086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FDF74-DC28-4E66-A117-1334048C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B6CA8-B0E2-4F80-82A3-391E1684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CEE07-12A5-4217-9A26-FDB829AD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89F88-E21C-4053-9F6E-C2A44724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2A2AC-29BB-400E-B86C-13CD0E91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CE504-CCE7-4A9F-8999-BA53E936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D134F-8382-4708-B3E4-23817FB5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B39D6-B3F2-45F5-9C2E-17D5375F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8E846-C320-4C29-975E-696FA9B7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FEABC-9974-4B7D-A5F1-7EAC718E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6EA-12E1-451D-AF67-BEEDCA76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35EC9-377D-4ADF-9792-F11DD376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E4149-322E-4A2A-BEA7-4EF7D7BB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AE521-B310-4563-9408-490ADE91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C8122-8089-45DB-B7E8-A4FA5F8F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2C209-54B2-422A-9575-AC2DB7B7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6E5-F7A0-439B-9DBB-4E2538BC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3424-6948-4F0A-8915-D11161D84A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9772-08FA-42A6-A3E3-ED52E9ECC391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91FF-2BAA-4446-BAE9-1ECD91023F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CCDE-046D-49A2-B709-06195A98CB9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FAEB-1E58-4342-9863-43B1129E87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F9F6-E062-4ACB-A152-BB3D4E1AC0EB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7A99-F836-4E04-95BD-706BD2383742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WordArt 9"/>
          <p:cNvSpPr txBox="1"/>
          <p:nvPr/>
        </p:nvSpPr>
        <p:spPr>
          <a:xfrm>
            <a:off x="826920" y="2133720"/>
            <a:ext cx="77058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English Language</a:t>
            </a:r>
            <a:endParaRPr b="0" lang="en-US" sz="2400" spc="1" strike="noStrike">
              <a:ln w="9360">
                <a:solidFill>
                  <a:srgbClr val="00ffff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in People’s Life</a:t>
            </a:r>
            <a:endParaRPr b="0" lang="en-US" sz="2400" spc="1" strike="noStrike">
              <a:ln w="9360">
                <a:solidFill>
                  <a:srgbClr val="00ffff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302" name="TextBox 2"/>
          <p:cNvSpPr/>
          <p:nvPr/>
        </p:nvSpPr>
        <p:spPr>
          <a:xfrm>
            <a:off x="623520" y="5000760"/>
            <a:ext cx="347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тяшова Елена Никола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английского язы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БОУ «СОШ-ДС № 15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 Симферопо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рис8"/>
          <p:cNvPicPr/>
          <p:nvPr/>
        </p:nvPicPr>
        <p:blipFill>
          <a:blip r:embed="rId1"/>
          <a:stretch/>
        </p:blipFill>
        <p:spPr>
          <a:xfrm>
            <a:off x="2484360" y="1916280"/>
            <a:ext cx="4392720" cy="314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593640" y="404640"/>
            <a:ext cx="87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88c"/>
                </a:solidFill>
                <a:latin typeface="Tahoma"/>
              </a:rPr>
              <a:t>60% of all international telephones calls are made in Engli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-213120" y="1197000"/>
            <a:ext cx="89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88c"/>
                </a:solidFill>
                <a:latin typeface="Tahoma"/>
              </a:rPr>
              <a:t>More than 60% of all scientific journals are written in Englis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1995480" y="6018120"/>
            <a:ext cx="67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88c"/>
                </a:solidFill>
                <a:latin typeface="Tahoma"/>
              </a:rPr>
              <a:t>75% of world’s letters and faxes are in Englis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256320" y="5226120"/>
            <a:ext cx="86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88c"/>
                </a:solidFill>
                <a:latin typeface="Tahoma"/>
              </a:rPr>
              <a:t>80% of all information in the world’s computer is in Englis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WordArt 5"/>
          <p:cNvSpPr txBox="1"/>
          <p:nvPr/>
        </p:nvSpPr>
        <p:spPr>
          <a:xfrm>
            <a:off x="3276720" y="404640"/>
            <a:ext cx="280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PLAN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1" name="WordArt 6" descr=""/>
          <p:cNvPicPr/>
          <p:nvPr/>
        </p:nvPicPr>
        <p:blipFill>
          <a:blip r:embed="rId1"/>
          <a:stretch/>
        </p:blipFill>
        <p:spPr>
          <a:xfrm>
            <a:off x="1176480" y="1981080"/>
            <a:ext cx="7834320" cy="615960"/>
          </a:xfrm>
          <a:prstGeom prst="rect">
            <a:avLst/>
          </a:prstGeom>
          <a:ln w="0">
            <a:noFill/>
          </a:ln>
        </p:spPr>
      </p:pic>
      <p:sp>
        <p:nvSpPr>
          <p:cNvPr id="342" name="WordArt 7"/>
          <p:cNvSpPr txBox="1"/>
          <p:nvPr/>
        </p:nvSpPr>
        <p:spPr>
          <a:xfrm>
            <a:off x="539640" y="1916280"/>
            <a:ext cx="257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3" name="WordArt 8"/>
          <p:cNvSpPr txBox="1"/>
          <p:nvPr/>
        </p:nvSpPr>
        <p:spPr>
          <a:xfrm>
            <a:off x="539640" y="2781360"/>
            <a:ext cx="314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4" name="WordArt 9" descr=""/>
          <p:cNvPicPr/>
          <p:nvPr/>
        </p:nvPicPr>
        <p:blipFill>
          <a:blip r:embed="rId2"/>
          <a:stretch/>
        </p:blipFill>
        <p:spPr>
          <a:xfrm>
            <a:off x="1176480" y="2914560"/>
            <a:ext cx="622440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Oval 21"/>
          <p:cNvSpPr/>
          <p:nvPr/>
        </p:nvSpPr>
        <p:spPr>
          <a:xfrm>
            <a:off x="4067280" y="2708280"/>
            <a:ext cx="1511280" cy="1368360"/>
          </a:xfrm>
          <a:prstGeom prst="ellipse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NGLI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Line 22"/>
          <p:cNvSpPr/>
          <p:nvPr/>
        </p:nvSpPr>
        <p:spPr>
          <a:xfrm flipH="1">
            <a:off x="4211640" y="400536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Line 24"/>
          <p:cNvSpPr/>
          <p:nvPr/>
        </p:nvSpPr>
        <p:spPr>
          <a:xfrm flipH="1">
            <a:off x="3492000" y="3429000"/>
            <a:ext cx="5749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Line 25"/>
          <p:cNvSpPr/>
          <p:nvPr/>
        </p:nvSpPr>
        <p:spPr>
          <a:xfrm flipH="1" flipV="1">
            <a:off x="4140000" y="2491920"/>
            <a:ext cx="215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Line 26"/>
          <p:cNvSpPr/>
          <p:nvPr/>
        </p:nvSpPr>
        <p:spPr>
          <a:xfrm flipV="1">
            <a:off x="5148360" y="2420640"/>
            <a:ext cx="1443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Line 28"/>
          <p:cNvSpPr/>
          <p:nvPr/>
        </p:nvSpPr>
        <p:spPr>
          <a:xfrm>
            <a:off x="5219640" y="4005360"/>
            <a:ext cx="3603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Oval 29"/>
          <p:cNvSpPr/>
          <p:nvPr/>
        </p:nvSpPr>
        <p:spPr>
          <a:xfrm>
            <a:off x="3203640" y="4437000"/>
            <a:ext cx="1439640" cy="1368360"/>
          </a:xfrm>
          <a:prstGeom prst="ellipse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To find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new frie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Oval 30"/>
          <p:cNvSpPr/>
          <p:nvPr/>
        </p:nvSpPr>
        <p:spPr>
          <a:xfrm>
            <a:off x="5148360" y="4221000"/>
            <a:ext cx="1655640" cy="1441440"/>
          </a:xfrm>
          <a:prstGeom prst="ellipse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To ear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a lot of mon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4716360" y="1052640"/>
            <a:ext cx="1656000" cy="1439640"/>
          </a:xfrm>
          <a:prstGeom prst="ellipse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To watch fil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in the origi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2916360" y="1268280"/>
            <a:ext cx="1512720" cy="1368720"/>
          </a:xfrm>
          <a:prstGeom prst="ellipse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To find a j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abro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1979640" y="2852640"/>
            <a:ext cx="1511280" cy="1368360"/>
          </a:xfrm>
          <a:prstGeom prst="ellipse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To travel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everywhe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in th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worl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Line 41"/>
          <p:cNvSpPr/>
          <p:nvPr/>
        </p:nvSpPr>
        <p:spPr>
          <a:xfrm>
            <a:off x="5580000" y="3357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Oval 42"/>
          <p:cNvSpPr/>
          <p:nvPr/>
        </p:nvSpPr>
        <p:spPr>
          <a:xfrm>
            <a:off x="5722920" y="2492280"/>
            <a:ext cx="1657440" cy="1584360"/>
          </a:xfrm>
          <a:prstGeom prst="ellipse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To go abro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on an exchan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program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8" name="Picture 22" descr="http://lh5.ggpht.com/-tEl2M45Rld0/Tj8BAhxDEXI/AAAAAAAAEO4/Zdi-hE1MY24/free-wallpaper-15_thumb%25255B3%25255D.jpg?imgmax=800"/>
          <p:cNvPicPr/>
          <p:nvPr/>
        </p:nvPicPr>
        <p:blipFill>
          <a:blip r:embed="rId1"/>
          <a:stretch/>
        </p:blipFill>
        <p:spPr>
          <a:xfrm>
            <a:off x="6854760" y="5180040"/>
            <a:ext cx="2197080" cy="16477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4" descr="http://cs11170.vk.com/u9266920/134596186/x_bb1c77c2.jpg"/>
          <p:cNvPicPr/>
          <p:nvPr/>
        </p:nvPicPr>
        <p:blipFill>
          <a:blip r:embed="rId2"/>
          <a:stretch/>
        </p:blipFill>
        <p:spPr>
          <a:xfrm>
            <a:off x="23760" y="2697120"/>
            <a:ext cx="1965240" cy="12636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6" descr="http://banana.by/uploads/posts/2009-05/1241522867_01.jpg"/>
          <p:cNvPicPr/>
          <p:nvPr/>
        </p:nvPicPr>
        <p:blipFill>
          <a:blip r:embed="rId3"/>
          <a:stretch/>
        </p:blipFill>
        <p:spPr>
          <a:xfrm>
            <a:off x="23760" y="0"/>
            <a:ext cx="2798640" cy="1863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8" descr="http://www.severinform.ru/media/img/13/346/800x600_72854_kafe-domik-net.jpg"/>
          <p:cNvPicPr/>
          <p:nvPr/>
        </p:nvPicPr>
        <p:blipFill>
          <a:blip r:embed="rId4"/>
          <a:stretch/>
        </p:blipFill>
        <p:spPr>
          <a:xfrm>
            <a:off x="54000" y="4545000"/>
            <a:ext cx="2978280" cy="2235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0" descr="http://img.mota.ru/upload/wallpapers/2011/03/07/09/05/24512/mota_ru_1030724-preview.jpg"/>
          <p:cNvPicPr/>
          <p:nvPr/>
        </p:nvPicPr>
        <p:blipFill>
          <a:blip r:embed="rId5"/>
          <a:stretch/>
        </p:blipFill>
        <p:spPr>
          <a:xfrm>
            <a:off x="6397560" y="42840"/>
            <a:ext cx="2689200" cy="2017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" descr="http://www.bigoutlook.ru/wp-content/uploads/2014/03/%D1%8F%D0%B7%D1%8B%D0%BA%D0%BE%D0%B2%D1%8B%D0%B5-%D0%BA%D1%83%D1%80%D1%81%D1%8B.jpg"/>
          <p:cNvPicPr/>
          <p:nvPr/>
        </p:nvPicPr>
        <p:blipFill>
          <a:blip r:embed="rId6"/>
          <a:stretch/>
        </p:blipFill>
        <p:spPr>
          <a:xfrm>
            <a:off x="7385040" y="2960640"/>
            <a:ext cx="17589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WordArt 4"/>
          <p:cNvSpPr txBox="1"/>
          <p:nvPr/>
        </p:nvSpPr>
        <p:spPr>
          <a:xfrm>
            <a:off x="3276720" y="404640"/>
            <a:ext cx="280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PLAN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5" name="WordArt 5" descr=""/>
          <p:cNvPicPr/>
          <p:nvPr/>
        </p:nvPicPr>
        <p:blipFill>
          <a:blip r:embed="rId1"/>
          <a:stretch/>
        </p:blipFill>
        <p:spPr>
          <a:xfrm>
            <a:off x="1176480" y="1981080"/>
            <a:ext cx="7834320" cy="615960"/>
          </a:xfrm>
          <a:prstGeom prst="rect">
            <a:avLst/>
          </a:prstGeom>
          <a:ln w="0">
            <a:noFill/>
          </a:ln>
        </p:spPr>
      </p:pic>
      <p:sp>
        <p:nvSpPr>
          <p:cNvPr id="366" name="WordArt 6"/>
          <p:cNvSpPr txBox="1"/>
          <p:nvPr/>
        </p:nvSpPr>
        <p:spPr>
          <a:xfrm>
            <a:off x="539640" y="1916280"/>
            <a:ext cx="257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7" name="WordArt 7"/>
          <p:cNvSpPr txBox="1"/>
          <p:nvPr/>
        </p:nvSpPr>
        <p:spPr>
          <a:xfrm>
            <a:off x="539640" y="2781360"/>
            <a:ext cx="314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8" name="WordArt 8" descr=""/>
          <p:cNvPicPr/>
          <p:nvPr/>
        </p:nvPicPr>
        <p:blipFill>
          <a:blip r:embed="rId2"/>
          <a:stretch/>
        </p:blipFill>
        <p:spPr>
          <a:xfrm>
            <a:off x="1176480" y="2914560"/>
            <a:ext cx="6224400" cy="567000"/>
          </a:xfrm>
          <a:prstGeom prst="rect">
            <a:avLst/>
          </a:prstGeom>
          <a:ln w="0">
            <a:noFill/>
          </a:ln>
        </p:spPr>
      </p:pic>
      <p:sp>
        <p:nvSpPr>
          <p:cNvPr id="369" name="WordArt 9"/>
          <p:cNvSpPr txBox="1"/>
          <p:nvPr/>
        </p:nvSpPr>
        <p:spPr>
          <a:xfrm>
            <a:off x="539640" y="3789360"/>
            <a:ext cx="324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0" name="WordArt 10" descr=""/>
          <p:cNvPicPr/>
          <p:nvPr/>
        </p:nvPicPr>
        <p:blipFill>
          <a:blip r:embed="rId3"/>
          <a:stretch/>
        </p:blipFill>
        <p:spPr>
          <a:xfrm>
            <a:off x="1176480" y="3852720"/>
            <a:ext cx="56023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http://go2.imgsmail.ru/imgpreview?key=8042c44da558364&amp;mb=imgdb_preview_1755"/>
          <p:cNvPicPr/>
          <p:nvPr/>
        </p:nvPicPr>
        <p:blipFill>
          <a:blip r:embed="rId1"/>
          <a:stretch/>
        </p:blipFill>
        <p:spPr>
          <a:xfrm>
            <a:off x="539640" y="692280"/>
            <a:ext cx="7962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611280" y="119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88c"/>
                </a:solidFill>
                <a:latin typeface="Century Gothic"/>
              </a:rPr>
              <a:t>isolation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[ais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ә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’lei∫n] –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the state of being alone or lonely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88c"/>
                </a:solidFill>
                <a:latin typeface="Century Gothic"/>
              </a:rPr>
              <a:t>up-to-dat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modern, fashionable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88c"/>
                </a:solidFill>
                <a:latin typeface="Century Gothic"/>
              </a:rPr>
              <a:t>averag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[‘æ</a:t>
            </a:r>
            <a:r>
              <a:rPr b="0" lang="el-GR" sz="2800" spc="-1" strike="noStrike">
                <a:solidFill>
                  <a:srgbClr val="ffffff"/>
                </a:solidFill>
                <a:latin typeface="Century Gothic"/>
              </a:rPr>
              <a:t>ν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ә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id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з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] –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ordinary, not special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88c"/>
                </a:solidFill>
                <a:latin typeface="Century Gothic"/>
              </a:rPr>
              <a:t>far more difficul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very difficult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88c"/>
                </a:solidFill>
                <a:latin typeface="Century Gothic"/>
              </a:rPr>
              <a:t>to get sth wrong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to make a mistake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357120" y="1052640"/>
            <a:ext cx="82868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Tahoma"/>
              </a:rPr>
              <a:t>What does Ann find the mos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Tahoma"/>
              </a:rPr>
              <a:t>difficult  in learning English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1843200" y="3645000"/>
            <a:ext cx="6608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Tahoma"/>
              </a:rPr>
              <a:t>What advice does Ann give t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88c"/>
                </a:solidFill>
                <a:latin typeface="Tahoma"/>
              </a:rPr>
              <a:t>people who are</a:t>
            </a:r>
            <a:r>
              <a:rPr b="0" lang="en-US" sz="3200" spc="-1" strike="noStrike">
                <a:solidFill>
                  <a:srgbClr val="ff388c"/>
                </a:solidFill>
                <a:latin typeface="Tahoma"/>
              </a:rPr>
              <a:t> just begin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88c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ff38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88c"/>
                </a:solidFill>
                <a:latin typeface="Tahoma"/>
              </a:rPr>
              <a:t>to learn Englis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539640" y="428760"/>
          <a:ext cx="8353440" cy="600372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17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</a:t>
                      </a:r>
                      <a:r>
                        <a:rPr b="1" lang="en-US" sz="40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TRU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en-US" sz="40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FAL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8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684360" y="71280"/>
          <a:ext cx="8070840" cy="6786720"/>
        </p:xfrm>
        <a:graphic>
          <a:graphicData uri="http://schemas.openxmlformats.org/drawingml/2006/table">
            <a:tbl>
              <a:tblPr/>
              <a:tblGrid>
                <a:gridCol w="4035240"/>
                <a:gridCol w="4035600"/>
              </a:tblGrid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</a:t>
                      </a:r>
                      <a:r>
                        <a:rPr b="1" lang="en-US" sz="40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TRU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en-US" sz="40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FALS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1.</a:t>
                      </a:r>
                      <a:r>
                        <a:rPr b="0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 Ann is planning to become an interpret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4.</a:t>
                      </a:r>
                      <a:r>
                        <a:rPr b="0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 The most difficult part of pronunciation is intonation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6.</a:t>
                      </a:r>
                      <a:r>
                        <a:rPr b="0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 Ann looks words up in the dictionary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8.</a:t>
                      </a:r>
                      <a:r>
                        <a:rPr b="0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 The most difficult feature of any language is learning the elements for which there are no written rule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 You don’t need to practice grammar together with vocabulary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3.</a:t>
                      </a:r>
                      <a:r>
                        <a:rPr b="0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 She has some problems learning words connected with her hobby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5.</a:t>
                      </a:r>
                      <a:r>
                        <a:rPr b="0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 It’s not important to learn both formal and informal English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7.</a:t>
                      </a:r>
                      <a:r>
                        <a:rPr b="0" lang="en-US" sz="2400" spc="-1" strike="noStrike">
                          <a:solidFill>
                            <a:srgbClr val="ff388c"/>
                          </a:solidFill>
                          <a:latin typeface="Tahoma"/>
                        </a:rPr>
                        <a:t> Listening to the news in English doesn’t help An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WordArt 6"/>
          <p:cNvSpPr txBox="1"/>
          <p:nvPr/>
        </p:nvSpPr>
        <p:spPr>
          <a:xfrm>
            <a:off x="1619280" y="333360"/>
            <a:ext cx="554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n thinks about: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130320" y="1628640"/>
            <a:ext cx="432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8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88c"/>
                </a:solidFill>
                <a:latin typeface="Tahoma"/>
              </a:rPr>
              <a:t>learning grammar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88c"/>
                </a:solidFill>
                <a:latin typeface="Tahoma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88c"/>
                </a:solidFill>
                <a:latin typeface="Tahoma"/>
              </a:rPr>
              <a:t>learning vocabulary (words and idioms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88c"/>
                </a:solidFill>
                <a:latin typeface="Tahoma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88c"/>
                </a:solidFill>
                <a:latin typeface="Tahoma"/>
              </a:rPr>
              <a:t>learning pronunciatio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88c"/>
                </a:solidFill>
                <a:latin typeface="Tahoma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88c"/>
                </a:solidFill>
                <a:latin typeface="Tahoma"/>
              </a:rPr>
              <a:t>readi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88c"/>
                </a:solidFill>
                <a:latin typeface="Tahoma"/>
              </a:rPr>
              <a:t>5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88c"/>
                </a:solidFill>
                <a:latin typeface="Tahoma"/>
              </a:rPr>
              <a:t>listening to pop music, the radio, watching videos and educational TV program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4483080" y="1628640"/>
            <a:ext cx="431964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388c"/>
                </a:solidFill>
                <a:latin typeface="Tahoma"/>
              </a:rPr>
              <a:t>You need to practice grammar together with vocabulary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388c"/>
                </a:solidFill>
                <a:latin typeface="Tahoma"/>
              </a:rPr>
              <a:t>It’s better to learn a few words at a time and practice them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388c"/>
                </a:solidFill>
                <a:latin typeface="Tahoma"/>
              </a:rPr>
              <a:t>It’s important to learn both formal and informal English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388c"/>
                </a:solidFill>
                <a:latin typeface="Tahoma"/>
              </a:rPr>
              <a:t>You need to look words up in the dictionary and make a note of the most useful one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388c"/>
                </a:solidFill>
                <a:latin typeface="Tahoma"/>
              </a:rPr>
              <a:t>You need to listen to them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6"/>
          <p:cNvSpPr txBox="1"/>
          <p:nvPr/>
        </p:nvSpPr>
        <p:spPr>
          <a:xfrm>
            <a:off x="3276720" y="404640"/>
            <a:ext cx="280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2c71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PLAN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2c71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4" name="WordArt 8" descr=""/>
          <p:cNvPicPr/>
          <p:nvPr/>
        </p:nvPicPr>
        <p:blipFill>
          <a:blip r:embed="rId1"/>
          <a:stretch/>
        </p:blipFill>
        <p:spPr>
          <a:xfrm>
            <a:off x="1176480" y="1981080"/>
            <a:ext cx="7834320" cy="615960"/>
          </a:xfrm>
          <a:prstGeom prst="rect">
            <a:avLst/>
          </a:prstGeom>
          <a:ln w="0">
            <a:noFill/>
          </a:ln>
        </p:spPr>
      </p:pic>
      <p:sp>
        <p:nvSpPr>
          <p:cNvPr id="305" name="WordArt 12"/>
          <p:cNvSpPr txBox="1"/>
          <p:nvPr/>
        </p:nvSpPr>
        <p:spPr>
          <a:xfrm>
            <a:off x="539640" y="4797360"/>
            <a:ext cx="314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WordArt 14"/>
          <p:cNvSpPr txBox="1"/>
          <p:nvPr/>
        </p:nvSpPr>
        <p:spPr>
          <a:xfrm>
            <a:off x="539640" y="1916280"/>
            <a:ext cx="257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WordArt 15"/>
          <p:cNvSpPr txBox="1"/>
          <p:nvPr/>
        </p:nvSpPr>
        <p:spPr>
          <a:xfrm>
            <a:off x="539640" y="2781360"/>
            <a:ext cx="314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WordArt 16"/>
          <p:cNvSpPr txBox="1"/>
          <p:nvPr/>
        </p:nvSpPr>
        <p:spPr>
          <a:xfrm>
            <a:off x="539640" y="3789360"/>
            <a:ext cx="324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9" name="WordArt 17" descr=""/>
          <p:cNvPicPr/>
          <p:nvPr/>
        </p:nvPicPr>
        <p:blipFill>
          <a:blip r:embed="rId2"/>
          <a:stretch/>
        </p:blipFill>
        <p:spPr>
          <a:xfrm>
            <a:off x="1176480" y="2914560"/>
            <a:ext cx="6224400" cy="567000"/>
          </a:xfrm>
          <a:prstGeom prst="rect">
            <a:avLst/>
          </a:prstGeom>
          <a:ln w="0">
            <a:noFill/>
          </a:ln>
        </p:spPr>
      </p:pic>
      <p:pic>
        <p:nvPicPr>
          <p:cNvPr id="310" name="WordArt 18" descr=""/>
          <p:cNvPicPr/>
          <p:nvPr/>
        </p:nvPicPr>
        <p:blipFill>
          <a:blip r:embed="rId3"/>
          <a:stretch/>
        </p:blipFill>
        <p:spPr>
          <a:xfrm>
            <a:off x="1176480" y="3852720"/>
            <a:ext cx="5602320" cy="622440"/>
          </a:xfrm>
          <a:prstGeom prst="rect">
            <a:avLst/>
          </a:prstGeom>
          <a:ln w="0">
            <a:noFill/>
          </a:ln>
        </p:spPr>
      </p:pic>
      <p:pic>
        <p:nvPicPr>
          <p:cNvPr id="311" name="WordArt 19" descr=""/>
          <p:cNvPicPr/>
          <p:nvPr/>
        </p:nvPicPr>
        <p:blipFill>
          <a:blip r:embed="rId4"/>
          <a:stretch/>
        </p:blipFill>
        <p:spPr>
          <a:xfrm>
            <a:off x="1109520" y="4857840"/>
            <a:ext cx="62485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826560" y="1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53520" indent="-30204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88c"/>
                </a:solidFill>
                <a:latin typeface="Century Gothic"/>
              </a:rPr>
              <a:t>You need to practice grammar together with vocabular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3520" indent="-30204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3520" indent="-30204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88c"/>
                </a:solidFill>
                <a:latin typeface="Century Gothic"/>
              </a:rPr>
              <a:t>It’s better to learn a few words at a time and practice the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3520" indent="-30204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3520" indent="-30204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88c"/>
                </a:solidFill>
                <a:latin typeface="Century Gothic"/>
              </a:rPr>
              <a:t>It’s important to learn both formal and informal Englis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3520" indent="-30204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3520" indent="-30204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88c"/>
                </a:solidFill>
                <a:latin typeface="Century Gothic"/>
              </a:rPr>
              <a:t>You need to look words up in the dictionary and make a note of the most useful on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3520" indent="-30204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3520" indent="-30204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88c"/>
                </a:solidFill>
                <a:latin typeface="Century Gothic"/>
              </a:rPr>
              <a:t>You need to listen to the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WordArt 4"/>
          <p:cNvSpPr txBox="1"/>
          <p:nvPr/>
        </p:nvSpPr>
        <p:spPr>
          <a:xfrm>
            <a:off x="3276720" y="404640"/>
            <a:ext cx="280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PLAN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2" name="WordArt 5" descr=""/>
          <p:cNvPicPr/>
          <p:nvPr/>
        </p:nvPicPr>
        <p:blipFill>
          <a:blip r:embed="rId1"/>
          <a:stretch/>
        </p:blipFill>
        <p:spPr>
          <a:xfrm>
            <a:off x="1176480" y="1981080"/>
            <a:ext cx="7834320" cy="615960"/>
          </a:xfrm>
          <a:prstGeom prst="rect">
            <a:avLst/>
          </a:prstGeom>
          <a:ln w="0">
            <a:noFill/>
          </a:ln>
        </p:spPr>
      </p:pic>
      <p:sp>
        <p:nvSpPr>
          <p:cNvPr id="383" name="WordArt 6"/>
          <p:cNvSpPr txBox="1"/>
          <p:nvPr/>
        </p:nvSpPr>
        <p:spPr>
          <a:xfrm>
            <a:off x="539640" y="4797360"/>
            <a:ext cx="314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4" name="WordArt 8"/>
          <p:cNvSpPr txBox="1"/>
          <p:nvPr/>
        </p:nvSpPr>
        <p:spPr>
          <a:xfrm>
            <a:off x="539640" y="1916280"/>
            <a:ext cx="257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WordArt 9"/>
          <p:cNvSpPr txBox="1"/>
          <p:nvPr/>
        </p:nvSpPr>
        <p:spPr>
          <a:xfrm>
            <a:off x="539640" y="2781360"/>
            <a:ext cx="314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WordArt 10"/>
          <p:cNvSpPr txBox="1"/>
          <p:nvPr/>
        </p:nvSpPr>
        <p:spPr>
          <a:xfrm>
            <a:off x="539640" y="3789360"/>
            <a:ext cx="324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7" name="WordArt 11" descr=""/>
          <p:cNvPicPr/>
          <p:nvPr/>
        </p:nvPicPr>
        <p:blipFill>
          <a:blip r:embed="rId2"/>
          <a:stretch/>
        </p:blipFill>
        <p:spPr>
          <a:xfrm>
            <a:off x="1176480" y="2914560"/>
            <a:ext cx="7759440" cy="567000"/>
          </a:xfrm>
          <a:prstGeom prst="rect">
            <a:avLst/>
          </a:prstGeom>
          <a:ln w="0">
            <a:noFill/>
          </a:ln>
        </p:spPr>
      </p:pic>
      <p:pic>
        <p:nvPicPr>
          <p:cNvPr id="388" name="WordArt 12" descr=""/>
          <p:cNvPicPr/>
          <p:nvPr/>
        </p:nvPicPr>
        <p:blipFill>
          <a:blip r:embed="rId3"/>
          <a:stretch/>
        </p:blipFill>
        <p:spPr>
          <a:xfrm>
            <a:off x="1176480" y="3852720"/>
            <a:ext cx="5602320" cy="622440"/>
          </a:xfrm>
          <a:prstGeom prst="rect">
            <a:avLst/>
          </a:prstGeom>
          <a:ln w="0">
            <a:noFill/>
          </a:ln>
        </p:spPr>
      </p:pic>
      <p:pic>
        <p:nvPicPr>
          <p:cNvPr id="389" name="WordArt 13" descr=""/>
          <p:cNvPicPr/>
          <p:nvPr/>
        </p:nvPicPr>
        <p:blipFill>
          <a:blip r:embed="rId4"/>
          <a:stretch/>
        </p:blipFill>
        <p:spPr>
          <a:xfrm>
            <a:off x="1116000" y="4857840"/>
            <a:ext cx="6242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WordArt 4"/>
          <p:cNvSpPr txBox="1"/>
          <p:nvPr/>
        </p:nvSpPr>
        <p:spPr>
          <a:xfrm>
            <a:off x="684360" y="549360"/>
            <a:ext cx="8028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glish is a way 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  better life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1" name="WordArt 5"/>
          <p:cNvSpPr txBox="1"/>
          <p:nvPr/>
        </p:nvSpPr>
        <p:spPr>
          <a:xfrm>
            <a:off x="4284720" y="4724280"/>
            <a:ext cx="3978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ames Thurber</a:t>
            </a:r>
            <a:endParaRPr b="0" i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2" name="Picture 4" descr="E:\фото\2012\цветы, растения, природа, места\жёлтый\5zBtwCJZUic.jpg"/>
          <p:cNvPicPr/>
          <p:nvPr/>
        </p:nvPicPr>
        <p:blipFill>
          <a:blip r:embed="rId1"/>
          <a:stretch/>
        </p:blipFill>
        <p:spPr>
          <a:xfrm>
            <a:off x="682560" y="3041640"/>
            <a:ext cx="280980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WordArt 4"/>
          <p:cNvSpPr txBox="1"/>
          <p:nvPr/>
        </p:nvSpPr>
        <p:spPr>
          <a:xfrm>
            <a:off x="2340000" y="1052640"/>
            <a:ext cx="410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me task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4" name="WordArt 5"/>
          <p:cNvSpPr txBox="1"/>
          <p:nvPr/>
        </p:nvSpPr>
        <p:spPr>
          <a:xfrm>
            <a:off x="243000" y="3146400"/>
            <a:ext cx="865800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rite an essay</a:t>
            </a:r>
            <a:endParaRPr b="0" i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i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The role of English in my life"</a:t>
            </a:r>
            <a:endParaRPr b="0" i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4"/>
          <p:cNvSpPr txBox="1"/>
          <p:nvPr/>
        </p:nvSpPr>
        <p:spPr>
          <a:xfrm>
            <a:off x="611280" y="2708280"/>
            <a:ext cx="511308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92d05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nk you 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92d05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92d05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r  the lesson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92d05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6" name="Picture 3" descr="E:\фото\2012\цветы, растения, природа, места\голубой\2_KksWckB7I.jpg"/>
          <p:cNvPicPr/>
          <p:nvPr/>
        </p:nvPicPr>
        <p:blipFill>
          <a:blip r:embed="rId1"/>
          <a:stretch/>
        </p:blipFill>
        <p:spPr>
          <a:xfrm>
            <a:off x="5540400" y="154080"/>
            <a:ext cx="299232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nglish VII –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УМК с углубленным изучением английского языка под редакцией О.В. Афанасьевой, 200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appy English.ru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УМК для 8 класса под редакцией К.И. Кауфман, 2008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 Excellence. Preparation for secondary school exams- Oxford, 2007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01760" y="1720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ttp://s50.radikal.ru/i127/1102/39/995a595edc85.jp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Прямоугольник 3"/>
          <p:cNvSpPr/>
          <p:nvPr/>
        </p:nvSpPr>
        <p:spPr>
          <a:xfrm>
            <a:off x="1100160" y="311940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s54.radikal.ru/i145/1102/f0/926b843f965c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Прямоугольник 4"/>
          <p:cNvSpPr/>
          <p:nvPr/>
        </p:nvSpPr>
        <p:spPr>
          <a:xfrm>
            <a:off x="1068480" y="382284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i028.radikal.ru/1102/e7/8161b9a69c1b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Прямоугольник 5"/>
          <p:cNvSpPr/>
          <p:nvPr/>
        </p:nvSpPr>
        <p:spPr>
          <a:xfrm>
            <a:off x="1085760" y="4398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s59.radikal.ru/i165/1102/6c/61d613b6960a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Прямоугольник 7"/>
          <p:cNvSpPr/>
          <p:nvPr/>
        </p:nvSpPr>
        <p:spPr>
          <a:xfrm>
            <a:off x="1047600" y="485784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s51.radikal.ru/i133/1102/e6/5320a0fe28f7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8" descr="рис7"/>
          <p:cNvPicPr/>
          <p:nvPr/>
        </p:nvPicPr>
        <p:blipFill>
          <a:blip r:embed="rId1"/>
          <a:stretch/>
        </p:blipFill>
        <p:spPr>
          <a:xfrm>
            <a:off x="684360" y="0"/>
            <a:ext cx="2984400" cy="3860640"/>
          </a:xfrm>
          <a:prstGeom prst="rect">
            <a:avLst/>
          </a:prstGeom>
          <a:ln w="0">
            <a:noFill/>
          </a:ln>
        </p:spPr>
      </p:pic>
      <p:sp>
        <p:nvSpPr>
          <p:cNvPr id="313" name="WordArt 11"/>
          <p:cNvSpPr txBox="1"/>
          <p:nvPr/>
        </p:nvSpPr>
        <p:spPr>
          <a:xfrm rot="5400000">
            <a:off x="-3037320" y="3036960"/>
            <a:ext cx="6597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Means of communications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314" name="Picture 9" descr="http://img-fotki.yandex.ru/get/5004/marina-omichka.5/0_51ee1_52fd82c3_L.jpg"/>
          <p:cNvPicPr/>
          <p:nvPr/>
        </p:nvPicPr>
        <p:blipFill>
          <a:blip r:embed="rId2"/>
          <a:stretch/>
        </p:blipFill>
        <p:spPr>
          <a:xfrm>
            <a:off x="5546880" y="4354560"/>
            <a:ext cx="3377880" cy="227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ttp://www.sostrad.ru/images/get_img.jpeg"/>
          <p:cNvPicPr/>
          <p:nvPr/>
        </p:nvPicPr>
        <p:blipFill>
          <a:blip r:embed="rId3"/>
          <a:stretch/>
        </p:blipFill>
        <p:spPr>
          <a:xfrm>
            <a:off x="684360" y="4254480"/>
            <a:ext cx="3168360" cy="23763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3" descr="http://ppk.sstu.ru/sites/default/files/Otdelen/IT/PKS/73618747_3801119_86479_28.jpg"/>
          <p:cNvPicPr/>
          <p:nvPr/>
        </p:nvPicPr>
        <p:blipFill>
          <a:blip r:embed="rId4"/>
          <a:stretch/>
        </p:blipFill>
        <p:spPr>
          <a:xfrm>
            <a:off x="4716360" y="33480"/>
            <a:ext cx="4314960" cy="3265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http://www.dk-spb.ru/img_content/bookfamily.jpg"/>
          <p:cNvPicPr/>
          <p:nvPr/>
        </p:nvPicPr>
        <p:blipFill>
          <a:blip r:embed="rId5"/>
          <a:stretch/>
        </p:blipFill>
        <p:spPr>
          <a:xfrm>
            <a:off x="2703600" y="2421000"/>
            <a:ext cx="3706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10"/>
          <p:cNvSpPr/>
          <p:nvPr/>
        </p:nvSpPr>
        <p:spPr>
          <a:xfrm>
            <a:off x="1332000" y="3213000"/>
            <a:ext cx="5976720" cy="3355920"/>
          </a:xfrm>
          <a:prstGeom prst="flowChartDecision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66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6666"/>
                </a:solidFill>
                <a:latin typeface="Tahoma"/>
              </a:rPr>
              <a:t>to chat on the Intern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66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6666"/>
                </a:solidFill>
                <a:latin typeface="Tahoma"/>
              </a:rPr>
              <a:t>to get new inform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66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6666"/>
                </a:solidFill>
                <a:latin typeface="Tahoma"/>
              </a:rPr>
              <a:t>to have an English-speaking pen-fri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66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6666"/>
                </a:solidFill>
                <a:latin typeface="Tahoma"/>
              </a:rPr>
              <a:t>to watch vide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AutoShape 11"/>
          <p:cNvSpPr/>
          <p:nvPr/>
        </p:nvSpPr>
        <p:spPr>
          <a:xfrm rot="10800000">
            <a:off x="2626920" y="1773000"/>
            <a:ext cx="1081080" cy="1368360"/>
          </a:xfrm>
          <a:custGeom>
            <a:avLst/>
            <a:gdLst>
              <a:gd name="textAreaLeft" fmla="*/ 0 w 1081080"/>
              <a:gd name="textAreaRight" fmla="*/ 926640 w 1081080"/>
              <a:gd name="textAreaTop" fmla="*/ 91224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0" name="Picture 6" descr="http://istrasvvt.narod.ru/img/img/PC.jpg"/>
          <p:cNvPicPr/>
          <p:nvPr/>
        </p:nvPicPr>
        <p:blipFill>
          <a:blip r:embed="rId1"/>
          <a:stretch/>
        </p:blipFill>
        <p:spPr>
          <a:xfrm>
            <a:off x="4788000" y="179280"/>
            <a:ext cx="42480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7"/>
          <p:cNvSpPr/>
          <p:nvPr/>
        </p:nvSpPr>
        <p:spPr>
          <a:xfrm>
            <a:off x="755640" y="3213000"/>
            <a:ext cx="1079640" cy="252108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441000 h 2521080"/>
              <a:gd name="textAreaBottom" fmla="*/ 182772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AutoShape 8"/>
          <p:cNvSpPr/>
          <p:nvPr/>
        </p:nvSpPr>
        <p:spPr>
          <a:xfrm>
            <a:off x="7451640" y="3213000"/>
            <a:ext cx="1152720" cy="2521080"/>
          </a:xfrm>
          <a:custGeom>
            <a:avLst/>
            <a:gdLst>
              <a:gd name="textAreaLeft" fmla="*/ 154440 w 1152720"/>
              <a:gd name="textAreaRight" fmla="*/ 998280 w 1152720"/>
              <a:gd name="textAreaTop" fmla="*/ 441000 h 2521080"/>
              <a:gd name="textAreaBottom" fmla="*/ 182772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AutoShape 9"/>
          <p:cNvSpPr/>
          <p:nvPr/>
        </p:nvSpPr>
        <p:spPr>
          <a:xfrm>
            <a:off x="2627280" y="3860640"/>
            <a:ext cx="4392720" cy="2448000"/>
          </a:xfrm>
          <a:prstGeom prst="octagon">
            <a:avLst>
              <a:gd name="adj" fmla="val 29287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66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To phone my friends and par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66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To send messag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66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Tahoma"/>
              </a:rPr>
              <a:t>To listen to mus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4" name="Picture 7" descr="http://proxy10.media.online.ua/uol/r3-25109e673d/522265e3aabe0.jpg"/>
          <p:cNvPicPr/>
          <p:nvPr/>
        </p:nvPicPr>
        <p:blipFill>
          <a:blip r:embed="rId1"/>
          <a:stretch/>
        </p:blipFill>
        <p:spPr>
          <a:xfrm>
            <a:off x="2843280" y="374760"/>
            <a:ext cx="372564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4"/>
          <p:cNvSpPr txBox="1"/>
          <p:nvPr/>
        </p:nvSpPr>
        <p:spPr>
          <a:xfrm>
            <a:off x="0" y="836640"/>
            <a:ext cx="9144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was the first 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eans of communication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WordArt 8"/>
          <p:cNvSpPr txBox="1"/>
          <p:nvPr/>
        </p:nvSpPr>
        <p:spPr>
          <a:xfrm>
            <a:off x="3421080" y="2924280"/>
            <a:ext cx="2305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6"/>
          <p:cNvSpPr/>
          <p:nvPr/>
        </p:nvSpPr>
        <p:spPr>
          <a:xfrm rot="503400">
            <a:off x="3795840" y="135000"/>
            <a:ext cx="4389480" cy="2519280"/>
          </a:xfrm>
          <a:prstGeom prst="wedgeEllipseCallout">
            <a:avLst>
              <a:gd name="adj1" fmla="val -2939"/>
              <a:gd name="adj2" fmla="val 78296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8" name="Picture 5" descr="http://img-fotki.yandex.ru/get/6204/46980979.41/0_96ea3_b6b8ee6d_orig"/>
          <p:cNvPicPr/>
          <p:nvPr/>
        </p:nvPicPr>
        <p:blipFill>
          <a:blip r:embed="rId1"/>
          <a:stretch/>
        </p:blipFill>
        <p:spPr>
          <a:xfrm>
            <a:off x="1908000" y="3435480"/>
            <a:ext cx="5143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4"/>
          <p:cNvSpPr txBox="1"/>
          <p:nvPr/>
        </p:nvSpPr>
        <p:spPr>
          <a:xfrm>
            <a:off x="3276720" y="404640"/>
            <a:ext cx="280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PLAN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30" name="WordArt 5" descr=""/>
          <p:cNvPicPr/>
          <p:nvPr/>
        </p:nvPicPr>
        <p:blipFill>
          <a:blip r:embed="rId1"/>
          <a:stretch/>
        </p:blipFill>
        <p:spPr>
          <a:xfrm>
            <a:off x="1176480" y="1981080"/>
            <a:ext cx="7834320" cy="615960"/>
          </a:xfrm>
          <a:prstGeom prst="rect">
            <a:avLst/>
          </a:prstGeom>
          <a:ln w="0">
            <a:noFill/>
          </a:ln>
        </p:spPr>
      </p:pic>
      <p:sp>
        <p:nvSpPr>
          <p:cNvPr id="331" name="WordArt 8"/>
          <p:cNvSpPr txBox="1"/>
          <p:nvPr/>
        </p:nvSpPr>
        <p:spPr>
          <a:xfrm>
            <a:off x="539640" y="1916280"/>
            <a:ext cx="257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WordArt 15"/>
          <p:cNvSpPr txBox="1"/>
          <p:nvPr/>
        </p:nvSpPr>
        <p:spPr>
          <a:xfrm>
            <a:off x="3276720" y="404640"/>
            <a:ext cx="280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PLAN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3" name="WordArt 17"/>
          <p:cNvSpPr txBox="1"/>
          <p:nvPr/>
        </p:nvSpPr>
        <p:spPr>
          <a:xfrm>
            <a:off x="539640" y="1916280"/>
            <a:ext cx="257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рис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0:56:45Z</dcterms:created>
  <dc:creator>Юля</dc:creator>
  <dc:description/>
  <dc:language>en-US</dc:language>
  <cp:lastModifiedBy>Admin</cp:lastModifiedBy>
  <cp:lastPrinted>2012-12-04T16:15:55Z</cp:lastPrinted>
  <dcterms:modified xsi:type="dcterms:W3CDTF">2015-04-29T12:43:22Z</dcterms:modified>
  <cp:revision>36</cp:revision>
  <dc:subject/>
  <dc:title>Слайд 1</dc:title>
</cp:coreProperties>
</file>