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CE8E-0704-4F8F-B7DB-6FD58672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17F-B7D6-4ED1-AB09-BFF34BE0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8D8E-C1DD-44C0-96DA-A467736B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F571-0839-4E32-9F48-F8873FB9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980D-A7CF-4AA1-B2F5-82CCBBA3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40EE-1D5A-48D6-B44D-9ADF050E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5103-305A-44BE-AAEA-D20953B4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CFA2-EA65-42F7-9ACB-05E9C0F9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CECB-C536-440E-987C-FE1CE952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E263-CD82-4517-B814-B82B47F4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3789-19AE-44A8-947A-B06C189B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DD8E-DB50-440C-B8AA-FEFA9897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E9C6-B5E3-41DE-BC65-0E927ACA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F5C6-3DE3-4F6E-B0CC-C8EF97C6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F22A-D217-4427-BC16-D998D34C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433F-22D4-4269-B6A8-FF318867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A92B-A561-4188-90D2-8EB48A99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CC289-A881-47C9-8DB3-FCDD887D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895AB-44A4-4188-B8A1-FFD8D8D2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11186-4684-4D1C-AAD1-BE78C46B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678AB-5DC0-43D4-B237-A73B98D1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9B494-83BE-40FA-9FA3-C32CEE1C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7FDD-8170-4FBF-B8B2-B72ED1DD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7D505-4109-4FDD-AF34-DB64B921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E9F09-9BBF-4DEC-9D25-FA264D44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3AB5E-A43E-4558-A902-4E097EF8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A1202-CC7D-4EB9-93E5-F1FCAF0F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E2604-F282-4AFE-8FB2-7B7F4F08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CD31E-039A-4EA0-A890-63FFB2D6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29700-1B90-486C-BC4D-90226663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01DAC-0521-42F1-AC73-AC4825D8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13072-3B91-4D54-9525-85B2D2A6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B9434-AC7A-421E-901D-E47097CF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4594-06BC-4111-9479-99E93DE4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FA52F-AEB6-4A02-9699-8B877620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89EAB-B29D-400D-91BB-79F72B4B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60284-3512-4E49-A502-4447DF5F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99196-8A6D-43B7-A778-B1EB46B7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668DD-23DD-4DEE-9E20-94B4A35F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4DC2D-FB2C-467E-88C7-386256C8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F98CE-1D77-440F-B7EE-E2AFA086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5016D-5576-4B38-A28B-8C515278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EF45F-305C-4C60-ABAD-1CDCCB9F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1FA37-2413-43F0-B4A4-0BB33C95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2D11-B369-415E-A83C-26BE41D9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EE9DF-7258-4B7D-9630-BABD9AB6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7BFD9-713D-4A58-B2C9-5827C1E3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A8209-00CE-45CC-A615-846E985C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B44C2-B693-4C5A-83EB-28C7E75B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EF273-DCDA-44AD-809E-95026C8D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A4C85-E1EA-4DD3-81A0-E8980D70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866DD-6706-4445-9025-80A2C808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25E2F-3966-4AD1-A5C4-C3F50973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C2284-C8C4-4B81-887C-12FD477B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45B6C-BDFA-4712-AB30-86ADC82C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8B45-77C6-472B-B44E-5476B109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E3244-08D5-4B00-BEE6-FDF7EFF3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1E1D5-48F9-4D5D-97C1-D71774F1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8D2C2-DED8-435F-914E-4556BA13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577DB-5149-47BA-A8C1-A720A6AE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AF6C3-A929-4434-87D0-5704F880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C22DB-BD5D-44B4-A200-519B1094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D8441-D18A-423E-AD0C-76A63AD8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FB739-E50E-4D8A-A570-4589EA6E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CAD30-6868-4D4A-A750-D21EF710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0E712-CF01-47BC-B617-4FEC8A4B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B40F-2651-46A0-B057-A5EFC77A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7C1AF-EEC5-43D7-B780-D837923C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51E12-7C0A-433D-B95C-CF178593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46215-2D3B-43E4-B907-D8648F9E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D8480-1DC7-474B-98A0-2C0CBE7A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BA3F1-8749-4586-898C-E1C842B7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91A9F-D25A-409D-B9EC-CC167CE0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6AC74-D075-45D0-A0A8-3D33B8A4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A5B77-EBED-4282-BBA3-2EBC60DB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09418-D355-4E14-883D-8E563147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EF956-DC43-40B6-93A6-AF304DC7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6D31-A642-495D-B99E-8BA57579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C09F1-6AA0-4E2F-A907-497E540B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72D06-CB2A-45CA-BFBA-7B1C2593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B4897-B237-4A39-A2A5-D205F81F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C343E-FD3D-4132-BBFB-9CCBCFF4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9C53F-CD62-401F-9781-A936429E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BE1B-F2DC-4AE1-90F9-032A1F6B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E82C-6D23-4DDD-BF4E-885D78BCC7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FA1D-05E3-4AF0-BF20-3F077AB36176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3E47-0007-4816-96C5-AEFC26D073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A186-0DF8-4B72-BFE6-2AF178796CA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6CBA-C7CD-4E56-AE43-5D0B58E438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DBE7-2933-4D88-9815-239CEBC59C34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1435-BCC3-47BE-AF1E-9EDCC498D644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WordArt 9"/>
          <p:cNvSpPr txBox="1"/>
          <p:nvPr/>
        </p:nvSpPr>
        <p:spPr>
          <a:xfrm>
            <a:off x="826920" y="2133720"/>
            <a:ext cx="77058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English Language</a:t>
            </a:r>
            <a:endParaRPr b="0" lang="en-US" sz="2400" spc="1" strike="noStrike">
              <a:ln w="9360">
                <a:solidFill>
                  <a:srgbClr val="00ffff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in People’s Life</a:t>
            </a:r>
            <a:endParaRPr b="0" lang="en-US" sz="2400" spc="1" strike="noStrike">
              <a:ln w="9360">
                <a:solidFill>
                  <a:srgbClr val="00ffff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  <p:sp>
        <p:nvSpPr>
          <p:cNvPr id="302" name="TextBox 2"/>
          <p:cNvSpPr/>
          <p:nvPr/>
        </p:nvSpPr>
        <p:spPr>
          <a:xfrm>
            <a:off x="623520" y="5000760"/>
            <a:ext cx="347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тяшова Елена Никола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английского язы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БОУ «СОШ-ДС № 15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 Симферопо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рис8"/>
          <p:cNvPicPr/>
          <p:nvPr/>
        </p:nvPicPr>
        <p:blipFill>
          <a:blip r:embed="rId1"/>
          <a:stretch/>
        </p:blipFill>
        <p:spPr>
          <a:xfrm>
            <a:off x="2484360" y="1916280"/>
            <a:ext cx="4392720" cy="314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593640" y="404640"/>
            <a:ext cx="87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88c"/>
                </a:solidFill>
                <a:latin typeface="Tahoma"/>
              </a:rPr>
              <a:t>60% of all international telephones calls are made in Engli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-213120" y="1197000"/>
            <a:ext cx="89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88c"/>
                </a:solidFill>
                <a:latin typeface="Tahoma"/>
              </a:rPr>
              <a:t>More than 60% of all scientific journals are written in Englis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1995480" y="6018120"/>
            <a:ext cx="67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88c"/>
                </a:solidFill>
                <a:latin typeface="Tahoma"/>
              </a:rPr>
              <a:t>75% of world’s letters and faxes are in Englis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256320" y="5226120"/>
            <a:ext cx="86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88c"/>
                </a:solidFill>
                <a:latin typeface="Tahoma"/>
              </a:rPr>
              <a:t>80% of all information in the world’s computer is in Englis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WordArt 5"/>
          <p:cNvSpPr txBox="1"/>
          <p:nvPr/>
        </p:nvSpPr>
        <p:spPr>
          <a:xfrm>
            <a:off x="3276720" y="404640"/>
            <a:ext cx="280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PLAN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41" name="WordArt 6" descr=""/>
          <p:cNvPicPr/>
          <p:nvPr/>
        </p:nvPicPr>
        <p:blipFill>
          <a:blip r:embed="rId1"/>
          <a:stretch/>
        </p:blipFill>
        <p:spPr>
          <a:xfrm>
            <a:off x="1176480" y="1981080"/>
            <a:ext cx="7834320" cy="615960"/>
          </a:xfrm>
          <a:prstGeom prst="rect">
            <a:avLst/>
          </a:prstGeom>
          <a:ln w="0">
            <a:noFill/>
          </a:ln>
        </p:spPr>
      </p:pic>
      <p:sp>
        <p:nvSpPr>
          <p:cNvPr id="342" name="WordArt 7"/>
          <p:cNvSpPr txBox="1"/>
          <p:nvPr/>
        </p:nvSpPr>
        <p:spPr>
          <a:xfrm>
            <a:off x="539640" y="1916280"/>
            <a:ext cx="257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3" name="WordArt 8"/>
          <p:cNvSpPr txBox="1"/>
          <p:nvPr/>
        </p:nvSpPr>
        <p:spPr>
          <a:xfrm>
            <a:off x="539640" y="2781360"/>
            <a:ext cx="314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4" name="WordArt 9" descr=""/>
          <p:cNvPicPr/>
          <p:nvPr/>
        </p:nvPicPr>
        <p:blipFill>
          <a:blip r:embed="rId2"/>
          <a:stretch/>
        </p:blipFill>
        <p:spPr>
          <a:xfrm>
            <a:off x="1176480" y="2914560"/>
            <a:ext cx="622440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Oval 21"/>
          <p:cNvSpPr/>
          <p:nvPr/>
        </p:nvSpPr>
        <p:spPr>
          <a:xfrm>
            <a:off x="4067280" y="2708280"/>
            <a:ext cx="1511280" cy="1368360"/>
          </a:xfrm>
          <a:prstGeom prst="ellipse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NGLI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Line 22"/>
          <p:cNvSpPr/>
          <p:nvPr/>
        </p:nvSpPr>
        <p:spPr>
          <a:xfrm flipH="1">
            <a:off x="4211640" y="400536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Line 24"/>
          <p:cNvSpPr/>
          <p:nvPr/>
        </p:nvSpPr>
        <p:spPr>
          <a:xfrm flipH="1">
            <a:off x="3492000" y="3429000"/>
            <a:ext cx="57492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Line 25"/>
          <p:cNvSpPr/>
          <p:nvPr/>
        </p:nvSpPr>
        <p:spPr>
          <a:xfrm flipH="1" flipV="1">
            <a:off x="4140000" y="2491920"/>
            <a:ext cx="2156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Line 26"/>
          <p:cNvSpPr/>
          <p:nvPr/>
        </p:nvSpPr>
        <p:spPr>
          <a:xfrm flipV="1">
            <a:off x="5148360" y="2420640"/>
            <a:ext cx="1443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Line 28"/>
          <p:cNvSpPr/>
          <p:nvPr/>
        </p:nvSpPr>
        <p:spPr>
          <a:xfrm>
            <a:off x="5219640" y="4005360"/>
            <a:ext cx="3603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Oval 29"/>
          <p:cNvSpPr/>
          <p:nvPr/>
        </p:nvSpPr>
        <p:spPr>
          <a:xfrm>
            <a:off x="3203640" y="4437000"/>
            <a:ext cx="1439640" cy="1368360"/>
          </a:xfrm>
          <a:prstGeom prst="ellipse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To find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new frien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Oval 30"/>
          <p:cNvSpPr/>
          <p:nvPr/>
        </p:nvSpPr>
        <p:spPr>
          <a:xfrm>
            <a:off x="5148360" y="4221000"/>
            <a:ext cx="1655640" cy="1441440"/>
          </a:xfrm>
          <a:prstGeom prst="ellipse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To ear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a lot of mon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Oval 32"/>
          <p:cNvSpPr/>
          <p:nvPr/>
        </p:nvSpPr>
        <p:spPr>
          <a:xfrm>
            <a:off x="4716360" y="1052640"/>
            <a:ext cx="1656000" cy="1439640"/>
          </a:xfrm>
          <a:prstGeom prst="ellipse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To watch fil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in the origi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Oval 33"/>
          <p:cNvSpPr/>
          <p:nvPr/>
        </p:nvSpPr>
        <p:spPr>
          <a:xfrm>
            <a:off x="2916360" y="1268280"/>
            <a:ext cx="1512720" cy="1368720"/>
          </a:xfrm>
          <a:prstGeom prst="ellipse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To find a j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abro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Oval 34"/>
          <p:cNvSpPr/>
          <p:nvPr/>
        </p:nvSpPr>
        <p:spPr>
          <a:xfrm>
            <a:off x="1979640" y="2852640"/>
            <a:ext cx="1511280" cy="1368360"/>
          </a:xfrm>
          <a:prstGeom prst="ellipse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To travel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everywhe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in th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worl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Line 41"/>
          <p:cNvSpPr/>
          <p:nvPr/>
        </p:nvSpPr>
        <p:spPr>
          <a:xfrm>
            <a:off x="5580000" y="3357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Oval 42"/>
          <p:cNvSpPr/>
          <p:nvPr/>
        </p:nvSpPr>
        <p:spPr>
          <a:xfrm>
            <a:off x="5722920" y="2492280"/>
            <a:ext cx="1657440" cy="1584360"/>
          </a:xfrm>
          <a:prstGeom prst="ellipse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To go abro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on an exchan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program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8" name="Picture 22" descr="http://lh5.ggpht.com/-tEl2M45Rld0/Tj8BAhxDEXI/AAAAAAAAEO4/Zdi-hE1MY24/free-wallpaper-15_thumb%25255B3%25255D.jpg?imgmax=800"/>
          <p:cNvPicPr/>
          <p:nvPr/>
        </p:nvPicPr>
        <p:blipFill>
          <a:blip r:embed="rId1"/>
          <a:stretch/>
        </p:blipFill>
        <p:spPr>
          <a:xfrm>
            <a:off x="6854760" y="5180040"/>
            <a:ext cx="2197080" cy="16477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4" descr="http://cs11170.vk.com/u9266920/134596186/x_bb1c77c2.jpg"/>
          <p:cNvPicPr/>
          <p:nvPr/>
        </p:nvPicPr>
        <p:blipFill>
          <a:blip r:embed="rId2"/>
          <a:stretch/>
        </p:blipFill>
        <p:spPr>
          <a:xfrm>
            <a:off x="23760" y="2697120"/>
            <a:ext cx="1965240" cy="12636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6" descr="http://banana.by/uploads/posts/2009-05/1241522867_01.jpg"/>
          <p:cNvPicPr/>
          <p:nvPr/>
        </p:nvPicPr>
        <p:blipFill>
          <a:blip r:embed="rId3"/>
          <a:stretch/>
        </p:blipFill>
        <p:spPr>
          <a:xfrm>
            <a:off x="23760" y="0"/>
            <a:ext cx="2798640" cy="1863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8" descr="http://www.severinform.ru/media/img/13/346/800x600_72854_kafe-domik-net.jpg"/>
          <p:cNvPicPr/>
          <p:nvPr/>
        </p:nvPicPr>
        <p:blipFill>
          <a:blip r:embed="rId4"/>
          <a:stretch/>
        </p:blipFill>
        <p:spPr>
          <a:xfrm>
            <a:off x="54000" y="4545000"/>
            <a:ext cx="2978280" cy="2235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0" descr="http://img.mota.ru/upload/wallpapers/2011/03/07/09/05/24512/mota_ru_1030724-preview.jpg"/>
          <p:cNvPicPr/>
          <p:nvPr/>
        </p:nvPicPr>
        <p:blipFill>
          <a:blip r:embed="rId5"/>
          <a:stretch/>
        </p:blipFill>
        <p:spPr>
          <a:xfrm>
            <a:off x="6397560" y="42840"/>
            <a:ext cx="2689200" cy="20178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2" descr="http://www.bigoutlook.ru/wp-content/uploads/2014/03/%D1%8F%D0%B7%D1%8B%D0%BA%D0%BE%D0%B2%D1%8B%D0%B5-%D0%BA%D1%83%D1%80%D1%81%D1%8B.jpg"/>
          <p:cNvPicPr/>
          <p:nvPr/>
        </p:nvPicPr>
        <p:blipFill>
          <a:blip r:embed="rId6"/>
          <a:stretch/>
        </p:blipFill>
        <p:spPr>
          <a:xfrm>
            <a:off x="7385040" y="2960640"/>
            <a:ext cx="17589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WordArt 4"/>
          <p:cNvSpPr txBox="1"/>
          <p:nvPr/>
        </p:nvSpPr>
        <p:spPr>
          <a:xfrm>
            <a:off x="3276720" y="404640"/>
            <a:ext cx="280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PLAN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65" name="WordArt 5" descr=""/>
          <p:cNvPicPr/>
          <p:nvPr/>
        </p:nvPicPr>
        <p:blipFill>
          <a:blip r:embed="rId1"/>
          <a:stretch/>
        </p:blipFill>
        <p:spPr>
          <a:xfrm>
            <a:off x="1176480" y="1981080"/>
            <a:ext cx="7834320" cy="615960"/>
          </a:xfrm>
          <a:prstGeom prst="rect">
            <a:avLst/>
          </a:prstGeom>
          <a:ln w="0">
            <a:noFill/>
          </a:ln>
        </p:spPr>
      </p:pic>
      <p:sp>
        <p:nvSpPr>
          <p:cNvPr id="366" name="WordArt 6"/>
          <p:cNvSpPr txBox="1"/>
          <p:nvPr/>
        </p:nvSpPr>
        <p:spPr>
          <a:xfrm>
            <a:off x="539640" y="1916280"/>
            <a:ext cx="257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7" name="WordArt 7"/>
          <p:cNvSpPr txBox="1"/>
          <p:nvPr/>
        </p:nvSpPr>
        <p:spPr>
          <a:xfrm>
            <a:off x="539640" y="2781360"/>
            <a:ext cx="314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8" name="WordArt 8" descr=""/>
          <p:cNvPicPr/>
          <p:nvPr/>
        </p:nvPicPr>
        <p:blipFill>
          <a:blip r:embed="rId2"/>
          <a:stretch/>
        </p:blipFill>
        <p:spPr>
          <a:xfrm>
            <a:off x="1176480" y="2914560"/>
            <a:ext cx="6224400" cy="567000"/>
          </a:xfrm>
          <a:prstGeom prst="rect">
            <a:avLst/>
          </a:prstGeom>
          <a:ln w="0">
            <a:noFill/>
          </a:ln>
        </p:spPr>
      </p:pic>
      <p:sp>
        <p:nvSpPr>
          <p:cNvPr id="369" name="WordArt 9"/>
          <p:cNvSpPr txBox="1"/>
          <p:nvPr/>
        </p:nvSpPr>
        <p:spPr>
          <a:xfrm>
            <a:off x="539640" y="3789360"/>
            <a:ext cx="324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0" name="WordArt 10" descr=""/>
          <p:cNvPicPr/>
          <p:nvPr/>
        </p:nvPicPr>
        <p:blipFill>
          <a:blip r:embed="rId3"/>
          <a:stretch/>
        </p:blipFill>
        <p:spPr>
          <a:xfrm>
            <a:off x="1176480" y="3852720"/>
            <a:ext cx="56023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http://go2.imgsmail.ru/imgpreview?key=8042c44da558364&amp;mb=imgdb_preview_1755"/>
          <p:cNvPicPr/>
          <p:nvPr/>
        </p:nvPicPr>
        <p:blipFill>
          <a:blip r:embed="rId1"/>
          <a:stretch/>
        </p:blipFill>
        <p:spPr>
          <a:xfrm>
            <a:off x="539640" y="692280"/>
            <a:ext cx="7962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611280" y="119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88c"/>
                </a:solidFill>
                <a:latin typeface="Century Gothic"/>
              </a:rPr>
              <a:t>isolation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[ais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ә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’lei∫n] –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the state of being alone or lonely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88c"/>
                </a:solidFill>
                <a:latin typeface="Century Gothic"/>
              </a:rPr>
              <a:t>up-to-dat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modern, fashionable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88c"/>
                </a:solidFill>
                <a:latin typeface="Century Gothic"/>
              </a:rPr>
              <a:t>averag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[‘æ</a:t>
            </a:r>
            <a:r>
              <a:rPr b="0" lang="el-GR" sz="2800" spc="-1" strike="noStrike">
                <a:solidFill>
                  <a:srgbClr val="ffffff"/>
                </a:solidFill>
                <a:latin typeface="Century Gothic"/>
              </a:rPr>
              <a:t>ν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ә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id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з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] –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ordinary, not special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88c"/>
                </a:solidFill>
                <a:latin typeface="Century Gothic"/>
              </a:rPr>
              <a:t>far more difficult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very difficult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88c"/>
                </a:solidFill>
                <a:latin typeface="Century Gothic"/>
              </a:rPr>
              <a:t>to get sth wrong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to make a mistake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4"/>
          <p:cNvSpPr/>
          <p:nvPr/>
        </p:nvSpPr>
        <p:spPr>
          <a:xfrm>
            <a:off x="357120" y="1052640"/>
            <a:ext cx="82868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Tahoma"/>
              </a:rPr>
              <a:t>What does Ann find the mos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Tahoma"/>
              </a:rPr>
              <a:t>difficult  in learning English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1843200" y="3645000"/>
            <a:ext cx="66088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Tahoma"/>
              </a:rPr>
              <a:t>What advice does Ann give t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Tahoma"/>
              </a:rPr>
              <a:t>people who are</a:t>
            </a:r>
            <a:r>
              <a:rPr b="0" lang="en-US" sz="3200" spc="-1" strike="noStrike">
                <a:solidFill>
                  <a:srgbClr val="ff388c"/>
                </a:solidFill>
                <a:latin typeface="Tahoma"/>
              </a:rPr>
              <a:t> just begin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88c"/>
                </a:solidFill>
                <a:latin typeface="Tahoma"/>
              </a:rPr>
              <a:t>            </a:t>
            </a:r>
            <a:r>
              <a:rPr b="0" lang="en-US" sz="3200" spc="-1" strike="noStrike">
                <a:solidFill>
                  <a:srgbClr val="ff38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88c"/>
                </a:solidFill>
                <a:latin typeface="Tahoma"/>
              </a:rPr>
              <a:t>to learn Englis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539640" y="428760"/>
          <a:ext cx="8353440" cy="600372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17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</a:t>
                      </a:r>
                      <a:r>
                        <a:rPr b="1" lang="en-US" sz="40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TRU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en-US" sz="40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FAL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8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684360" y="71280"/>
          <a:ext cx="8070840" cy="6786720"/>
        </p:xfrm>
        <a:graphic>
          <a:graphicData uri="http://schemas.openxmlformats.org/drawingml/2006/table">
            <a:tbl>
              <a:tblPr/>
              <a:tblGrid>
                <a:gridCol w="4035240"/>
                <a:gridCol w="4035600"/>
              </a:tblGrid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</a:t>
                      </a:r>
                      <a:r>
                        <a:rPr b="1" lang="en-US" sz="40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TRU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en-US" sz="40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FAL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1.</a:t>
                      </a:r>
                      <a:r>
                        <a:rPr b="0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 Ann is planning to become an interprete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4.</a:t>
                      </a:r>
                      <a:r>
                        <a:rPr b="0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 The most difficult part of pronunciation is intonation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6.</a:t>
                      </a:r>
                      <a:r>
                        <a:rPr b="0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 Ann looks words up in the dictionary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8.</a:t>
                      </a:r>
                      <a:r>
                        <a:rPr b="0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 The most difficult feature of any language is learning the elements for which there are no written rule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 You don’t need to practice grammar together with vocabulary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3.</a:t>
                      </a:r>
                      <a:r>
                        <a:rPr b="0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 She has some problems learning words connected with her hobby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5.</a:t>
                      </a:r>
                      <a:r>
                        <a:rPr b="0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 It’s not important to learn both formal and informal English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7.</a:t>
                      </a:r>
                      <a:r>
                        <a:rPr b="0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 Listening to the news in English doesn’t help An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WordArt 6"/>
          <p:cNvSpPr txBox="1"/>
          <p:nvPr/>
        </p:nvSpPr>
        <p:spPr>
          <a:xfrm>
            <a:off x="1619280" y="333360"/>
            <a:ext cx="554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n thinks about: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130320" y="1628640"/>
            <a:ext cx="432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8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88c"/>
                </a:solidFill>
                <a:latin typeface="Tahoma"/>
              </a:rPr>
              <a:t>learning grammar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88c"/>
                </a:solidFill>
                <a:latin typeface="Tahoma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88c"/>
                </a:solidFill>
                <a:latin typeface="Tahoma"/>
              </a:rPr>
              <a:t>learning vocabulary (words and idioms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88c"/>
                </a:solidFill>
                <a:latin typeface="Tahoma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88c"/>
                </a:solidFill>
                <a:latin typeface="Tahoma"/>
              </a:rPr>
              <a:t>learning pronunciatio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88c"/>
                </a:solidFill>
                <a:latin typeface="Tahoma"/>
              </a:rPr>
              <a:t>4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88c"/>
                </a:solidFill>
                <a:latin typeface="Tahoma"/>
              </a:rPr>
              <a:t>reading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88c"/>
                </a:solidFill>
                <a:latin typeface="Tahoma"/>
              </a:rPr>
              <a:t>5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88c"/>
                </a:solidFill>
                <a:latin typeface="Tahoma"/>
              </a:rPr>
              <a:t>listening to pop music, the radio, watching videos and educational TV programm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Rectangle 9"/>
          <p:cNvSpPr/>
          <p:nvPr/>
        </p:nvSpPr>
        <p:spPr>
          <a:xfrm>
            <a:off x="4483080" y="1628640"/>
            <a:ext cx="431964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388c"/>
                </a:solidFill>
                <a:latin typeface="Tahoma"/>
              </a:rPr>
              <a:t>You need to practice grammar together with vocabulary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388c"/>
                </a:solidFill>
                <a:latin typeface="Tahoma"/>
              </a:rPr>
              <a:t>It’s better to learn a few words at a time and practice them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388c"/>
                </a:solidFill>
                <a:latin typeface="Tahoma"/>
              </a:rPr>
              <a:t>It’s important to learn both formal and informal English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388c"/>
                </a:solidFill>
                <a:latin typeface="Tahoma"/>
              </a:rPr>
              <a:t>You need to look words up in the dictionary and make a note of the most useful one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388c"/>
                </a:solidFill>
                <a:latin typeface="Tahoma"/>
              </a:rPr>
              <a:t>You need to listen to them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6"/>
          <p:cNvSpPr txBox="1"/>
          <p:nvPr/>
        </p:nvSpPr>
        <p:spPr>
          <a:xfrm>
            <a:off x="3276720" y="404640"/>
            <a:ext cx="280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2c71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PLAN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2c71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4" name="WordArt 8" descr=""/>
          <p:cNvPicPr/>
          <p:nvPr/>
        </p:nvPicPr>
        <p:blipFill>
          <a:blip r:embed="rId1"/>
          <a:stretch/>
        </p:blipFill>
        <p:spPr>
          <a:xfrm>
            <a:off x="1176480" y="1981080"/>
            <a:ext cx="7834320" cy="615960"/>
          </a:xfrm>
          <a:prstGeom prst="rect">
            <a:avLst/>
          </a:prstGeom>
          <a:ln w="0">
            <a:noFill/>
          </a:ln>
        </p:spPr>
      </p:pic>
      <p:sp>
        <p:nvSpPr>
          <p:cNvPr id="305" name="WordArt 12"/>
          <p:cNvSpPr txBox="1"/>
          <p:nvPr/>
        </p:nvSpPr>
        <p:spPr>
          <a:xfrm>
            <a:off x="539640" y="4797360"/>
            <a:ext cx="314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WordArt 14"/>
          <p:cNvSpPr txBox="1"/>
          <p:nvPr/>
        </p:nvSpPr>
        <p:spPr>
          <a:xfrm>
            <a:off x="539640" y="1916280"/>
            <a:ext cx="257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7" name="WordArt 15"/>
          <p:cNvSpPr txBox="1"/>
          <p:nvPr/>
        </p:nvSpPr>
        <p:spPr>
          <a:xfrm>
            <a:off x="539640" y="2781360"/>
            <a:ext cx="314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WordArt 16"/>
          <p:cNvSpPr txBox="1"/>
          <p:nvPr/>
        </p:nvSpPr>
        <p:spPr>
          <a:xfrm>
            <a:off x="539640" y="3789360"/>
            <a:ext cx="324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9" name="WordArt 17" descr=""/>
          <p:cNvPicPr/>
          <p:nvPr/>
        </p:nvPicPr>
        <p:blipFill>
          <a:blip r:embed="rId2"/>
          <a:stretch/>
        </p:blipFill>
        <p:spPr>
          <a:xfrm>
            <a:off x="1176480" y="2914560"/>
            <a:ext cx="6224400" cy="567000"/>
          </a:xfrm>
          <a:prstGeom prst="rect">
            <a:avLst/>
          </a:prstGeom>
          <a:ln w="0">
            <a:noFill/>
          </a:ln>
        </p:spPr>
      </p:pic>
      <p:pic>
        <p:nvPicPr>
          <p:cNvPr id="310" name="WordArt 18" descr=""/>
          <p:cNvPicPr/>
          <p:nvPr/>
        </p:nvPicPr>
        <p:blipFill>
          <a:blip r:embed="rId3"/>
          <a:stretch/>
        </p:blipFill>
        <p:spPr>
          <a:xfrm>
            <a:off x="1176480" y="3852720"/>
            <a:ext cx="5602320" cy="622440"/>
          </a:xfrm>
          <a:prstGeom prst="rect">
            <a:avLst/>
          </a:prstGeom>
          <a:ln w="0">
            <a:noFill/>
          </a:ln>
        </p:spPr>
      </p:pic>
      <p:pic>
        <p:nvPicPr>
          <p:cNvPr id="311" name="WordArt 19" descr=""/>
          <p:cNvPicPr/>
          <p:nvPr/>
        </p:nvPicPr>
        <p:blipFill>
          <a:blip r:embed="rId4"/>
          <a:stretch/>
        </p:blipFill>
        <p:spPr>
          <a:xfrm>
            <a:off x="1109520" y="4857840"/>
            <a:ext cx="62485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826560" y="1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53520" indent="-30204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88c"/>
                </a:solidFill>
                <a:latin typeface="Century Gothic"/>
              </a:rPr>
              <a:t>You need to practice grammar together with vocabular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3520" indent="-30204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3520" indent="-30204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88c"/>
                </a:solidFill>
                <a:latin typeface="Century Gothic"/>
              </a:rPr>
              <a:t>It’s better to learn a few words at a time and practice the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3520" indent="-30204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3520" indent="-30204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88c"/>
                </a:solidFill>
                <a:latin typeface="Century Gothic"/>
              </a:rPr>
              <a:t>It’s important to learn both formal and informal Englis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3520" indent="-30204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3520" indent="-30204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88c"/>
                </a:solidFill>
                <a:latin typeface="Century Gothic"/>
              </a:rPr>
              <a:t>You need to look words up in the dictionary and make a note of the most useful on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3520" indent="-30204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3520" indent="-30204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88c"/>
                </a:solidFill>
                <a:latin typeface="Century Gothic"/>
              </a:rPr>
              <a:t>You need to listen to the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WordArt 4"/>
          <p:cNvSpPr txBox="1"/>
          <p:nvPr/>
        </p:nvSpPr>
        <p:spPr>
          <a:xfrm>
            <a:off x="3276720" y="404640"/>
            <a:ext cx="280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PLAN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2" name="WordArt 5" descr=""/>
          <p:cNvPicPr/>
          <p:nvPr/>
        </p:nvPicPr>
        <p:blipFill>
          <a:blip r:embed="rId1"/>
          <a:stretch/>
        </p:blipFill>
        <p:spPr>
          <a:xfrm>
            <a:off x="1176480" y="1981080"/>
            <a:ext cx="7834320" cy="615960"/>
          </a:xfrm>
          <a:prstGeom prst="rect">
            <a:avLst/>
          </a:prstGeom>
          <a:ln w="0">
            <a:noFill/>
          </a:ln>
        </p:spPr>
      </p:pic>
      <p:sp>
        <p:nvSpPr>
          <p:cNvPr id="383" name="WordArt 6"/>
          <p:cNvSpPr txBox="1"/>
          <p:nvPr/>
        </p:nvSpPr>
        <p:spPr>
          <a:xfrm>
            <a:off x="539640" y="4797360"/>
            <a:ext cx="314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4" name="WordArt 8"/>
          <p:cNvSpPr txBox="1"/>
          <p:nvPr/>
        </p:nvSpPr>
        <p:spPr>
          <a:xfrm>
            <a:off x="539640" y="1916280"/>
            <a:ext cx="257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WordArt 9"/>
          <p:cNvSpPr txBox="1"/>
          <p:nvPr/>
        </p:nvSpPr>
        <p:spPr>
          <a:xfrm>
            <a:off x="539640" y="2781360"/>
            <a:ext cx="314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WordArt 10"/>
          <p:cNvSpPr txBox="1"/>
          <p:nvPr/>
        </p:nvSpPr>
        <p:spPr>
          <a:xfrm>
            <a:off x="539640" y="3789360"/>
            <a:ext cx="324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7" name="WordArt 11" descr=""/>
          <p:cNvPicPr/>
          <p:nvPr/>
        </p:nvPicPr>
        <p:blipFill>
          <a:blip r:embed="rId2"/>
          <a:stretch/>
        </p:blipFill>
        <p:spPr>
          <a:xfrm>
            <a:off x="1176480" y="2914560"/>
            <a:ext cx="7759440" cy="567000"/>
          </a:xfrm>
          <a:prstGeom prst="rect">
            <a:avLst/>
          </a:prstGeom>
          <a:ln w="0">
            <a:noFill/>
          </a:ln>
        </p:spPr>
      </p:pic>
      <p:pic>
        <p:nvPicPr>
          <p:cNvPr id="388" name="WordArt 12" descr=""/>
          <p:cNvPicPr/>
          <p:nvPr/>
        </p:nvPicPr>
        <p:blipFill>
          <a:blip r:embed="rId3"/>
          <a:stretch/>
        </p:blipFill>
        <p:spPr>
          <a:xfrm>
            <a:off x="1176480" y="3852720"/>
            <a:ext cx="5602320" cy="622440"/>
          </a:xfrm>
          <a:prstGeom prst="rect">
            <a:avLst/>
          </a:prstGeom>
          <a:ln w="0">
            <a:noFill/>
          </a:ln>
        </p:spPr>
      </p:pic>
      <p:pic>
        <p:nvPicPr>
          <p:cNvPr id="389" name="WordArt 13" descr=""/>
          <p:cNvPicPr/>
          <p:nvPr/>
        </p:nvPicPr>
        <p:blipFill>
          <a:blip r:embed="rId4"/>
          <a:stretch/>
        </p:blipFill>
        <p:spPr>
          <a:xfrm>
            <a:off x="1116000" y="4857840"/>
            <a:ext cx="6242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WordArt 4"/>
          <p:cNvSpPr txBox="1"/>
          <p:nvPr/>
        </p:nvSpPr>
        <p:spPr>
          <a:xfrm>
            <a:off x="684360" y="549360"/>
            <a:ext cx="80280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glish is a way 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o  better life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1" name="WordArt 5"/>
          <p:cNvSpPr txBox="1"/>
          <p:nvPr/>
        </p:nvSpPr>
        <p:spPr>
          <a:xfrm>
            <a:off x="4284720" y="4724280"/>
            <a:ext cx="3978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ames Thurber</a:t>
            </a:r>
            <a:endParaRPr b="0" i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2" name="Picture 4" descr="E:\фото\2012\цветы, растения, природа, места\жёлтый\5zBtwCJZUic.jpg"/>
          <p:cNvPicPr/>
          <p:nvPr/>
        </p:nvPicPr>
        <p:blipFill>
          <a:blip r:embed="rId1"/>
          <a:stretch/>
        </p:blipFill>
        <p:spPr>
          <a:xfrm>
            <a:off x="682560" y="3041640"/>
            <a:ext cx="280980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WordArt 4"/>
          <p:cNvSpPr txBox="1"/>
          <p:nvPr/>
        </p:nvSpPr>
        <p:spPr>
          <a:xfrm>
            <a:off x="2340000" y="1052640"/>
            <a:ext cx="4103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me task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4" name="WordArt 5"/>
          <p:cNvSpPr txBox="1"/>
          <p:nvPr/>
        </p:nvSpPr>
        <p:spPr>
          <a:xfrm>
            <a:off x="243000" y="3146400"/>
            <a:ext cx="865800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rite an essay</a:t>
            </a:r>
            <a:endParaRPr b="0" i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i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The role of English in my life"</a:t>
            </a:r>
            <a:endParaRPr b="0" i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WordArt 4"/>
          <p:cNvSpPr txBox="1"/>
          <p:nvPr/>
        </p:nvSpPr>
        <p:spPr>
          <a:xfrm>
            <a:off x="611280" y="2708280"/>
            <a:ext cx="511308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92d05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nk you 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92d05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92d05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r  the lesson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92d05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6" name="Picture 3" descr="E:\фото\2012\цветы, растения, природа, места\голубой\2_KksWckB7I.jpg"/>
          <p:cNvPicPr/>
          <p:nvPr/>
        </p:nvPicPr>
        <p:blipFill>
          <a:blip r:embed="rId1"/>
          <a:stretch/>
        </p:blipFill>
        <p:spPr>
          <a:xfrm>
            <a:off x="5540400" y="154080"/>
            <a:ext cx="299232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nglish VII –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УМК с углубленным изучением английского языка под редакцией О.В. Афанасьевой, 2006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appy English.ru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УМК для 8 класса под редакцией К.И. Кауфман, 2008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 Excellence. Preparation for secondary school exams- Oxford, 2007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01760" y="1720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ttp://s50.radikal.ru/i127/1102/39/995a595edc85.jp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Прямоугольник 3"/>
          <p:cNvSpPr/>
          <p:nvPr/>
        </p:nvSpPr>
        <p:spPr>
          <a:xfrm>
            <a:off x="1100160" y="311940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s54.radikal.ru/i145/1102/f0/926b843f965c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Прямоугольник 4"/>
          <p:cNvSpPr/>
          <p:nvPr/>
        </p:nvSpPr>
        <p:spPr>
          <a:xfrm>
            <a:off x="1068480" y="382284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i028.radikal.ru/1102/e7/8161b9a69c1b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Прямоугольник 5"/>
          <p:cNvSpPr/>
          <p:nvPr/>
        </p:nvSpPr>
        <p:spPr>
          <a:xfrm>
            <a:off x="1085760" y="4398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s59.radikal.ru/i165/1102/6c/61d613b6960a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Прямоугольник 7"/>
          <p:cNvSpPr/>
          <p:nvPr/>
        </p:nvSpPr>
        <p:spPr>
          <a:xfrm>
            <a:off x="1047600" y="485784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s51.radikal.ru/i133/1102/e6/5320a0fe28f7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8" descr="рис7"/>
          <p:cNvPicPr/>
          <p:nvPr/>
        </p:nvPicPr>
        <p:blipFill>
          <a:blip r:embed="rId1"/>
          <a:stretch/>
        </p:blipFill>
        <p:spPr>
          <a:xfrm>
            <a:off x="684360" y="0"/>
            <a:ext cx="2984400" cy="3860640"/>
          </a:xfrm>
          <a:prstGeom prst="rect">
            <a:avLst/>
          </a:prstGeom>
          <a:ln w="0">
            <a:noFill/>
          </a:ln>
        </p:spPr>
      </p:pic>
      <p:sp>
        <p:nvSpPr>
          <p:cNvPr id="313" name="WordArt 11"/>
          <p:cNvSpPr txBox="1"/>
          <p:nvPr/>
        </p:nvSpPr>
        <p:spPr>
          <a:xfrm rot="5400000">
            <a:off x="-3037320" y="3036960"/>
            <a:ext cx="6597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Means of communications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314" name="Picture 9" descr="http://img-fotki.yandex.ru/get/5004/marina-omichka.5/0_51ee1_52fd82c3_L.jpg"/>
          <p:cNvPicPr/>
          <p:nvPr/>
        </p:nvPicPr>
        <p:blipFill>
          <a:blip r:embed="rId2"/>
          <a:stretch/>
        </p:blipFill>
        <p:spPr>
          <a:xfrm>
            <a:off x="5546880" y="4354560"/>
            <a:ext cx="3377880" cy="227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ttp://www.sostrad.ru/images/get_img.jpeg"/>
          <p:cNvPicPr/>
          <p:nvPr/>
        </p:nvPicPr>
        <p:blipFill>
          <a:blip r:embed="rId3"/>
          <a:stretch/>
        </p:blipFill>
        <p:spPr>
          <a:xfrm>
            <a:off x="684360" y="4254480"/>
            <a:ext cx="3168360" cy="23763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3" descr="http://ppk.sstu.ru/sites/default/files/Otdelen/IT/PKS/73618747_3801119_86479_28.jpg"/>
          <p:cNvPicPr/>
          <p:nvPr/>
        </p:nvPicPr>
        <p:blipFill>
          <a:blip r:embed="rId4"/>
          <a:stretch/>
        </p:blipFill>
        <p:spPr>
          <a:xfrm>
            <a:off x="4716360" y="33480"/>
            <a:ext cx="4314960" cy="3265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http://www.dk-spb.ru/img_content/bookfamily.jpg"/>
          <p:cNvPicPr/>
          <p:nvPr/>
        </p:nvPicPr>
        <p:blipFill>
          <a:blip r:embed="rId5"/>
          <a:stretch/>
        </p:blipFill>
        <p:spPr>
          <a:xfrm>
            <a:off x="2703600" y="2421000"/>
            <a:ext cx="37065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10"/>
          <p:cNvSpPr/>
          <p:nvPr/>
        </p:nvSpPr>
        <p:spPr>
          <a:xfrm>
            <a:off x="1332000" y="3213000"/>
            <a:ext cx="5976720" cy="3355920"/>
          </a:xfrm>
          <a:prstGeom prst="flowChartDecision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66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6666"/>
                </a:solidFill>
                <a:latin typeface="Tahoma"/>
              </a:rPr>
              <a:t>to chat on the Intern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66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6666"/>
                </a:solidFill>
                <a:latin typeface="Tahoma"/>
              </a:rPr>
              <a:t>to get new inform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66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6666"/>
                </a:solidFill>
                <a:latin typeface="Tahoma"/>
              </a:rPr>
              <a:t>to have an English-speaking pen-fri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66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6666"/>
                </a:solidFill>
                <a:latin typeface="Tahoma"/>
              </a:rPr>
              <a:t>to watch vide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AutoShape 11"/>
          <p:cNvSpPr/>
          <p:nvPr/>
        </p:nvSpPr>
        <p:spPr>
          <a:xfrm rot="10800000">
            <a:off x="2626920" y="1773000"/>
            <a:ext cx="1081080" cy="1368360"/>
          </a:xfrm>
          <a:custGeom>
            <a:avLst/>
            <a:gdLst>
              <a:gd name="textAreaLeft" fmla="*/ 0 w 1081080"/>
              <a:gd name="textAreaRight" fmla="*/ 926640 w 1081080"/>
              <a:gd name="textAreaTop" fmla="*/ 91224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0" name="Picture 6" descr="http://istrasvvt.narod.ru/img/img/PC.jpg"/>
          <p:cNvPicPr/>
          <p:nvPr/>
        </p:nvPicPr>
        <p:blipFill>
          <a:blip r:embed="rId1"/>
          <a:stretch/>
        </p:blipFill>
        <p:spPr>
          <a:xfrm>
            <a:off x="4788000" y="179280"/>
            <a:ext cx="42480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7"/>
          <p:cNvSpPr/>
          <p:nvPr/>
        </p:nvSpPr>
        <p:spPr>
          <a:xfrm>
            <a:off x="755640" y="3213000"/>
            <a:ext cx="1079640" cy="252108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441000 h 2521080"/>
              <a:gd name="textAreaBottom" fmla="*/ 182772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AutoShape 8"/>
          <p:cNvSpPr/>
          <p:nvPr/>
        </p:nvSpPr>
        <p:spPr>
          <a:xfrm>
            <a:off x="7451640" y="3213000"/>
            <a:ext cx="1152720" cy="2521080"/>
          </a:xfrm>
          <a:custGeom>
            <a:avLst/>
            <a:gdLst>
              <a:gd name="textAreaLeft" fmla="*/ 154440 w 1152720"/>
              <a:gd name="textAreaRight" fmla="*/ 998280 w 1152720"/>
              <a:gd name="textAreaTop" fmla="*/ 441000 h 2521080"/>
              <a:gd name="textAreaBottom" fmla="*/ 182772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AutoShape 9"/>
          <p:cNvSpPr/>
          <p:nvPr/>
        </p:nvSpPr>
        <p:spPr>
          <a:xfrm>
            <a:off x="2627280" y="3860640"/>
            <a:ext cx="4392720" cy="2448000"/>
          </a:xfrm>
          <a:prstGeom prst="octagon">
            <a:avLst>
              <a:gd name="adj" fmla="val 29287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66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To phone my friends and par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66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To send messag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66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To listen to mus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4" name="Picture 7" descr="http://proxy10.media.online.ua/uol/r3-25109e673d/522265e3aabe0.jpg"/>
          <p:cNvPicPr/>
          <p:nvPr/>
        </p:nvPicPr>
        <p:blipFill>
          <a:blip r:embed="rId1"/>
          <a:stretch/>
        </p:blipFill>
        <p:spPr>
          <a:xfrm>
            <a:off x="2843280" y="374760"/>
            <a:ext cx="372564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4"/>
          <p:cNvSpPr txBox="1"/>
          <p:nvPr/>
        </p:nvSpPr>
        <p:spPr>
          <a:xfrm>
            <a:off x="0" y="836640"/>
            <a:ext cx="9144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 was the first 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eans of communication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6" name="WordArt 8"/>
          <p:cNvSpPr txBox="1"/>
          <p:nvPr/>
        </p:nvSpPr>
        <p:spPr>
          <a:xfrm>
            <a:off x="3421080" y="2924280"/>
            <a:ext cx="2305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6"/>
          <p:cNvSpPr/>
          <p:nvPr/>
        </p:nvSpPr>
        <p:spPr>
          <a:xfrm rot="503400">
            <a:off x="3795840" y="135000"/>
            <a:ext cx="4389480" cy="2519280"/>
          </a:xfrm>
          <a:prstGeom prst="wedgeEllipseCallout">
            <a:avLst>
              <a:gd name="adj1" fmla="val -2939"/>
              <a:gd name="adj2" fmla="val 78296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angu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8" name="Picture 5" descr="http://img-fotki.yandex.ru/get/6204/46980979.41/0_96ea3_b6b8ee6d_orig"/>
          <p:cNvPicPr/>
          <p:nvPr/>
        </p:nvPicPr>
        <p:blipFill>
          <a:blip r:embed="rId1"/>
          <a:stretch/>
        </p:blipFill>
        <p:spPr>
          <a:xfrm>
            <a:off x="1908000" y="3435480"/>
            <a:ext cx="5143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4"/>
          <p:cNvSpPr txBox="1"/>
          <p:nvPr/>
        </p:nvSpPr>
        <p:spPr>
          <a:xfrm>
            <a:off x="3276720" y="404640"/>
            <a:ext cx="280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PLAN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30" name="WordArt 5" descr=""/>
          <p:cNvPicPr/>
          <p:nvPr/>
        </p:nvPicPr>
        <p:blipFill>
          <a:blip r:embed="rId1"/>
          <a:stretch/>
        </p:blipFill>
        <p:spPr>
          <a:xfrm>
            <a:off x="1176480" y="1981080"/>
            <a:ext cx="7834320" cy="615960"/>
          </a:xfrm>
          <a:prstGeom prst="rect">
            <a:avLst/>
          </a:prstGeom>
          <a:ln w="0">
            <a:noFill/>
          </a:ln>
        </p:spPr>
      </p:pic>
      <p:sp>
        <p:nvSpPr>
          <p:cNvPr id="331" name="WordArt 8"/>
          <p:cNvSpPr txBox="1"/>
          <p:nvPr/>
        </p:nvSpPr>
        <p:spPr>
          <a:xfrm>
            <a:off x="539640" y="1916280"/>
            <a:ext cx="257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2" name="WordArt 15"/>
          <p:cNvSpPr txBox="1"/>
          <p:nvPr/>
        </p:nvSpPr>
        <p:spPr>
          <a:xfrm>
            <a:off x="3276720" y="404640"/>
            <a:ext cx="280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PLAN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3" name="WordArt 17"/>
          <p:cNvSpPr txBox="1"/>
          <p:nvPr/>
        </p:nvSpPr>
        <p:spPr>
          <a:xfrm>
            <a:off x="539640" y="1916280"/>
            <a:ext cx="257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рис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0:56:45Z</dcterms:created>
  <dc:creator>Юля</dc:creator>
  <dc:description/>
  <dc:language>en-US</dc:language>
  <cp:lastModifiedBy>Admin</cp:lastModifiedBy>
  <cp:lastPrinted>2012-12-04T16:15:55Z</cp:lastPrinted>
  <dcterms:modified xsi:type="dcterms:W3CDTF">2015-04-29T12:43:22Z</dcterms:modified>
  <cp:revision>36</cp:revision>
  <dc:subject/>
  <dc:title>Слайд 1</dc:title>
</cp:coreProperties>
</file>