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BBF-2B09-4023-8FB3-166B0C3C5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EB1-E4CD-4614-B647-E8AF643A20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2C-6EC7-4D90-8BCC-0BCB1BDA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C18-82EC-4D94-9FD8-AFEC4C0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426-DE9A-4DEC-B42F-409462DE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A42-EA08-48F6-ABDF-6499AB28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C53-C7EF-46EC-BCC2-5E7C57A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640-2AD9-4456-9D88-46B5546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53C-AB62-44B1-A3B4-2BF5067A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873-CBC0-450C-983A-7BAD88D5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B8E-E93E-4E91-B7DD-77BC281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609-4CBE-4C97-AFCE-D67D25B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79D-F1B9-482A-8C45-F86F3F6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29E-9574-48F5-9D66-30D208C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B60-E4BE-498C-9473-DC2D1C745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6005/73906785.1d/0_627ec_728aaa32_XL"/>
          <p:cNvPicPr/>
          <p:nvPr/>
        </p:nvPicPr>
        <p:blipFill>
          <a:blip r:embed="rId1"/>
          <a:stretch/>
        </p:blipFill>
        <p:spPr>
          <a:xfrm>
            <a:off x="270000" y="189000"/>
            <a:ext cx="8623080" cy="5745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872000" y="5878800"/>
            <a:ext cx="61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  <a:ea typeface="Calibri"/>
              </a:rPr>
              <a:t>Путешествие по Воло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Николая Чудотворца в селе Сизьма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ьше-сиземская церковь)</a:t>
            </a:r>
            <a:br>
              <a:rPr sz="27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в Вологде\DSC01847.JPG"/>
          <p:cNvPicPr/>
          <p:nvPr/>
        </p:nvPicPr>
        <p:blipFill>
          <a:blip r:embed="rId1"/>
          <a:stretch/>
        </p:blipFill>
        <p:spPr>
          <a:xfrm>
            <a:off x="250920" y="1268280"/>
            <a:ext cx="29178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user\Desktop\0_94804_6806d8b7_orig.jpg"/>
          <p:cNvPicPr/>
          <p:nvPr/>
        </p:nvPicPr>
        <p:blipFill>
          <a:blip r:embed="rId2"/>
          <a:stretch/>
        </p:blipFill>
        <p:spPr>
          <a:xfrm>
            <a:off x="5148360" y="1197000"/>
            <a:ext cx="38415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в Вологде\DSC01866.JPG"/>
          <p:cNvPicPr/>
          <p:nvPr/>
        </p:nvPicPr>
        <p:blipFill>
          <a:blip r:embed="rId3"/>
          <a:stretch/>
        </p:blipFill>
        <p:spPr>
          <a:xfrm>
            <a:off x="3348000" y="4221000"/>
            <a:ext cx="3516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ня Ксении Петербургск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Соловар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user\Desktop\в Вологде\DSC01856.JPG"/>
          <p:cNvPicPr/>
          <p:nvPr/>
        </p:nvPicPr>
        <p:blipFill>
          <a:blip r:embed="rId1"/>
          <a:stretch/>
        </p:blipFill>
        <p:spPr>
          <a:xfrm>
            <a:off x="179280" y="3267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user\Desktop\36621bc0d087.jpg"/>
          <p:cNvPicPr/>
          <p:nvPr/>
        </p:nvPicPr>
        <p:blipFill>
          <a:blip r:embed="rId2"/>
          <a:stretch/>
        </p:blipFill>
        <p:spPr>
          <a:xfrm>
            <a:off x="4500720" y="1341360"/>
            <a:ext cx="44989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65920" y="2599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одский крем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в Вологде\DSC01892.JPG"/>
          <p:cNvPicPr/>
          <p:nvPr/>
        </p:nvPicPr>
        <p:blipFill>
          <a:blip r:embed="rId1"/>
          <a:stretch/>
        </p:blipFill>
        <p:spPr>
          <a:xfrm>
            <a:off x="0" y="0"/>
            <a:ext cx="5440320" cy="407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russian-temples.ru/imgs/photos/photo_slide_488.jpg"/>
          <p:cNvPicPr/>
          <p:nvPr/>
        </p:nvPicPr>
        <p:blipFill>
          <a:blip r:embed="rId2"/>
          <a:srcRect l="2683" t="0" r="2683" b="0"/>
          <a:stretch/>
        </p:blipFill>
        <p:spPr>
          <a:xfrm>
            <a:off x="5580000" y="2133720"/>
            <a:ext cx="333216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2066040" y="5516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189000"/>
            <a:ext cx="309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user\Desktop\в Вологде\DSC01901.JPG"/>
          <p:cNvPicPr/>
          <p:nvPr/>
        </p:nvPicPr>
        <p:blipFill>
          <a:blip r:embed="rId1"/>
          <a:stretch/>
        </p:blipFill>
        <p:spPr>
          <a:xfrm>
            <a:off x="611280" y="260280"/>
            <a:ext cx="3844800" cy="504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DSC01902.JPG"/>
          <p:cNvPicPr/>
          <p:nvPr/>
        </p:nvPicPr>
        <p:blipFill>
          <a:blip r:embed="rId2"/>
          <a:stretch/>
        </p:blipFill>
        <p:spPr>
          <a:xfrm>
            <a:off x="5076720" y="1844640"/>
            <a:ext cx="363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0" y="189000"/>
            <a:ext cx="507672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Святого Благоверного Князя Александра Невского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1869 года-Николая Чудотворца, что на Извести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4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esktop\в Вологде\DSC01904.JPG"/>
          <p:cNvPicPr/>
          <p:nvPr/>
        </p:nvPicPr>
        <p:blipFill>
          <a:blip r:embed="rId1"/>
          <a:stretch/>
        </p:blipFill>
        <p:spPr>
          <a:xfrm>
            <a:off x="250920" y="189000"/>
            <a:ext cx="3673440" cy="489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179280" y="528804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Николая Чудотворца во Владычной слобод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кольская церковь во Владычной слобо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user\Desktop\в Вологде\DSC01888.JPG"/>
          <p:cNvPicPr/>
          <p:nvPr/>
        </p:nvPicPr>
        <p:blipFill>
          <a:blip r:embed="rId2"/>
          <a:stretch/>
        </p:blipFill>
        <p:spPr>
          <a:xfrm>
            <a:off x="5292720" y="1758960"/>
            <a:ext cx="3603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avrorahotelbase.ru/public/i/misc/0512/vol-spaso.jpg"/>
          <p:cNvPicPr/>
          <p:nvPr/>
        </p:nvPicPr>
        <p:blipFill>
          <a:blip r:embed="rId1"/>
          <a:stretch/>
        </p:blipFill>
        <p:spPr>
          <a:xfrm>
            <a:off x="5599080" y="333360"/>
            <a:ext cx="3544920" cy="3102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2556000" y="404640"/>
            <a:ext cx="302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о-Прилуцкий мужской монасты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www.vsehpozdravil.ru/res/files/postcards/12260.jpg"/>
          <p:cNvPicPr/>
          <p:nvPr/>
        </p:nvPicPr>
        <p:blipFill>
          <a:blip r:embed="rId2"/>
          <a:stretch/>
        </p:blipFill>
        <p:spPr>
          <a:xfrm>
            <a:off x="0" y="182520"/>
            <a:ext cx="2484360" cy="337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Фотография Спасо-Прилуцкий монастырь (Вологда (Вологодская область))"/>
          <p:cNvPicPr/>
          <p:nvPr/>
        </p:nvPicPr>
        <p:blipFill>
          <a:blip r:embed="rId3"/>
          <a:stretch/>
        </p:blipFill>
        <p:spPr>
          <a:xfrm>
            <a:off x="5003640" y="3645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g-fotki.yandex.ru/get/6307/68701203.1ae/0_93440_506af9c3_orig.jpg"/>
          <p:cNvPicPr/>
          <p:nvPr/>
        </p:nvPicPr>
        <p:blipFill>
          <a:blip r:embed="rId4"/>
          <a:stretch/>
        </p:blipFill>
        <p:spPr>
          <a:xfrm>
            <a:off x="515880" y="3645000"/>
            <a:ext cx="40197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Фотография Спасо-Прилуцкий монастырь (Вологда (Вологодская область))"/>
          <p:cNvPicPr/>
          <p:nvPr/>
        </p:nvPicPr>
        <p:blipFill>
          <a:blip r:embed="rId1"/>
          <a:stretch/>
        </p:blipFill>
        <p:spPr>
          <a:xfrm>
            <a:off x="324000" y="189000"/>
            <a:ext cx="4187520" cy="3139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643280" y="333360"/>
            <a:ext cx="40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двор монаст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mage"/>
          <p:cNvPicPr/>
          <p:nvPr/>
        </p:nvPicPr>
        <p:blipFill>
          <a:blip r:embed="rId2"/>
          <a:stretch/>
        </p:blipFill>
        <p:spPr>
          <a:xfrm>
            <a:off x="5148360" y="1916280"/>
            <a:ext cx="3778200" cy="4725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1547640" y="3860640"/>
            <a:ext cx="35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Calibri"/>
              </a:rPr>
              <a:t>Успенская церковь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Calibri"/>
              </a:rPr>
              <a:t>была выстроена в 1-ой пол. XVI века в Александро-Куштском мужском монастыре. Перевезена в Спасо-Прилуцкий монастырь в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08:39:11Z</dcterms:created>
  <dc:creator>user</dc:creator>
  <dc:description/>
  <dc:language>en-US</dc:language>
  <cp:lastModifiedBy>user</cp:lastModifiedBy>
  <dcterms:modified xsi:type="dcterms:W3CDTF">2015-04-28T22:25:54Z</dcterms:modified>
  <cp:revision>75</cp:revision>
  <dc:subject/>
  <dc:title>В Вологде</dc:title>
</cp:coreProperties>
</file>