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4A68-5923-4054-828F-483EBE5E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D41E-1375-4506-B87A-A24F7348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4454-4382-42A1-A1F4-8175BD97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75AD-5772-4A7F-8CCF-DB1DBF0E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956A-7315-4821-B1B7-B224C447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62B6-CC2E-4B6B-92E8-112B115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BD9-016C-4CAA-9A5F-855108D6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210D-D445-44A9-A8C2-4994143E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4FCA-3CE0-49D9-A73D-151C1BD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F48-89F3-49CA-9383-7A3C62EE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F41-63BF-4393-B294-3C78CCC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4AE5-2AAE-4C12-A5AE-ACA71A2F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A20-730C-4D6A-8AC8-34BC8785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4F3B-F1ED-4039-A693-57C4B8A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B380-18B6-4186-9729-CDDFDB8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9A40-12AB-40F4-8CD7-8ABBDF4E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5D56-1610-4EE9-A588-5C2B024F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15DE-DE0A-4914-A4A9-B79A41E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612E-0C6C-46E7-9529-18AE4324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0873-B089-406E-9FB3-145753A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19DE-DB0A-4E27-9C4B-A59180E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0012-187D-45C1-BB04-95B0706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EE59-657A-47C9-9ABE-AB8ACBFF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7F3C-6C01-4B03-9035-5A2E860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FEA7-C738-4A53-B3FD-B62ADFB9830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1E53-094A-45B7-9A77-86FA6FC4C7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-z.ru/women_cd2/1/4/i8_1475-9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С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Калязинский колледж им.Н.М. Полежаева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ание работ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 мастер п\о  Савина Екатерина Сергеевн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 :  Тронина Надеж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ошенко Юл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WordArt 4" descr=""/>
          <p:cNvPicPr/>
          <p:nvPr/>
        </p:nvPicPr>
        <p:blipFill>
          <a:blip r:embed="rId1"/>
          <a:stretch/>
        </p:blipFill>
        <p:spPr>
          <a:xfrm>
            <a:off x="208080" y="2419200"/>
            <a:ext cx="8759880" cy="14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Войны не хотим мы нигде, никогда,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Пусть мир будет в мире везде и всегда.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Да будет светлой жизнь детей!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Как светел мир в глазах открытых!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О, не разрушь и не убей —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Земле достаточно убитых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943_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990099"/>
            </a:solidFill>
            <a:miter/>
          </a:ln>
        </p:spPr>
      </p:pic>
      <p:sp>
        <p:nvSpPr>
          <p:cNvPr id="129" name="WordArt 11"/>
          <p:cNvSpPr txBox="1"/>
          <p:nvPr/>
        </p:nvSpPr>
        <p:spPr>
          <a:xfrm>
            <a:off x="0" y="0"/>
            <a:ext cx="914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йна  это слово  нам  не  приснилось….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Солнечным ранним утром в июне,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В час, когда пробуждалась страна,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Прозвучало впервые для юных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Это страшное слова “война”.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Чтоб дойти до тебя, сорок пятый,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Сквозь лишения, боль и беду.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Уходили из детства ребята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В сорок первом грозном год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clip_image002"/>
          <p:cNvPicPr/>
          <p:nvPr/>
        </p:nvPicPr>
        <p:blipFill>
          <a:blip r:embed="rId1"/>
          <a:stretch/>
        </p:blipFill>
        <p:spPr>
          <a:xfrm>
            <a:off x="-122400" y="-66600"/>
            <a:ext cx="5187960" cy="7040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003280" y="404640"/>
            <a:ext cx="41403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37300"/>
                </a:solidFill>
                <a:latin typeface="Times New Roman"/>
              </a:rPr>
              <a:t>Лысенков  Илья  Яковлеви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003640" y="2421000"/>
            <a:ext cx="414036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Monotype Corsiva"/>
              </a:rPr>
              <a:t>Родился  22 августа  1922года.  В Брянской   области  Трубчевском  районе, в  д. Верхо - Новосел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Monotype Corsiva"/>
              </a:rPr>
              <a:t>До  войны  жил в г.Калязи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3827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12августа  1941 года  был призван  на военную  службу 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В 1942  году   принял  присягу  в  отдельной роте автоматчиков</a:t>
            </a:r>
            <a:r>
              <a:rPr b="0" lang="ru-RU" sz="3600" spc="-1" strike="noStrike">
                <a:solidFill>
                  <a:srgbClr val="66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4000" y="3643200"/>
            <a:ext cx="521964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Был  заместителем  командира  взвода,  имел  воинское  звание -  старший  сержан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1943_29"/>
          <p:cNvPicPr/>
          <p:nvPr/>
        </p:nvPicPr>
        <p:blipFill>
          <a:blip r:embed="rId1"/>
          <a:stretch/>
        </p:blipFill>
        <p:spPr>
          <a:xfrm>
            <a:off x="4773600" y="-96840"/>
            <a:ext cx="444960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Monotype Corsiva"/>
              </a:rPr>
              <a:t>С  12  августа  1941  года  по  5  мая  1945  года  проходил  службу  в  составе  293  стрелкового  полка ( кавалеристом)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Monotype Corsiva"/>
              </a:rPr>
              <a:t>В  346 стрелковом  полку  -  помощник  командира  взвод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За  боевые  заслуги  во  время   войны  был  награжде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деном « Красной  звезды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деном  « Славы  3 степени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далью  «За  Отваг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 1946  году  медал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  За  победу над  Германие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дал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 За победу  над  Япони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Рисунок 4" descr="http://www.a-z.ru/women_cd2/1/4/i8_1475-9_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46160" y="3638520"/>
            <a:ext cx="20782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28880" y="642960"/>
            <a:ext cx="72151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6600ff"/>
                </a:solidFill>
                <a:latin typeface="Monotype Corsiva"/>
              </a:rPr>
              <a:t>Стоять на смерть, ни шагу назад!».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Такой был девиз у наших солдат.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Илья  Яковлевич  был  неоднократно  ранен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И жизни своей не жалел  он,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врага изгоняя с родимой земл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Рисунок 3" descr="9 мая"/>
          <p:cNvPicPr/>
          <p:nvPr/>
        </p:nvPicPr>
        <p:blipFill>
          <a:blip r:embed="rId1"/>
          <a:stretch/>
        </p:blipFill>
        <p:spPr>
          <a:xfrm>
            <a:off x="0" y="549360"/>
            <a:ext cx="3348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84836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Илья Яковлевич был  очень добрым  и отзывчивым  человеком .  В  мирное  время много  работал    на  предприятиях  города  Калязина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За  время  работы  неоднократно награждался  почетными  грамотами  за  отличную  работу.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7:41:30Z</dcterms:created>
  <dc:creator>admin</dc:creator>
  <dc:description/>
  <dc:language>en-US</dc:language>
  <cp:lastModifiedBy>Admin</cp:lastModifiedBy>
  <dcterms:modified xsi:type="dcterms:W3CDTF">2015-04-29T08:40:08Z</dcterms:modified>
  <cp:revision>8</cp:revision>
  <dc:subject/>
  <dc:title>Слайд 1</dc:title>
</cp:coreProperties>
</file>