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8B8-839B-4DC0-A6EF-13F811A6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CB3-604E-4E53-91F9-C5604E9F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AD77C-C3EB-474F-9D18-B75575DE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EB5B1-CAC7-4B18-BB30-6BCA9702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C392C-4D52-42C7-8E6E-236AF670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F81B9-AF84-4423-86E9-6265BACE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40535-FDD7-4635-9C78-C22C141F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C62BD-D76A-4707-9C70-C22E5C3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E4D0D-4580-4BAB-8C05-C0E135E2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3136F-8F6D-4FC9-AD89-DFB283C6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7F196-E9CE-4870-BDC7-06DF34DF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A9F43-F547-47C1-8D94-1A09C379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B88-1FDC-455C-9C58-3480722C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6A367-A28B-4CCF-940A-87A51D24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3D845-5332-4FC6-990E-292C0F39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27C96-539E-40B1-BA60-EA8F2A77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750D7-2E9D-4DE1-BE17-74625D64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7C9C7-897A-41B6-9F18-1B481382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4C2AF-B51A-487C-82CD-0BFE3995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CB084-E6DA-4E49-8041-4F25FCB1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34920-5243-4BA5-9B95-DDE9803C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7FDBE-3FC4-483B-B512-A7AC4FAA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D5286-EB81-45FD-B7C2-2B140825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982-BAEF-489C-BC49-F94E8609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44AED-56A4-41D4-B887-79C0A217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654CC-965D-42A3-91F4-1C5498CD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3B87A-9318-424D-B925-3AC59145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6FC0D-9FD9-4231-A81D-6F05F38C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E6B18-05EC-4C8A-8416-9B6299BE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79AD3-7D66-4F99-940F-3D3CFA9E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4E0A5-205C-460B-9B58-C08326A7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3463E-6D4A-4856-AF3B-BA531FC2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8D9D4-9B4E-4DDB-95ED-F96A8BB9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77642-3ED0-4560-AF3F-9BD410BA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C1C4-C35B-4044-A4EC-AF502053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6EFB7-8406-4CA6-82F2-3C2C0BDB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4CDB5-6F45-44E7-80BE-22ACEE5C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F6ACC-9731-4DDA-ABE6-1CD8C2F5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46391-C203-4092-9114-20A041F4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37B04-5BAA-490A-B9C2-E5A00991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5DEFC-38FD-4C0C-A7D2-EEDE5108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A934A-848B-4720-9D0D-8365543A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B976F-FA91-4142-B15F-4B47CB3B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F6971-F148-44DA-9A3E-93348C38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76E0D-4387-4D15-B78E-E159DEB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025A-8901-4CBB-B1CD-C53BEA19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00A75-10E3-4B26-8056-4CFAF7A0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B72F1-B5F4-48ED-86C9-6CE10224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993A7-89FD-4A6B-B16E-FAFF6850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E2A7E-704D-4F80-B988-7921332F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3249C-0E0E-4D01-8E0F-5F6A70F9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9F8F-2D59-4ABC-9912-31D27482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6EE5-F5E0-42EA-B646-4B04B998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6B93-1C5B-4B47-9AE9-B0B47B03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6BCC-AC55-445D-ADF1-DD5D8A1F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4580-91C4-48BA-81E6-B1E44AAD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66B-05A5-4736-9170-8B883BCF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6804-11AA-476E-8C6B-BC449EFF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833B-0018-426C-B0C6-31BD2A7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6CC-D722-4AD7-A4CA-034DFDC4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4DA3-6474-4FE2-883A-BB3D1DB0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19C0-26F8-42E3-948B-1D6C8DD8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165A-5338-4FD5-B192-9E3C954F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CE92-3FB9-4788-B0D4-DF49DC80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5B3A-BAC0-48A6-9C7C-1156DADD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DAF4-562E-4D57-BF6B-678EABD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284A-D6A1-45B9-B3FE-0ACEB8BF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D55-C7AF-45B7-8F3F-84C1504C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3F0F-A99B-4840-8803-4E76A71B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5C73-D285-4EF3-BEBB-25876274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84ED-3543-4A39-99C8-4C24D931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AFA9-9439-46A3-9240-26B1617B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8DC4-6417-419A-93B5-BC16B189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4E5F-E3C9-47EA-8B50-C2D32F72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A6D0-AF73-41D0-AF31-090B23E0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97E7F-33E1-4F2E-BDFA-1C8EC0D6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B0442-0D78-4E98-9CBB-6E077FB2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FE81F-A992-4C0D-B26A-61906166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C3F-C5EF-49D4-8B62-54516D0A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DA6A-6890-42E4-91B1-BB9F1DD4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64A6-A551-472F-88DA-75698DC2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76AE-6192-40AE-82A8-672C0346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2601-D0C5-4B5F-956A-10654578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7EFF-22E4-4921-83EF-0A03A679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AEDA-3809-483E-A61D-D4555E4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8555-FE2D-4A15-8674-0E5996B2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1581-2A93-42FD-9418-2A20C52C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895E-97AF-4378-983F-6587F810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49788-B50C-4A52-8BC4-280868AB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04B-9FBF-4275-B0CA-17597639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EFC3A-4D79-4CF1-9282-081CA5C3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AE301-1414-4F5E-8DC9-976884A7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C9CDC-C638-4579-8EA3-825A6081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0C678-73EE-48C8-99B2-ABB6A4D0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1C75E-1C79-4E78-BAA0-53FCAEFC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5AA2-1541-47D0-906B-122C636B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9CEBD-DA0A-4402-84BE-0CA2B626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CD8B6-26D1-4023-BF22-F13FEE91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D4C37-9A40-4CCF-80AB-688DE482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94546-59C4-4C0A-8D60-30E2FB57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AD5-7732-4F8B-9A34-BE92986C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908AB-ED5A-44B2-A610-0077AC09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94271-792B-4DC6-AF89-E9136AF9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7F5A8-C18D-45C2-9896-E47981E5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2E87F-0F79-4E0D-97B5-15CB8365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4CC83-D499-4CFF-91AA-12211DA7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7F505-9B1C-475F-B0D4-D974B4B0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F0563-5981-48AF-80F7-0061A21D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916C-9D67-4F1E-86D9-0F545A0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60727-114C-4D3F-A16F-8BC170A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4C704-DF57-4E89-AF7C-1E6F03E9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1AD-36B9-48B7-969B-0292FBA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47AFB-9C65-4203-BA79-76DA3383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E6ED-EE1B-4E5C-B2DF-84A89072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83E85-274B-45DD-A202-581F6F33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813B-04FF-4CA8-B57B-BA3A16ED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ADD4E-D38E-41F2-B303-2D4DA9EC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C87B5-855B-468C-A2DE-9F0247AD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4F073-6FD3-4B37-87BF-918D4B52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9645D-3B60-4C1E-BD50-D8EFAA4A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FF8A8-34F2-44D0-A5B8-6F5AEC33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A6167-1753-4A9C-9F15-E563937C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A7B-E4A0-4E57-A4BB-E2DB963C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4409F-8FD5-446D-90D3-DB5A286F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E8F46-C34A-4F1C-BEF0-7A34969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758C2-B23D-4D07-A126-D59EF4F4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F8DB2-2BBF-4802-BF12-161167BB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7035-FA44-41D7-B7D8-32AF5F3E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1E2E2-DBF0-4C51-811B-D40E9866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C7AF8-5144-4877-A478-6DB933A0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2647C-5EB3-4209-B5D0-7030C15C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6AC10-02C1-4163-A674-8DEBD15F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4A8B6-5E75-4323-A99F-0FAC1CE9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94D-6D7E-4852-A5B2-BD3E3B84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F4BE4-6EDB-4E67-B7C0-8783614F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444B9-9547-4300-8E0F-2FAE8FB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16585-11F3-4B08-B6B2-8EE7FF84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B9503-FBC3-4555-9EE2-0357EC4E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4C5B2-251E-4561-895C-99AA462A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EB824-C246-4E74-AF27-BB946D7C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CB4B6-898D-4504-B51D-9600B929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CA080-3DB8-4F0F-A279-667159A2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4CF5D-C43D-4F3F-B6B2-F75B0E2A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F1210-B3BE-4A5B-AE19-BB8D0F37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00400" y="-24120"/>
            <a:ext cx="3105360" cy="3278160"/>
            <a:chOff x="6800400" y="-24120"/>
            <a:chExt cx="3105360" cy="3278160"/>
          </a:xfrm>
        </p:grpSpPr>
        <p:grpSp>
          <p:nvGrpSpPr>
            <p:cNvPr id="1" name="Group 3"/>
            <p:cNvGrpSpPr/>
            <p:nvPr/>
          </p:nvGrpSpPr>
          <p:grpSpPr>
            <a:xfrm>
              <a:off x="8197920" y="2500200"/>
              <a:ext cx="1088640" cy="753840"/>
              <a:chOff x="8197920" y="2500200"/>
              <a:chExt cx="108864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8197920" y="250020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8590320" y="2829600"/>
                <a:ext cx="26496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8448480" y="1443600"/>
              <a:ext cx="1088640" cy="753840"/>
              <a:chOff x="8448480" y="1443600"/>
              <a:chExt cx="108864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8448480" y="144360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840880" y="1771920"/>
                <a:ext cx="26496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856560" y="0"/>
              <a:ext cx="1088640" cy="753840"/>
              <a:chOff x="6856560" y="0"/>
              <a:chExt cx="108864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856560" y="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7248960" y="329400"/>
                <a:ext cx="26496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800400" y="-24120"/>
              <a:ext cx="3105360" cy="2274120"/>
              <a:chOff x="6800400" y="-24120"/>
              <a:chExt cx="3105360" cy="22741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7573680" y="402840"/>
                <a:ext cx="1623600" cy="1104480"/>
                <a:chOff x="7573680" y="402840"/>
                <a:chExt cx="162360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7573680" y="402840"/>
                  <a:ext cx="162360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8194680" y="807120"/>
                  <a:ext cx="32256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800400" y="-24120"/>
                <a:ext cx="3097800" cy="2274120"/>
                <a:chOff x="6800400" y="-24120"/>
                <a:chExt cx="3097800" cy="22741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8513640" y="838800"/>
                  <a:ext cx="1112040" cy="1153080"/>
                  <a:chOff x="8513640" y="838800"/>
                  <a:chExt cx="1112040" cy="11530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8443800" y="1126800"/>
                    <a:ext cx="8838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9127080" y="1592640"/>
                    <a:ext cx="471600" cy="272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8502840" y="748800"/>
                  <a:ext cx="1360080" cy="1086840"/>
                  <a:chOff x="8502840" y="748800"/>
                  <a:chExt cx="1360080" cy="10868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8462520" y="1022040"/>
                    <a:ext cx="10080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9289800" y="1425240"/>
                    <a:ext cx="5418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8496720" y="718560"/>
                  <a:ext cx="1387440" cy="854640"/>
                  <a:chOff x="8496720" y="718560"/>
                  <a:chExt cx="1387440" cy="85464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8480880" y="924840"/>
                    <a:ext cx="96624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9339120" y="1226520"/>
                    <a:ext cx="51768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8492040" y="685080"/>
                  <a:ext cx="1406160" cy="686520"/>
                  <a:chOff x="8492040" y="685080"/>
                  <a:chExt cx="1406160" cy="68652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8496720" y="82440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9368280" y="1037160"/>
                    <a:ext cx="501120" cy="26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8507520" y="653400"/>
                  <a:ext cx="1323360" cy="424440"/>
                  <a:chOff x="8507520" y="653400"/>
                  <a:chExt cx="1323360" cy="4244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8514720" y="710280"/>
                    <a:ext cx="8586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9354240" y="800280"/>
                    <a:ext cx="46188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8528400" y="632160"/>
                  <a:ext cx="1198080" cy="185400"/>
                  <a:chOff x="8528400" y="632160"/>
                  <a:chExt cx="1198080" cy="18540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8529480" y="655200"/>
                    <a:ext cx="78084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9304920" y="637200"/>
                    <a:ext cx="4190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8500680" y="416160"/>
                  <a:ext cx="1063080" cy="336240"/>
                  <a:chOff x="8500680" y="416160"/>
                  <a:chExt cx="1063080" cy="336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8503560" y="567360"/>
                    <a:ext cx="68580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9180000" y="456120"/>
                    <a:ext cx="3682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7096680" y="901440"/>
                  <a:ext cx="1113120" cy="1152720"/>
                  <a:chOff x="7096680" y="901440"/>
                  <a:chExt cx="1113120" cy="11527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7394400" y="1189440"/>
                    <a:ext cx="88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7122600" y="1654200"/>
                    <a:ext cx="474480" cy="271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836400" y="838440"/>
                  <a:ext cx="1359720" cy="1087200"/>
                  <a:chOff x="6836400" y="838440"/>
                  <a:chExt cx="1359720" cy="10872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7226640" y="1112040"/>
                    <a:ext cx="100944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867360" y="1515960"/>
                    <a:ext cx="54108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815520" y="810360"/>
                  <a:ext cx="1387440" cy="854640"/>
                  <a:chOff x="6815520" y="810360"/>
                  <a:chExt cx="1387440" cy="85464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7252200" y="1016280"/>
                    <a:ext cx="96516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841080" y="1323360"/>
                    <a:ext cx="5169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800400" y="776520"/>
                  <a:ext cx="1405800" cy="685440"/>
                  <a:chOff x="6800400" y="776520"/>
                  <a:chExt cx="1405800" cy="68544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7270560" y="916200"/>
                    <a:ext cx="9320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829200" y="1124640"/>
                    <a:ext cx="50004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868800" y="745200"/>
                  <a:ext cx="1322640" cy="423000"/>
                  <a:chOff x="6868800" y="745200"/>
                  <a:chExt cx="1322640" cy="4230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7326360" y="802080"/>
                    <a:ext cx="85824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883200" y="893160"/>
                    <a:ext cx="461520" cy="24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973200" y="722160"/>
                  <a:ext cx="1198440" cy="185760"/>
                  <a:chOff x="6973200" y="722160"/>
                  <a:chExt cx="1198440" cy="18576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7389360" y="745200"/>
                    <a:ext cx="78084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975000" y="727200"/>
                    <a:ext cx="419040" cy="175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7136280" y="506520"/>
                  <a:ext cx="1062720" cy="336600"/>
                  <a:chOff x="7136280" y="506520"/>
                  <a:chExt cx="1062720" cy="336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7509600" y="654840"/>
                    <a:ext cx="68580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7151040" y="546480"/>
                    <a:ext cx="3682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7194600" y="385560"/>
                  <a:ext cx="1042920" cy="466560"/>
                  <a:chOff x="7194600" y="385560"/>
                  <a:chExt cx="1042920" cy="46656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7554960" y="620640"/>
                    <a:ext cx="6850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7213320" y="446040"/>
                    <a:ext cx="3679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7319160" y="214920"/>
                  <a:ext cx="970200" cy="649080"/>
                  <a:chOff x="7319160" y="214920"/>
                  <a:chExt cx="970200" cy="6490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631640" y="573480"/>
                    <a:ext cx="6850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7335000" y="302040"/>
                    <a:ext cx="36540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7444800" y="46440"/>
                  <a:ext cx="886320" cy="790560"/>
                  <a:chOff x="7444800" y="46440"/>
                  <a:chExt cx="886320" cy="7905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697520" y="500400"/>
                    <a:ext cx="69372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7450920" y="153720"/>
                    <a:ext cx="3769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711560" y="11880"/>
                  <a:ext cx="639360" cy="791640"/>
                  <a:chOff x="7711560" y="11880"/>
                  <a:chExt cx="639360" cy="7916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867440" y="473040"/>
                    <a:ext cx="565200" cy="118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720560" y="95760"/>
                    <a:ext cx="303120" cy="189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900200" y="-24120"/>
                  <a:ext cx="491400" cy="813240"/>
                  <a:chOff x="7900200" y="-24120"/>
                  <a:chExt cx="491400" cy="8132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965360" y="454320"/>
                    <a:ext cx="543240" cy="119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894080" y="52200"/>
                    <a:ext cx="292320" cy="187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8444160" y="268200"/>
                  <a:ext cx="1039680" cy="474480"/>
                  <a:chOff x="8444160" y="268200"/>
                  <a:chExt cx="1039680" cy="4744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8440200" y="509040"/>
                    <a:ext cx="6742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9102240" y="329760"/>
                    <a:ext cx="3621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8384760" y="128520"/>
                  <a:ext cx="986400" cy="626400"/>
                  <a:chOff x="8384760" y="128520"/>
                  <a:chExt cx="986400" cy="6264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8361720" y="470520"/>
                    <a:ext cx="685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984160" y="212760"/>
                    <a:ext cx="3690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8060400" y="483480"/>
                  <a:ext cx="527040" cy="80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8062560" y="92520"/>
                  <a:ext cx="282240" cy="13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8314200" y="-13320"/>
                  <a:ext cx="523800" cy="794520"/>
                  <a:chOff x="8314200" y="-13320"/>
                  <a:chExt cx="523800" cy="7945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8205480" y="462960"/>
                    <a:ext cx="544320" cy="101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8557560" y="72720"/>
                    <a:ext cx="290880" cy="15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8318520" y="33480"/>
                  <a:ext cx="825840" cy="755280"/>
                  <a:chOff x="8318520" y="33480"/>
                  <a:chExt cx="825840" cy="75528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8280360" y="449640"/>
                    <a:ext cx="591480" cy="147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793360" y="112680"/>
                    <a:ext cx="317160" cy="22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8354160" y="-1440"/>
                  <a:ext cx="188280" cy="746640"/>
                  <a:chOff x="8354160" y="-1440"/>
                  <a:chExt cx="18828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8167680" y="475920"/>
                    <a:ext cx="489240" cy="46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8354520" y="95400"/>
                    <a:ext cx="26208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7280640" y="926280"/>
                  <a:ext cx="957600" cy="1258560"/>
                  <a:chOff x="7280640" y="926280"/>
                  <a:chExt cx="957600" cy="125856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7467480" y="1249920"/>
                    <a:ext cx="8848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7290720" y="1773000"/>
                    <a:ext cx="480960" cy="273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607520" y="977040"/>
                  <a:ext cx="647640" cy="1254600"/>
                  <a:chOff x="7607520" y="977040"/>
                  <a:chExt cx="647640" cy="125460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7605720" y="1303920"/>
                    <a:ext cx="82404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7598520" y="1843560"/>
                    <a:ext cx="433800" cy="271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926120" y="1000080"/>
                  <a:ext cx="382680" cy="1220760"/>
                  <a:chOff x="7926120" y="1000080"/>
                  <a:chExt cx="382680" cy="12207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763400" y="1322640"/>
                    <a:ext cx="7855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877160" y="1867680"/>
                    <a:ext cx="42084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8471520" y="905040"/>
                  <a:ext cx="994680" cy="1239840"/>
                  <a:chOff x="8471520" y="905040"/>
                  <a:chExt cx="994680" cy="12398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8367840" y="1221480"/>
                    <a:ext cx="88452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975880" y="1737000"/>
                    <a:ext cx="474840" cy="272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8452080" y="954360"/>
                  <a:ext cx="768960" cy="1266480"/>
                  <a:chOff x="8452080" y="954360"/>
                  <a:chExt cx="768960" cy="126648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8296560" y="1284840"/>
                    <a:ext cx="8438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774280" y="1833120"/>
                    <a:ext cx="457200" cy="25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8415360" y="1003320"/>
                  <a:ext cx="535680" cy="1246680"/>
                  <a:chOff x="8415360" y="1003320"/>
                  <a:chExt cx="535680" cy="124668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8200080" y="1345680"/>
                    <a:ext cx="820440" cy="136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8558640" y="1899360"/>
                    <a:ext cx="441000" cy="214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8383320" y="1058040"/>
                  <a:ext cx="308160" cy="1157760"/>
                  <a:chOff x="8383320" y="1058040"/>
                  <a:chExt cx="308160" cy="11577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8129160" y="1371600"/>
                    <a:ext cx="751680" cy="136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8352000" y="1891440"/>
                    <a:ext cx="407880" cy="213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8127360" y="1077480"/>
                  <a:ext cx="295200" cy="1132200"/>
                  <a:chOff x="8127360" y="1077480"/>
                  <a:chExt cx="295200" cy="113220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957440" y="1402200"/>
                    <a:ext cx="748440" cy="105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8029080" y="1920240"/>
                    <a:ext cx="399960" cy="163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903440" y="1222560"/>
                <a:ext cx="27036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7415280" y="948960"/>
                <a:ext cx="118080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8478360" y="233640"/>
                <a:ext cx="14274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7533360" y="759240"/>
                <a:ext cx="6901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7044480" y="821880"/>
                <a:ext cx="11214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945840" y="599400"/>
                <a:ext cx="132264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8408880" y="770760"/>
                <a:ext cx="2109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8464320" y="765720"/>
                <a:ext cx="55836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8513640" y="605880"/>
                <a:ext cx="7923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8667000" y="1351800"/>
                <a:ext cx="26784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8245800" y="1103040"/>
                <a:ext cx="247680" cy="4262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870600" y="417600"/>
                <a:ext cx="14104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7268760" y="159480"/>
                <a:ext cx="102528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8366400" y="657000"/>
                <a:ext cx="42408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7099560" y="1283760"/>
                <a:ext cx="5965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7384680" y="457920"/>
                <a:ext cx="3870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831800" y="225000"/>
                <a:ext cx="231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9275040" y="1170000"/>
                <a:ext cx="55692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985960" y="753840"/>
                <a:ext cx="8478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9016920" y="172440"/>
                <a:ext cx="36864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8654040" y="783360"/>
                <a:ext cx="2505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775640" y="770400"/>
                <a:ext cx="23940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A464-EFA8-406E-8809-4B40CAF7364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8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F0B5-FB23-4529-A9EB-F490CC67472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4152-50EC-4524-9475-7C6B588D5D5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3B5B-BB32-416C-A104-2D3778B15F5F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186640" y="240120"/>
            <a:ext cx="7462800" cy="5463360"/>
            <a:chOff x="2186640" y="240120"/>
            <a:chExt cx="7462800" cy="5463360"/>
          </a:xfrm>
        </p:grpSpPr>
        <p:grpSp>
          <p:nvGrpSpPr>
            <p:cNvPr id="177" name="Group 3"/>
            <p:cNvGrpSpPr/>
            <p:nvPr/>
          </p:nvGrpSpPr>
          <p:grpSpPr>
            <a:xfrm>
              <a:off x="3777120" y="948960"/>
              <a:ext cx="1015920" cy="710640"/>
              <a:chOff x="3777120" y="948960"/>
              <a:chExt cx="1015920" cy="7106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777120" y="948960"/>
                <a:ext cx="1015920" cy="7106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4147200" y="1261080"/>
                <a:ext cx="24192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186640" y="240120"/>
              <a:ext cx="7462800" cy="5463360"/>
              <a:chOff x="2186640" y="240120"/>
              <a:chExt cx="7462800" cy="546336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186640" y="240120"/>
                <a:ext cx="7450200" cy="5463360"/>
                <a:chOff x="2186640" y="240120"/>
                <a:chExt cx="7450200" cy="546336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4047840" y="1267920"/>
                  <a:ext cx="3899880" cy="2649240"/>
                  <a:chOff x="4047840" y="1267920"/>
                  <a:chExt cx="3899880" cy="26492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4047840" y="1267920"/>
                    <a:ext cx="3899880" cy="2649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537520" y="2235240"/>
                    <a:ext cx="77076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186640" y="240120"/>
                  <a:ext cx="7450200" cy="5463360"/>
                  <a:chOff x="2186640" y="240120"/>
                  <a:chExt cx="7450200" cy="546336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6312240" y="2304000"/>
                    <a:ext cx="2666880" cy="2773440"/>
                    <a:chOff x="6312240" y="2304000"/>
                    <a:chExt cx="2666880" cy="27734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6147000" y="2994480"/>
                      <a:ext cx="21207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778880" y="4117320"/>
                      <a:ext cx="1136160" cy="65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6280200" y="2089440"/>
                    <a:ext cx="3271320" cy="2617200"/>
                    <a:chOff x="6280200" y="2089440"/>
                    <a:chExt cx="3271320" cy="26172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6183000" y="2747160"/>
                      <a:ext cx="2426040" cy="42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8175600" y="3722400"/>
                      <a:ext cx="1301040" cy="671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6267240" y="2021760"/>
                    <a:ext cx="3333960" cy="2053440"/>
                    <a:chOff x="6267240" y="2021760"/>
                    <a:chExt cx="3333960" cy="20534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6229440" y="2516760"/>
                      <a:ext cx="2316240" cy="373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8291520" y="3242160"/>
                      <a:ext cx="124380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6253200" y="1938600"/>
                    <a:ext cx="3383640" cy="1652400"/>
                    <a:chOff x="6253200" y="1938600"/>
                    <a:chExt cx="3383640" cy="165240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6262560" y="2274480"/>
                      <a:ext cx="2240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8362440" y="2767320"/>
                      <a:ext cx="1202400" cy="65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6293160" y="1867680"/>
                    <a:ext cx="3179160" cy="1015200"/>
                    <a:chOff x="6293160" y="1867680"/>
                    <a:chExt cx="3179160" cy="10152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6309720" y="2004480"/>
                      <a:ext cx="206280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8327880" y="2207880"/>
                      <a:ext cx="110880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6340320" y="1810800"/>
                    <a:ext cx="2880000" cy="446760"/>
                    <a:chOff x="6340320" y="1810800"/>
                    <a:chExt cx="2880000" cy="4467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6343200" y="1847160"/>
                      <a:ext cx="18766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8207640" y="1823040"/>
                      <a:ext cx="100728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6273000" y="1293120"/>
                    <a:ext cx="2553840" cy="809280"/>
                    <a:chOff x="6273000" y="1293120"/>
                    <a:chExt cx="2553840" cy="8092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6281280" y="1647360"/>
                      <a:ext cx="1649880" cy="267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907400" y="1389600"/>
                      <a:ext cx="8830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902320" y="2453400"/>
                    <a:ext cx="2673000" cy="2775600"/>
                    <a:chOff x="2902320" y="2453400"/>
                    <a:chExt cx="2673000" cy="277560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617280" y="3144960"/>
                      <a:ext cx="2123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964960" y="4267440"/>
                      <a:ext cx="1141200" cy="65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274120" y="2308320"/>
                    <a:ext cx="3273840" cy="2617920"/>
                    <a:chOff x="2274120" y="2308320"/>
                    <a:chExt cx="3273840" cy="26179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3216600" y="2966400"/>
                      <a:ext cx="242784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348280" y="3942000"/>
                      <a:ext cx="1301040" cy="671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222280" y="2238480"/>
                    <a:ext cx="3336120" cy="2055240"/>
                    <a:chOff x="2222280" y="2238480"/>
                    <a:chExt cx="3336120" cy="2055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277440" y="2733840"/>
                      <a:ext cx="231804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287800" y="3458880"/>
                      <a:ext cx="1244880" cy="588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186640" y="2158200"/>
                    <a:ext cx="3383640" cy="1649160"/>
                    <a:chOff x="2186640" y="2158200"/>
                    <a:chExt cx="3383640" cy="16491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320640" y="2494080"/>
                      <a:ext cx="22402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256480" y="2989440"/>
                      <a:ext cx="1202040" cy="647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350080" y="2087280"/>
                    <a:ext cx="3179880" cy="1011240"/>
                    <a:chOff x="2350080" y="2087280"/>
                    <a:chExt cx="3179880" cy="1011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450600" y="2223720"/>
                      <a:ext cx="2062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384640" y="2428560"/>
                      <a:ext cx="1108800" cy="59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603880" y="2030400"/>
                    <a:ext cx="2884320" cy="447480"/>
                    <a:chOff x="2603880" y="2030400"/>
                    <a:chExt cx="2884320" cy="44748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605400" y="2067120"/>
                      <a:ext cx="1879560" cy="268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608920" y="2042640"/>
                      <a:ext cx="100728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995560" y="1512000"/>
                    <a:ext cx="2556360" cy="811440"/>
                    <a:chOff x="2995560" y="1512000"/>
                    <a:chExt cx="2556360" cy="8114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894120" y="1868760"/>
                      <a:ext cx="1648440" cy="267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3032280" y="1608480"/>
                      <a:ext cx="883080" cy="42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3134160" y="1222200"/>
                    <a:ext cx="2510640" cy="1116360"/>
                    <a:chOff x="3134160" y="1222200"/>
                    <a:chExt cx="2510640" cy="11163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4006080" y="1784520"/>
                      <a:ext cx="1647000" cy="263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3179520" y="1368720"/>
                      <a:ext cx="88560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433320" y="809640"/>
                    <a:ext cx="2340720" cy="1559880"/>
                    <a:chOff x="3433320" y="809640"/>
                    <a:chExt cx="2340720" cy="15598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4190400" y="1668240"/>
                      <a:ext cx="16484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473640" y="1020600"/>
                      <a:ext cx="88560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735000" y="410040"/>
                    <a:ext cx="2136240" cy="1900440"/>
                    <a:chOff x="3735000" y="410040"/>
                    <a:chExt cx="2136240" cy="190044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343760" y="1497960"/>
                      <a:ext cx="167364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753000" y="664200"/>
                      <a:ext cx="89748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377960" y="323280"/>
                    <a:ext cx="1536480" cy="1905480"/>
                    <a:chOff x="4377960" y="323280"/>
                    <a:chExt cx="1536480" cy="19054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753080" y="1433520"/>
                      <a:ext cx="1357200" cy="287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396680" y="527400"/>
                      <a:ext cx="730440" cy="44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831560" y="240120"/>
                    <a:ext cx="1183680" cy="1957680"/>
                    <a:chOff x="4831560" y="240120"/>
                    <a:chExt cx="1183680" cy="19576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989960" y="1392480"/>
                      <a:ext cx="1307880" cy="287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819320" y="422640"/>
                      <a:ext cx="703080" cy="455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6138000" y="935640"/>
                    <a:ext cx="2496240" cy="1153800"/>
                    <a:chOff x="6138000" y="935640"/>
                    <a:chExt cx="2496240" cy="11538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6127560" y="1520280"/>
                      <a:ext cx="1649880" cy="26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703640" y="1086120"/>
                      <a:ext cx="88308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997960" y="604800"/>
                    <a:ext cx="2363400" cy="1504440"/>
                    <a:chOff x="5997960" y="604800"/>
                    <a:chExt cx="2363400" cy="150444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942520" y="1425960"/>
                      <a:ext cx="16513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7434720" y="807120"/>
                      <a:ext cx="88308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5211360" y="1456560"/>
                    <a:ext cx="1265760" cy="194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5220720" y="523080"/>
                    <a:ext cx="681120" cy="304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835960" y="263880"/>
                    <a:ext cx="1254240" cy="1906200"/>
                    <a:chOff x="5835960" y="263880"/>
                    <a:chExt cx="1254240" cy="19062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574960" y="1403280"/>
                      <a:ext cx="1311120" cy="24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6409800" y="473040"/>
                      <a:ext cx="706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834520" y="371160"/>
                    <a:ext cx="1994040" cy="1823400"/>
                    <a:chOff x="5834520" y="371160"/>
                    <a:chExt cx="1994040" cy="1823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745240" y="1374120"/>
                      <a:ext cx="1423440" cy="361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974640" y="561240"/>
                      <a:ext cx="768600" cy="56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917320" y="287280"/>
                    <a:ext cx="457560" cy="1797840"/>
                    <a:chOff x="5917320" y="287280"/>
                    <a:chExt cx="457560" cy="17978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472000" y="1436040"/>
                      <a:ext cx="1175400" cy="117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925240" y="523080"/>
                      <a:ext cx="631440" cy="17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353760" y="2510640"/>
                    <a:ext cx="2298960" cy="3029760"/>
                    <a:chOff x="3353760" y="2510640"/>
                    <a:chExt cx="2298960" cy="30297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797280" y="3290040"/>
                      <a:ext cx="213084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379680" y="4560840"/>
                      <a:ext cx="1141200" cy="651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4124880" y="2639880"/>
                    <a:ext cx="1556640" cy="3019320"/>
                    <a:chOff x="4124880" y="2639880"/>
                    <a:chExt cx="1556640" cy="30193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4127760" y="3422520"/>
                      <a:ext cx="19717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4098960" y="4718880"/>
                      <a:ext cx="1057320" cy="65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884480" y="2696400"/>
                    <a:ext cx="918000" cy="2924640"/>
                    <a:chOff x="4884480" y="2696400"/>
                    <a:chExt cx="918000" cy="29246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491720" y="3474000"/>
                      <a:ext cx="1890360" cy="371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764960" y="4771440"/>
                      <a:ext cx="1013040" cy="590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6213960" y="2463840"/>
                    <a:ext cx="2378880" cy="2984760"/>
                    <a:chOff x="6213960" y="2463840"/>
                    <a:chExt cx="2378880" cy="29847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963400" y="3227040"/>
                      <a:ext cx="21319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7414920" y="4471560"/>
                      <a:ext cx="1142280" cy="651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6162120" y="2584080"/>
                    <a:ext cx="1840320" cy="3051000"/>
                    <a:chOff x="6162120" y="2584080"/>
                    <a:chExt cx="1840320" cy="30510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792040" y="3378240"/>
                      <a:ext cx="2033280" cy="397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926760" y="4694040"/>
                      <a:ext cx="1091880" cy="62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6068160" y="2705400"/>
                    <a:ext cx="1288800" cy="2998080"/>
                    <a:chOff x="6068160" y="2705400"/>
                    <a:chExt cx="1288800" cy="29980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551920" y="3527640"/>
                      <a:ext cx="1971720" cy="328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6415560" y="4862520"/>
                      <a:ext cx="1057320" cy="51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997960" y="2831400"/>
                    <a:ext cx="730440" cy="2791800"/>
                    <a:chOff x="5997960" y="2831400"/>
                    <a:chExt cx="730440" cy="27918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5385240" y="3588120"/>
                      <a:ext cx="1813680" cy="32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916600" y="4847040"/>
                      <a:ext cx="973440" cy="51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5386680" y="2884680"/>
                    <a:ext cx="703080" cy="2718000"/>
                    <a:chOff x="5386680" y="2884680"/>
                    <a:chExt cx="703080" cy="271800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986720" y="3652560"/>
                      <a:ext cx="1771920" cy="252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5157000" y="4912200"/>
                      <a:ext cx="949680" cy="395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356200" y="680400"/>
                <a:ext cx="7293240" cy="4520520"/>
                <a:chOff x="2356200" y="680400"/>
                <a:chExt cx="7293240" cy="452052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356200" y="680400"/>
                  <a:ext cx="7293240" cy="4520520"/>
                  <a:chOff x="2356200" y="680400"/>
                  <a:chExt cx="7293240" cy="452052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6217200" y="852480"/>
                    <a:ext cx="3432240" cy="25272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774520" y="2265840"/>
                    <a:ext cx="2690640" cy="29350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6304320" y="1746360"/>
                    <a:ext cx="1903680" cy="2936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356200" y="1296000"/>
                    <a:ext cx="3393360" cy="29365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312000" y="680400"/>
                    <a:ext cx="2469960" cy="28425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946120" y="1872360"/>
                    <a:ext cx="1023120" cy="28425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660200" y="830880"/>
                    <a:ext cx="558360" cy="18842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639120" y="2178000"/>
                  <a:ext cx="590400" cy="10314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545920" y="743760"/>
              <a:ext cx="6949080" cy="4716360"/>
              <a:chOff x="2545920" y="743760"/>
              <a:chExt cx="6949080" cy="47163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857480" y="3270240"/>
                <a:ext cx="648000" cy="1827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677040" y="2613960"/>
                <a:ext cx="2836440" cy="284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963240" y="2155680"/>
                <a:ext cx="1659240" cy="29390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545560" y="1771560"/>
                <a:ext cx="3171960" cy="2939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6064200" y="2184120"/>
                <a:ext cx="506160" cy="29390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6196320" y="2170440"/>
                <a:ext cx="1339920" cy="2939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681240" y="3582720"/>
                <a:ext cx="645120" cy="1827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671080" y="2981160"/>
                <a:ext cx="590400" cy="10353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922480" y="3419640"/>
                <a:ext cx="1453320" cy="1882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607560" y="1430640"/>
                <a:ext cx="928440" cy="1882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8151120" y="3142800"/>
                <a:ext cx="1343880" cy="1976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7450920" y="2143440"/>
                <a:ext cx="2025360" cy="1317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7524720" y="743760"/>
                <a:ext cx="888120" cy="177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544640" y="2187720"/>
                <a:ext cx="590400" cy="1033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E509-F5D4-45C9-BA7E-6C54967B1F1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019C-8B72-4100-87AE-DBD831DCFFD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6D95-3E2B-481F-BAF7-AFAED3AE4B0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174C-50EA-45C6-A3DC-77ACCED6771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513F-B299-4E2B-AA80-5879AC713FE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3B01-4ACA-46BD-8114-ECF68358C62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EE49-EF30-486F-B620-4F199D4B2C0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5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7F8D-ADF5-42FD-A8C8-3A521A982AF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Box 3"/>
          <p:cNvSpPr/>
          <p:nvPr/>
        </p:nvSpPr>
        <p:spPr>
          <a:xfrm>
            <a:off x="1701720" y="500040"/>
            <a:ext cx="650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53f00"/>
                </a:solidFill>
                <a:latin typeface="Times New Roman"/>
              </a:rPr>
              <a:t>Остров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53f00"/>
                </a:solidFill>
                <a:latin typeface="Times New Roman"/>
              </a:rPr>
              <a:t>Даманский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1" name="TextBox 4"/>
          <p:cNvSpPr/>
          <p:nvPr/>
        </p:nvSpPr>
        <p:spPr>
          <a:xfrm>
            <a:off x="3987720" y="42861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еоурок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Рисунок 20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rcRect l="5770" t="4198" r="5770" b="2799"/>
          <a:stretch/>
        </p:blipFill>
        <p:spPr>
          <a:xfrm>
            <a:off x="476244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12"/>
          <p:cNvSpPr/>
          <p:nvPr/>
        </p:nvSpPr>
        <p:spPr>
          <a:xfrm>
            <a:off x="755640" y="364572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сержант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. В. Бабанский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4" descr=""/>
          <p:cNvPicPr/>
          <p:nvPr/>
        </p:nvPicPr>
        <p:blipFill>
          <a:blip r:embed="rId1"/>
          <a:srcRect l="3872" t="4238" r="3872" b="0"/>
          <a:stretch/>
        </p:blipFill>
        <p:spPr>
          <a:xfrm>
            <a:off x="0" y="0"/>
            <a:ext cx="5137200" cy="685800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5"/>
          <p:cNvSpPr/>
          <p:nvPr/>
        </p:nvSpPr>
        <p:spPr>
          <a:xfrm>
            <a:off x="5973480" y="3003840"/>
            <a:ext cx="356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-й погранзастав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«Сопки Кулебякины»)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йтенант В. Д. Бубенин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" descr=""/>
          <p:cNvPicPr/>
          <p:nvPr/>
        </p:nvPicPr>
        <p:blipFill>
          <a:blip r:embed="rId1"/>
          <a:srcRect l="3866" t="2300" r="0" b="29326"/>
          <a:stretch/>
        </p:blipFill>
        <p:spPr>
          <a:xfrm>
            <a:off x="0" y="0"/>
            <a:ext cx="6207120" cy="68580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rcRect l="0" t="76482" r="0" b="0"/>
          <a:stretch/>
        </p:blipFill>
        <p:spPr>
          <a:xfrm>
            <a:off x="4875120" y="2997360"/>
            <a:ext cx="5031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"/>
          <p:cNvPicPr/>
          <p:nvPr/>
        </p:nvPicPr>
        <p:blipFill>
          <a:blip r:embed="rId1"/>
          <a:srcRect l="10957" t="0" r="0" b="0"/>
          <a:stretch/>
        </p:blipFill>
        <p:spPr>
          <a:xfrm>
            <a:off x="0" y="0"/>
            <a:ext cx="4710240" cy="685800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3"/>
          <p:cNvSpPr/>
          <p:nvPr/>
        </p:nvSpPr>
        <p:spPr>
          <a:xfrm>
            <a:off x="5388480" y="3647160"/>
            <a:ext cx="22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фрейтор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вел Акулов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127920"/>
          </a:xfrm>
          <a:prstGeom prst="rect">
            <a:avLst/>
          </a:prstGeom>
          <a:ln w="0">
            <a:noFill/>
          </a:ln>
        </p:spPr>
      </p:pic>
      <p:sp>
        <p:nvSpPr>
          <p:cNvPr id="787" name="Rectangle 3"/>
          <p:cNvSpPr/>
          <p:nvPr/>
        </p:nvSpPr>
        <p:spPr>
          <a:xfrm>
            <a:off x="1526040" y="6206040"/>
            <a:ext cx="78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хороны И. Стрельникова и Н. Буйневича в г. Имане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906120" cy="5906880"/>
          </a:xfrm>
          <a:prstGeom prst="rect">
            <a:avLst/>
          </a:prstGeom>
          <a:ln w="0">
            <a:noFill/>
          </a:ln>
        </p:spPr>
      </p:pic>
      <p:sp>
        <p:nvSpPr>
          <p:cNvPr id="789" name="Text Box 3"/>
          <p:cNvSpPr/>
          <p:nvPr/>
        </p:nvSpPr>
        <p:spPr>
          <a:xfrm>
            <a:off x="1568520" y="6165720"/>
            <a:ext cx="58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щание с  пограничниками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"/>
          <p:cNvPicPr/>
          <p:nvPr/>
        </p:nvPicPr>
        <p:blipFill>
          <a:blip r:embed="rId1"/>
          <a:srcRect l="0" t="1403" r="0" b="2805"/>
          <a:stretch/>
        </p:blipFill>
        <p:spPr>
          <a:xfrm>
            <a:off x="0" y="0"/>
            <a:ext cx="9906120" cy="554688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849240" y="5661000"/>
            <a:ext cx="848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цы и матери, сестры и невесты прощаются со своими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гибшими сыновьями, братьями, любимыми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4" descr=""/>
          <p:cNvPicPr/>
          <p:nvPr/>
        </p:nvPicPr>
        <p:blipFill>
          <a:blip r:embed="rId1"/>
          <a:srcRect l="13379" t="2853" r="5734" b="7133"/>
          <a:stretch/>
        </p:blipFill>
        <p:spPr>
          <a:xfrm>
            <a:off x="0" y="0"/>
            <a:ext cx="4965840" cy="68580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5"/>
          <p:cNvSpPr/>
          <p:nvPr/>
        </p:nvSpPr>
        <p:spPr>
          <a:xfrm>
            <a:off x="5604840" y="357156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7-го погранотряда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ковник Д. В. Лео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"/>
          <p:cNvPicPr/>
          <p:nvPr/>
        </p:nvPicPr>
        <p:blipFill>
          <a:blip r:embed="rId1"/>
          <a:srcRect l="3215" t="0" r="0" b="0"/>
          <a:stretch/>
        </p:blipFill>
        <p:spPr>
          <a:xfrm>
            <a:off x="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6105600" y="148248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полковник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 Д. Константинов,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явший командование после гибели Д.В. Леонова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5"/>
          <p:cNvSpPr/>
          <p:nvPr/>
        </p:nvSpPr>
        <p:spPr>
          <a:xfrm>
            <a:off x="0" y="2800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763" name="Picture 4" descr=""/>
          <p:cNvPicPr/>
          <p:nvPr/>
        </p:nvPicPr>
        <p:blipFill>
          <a:blip r:embed="rId1"/>
          <a:srcRect l="0" t="10545" r="0" b="7030"/>
          <a:stretch/>
        </p:blipFill>
        <p:spPr>
          <a:xfrm>
            <a:off x="272880" y="549360"/>
            <a:ext cx="9284040" cy="500832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653200" y="5919120"/>
            <a:ext cx="56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Даманский, май 1969 года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4" descr=""/>
          <p:cNvPicPr/>
          <p:nvPr/>
        </p:nvPicPr>
        <p:blipFill>
          <a:blip r:embed="rId1"/>
          <a:srcRect l="1755" t="2805" r="1755" b="2805"/>
          <a:stretch/>
        </p:blipFill>
        <p:spPr>
          <a:xfrm>
            <a:off x="0" y="268200"/>
            <a:ext cx="9906120" cy="5594400"/>
          </a:xfrm>
          <a:prstGeom prst="rect">
            <a:avLst/>
          </a:prstGeom>
          <a:ln w="0">
            <a:noFill/>
          </a:ln>
        </p:spPr>
      </p:pic>
      <p:sp>
        <p:nvSpPr>
          <p:cNvPr id="797" name="Text Box 5"/>
          <p:cNvSpPr/>
          <p:nvPr/>
        </p:nvSpPr>
        <p:spPr>
          <a:xfrm>
            <a:off x="3297240" y="602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лп «катюш»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2" descr=""/>
          <p:cNvPicPr/>
          <p:nvPr/>
        </p:nvPicPr>
        <p:blipFill>
          <a:blip r:embed="rId1"/>
          <a:srcRect l="1147" t="989" r="1147" b="989"/>
          <a:stretch/>
        </p:blipFill>
        <p:spPr>
          <a:xfrm>
            <a:off x="11160" y="0"/>
            <a:ext cx="5589720" cy="685800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3"/>
          <p:cNvSpPr/>
          <p:nvPr/>
        </p:nvSpPr>
        <p:spPr>
          <a:xfrm>
            <a:off x="6411600" y="4223520"/>
            <a:ext cx="305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ший лейтенант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ьковский Л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4" descr=""/>
          <p:cNvPicPr/>
          <p:nvPr/>
        </p:nvPicPr>
        <p:blipFill>
          <a:blip r:embed="rId1"/>
          <a:srcRect l="1226" t="1408" r="1226" b="28155"/>
          <a:stretch/>
        </p:blipFill>
        <p:spPr>
          <a:xfrm>
            <a:off x="0" y="0"/>
            <a:ext cx="9906120" cy="57420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5"/>
          <p:cNvSpPr/>
          <p:nvPr/>
        </p:nvSpPr>
        <p:spPr>
          <a:xfrm>
            <a:off x="415800" y="5853240"/>
            <a:ext cx="914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тели села Нижне-Михайловка Артемий Петрович,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надий и Дмитрий Авдеев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0" y="60300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нумент погибшим бойцам  на городском кладбище  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Дальнереченска. Открыт в 1980 г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11483"/>
          <a:stretch/>
        </p:blipFill>
        <p:spPr>
          <a:xfrm>
            <a:off x="380880" y="0"/>
            <a:ext cx="92394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2" descr=""/>
          <p:cNvPicPr/>
          <p:nvPr/>
        </p:nvPicPr>
        <p:blipFill>
          <a:blip r:embed="rId1"/>
          <a:srcRect l="0" t="3601" r="0" b="0"/>
          <a:stretch/>
        </p:blipFill>
        <p:spPr>
          <a:xfrm>
            <a:off x="0" y="-42840"/>
            <a:ext cx="990612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2" descr=""/>
          <p:cNvPicPr/>
          <p:nvPr/>
        </p:nvPicPr>
        <p:blipFill>
          <a:blip r:embed="rId1"/>
          <a:srcRect l="673" t="904" r="673" b="904"/>
          <a:stretch/>
        </p:blipFill>
        <p:spPr>
          <a:xfrm>
            <a:off x="0" y="0"/>
            <a:ext cx="99061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" descr=""/>
          <p:cNvPicPr/>
          <p:nvPr/>
        </p:nvPicPr>
        <p:blipFill>
          <a:blip r:embed="rId1"/>
          <a:srcRect l="0" t="3634" r="0" b="0"/>
          <a:stretch/>
        </p:blipFill>
        <p:spPr>
          <a:xfrm>
            <a:off x="0" y="-30240"/>
            <a:ext cx="990612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Рисунок 1" descr=""/>
          <p:cNvPicPr/>
          <p:nvPr/>
        </p:nvPicPr>
        <p:blipFill>
          <a:blip r:embed="rId1"/>
          <a:stretch/>
        </p:blipFill>
        <p:spPr>
          <a:xfrm>
            <a:off x="952560" y="0"/>
            <a:ext cx="809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Рисунок 4" descr=""/>
          <p:cNvPicPr/>
          <p:nvPr/>
        </p:nvPicPr>
        <p:blipFill>
          <a:blip r:embed="rId1"/>
          <a:srcRect l="2885" t="0" r="2885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5"/>
          <p:cNvSpPr/>
          <p:nvPr/>
        </p:nvSpPr>
        <p:spPr>
          <a:xfrm>
            <a:off x="345960" y="60922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кабрь  1968 г.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Рисунок 7" descr=""/>
          <p:cNvPicPr/>
          <p:nvPr/>
        </p:nvPicPr>
        <p:blipFill>
          <a:blip r:embed="rId1"/>
          <a:srcRect l="2857" t="4238" r="0" b="4238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7"/>
          <p:cNvSpPr/>
          <p:nvPr/>
        </p:nvSpPr>
        <p:spPr>
          <a:xfrm>
            <a:off x="7332840" y="2592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нварь 1969 г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rcRect l="5828" t="0" r="3885" b="0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4"/>
          <p:cNvSpPr/>
          <p:nvPr/>
        </p:nvSpPr>
        <p:spPr>
          <a:xfrm>
            <a:off x="5064120" y="3292560"/>
            <a:ext cx="48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 2-й погранзастав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ижне-Михайловская)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ший лейтенант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 И. Стрельников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4"/>
          <p:cNvSpPr/>
          <p:nvPr/>
        </p:nvSpPr>
        <p:spPr>
          <a:xfrm>
            <a:off x="6105600" y="386712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ший лейтенант политотдела погранотряда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йневич Н. 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772" name="Picture 5" descr=""/>
          <p:cNvPicPr/>
          <p:nvPr/>
        </p:nvPicPr>
        <p:blipFill>
          <a:blip r:embed="rId1"/>
          <a:srcRect l="1016" t="910" r="0" b="910"/>
          <a:stretch/>
        </p:blipFill>
        <p:spPr>
          <a:xfrm>
            <a:off x="7920" y="0"/>
            <a:ext cx="57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4" descr=""/>
          <p:cNvPicPr/>
          <p:nvPr/>
        </p:nvPicPr>
        <p:blipFill>
          <a:blip r:embed="rId1"/>
          <a:srcRect l="0" t="2029" r="2420" b="2029"/>
          <a:stretch/>
        </p:blipFill>
        <p:spPr>
          <a:xfrm>
            <a:off x="0" y="0"/>
            <a:ext cx="5911920" cy="685800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8"/>
          <p:cNvSpPr/>
          <p:nvPr/>
        </p:nvSpPr>
        <p:spPr>
          <a:xfrm>
            <a:off x="6689880" y="4005360"/>
            <a:ext cx="25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ядовой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Петров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Рисунок 1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Рисунок 17" descr=""/>
          <p:cNvPicPr/>
          <p:nvPr/>
        </p:nvPicPr>
        <p:blipFill>
          <a:blip r:embed="rId1"/>
          <a:stretch/>
        </p:blipFill>
        <p:spPr>
          <a:xfrm>
            <a:off x="0" y="-123840"/>
            <a:ext cx="990612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2:00:53Z</dcterms:created>
  <dc:creator>User</dc:creator>
  <dc:description/>
  <dc:language>en-US</dc:language>
  <cp:lastModifiedBy>User</cp:lastModifiedBy>
  <dcterms:modified xsi:type="dcterms:W3CDTF">2015-04-30T03:54:33Z</dcterms:modified>
  <cp:revision>33</cp:revision>
  <dc:subject/>
  <dc:title>Слайд 1</dc:title>
</cp:coreProperties>
</file>