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9EE-AC9A-426B-AEE9-1BFF138D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E69-72D1-49DA-BCC9-01C5F7CE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8C7F0-3DF4-4D53-A167-1AEC15BD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B9D72-F7E9-47B5-826C-EDF560E2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1809D-7868-4F38-AA83-9DE9D926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FAEB9-FD21-411B-95FB-11E6870F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E44EF-C625-4B6D-87E3-85976704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1A52C-4F0E-4B4A-87D8-8F0F63C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6238F-2B06-4653-9BCD-FF0A233D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3934A-DB28-4808-B332-66D74F2A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DE38B-3E8F-4A25-94D1-DF161DE7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A3393-6573-46BD-B6F0-DFD4EA26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B7C-963D-49DF-B37D-7A86466E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6B815-3EDC-4FBF-866D-7ED08653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2AD7B-065E-46F5-92D9-1558F29E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1150F-8991-4141-BBD4-1B468F27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DB1C6-DE9F-4881-9819-791B007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694A6-93C9-4E6D-A13F-D9649E6D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360C0-CA41-4E6E-B88C-58E0E3B9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7A806-4A06-4A4F-BE6D-D2A24B1C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F606B-B1E0-45BC-9682-FA04282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F7F5A-6A44-4136-9B74-6B85B6F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3EDF1-782D-4F8E-94BB-7AE874A9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D11-6318-471E-BC5C-C9C08A7D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C5C4C-9258-46F0-A30C-1DBA1DEB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9C65D-1C8B-4581-9F6A-06918784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10703-4D7D-4AE8-9975-00258EA5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77D30-8935-45F7-AFFC-A06A44F1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1C30A-4770-4103-9A03-414D2CF4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086E2-DE30-4273-8997-D4798C6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4C7C3-2CAE-40E8-81F8-794335E9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FC28B-9232-4998-908B-E6E94157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28A08-CABC-4109-8CFE-6375C5F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7893F-5F1E-4E6A-A1A1-645C334B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0916-5EAB-4F45-B6A5-E9926413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4C828-B46F-4FED-AD68-73173FFB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7E808-4A59-4CC9-8063-FE1E2F02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0DCFF-255E-416F-B6D8-EBDDA5D4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EDE56-85AC-4F2E-B32C-8FD238FD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2E4D3-BCF2-4FD9-92A2-2CAA40D4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0B1C2-4A71-496C-BD9C-26B1E5D7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D2D1D-5C88-4E9D-B2C8-AAD91F68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54FFA-1976-4C50-9209-429E1B29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AE51A-1760-4F48-BE9D-1AB809FF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EF10F-E6A5-4F78-8654-2E4CAA25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0BF9-1515-44C3-A0CD-5906CED6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5D9EC-0D83-4F6F-8969-37D5DAC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1837A-6724-4868-B57C-E7E782CA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8DC98-508E-4BA8-8896-B5316543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402BC-33D7-4412-A51C-E4AB3460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B0F0D-5606-4F90-9D23-41FBDAEC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2987-A99B-471D-914D-0E9A0E3B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833F-0713-4B0B-B6AA-257626F3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5284-A74D-4B7C-984E-35237583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2766-0BE0-479F-86CB-BF1EE594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EE37-3357-4A25-82EF-0616950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389-14B5-420B-B36A-12180C3A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8943-EC5F-4F60-BB0F-8E5A5359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15A0-3E7E-4109-A88A-31A8D0B6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604D-B624-48D4-84C3-BAD243CE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9E16-ED0D-4285-8F8B-6514579C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AB98-940D-40D9-90D3-2150DE52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0B84-D99F-4F1D-BF4D-5DE936EB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F4F1-CA81-475F-A843-8A096C44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999A-1638-4D8B-BACC-F8A2B5FA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14DF-2DD5-4758-B1A7-A169D533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CFFA-9C35-42FD-83EE-FC610413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A0E-4FC3-4494-BE49-69848203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98B4-A646-4819-A85E-EDFB3E70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36F7-7435-430F-9CA2-A5CA098A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8E88-18F9-423B-85D6-00E14CC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66C9-8F0C-436C-B202-ABB9D38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C760-573A-41F7-8784-48E2B00F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74C4-116E-44CA-BBD8-79E468A3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4B82-90CD-44EC-834E-71B8E15A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46818-34B7-44D5-B517-19E86EFC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2125-B39F-4298-9472-8F87F4E7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27DF-3812-4984-B7F8-6BEA13F4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688-358F-4ED2-B056-0D6FCD67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58B82-FB3B-4B23-8BE5-27D3AF0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E489-BEF3-4018-B9F4-6A25E25F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D680-8E3B-448A-A6B0-BA702F92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06366-316D-4FFC-9FE3-6B46D22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66D6-1C23-421B-A647-7EFD388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2CC92-FDC4-4D1F-9FD3-CE03AA32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282E-76A2-49B5-9E08-A20E4186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2FDC-22C6-414A-B9EA-3A81D224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6DCB-5DAD-4084-B1D2-384A3C21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32FD-6A81-4FB3-A4AF-C9966DE2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5F5-12D5-4874-BD96-893B39B9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D533E-8E9D-431F-AD2E-2598895B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50D06-A22E-4844-93BD-18D6EFA6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6141F-8C95-4E15-9538-2A7035D7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57E3-5D5B-4BFE-A3B5-3DDBD9BB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E7C1A-6D58-4F91-BA76-565B9117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F5AEF-A144-42EC-B8DE-9245F584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D1E4-C8B4-4686-9980-CBC0208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476D5-8F71-4C2C-86A8-53B25A0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ED2A6-83B7-4DC7-BD65-30BE48B6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B77CB-970A-46D7-9E48-3635E63D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F75-27F0-4FBB-B9ED-DC3C26EC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8852E-8119-4C6B-9048-2E5C750B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C02E3-9E43-41F1-ABB5-951D9F9B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945B-2AD2-4233-8370-1907022C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11DF-8D94-4FC5-A05B-9F0927EE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E735D-0A37-465F-8452-28B4D8AA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3D2B9-7E5F-42FF-B455-71CFA574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60458-EB1F-48D6-81BE-17982F8A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6F50-C7A2-4A85-ABD5-A9355514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5132F-B5C4-49D7-8BB3-ABA0923E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AC01F-DC4D-4E52-B028-428E5A9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435-215A-4A0E-95A8-2503E4DA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8388-C72B-455C-ACB5-A8BBBA49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25674-4C4C-4937-BC00-FAAEE7E3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AC0E-614A-45EF-A37B-1CD9C24F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7257-486A-43E9-8E4A-8443FC16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7A703-89A5-4ABE-B5BA-EE2F04C4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9A9ED-85FF-409D-8F47-A5EABD63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AA2E-758B-460E-AA1F-5ABD1590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A61F6-3F48-4D2D-809D-8A0A940E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7D27-6BEF-49E1-947B-7D9CFDC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705D-E6C6-4602-A09B-DDB401B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BD9-9244-4DE0-86D2-37C01557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BD246-33AB-4C3D-AB9F-CE93F3A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0EC1-975D-40D0-ADDF-42F55E5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716A-E1E4-43DD-B1E7-7C8EF461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0BC9-F869-4753-9C3C-98CABB2F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37A9F-2E99-497F-8A97-5EB49E9E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96867-7A5E-4A30-B340-EA52F5AD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D3184-BAD1-4BBF-ABA7-58CDE8D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29B26-38EB-4B90-BF2A-3BA82A99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AB40-E08F-40A5-B6CD-7E5434F5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C0862-1D77-425E-BF3C-B4B25A94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213-3FE2-44E1-99AC-BC99A5D2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42680" y="301320"/>
            <a:ext cx="842004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C39C8-F8D2-431C-99C5-EB1DEA89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CBF8A-58DE-46BA-A194-AFC5DC1A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487F5-3042-409A-B177-6BA78FA8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4F0A5-969C-4AB8-8952-414DE98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D48C5-FE55-43D1-9EA0-846E5506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9702D-A7A7-432D-BA7C-457B57F8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D255E-575C-4590-A111-835E0C14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D4552-0958-4C42-B680-0C29F88D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B7C2C-B11E-4B20-8F3A-48B52909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C54C4-B028-400B-ADD8-B01CEF4A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00400" y="-24120"/>
            <a:ext cx="3105360" cy="3278160"/>
            <a:chOff x="6800400" y="-24120"/>
            <a:chExt cx="3105360" cy="3278160"/>
          </a:xfrm>
        </p:grpSpPr>
        <p:grpSp>
          <p:nvGrpSpPr>
            <p:cNvPr id="1" name="Group 3"/>
            <p:cNvGrpSpPr/>
            <p:nvPr/>
          </p:nvGrpSpPr>
          <p:grpSpPr>
            <a:xfrm>
              <a:off x="8197920" y="2500200"/>
              <a:ext cx="1088640" cy="753840"/>
              <a:chOff x="8197920" y="2500200"/>
              <a:chExt cx="108864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8197920" y="250020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8590320" y="2829600"/>
                <a:ext cx="26496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8448480" y="1443600"/>
              <a:ext cx="1088640" cy="753840"/>
              <a:chOff x="8448480" y="1443600"/>
              <a:chExt cx="108864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8448480" y="144360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840880" y="1771920"/>
                <a:ext cx="26496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856560" y="0"/>
              <a:ext cx="1088640" cy="753840"/>
              <a:chOff x="6856560" y="0"/>
              <a:chExt cx="108864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856560" y="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7248960" y="329400"/>
                <a:ext cx="26496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800400" y="-24120"/>
              <a:ext cx="3105360" cy="2274120"/>
              <a:chOff x="6800400" y="-24120"/>
              <a:chExt cx="3105360" cy="22741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7573680" y="402840"/>
                <a:ext cx="1623600" cy="1104480"/>
                <a:chOff x="7573680" y="402840"/>
                <a:chExt cx="162360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7573680" y="402840"/>
                  <a:ext cx="162360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8194680" y="807120"/>
                  <a:ext cx="32256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800400" y="-24120"/>
                <a:ext cx="3097800" cy="2274120"/>
                <a:chOff x="6800400" y="-24120"/>
                <a:chExt cx="3097800" cy="22741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8513640" y="838800"/>
                  <a:ext cx="1112040" cy="1153080"/>
                  <a:chOff x="8513640" y="838800"/>
                  <a:chExt cx="1112040" cy="11530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8443800" y="1126800"/>
                    <a:ext cx="8838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9127080" y="1592640"/>
                    <a:ext cx="471600" cy="272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8502840" y="748800"/>
                  <a:ext cx="1360080" cy="1086840"/>
                  <a:chOff x="8502840" y="748800"/>
                  <a:chExt cx="1360080" cy="10868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8462520" y="1022040"/>
                    <a:ext cx="10080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9289800" y="1425240"/>
                    <a:ext cx="5418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8496720" y="718560"/>
                  <a:ext cx="1387440" cy="854640"/>
                  <a:chOff x="8496720" y="718560"/>
                  <a:chExt cx="1387440" cy="85464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8480880" y="924840"/>
                    <a:ext cx="96624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9339120" y="1226520"/>
                    <a:ext cx="51768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8492040" y="685080"/>
                  <a:ext cx="1406160" cy="686520"/>
                  <a:chOff x="8492040" y="685080"/>
                  <a:chExt cx="1406160" cy="68652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8496720" y="82440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9368280" y="1037160"/>
                    <a:ext cx="501120" cy="26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8507520" y="653400"/>
                  <a:ext cx="1323360" cy="424440"/>
                  <a:chOff x="8507520" y="653400"/>
                  <a:chExt cx="1323360" cy="4244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8514720" y="710280"/>
                    <a:ext cx="8586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9354240" y="800280"/>
                    <a:ext cx="46188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8528400" y="632160"/>
                  <a:ext cx="1198080" cy="185400"/>
                  <a:chOff x="8528400" y="632160"/>
                  <a:chExt cx="1198080" cy="18540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8529480" y="655200"/>
                    <a:ext cx="78084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9304920" y="637200"/>
                    <a:ext cx="4190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8500680" y="416160"/>
                  <a:ext cx="1063080" cy="336240"/>
                  <a:chOff x="8500680" y="416160"/>
                  <a:chExt cx="1063080" cy="336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8503560" y="567360"/>
                    <a:ext cx="68580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9180000" y="456120"/>
                    <a:ext cx="3682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7096680" y="901440"/>
                  <a:ext cx="1113120" cy="1152720"/>
                  <a:chOff x="7096680" y="901440"/>
                  <a:chExt cx="1113120" cy="11527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7394400" y="1189440"/>
                    <a:ext cx="88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7122600" y="1654200"/>
                    <a:ext cx="474480" cy="271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836400" y="838440"/>
                  <a:ext cx="1359720" cy="1087200"/>
                  <a:chOff x="6836400" y="838440"/>
                  <a:chExt cx="1359720" cy="10872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7226640" y="1112040"/>
                    <a:ext cx="100944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867360" y="1515960"/>
                    <a:ext cx="54108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815520" y="810360"/>
                  <a:ext cx="1387440" cy="854640"/>
                  <a:chOff x="6815520" y="810360"/>
                  <a:chExt cx="1387440" cy="85464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7252200" y="1016280"/>
                    <a:ext cx="96516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841080" y="1323360"/>
                    <a:ext cx="5169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800400" y="776520"/>
                  <a:ext cx="1405800" cy="685440"/>
                  <a:chOff x="6800400" y="776520"/>
                  <a:chExt cx="1405800" cy="68544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7270560" y="916200"/>
                    <a:ext cx="9320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829200" y="1124640"/>
                    <a:ext cx="50004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868800" y="745200"/>
                  <a:ext cx="1322640" cy="423000"/>
                  <a:chOff x="6868800" y="745200"/>
                  <a:chExt cx="1322640" cy="4230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7326360" y="802080"/>
                    <a:ext cx="85824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883200" y="893160"/>
                    <a:ext cx="461520" cy="24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973200" y="722160"/>
                  <a:ext cx="1198440" cy="185760"/>
                  <a:chOff x="6973200" y="722160"/>
                  <a:chExt cx="1198440" cy="18576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7389360" y="745200"/>
                    <a:ext cx="78084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975000" y="727200"/>
                    <a:ext cx="419040" cy="175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7136280" y="506520"/>
                  <a:ext cx="1062720" cy="336600"/>
                  <a:chOff x="7136280" y="506520"/>
                  <a:chExt cx="1062720" cy="336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7509600" y="654840"/>
                    <a:ext cx="68580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7151040" y="546480"/>
                    <a:ext cx="3682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7194600" y="385560"/>
                  <a:ext cx="1042920" cy="466560"/>
                  <a:chOff x="7194600" y="385560"/>
                  <a:chExt cx="1042920" cy="46656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7554960" y="620640"/>
                    <a:ext cx="6850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7213320" y="446040"/>
                    <a:ext cx="3679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7319160" y="214920"/>
                  <a:ext cx="970200" cy="649080"/>
                  <a:chOff x="7319160" y="214920"/>
                  <a:chExt cx="970200" cy="6490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631640" y="573480"/>
                    <a:ext cx="6850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7335000" y="302040"/>
                    <a:ext cx="36540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7444800" y="46440"/>
                  <a:ext cx="886320" cy="790560"/>
                  <a:chOff x="7444800" y="46440"/>
                  <a:chExt cx="886320" cy="7905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697520" y="500400"/>
                    <a:ext cx="69372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7450920" y="153720"/>
                    <a:ext cx="3769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711560" y="11880"/>
                  <a:ext cx="639360" cy="791640"/>
                  <a:chOff x="7711560" y="11880"/>
                  <a:chExt cx="639360" cy="7916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867440" y="473040"/>
                    <a:ext cx="565200" cy="118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720560" y="95760"/>
                    <a:ext cx="303120" cy="189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900200" y="-24120"/>
                  <a:ext cx="491400" cy="813240"/>
                  <a:chOff x="7900200" y="-24120"/>
                  <a:chExt cx="491400" cy="8132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965360" y="454320"/>
                    <a:ext cx="543240" cy="119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894080" y="52200"/>
                    <a:ext cx="292320" cy="187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8444160" y="268200"/>
                  <a:ext cx="1039680" cy="474480"/>
                  <a:chOff x="8444160" y="268200"/>
                  <a:chExt cx="1039680" cy="4744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8440200" y="509040"/>
                    <a:ext cx="6742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9102240" y="329760"/>
                    <a:ext cx="3621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8384760" y="128520"/>
                  <a:ext cx="986400" cy="626400"/>
                  <a:chOff x="8384760" y="128520"/>
                  <a:chExt cx="986400" cy="6264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8361720" y="470520"/>
                    <a:ext cx="685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984160" y="212760"/>
                    <a:ext cx="3690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8060400" y="483480"/>
                  <a:ext cx="527040" cy="80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8062560" y="92520"/>
                  <a:ext cx="282240" cy="13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8314200" y="-13320"/>
                  <a:ext cx="523800" cy="794520"/>
                  <a:chOff x="8314200" y="-13320"/>
                  <a:chExt cx="523800" cy="7945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8205480" y="462960"/>
                    <a:ext cx="544320" cy="101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8557560" y="72720"/>
                    <a:ext cx="290880" cy="15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8318520" y="33480"/>
                  <a:ext cx="825840" cy="755280"/>
                  <a:chOff x="8318520" y="33480"/>
                  <a:chExt cx="825840" cy="75528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8280360" y="449640"/>
                    <a:ext cx="591480" cy="147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793360" y="112680"/>
                    <a:ext cx="317160" cy="22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8354160" y="-1440"/>
                  <a:ext cx="188280" cy="746640"/>
                  <a:chOff x="8354160" y="-1440"/>
                  <a:chExt cx="18828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8167680" y="475920"/>
                    <a:ext cx="489240" cy="46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8354520" y="95400"/>
                    <a:ext cx="26208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7280640" y="926280"/>
                  <a:ext cx="957600" cy="1258560"/>
                  <a:chOff x="7280640" y="926280"/>
                  <a:chExt cx="957600" cy="12585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7467480" y="1249920"/>
                    <a:ext cx="8848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7290720" y="1773000"/>
                    <a:ext cx="480960" cy="273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607520" y="977040"/>
                  <a:ext cx="647640" cy="1254600"/>
                  <a:chOff x="7607520" y="977040"/>
                  <a:chExt cx="647640" cy="125460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7605720" y="1303920"/>
                    <a:ext cx="82404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7598520" y="1843560"/>
                    <a:ext cx="433800" cy="271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926120" y="1000080"/>
                  <a:ext cx="382680" cy="1220760"/>
                  <a:chOff x="7926120" y="1000080"/>
                  <a:chExt cx="382680" cy="12207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763400" y="1322640"/>
                    <a:ext cx="7855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877160" y="1867680"/>
                    <a:ext cx="42084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8471520" y="905040"/>
                  <a:ext cx="994680" cy="1239840"/>
                  <a:chOff x="8471520" y="905040"/>
                  <a:chExt cx="994680" cy="12398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8367840" y="1221480"/>
                    <a:ext cx="8845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975880" y="1737000"/>
                    <a:ext cx="474840" cy="27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8452080" y="954360"/>
                  <a:ext cx="768960" cy="1266480"/>
                  <a:chOff x="8452080" y="954360"/>
                  <a:chExt cx="768960" cy="126648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8296560" y="1284840"/>
                    <a:ext cx="8438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774280" y="1833120"/>
                    <a:ext cx="457200" cy="25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8415360" y="1003320"/>
                  <a:ext cx="535680" cy="1246680"/>
                  <a:chOff x="8415360" y="1003320"/>
                  <a:chExt cx="535680" cy="124668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8200080" y="1345680"/>
                    <a:ext cx="820440" cy="136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8558640" y="1899360"/>
                    <a:ext cx="441000" cy="214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8383320" y="1058040"/>
                  <a:ext cx="308160" cy="1157760"/>
                  <a:chOff x="8383320" y="1058040"/>
                  <a:chExt cx="308160" cy="11577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8129160" y="1371600"/>
                    <a:ext cx="751680" cy="136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8352000" y="1891440"/>
                    <a:ext cx="407880" cy="213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8127360" y="1077480"/>
                  <a:ext cx="295200" cy="1132200"/>
                  <a:chOff x="8127360" y="1077480"/>
                  <a:chExt cx="295200" cy="113220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957440" y="1402200"/>
                    <a:ext cx="748440" cy="105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8029080" y="1920240"/>
                    <a:ext cx="399960" cy="163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903440" y="1222560"/>
                <a:ext cx="27036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7415280" y="948960"/>
                <a:ext cx="118080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8478360" y="233640"/>
                <a:ext cx="14274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7533360" y="759240"/>
                <a:ext cx="6901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7044480" y="821880"/>
                <a:ext cx="11214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945840" y="599400"/>
                <a:ext cx="132264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8408880" y="770760"/>
                <a:ext cx="2109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8464320" y="765720"/>
                <a:ext cx="55836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8513640" y="605880"/>
                <a:ext cx="7923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8667000" y="1351800"/>
                <a:ext cx="26784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8245800" y="1103040"/>
                <a:ext cx="247680" cy="4262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870600" y="417600"/>
                <a:ext cx="14104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7268760" y="159480"/>
                <a:ext cx="102528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8366400" y="657000"/>
                <a:ext cx="42408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7099560" y="1283760"/>
                <a:ext cx="5965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7384680" y="457920"/>
                <a:ext cx="3870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831800" y="225000"/>
                <a:ext cx="231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9275040" y="1170000"/>
                <a:ext cx="55692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985960" y="753840"/>
                <a:ext cx="8478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9016920" y="172440"/>
                <a:ext cx="36864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8654040" y="783360"/>
                <a:ext cx="2505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775640" y="770400"/>
                <a:ext cx="23940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627-7D7C-4C74-B630-C998BA0D329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AEDC-98FE-47AA-9152-C2C6C515758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681C-34BE-4B29-A6B1-19133E9DD40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423C-8E77-4525-AA9E-1F7D82C38127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186640" y="240120"/>
            <a:ext cx="7462800" cy="5463360"/>
            <a:chOff x="2186640" y="240120"/>
            <a:chExt cx="7462800" cy="5463360"/>
          </a:xfrm>
        </p:grpSpPr>
        <p:grpSp>
          <p:nvGrpSpPr>
            <p:cNvPr id="177" name="Group 3"/>
            <p:cNvGrpSpPr/>
            <p:nvPr/>
          </p:nvGrpSpPr>
          <p:grpSpPr>
            <a:xfrm>
              <a:off x="3777120" y="948960"/>
              <a:ext cx="1015920" cy="710640"/>
              <a:chOff x="3777120" y="948960"/>
              <a:chExt cx="1015920" cy="7106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777120" y="948960"/>
                <a:ext cx="1015920" cy="7106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4147200" y="1261080"/>
                <a:ext cx="24192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186640" y="240120"/>
              <a:ext cx="7462800" cy="5463360"/>
              <a:chOff x="2186640" y="240120"/>
              <a:chExt cx="7462800" cy="546336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186640" y="240120"/>
                <a:ext cx="7450200" cy="5463360"/>
                <a:chOff x="2186640" y="240120"/>
                <a:chExt cx="7450200" cy="546336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4047840" y="1267920"/>
                  <a:ext cx="3899880" cy="2649240"/>
                  <a:chOff x="4047840" y="1267920"/>
                  <a:chExt cx="3899880" cy="26492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4047840" y="1267920"/>
                    <a:ext cx="3899880" cy="2649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537520" y="2235240"/>
                    <a:ext cx="77076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186640" y="240120"/>
                  <a:ext cx="7450200" cy="5463360"/>
                  <a:chOff x="2186640" y="240120"/>
                  <a:chExt cx="7450200" cy="546336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6312240" y="2304000"/>
                    <a:ext cx="2666880" cy="2773440"/>
                    <a:chOff x="6312240" y="2304000"/>
                    <a:chExt cx="2666880" cy="27734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6147000" y="2994480"/>
                      <a:ext cx="21207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778880" y="4117320"/>
                      <a:ext cx="1136160" cy="65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6280200" y="2089440"/>
                    <a:ext cx="3271320" cy="2617200"/>
                    <a:chOff x="6280200" y="2089440"/>
                    <a:chExt cx="3271320" cy="26172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6183000" y="2747160"/>
                      <a:ext cx="2426040" cy="42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8175600" y="3722400"/>
                      <a:ext cx="130104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6267240" y="2021760"/>
                    <a:ext cx="3333960" cy="2053440"/>
                    <a:chOff x="6267240" y="2021760"/>
                    <a:chExt cx="3333960" cy="20534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6229440" y="2516760"/>
                      <a:ext cx="2316240" cy="373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8291520" y="3242160"/>
                      <a:ext cx="124380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6253200" y="1938600"/>
                    <a:ext cx="3383640" cy="1652400"/>
                    <a:chOff x="6253200" y="1938600"/>
                    <a:chExt cx="3383640" cy="165240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6262560" y="2274480"/>
                      <a:ext cx="2240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8362440" y="2767320"/>
                      <a:ext cx="1202400" cy="65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6293160" y="1867680"/>
                    <a:ext cx="3179160" cy="1015200"/>
                    <a:chOff x="6293160" y="1867680"/>
                    <a:chExt cx="3179160" cy="10152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6309720" y="2004480"/>
                      <a:ext cx="206280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8327880" y="2207880"/>
                      <a:ext cx="110880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6340320" y="1810800"/>
                    <a:ext cx="2880000" cy="446760"/>
                    <a:chOff x="6340320" y="1810800"/>
                    <a:chExt cx="2880000" cy="4467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6343200" y="1847160"/>
                      <a:ext cx="18766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8207640" y="1823040"/>
                      <a:ext cx="100728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6273000" y="1293120"/>
                    <a:ext cx="2553840" cy="809280"/>
                    <a:chOff x="6273000" y="1293120"/>
                    <a:chExt cx="2553840" cy="8092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6281280" y="1647360"/>
                      <a:ext cx="1649880" cy="267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907400" y="1389600"/>
                      <a:ext cx="8830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902320" y="2453400"/>
                    <a:ext cx="2673000" cy="2775600"/>
                    <a:chOff x="2902320" y="2453400"/>
                    <a:chExt cx="2673000" cy="27756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617280" y="3144960"/>
                      <a:ext cx="2123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964960" y="4267440"/>
                      <a:ext cx="1141200" cy="65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274120" y="2308320"/>
                    <a:ext cx="3273840" cy="2617920"/>
                    <a:chOff x="2274120" y="2308320"/>
                    <a:chExt cx="3273840" cy="26179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3216600" y="2966400"/>
                      <a:ext cx="242784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348280" y="3942000"/>
                      <a:ext cx="1301040" cy="671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222280" y="2238480"/>
                    <a:ext cx="3336120" cy="2055240"/>
                    <a:chOff x="2222280" y="2238480"/>
                    <a:chExt cx="3336120" cy="2055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277440" y="2733840"/>
                      <a:ext cx="231804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287800" y="3458880"/>
                      <a:ext cx="1244880" cy="588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186640" y="2158200"/>
                    <a:ext cx="3383640" cy="1649160"/>
                    <a:chOff x="2186640" y="2158200"/>
                    <a:chExt cx="3383640" cy="16491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320640" y="2494080"/>
                      <a:ext cx="22402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256480" y="2989440"/>
                      <a:ext cx="1202040" cy="647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350080" y="2087280"/>
                    <a:ext cx="3179880" cy="1011240"/>
                    <a:chOff x="2350080" y="2087280"/>
                    <a:chExt cx="3179880" cy="1011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450600" y="2223720"/>
                      <a:ext cx="2062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384640" y="2428560"/>
                      <a:ext cx="1108800" cy="59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603880" y="2030400"/>
                    <a:ext cx="2884320" cy="447480"/>
                    <a:chOff x="2603880" y="2030400"/>
                    <a:chExt cx="2884320" cy="44748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605400" y="2067120"/>
                      <a:ext cx="1879560" cy="268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608920" y="2042640"/>
                      <a:ext cx="100728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995560" y="1512000"/>
                    <a:ext cx="2556360" cy="811440"/>
                    <a:chOff x="2995560" y="1512000"/>
                    <a:chExt cx="2556360" cy="8114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894120" y="1868760"/>
                      <a:ext cx="1648440" cy="267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3032280" y="1608480"/>
                      <a:ext cx="883080" cy="42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3134160" y="1222200"/>
                    <a:ext cx="2510640" cy="1116360"/>
                    <a:chOff x="3134160" y="1222200"/>
                    <a:chExt cx="2510640" cy="11163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4006080" y="1784520"/>
                      <a:ext cx="1647000" cy="263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3179520" y="1368720"/>
                      <a:ext cx="88560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433320" y="809640"/>
                    <a:ext cx="2340720" cy="1559880"/>
                    <a:chOff x="3433320" y="809640"/>
                    <a:chExt cx="2340720" cy="15598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4190400" y="1668240"/>
                      <a:ext cx="16484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473640" y="1020600"/>
                      <a:ext cx="88560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735000" y="410040"/>
                    <a:ext cx="2136240" cy="1900440"/>
                    <a:chOff x="3735000" y="410040"/>
                    <a:chExt cx="2136240" cy="190044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343760" y="1497960"/>
                      <a:ext cx="167364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753000" y="664200"/>
                      <a:ext cx="89748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377960" y="323280"/>
                    <a:ext cx="1536480" cy="1905480"/>
                    <a:chOff x="4377960" y="323280"/>
                    <a:chExt cx="1536480" cy="19054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753080" y="1433520"/>
                      <a:ext cx="1357200" cy="287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396680" y="527400"/>
                      <a:ext cx="730440" cy="44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831560" y="240120"/>
                    <a:ext cx="1183680" cy="1957680"/>
                    <a:chOff x="4831560" y="240120"/>
                    <a:chExt cx="1183680" cy="19576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989960" y="1392480"/>
                      <a:ext cx="1307880" cy="287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819320" y="422640"/>
                      <a:ext cx="703080" cy="455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6138000" y="935640"/>
                    <a:ext cx="2496240" cy="1153800"/>
                    <a:chOff x="6138000" y="935640"/>
                    <a:chExt cx="2496240" cy="11538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6127560" y="1520280"/>
                      <a:ext cx="1649880" cy="26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703640" y="1086120"/>
                      <a:ext cx="88308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997960" y="604800"/>
                    <a:ext cx="2363400" cy="1504440"/>
                    <a:chOff x="5997960" y="604800"/>
                    <a:chExt cx="2363400" cy="150444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942520" y="1425960"/>
                      <a:ext cx="16513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7434720" y="807120"/>
                      <a:ext cx="88308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5211360" y="1456560"/>
                    <a:ext cx="1265760" cy="194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5220720" y="523080"/>
                    <a:ext cx="681120" cy="304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835960" y="263880"/>
                    <a:ext cx="1254240" cy="1906200"/>
                    <a:chOff x="5835960" y="263880"/>
                    <a:chExt cx="1254240" cy="19062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574960" y="1403280"/>
                      <a:ext cx="1311120" cy="24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6409800" y="473040"/>
                      <a:ext cx="706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834520" y="371160"/>
                    <a:ext cx="1994040" cy="1823400"/>
                    <a:chOff x="5834520" y="371160"/>
                    <a:chExt cx="1994040" cy="1823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745240" y="1374120"/>
                      <a:ext cx="1423440" cy="361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974640" y="561240"/>
                      <a:ext cx="768600" cy="56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917320" y="287280"/>
                    <a:ext cx="457560" cy="1797840"/>
                    <a:chOff x="5917320" y="287280"/>
                    <a:chExt cx="457560" cy="17978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472000" y="1436040"/>
                      <a:ext cx="1175400" cy="117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925240" y="523080"/>
                      <a:ext cx="631440" cy="17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353760" y="2510640"/>
                    <a:ext cx="2298960" cy="3029760"/>
                    <a:chOff x="3353760" y="2510640"/>
                    <a:chExt cx="2298960" cy="30297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797280" y="3290040"/>
                      <a:ext cx="213084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379680" y="4560840"/>
                      <a:ext cx="1141200" cy="651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4124880" y="2639880"/>
                    <a:ext cx="1556640" cy="3019320"/>
                    <a:chOff x="4124880" y="2639880"/>
                    <a:chExt cx="1556640" cy="30193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4127760" y="3422520"/>
                      <a:ext cx="19717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4098960" y="4718880"/>
                      <a:ext cx="1057320" cy="65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884480" y="2696400"/>
                    <a:ext cx="918000" cy="2924640"/>
                    <a:chOff x="4884480" y="2696400"/>
                    <a:chExt cx="918000" cy="29246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491720" y="3474000"/>
                      <a:ext cx="1890360" cy="371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764960" y="4771440"/>
                      <a:ext cx="1013040" cy="590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6213960" y="2463840"/>
                    <a:ext cx="2378880" cy="2984760"/>
                    <a:chOff x="6213960" y="2463840"/>
                    <a:chExt cx="2378880" cy="29847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963400" y="3227040"/>
                      <a:ext cx="21319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7414920" y="4471560"/>
                      <a:ext cx="1142280" cy="651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6162120" y="2584080"/>
                    <a:ext cx="1840320" cy="3051000"/>
                    <a:chOff x="6162120" y="2584080"/>
                    <a:chExt cx="1840320" cy="30510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792040" y="3378240"/>
                      <a:ext cx="2033280" cy="397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926760" y="4694040"/>
                      <a:ext cx="1091880" cy="62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6068160" y="2705400"/>
                    <a:ext cx="1288800" cy="2998080"/>
                    <a:chOff x="6068160" y="2705400"/>
                    <a:chExt cx="1288800" cy="29980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551920" y="3527640"/>
                      <a:ext cx="1971720" cy="328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6415560" y="4862520"/>
                      <a:ext cx="1057320" cy="51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997960" y="2831400"/>
                    <a:ext cx="730440" cy="2791800"/>
                    <a:chOff x="5997960" y="2831400"/>
                    <a:chExt cx="730440" cy="27918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5385240" y="3588120"/>
                      <a:ext cx="1813680" cy="32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916600" y="4847040"/>
                      <a:ext cx="973440" cy="51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5386680" y="2884680"/>
                    <a:ext cx="703080" cy="2718000"/>
                    <a:chOff x="5386680" y="2884680"/>
                    <a:chExt cx="703080" cy="271800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986720" y="3652560"/>
                      <a:ext cx="1771920" cy="252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5157000" y="4912200"/>
                      <a:ext cx="949680" cy="395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356200" y="680400"/>
                <a:ext cx="7293240" cy="4520520"/>
                <a:chOff x="2356200" y="680400"/>
                <a:chExt cx="7293240" cy="452052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356200" y="680400"/>
                  <a:ext cx="7293240" cy="4520520"/>
                  <a:chOff x="2356200" y="680400"/>
                  <a:chExt cx="7293240" cy="452052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6217200" y="852480"/>
                    <a:ext cx="3432240" cy="25272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774520" y="2265840"/>
                    <a:ext cx="2690640" cy="29350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6304320" y="1746360"/>
                    <a:ext cx="1903680" cy="2936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356200" y="1296000"/>
                    <a:ext cx="3393360" cy="29365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312000" y="680400"/>
                    <a:ext cx="2469960" cy="28425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946120" y="1872360"/>
                    <a:ext cx="1023120" cy="28425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660200" y="830880"/>
                    <a:ext cx="558360" cy="18842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639120" y="2178000"/>
                  <a:ext cx="590400" cy="10314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545920" y="743760"/>
              <a:ext cx="6949080" cy="4716360"/>
              <a:chOff x="2545920" y="743760"/>
              <a:chExt cx="6949080" cy="47163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857480" y="3270240"/>
                <a:ext cx="648000" cy="1827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677040" y="2613960"/>
                <a:ext cx="2836440" cy="284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963240" y="2155680"/>
                <a:ext cx="1659240" cy="29390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545560" y="1771560"/>
                <a:ext cx="3171960" cy="2939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6064200" y="2184120"/>
                <a:ext cx="506160" cy="29390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6196320" y="2170440"/>
                <a:ext cx="1339920" cy="2939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681240" y="3582720"/>
                <a:ext cx="645120" cy="1827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671080" y="2981160"/>
                <a:ext cx="590400" cy="10353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922480" y="3419640"/>
                <a:ext cx="1453320" cy="1882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607560" y="1430640"/>
                <a:ext cx="928440" cy="1882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8151120" y="3142800"/>
                <a:ext cx="1343880" cy="1976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7450920" y="2143440"/>
                <a:ext cx="2025360" cy="1317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7524720" y="743760"/>
                <a:ext cx="888120" cy="177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544640" y="2187720"/>
                <a:ext cx="590400" cy="1033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FDB2-B167-446D-80C0-E3A31FA0791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02B5-52CA-40CB-BC49-0AC4DD6549A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A17-9BCF-4262-83E2-362B74599DB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16D2-14C9-44AB-A24C-D1FC63645E8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B6C9-C637-4E4F-85A3-A05966289C7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021F-F3A4-4987-87BB-F434FCF54C0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02D-4300-43C7-B894-BF5AA1F3320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AB72-27AF-4969-8984-4F2FFEF7CAF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Box 3"/>
          <p:cNvSpPr/>
          <p:nvPr/>
        </p:nvSpPr>
        <p:spPr>
          <a:xfrm>
            <a:off x="1701720" y="500040"/>
            <a:ext cx="650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53f00"/>
                </a:solidFill>
                <a:latin typeface="Times New Roman"/>
              </a:rPr>
              <a:t>Остров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53f00"/>
                </a:solidFill>
                <a:latin typeface="Times New Roman"/>
              </a:rPr>
              <a:t>Даманский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1" name="TextBox 4"/>
          <p:cNvSpPr/>
          <p:nvPr/>
        </p:nvSpPr>
        <p:spPr>
          <a:xfrm>
            <a:off x="3987720" y="42861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еоурок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Рисунок 20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rcRect l="5770" t="4198" r="5770" b="2799"/>
          <a:stretch/>
        </p:blipFill>
        <p:spPr>
          <a:xfrm>
            <a:off x="476244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12"/>
          <p:cNvSpPr/>
          <p:nvPr/>
        </p:nvSpPr>
        <p:spPr>
          <a:xfrm>
            <a:off x="755640" y="364572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сержант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. В. Бабанский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4" descr=""/>
          <p:cNvPicPr/>
          <p:nvPr/>
        </p:nvPicPr>
        <p:blipFill>
          <a:blip r:embed="rId1"/>
          <a:srcRect l="3872" t="4238" r="3872" b="0"/>
          <a:stretch/>
        </p:blipFill>
        <p:spPr>
          <a:xfrm>
            <a:off x="0" y="0"/>
            <a:ext cx="513720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5"/>
          <p:cNvSpPr/>
          <p:nvPr/>
        </p:nvSpPr>
        <p:spPr>
          <a:xfrm>
            <a:off x="5973480" y="3003840"/>
            <a:ext cx="356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-й погранзастав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«Сопки Кулебякины»)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йтенант В. Д. Бубенин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" descr=""/>
          <p:cNvPicPr/>
          <p:nvPr/>
        </p:nvPicPr>
        <p:blipFill>
          <a:blip r:embed="rId1"/>
          <a:srcRect l="3866" t="2300" r="0" b="29326"/>
          <a:stretch/>
        </p:blipFill>
        <p:spPr>
          <a:xfrm>
            <a:off x="0" y="0"/>
            <a:ext cx="6207120" cy="68580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rcRect l="0" t="76482" r="0" b="0"/>
          <a:stretch/>
        </p:blipFill>
        <p:spPr>
          <a:xfrm>
            <a:off x="4875120" y="2997360"/>
            <a:ext cx="5031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"/>
          <p:cNvPicPr/>
          <p:nvPr/>
        </p:nvPicPr>
        <p:blipFill>
          <a:blip r:embed="rId1"/>
          <a:srcRect l="10957" t="0" r="0" b="0"/>
          <a:stretch/>
        </p:blipFill>
        <p:spPr>
          <a:xfrm>
            <a:off x="0" y="0"/>
            <a:ext cx="4710240" cy="685800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3"/>
          <p:cNvSpPr/>
          <p:nvPr/>
        </p:nvSpPr>
        <p:spPr>
          <a:xfrm>
            <a:off x="5388480" y="364716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фрейтор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вел Акулов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127920"/>
          </a:xfrm>
          <a:prstGeom prst="rect">
            <a:avLst/>
          </a:prstGeom>
          <a:ln w="0">
            <a:noFill/>
          </a:ln>
        </p:spPr>
      </p:pic>
      <p:sp>
        <p:nvSpPr>
          <p:cNvPr id="787" name="Rectangle 3"/>
          <p:cNvSpPr/>
          <p:nvPr/>
        </p:nvSpPr>
        <p:spPr>
          <a:xfrm>
            <a:off x="1526040" y="6206040"/>
            <a:ext cx="78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хороны И. Стрельникова и Н. Буйневича в г. Имане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906120" cy="5906880"/>
          </a:xfrm>
          <a:prstGeom prst="rect">
            <a:avLst/>
          </a:prstGeom>
          <a:ln w="0">
            <a:noFill/>
          </a:ln>
        </p:spPr>
      </p:pic>
      <p:sp>
        <p:nvSpPr>
          <p:cNvPr id="789" name="Text Box 3"/>
          <p:cNvSpPr/>
          <p:nvPr/>
        </p:nvSpPr>
        <p:spPr>
          <a:xfrm>
            <a:off x="1568520" y="6165720"/>
            <a:ext cx="58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щание с  пограничниками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"/>
          <p:cNvPicPr/>
          <p:nvPr/>
        </p:nvPicPr>
        <p:blipFill>
          <a:blip r:embed="rId1"/>
          <a:srcRect l="0" t="1403" r="0" b="2805"/>
          <a:stretch/>
        </p:blipFill>
        <p:spPr>
          <a:xfrm>
            <a:off x="0" y="0"/>
            <a:ext cx="9906120" cy="554688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849240" y="5661000"/>
            <a:ext cx="848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цы и матери, сестры и невесты прощаются со своими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ибшими сыновьями, братьями, любимыми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4" descr=""/>
          <p:cNvPicPr/>
          <p:nvPr/>
        </p:nvPicPr>
        <p:blipFill>
          <a:blip r:embed="rId1"/>
          <a:srcRect l="13379" t="2853" r="5734" b="7133"/>
          <a:stretch/>
        </p:blipFill>
        <p:spPr>
          <a:xfrm>
            <a:off x="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5"/>
          <p:cNvSpPr/>
          <p:nvPr/>
        </p:nvSpPr>
        <p:spPr>
          <a:xfrm>
            <a:off x="5604840" y="3571560"/>
            <a:ext cx="366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7-го погранотряда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ковник Д. В. Лео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"/>
          <p:cNvPicPr/>
          <p:nvPr/>
        </p:nvPicPr>
        <p:blipFill>
          <a:blip r:embed="rId1"/>
          <a:srcRect l="3215" t="0" r="0" b="0"/>
          <a:stretch/>
        </p:blipFill>
        <p:spPr>
          <a:xfrm>
            <a:off x="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6105600" y="148248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полковник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 Д. Константинов,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явший командование после гибели Д.В. Леонова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5"/>
          <p:cNvSpPr/>
          <p:nvPr/>
        </p:nvSpPr>
        <p:spPr>
          <a:xfrm>
            <a:off x="0" y="2800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763" name="Picture 4" descr=""/>
          <p:cNvPicPr/>
          <p:nvPr/>
        </p:nvPicPr>
        <p:blipFill>
          <a:blip r:embed="rId1"/>
          <a:srcRect l="0" t="10545" r="0" b="7030"/>
          <a:stretch/>
        </p:blipFill>
        <p:spPr>
          <a:xfrm>
            <a:off x="272880" y="549360"/>
            <a:ext cx="9284040" cy="500832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653200" y="5919120"/>
            <a:ext cx="56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Даманский, май 1969 года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4" descr=""/>
          <p:cNvPicPr/>
          <p:nvPr/>
        </p:nvPicPr>
        <p:blipFill>
          <a:blip r:embed="rId1"/>
          <a:srcRect l="1755" t="2805" r="1755" b="2805"/>
          <a:stretch/>
        </p:blipFill>
        <p:spPr>
          <a:xfrm>
            <a:off x="0" y="268200"/>
            <a:ext cx="9906120" cy="559440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5"/>
          <p:cNvSpPr/>
          <p:nvPr/>
        </p:nvSpPr>
        <p:spPr>
          <a:xfrm>
            <a:off x="3297240" y="602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лп «катюш»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"/>
          <p:cNvPicPr/>
          <p:nvPr/>
        </p:nvPicPr>
        <p:blipFill>
          <a:blip r:embed="rId1"/>
          <a:srcRect l="1147" t="989" r="1147" b="989"/>
          <a:stretch/>
        </p:blipFill>
        <p:spPr>
          <a:xfrm>
            <a:off x="11160" y="0"/>
            <a:ext cx="5589720" cy="685800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3"/>
          <p:cNvSpPr/>
          <p:nvPr/>
        </p:nvSpPr>
        <p:spPr>
          <a:xfrm>
            <a:off x="6411600" y="4223520"/>
            <a:ext cx="30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ший лейтенант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ьковский Л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4" descr=""/>
          <p:cNvPicPr/>
          <p:nvPr/>
        </p:nvPicPr>
        <p:blipFill>
          <a:blip r:embed="rId1"/>
          <a:srcRect l="1226" t="1408" r="1226" b="28155"/>
          <a:stretch/>
        </p:blipFill>
        <p:spPr>
          <a:xfrm>
            <a:off x="0" y="0"/>
            <a:ext cx="9906120" cy="57420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5"/>
          <p:cNvSpPr/>
          <p:nvPr/>
        </p:nvSpPr>
        <p:spPr>
          <a:xfrm>
            <a:off x="415800" y="5853240"/>
            <a:ext cx="914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тели села Нижне-Михайловка Артемий Петрович,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надий и Дмитрий Авдеев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0" y="6030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нумент погибшим бойцам  на городском кладбище  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Дальнереченска. Открыт в 1980 г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11483"/>
          <a:stretch/>
        </p:blipFill>
        <p:spPr>
          <a:xfrm>
            <a:off x="380880" y="0"/>
            <a:ext cx="92394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2" descr=""/>
          <p:cNvPicPr/>
          <p:nvPr/>
        </p:nvPicPr>
        <p:blipFill>
          <a:blip r:embed="rId1"/>
          <a:srcRect l="0" t="3601" r="0" b="0"/>
          <a:stretch/>
        </p:blipFill>
        <p:spPr>
          <a:xfrm>
            <a:off x="0" y="-42840"/>
            <a:ext cx="990612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2" descr=""/>
          <p:cNvPicPr/>
          <p:nvPr/>
        </p:nvPicPr>
        <p:blipFill>
          <a:blip r:embed="rId1"/>
          <a:srcRect l="673" t="904" r="673" b="904"/>
          <a:stretch/>
        </p:blipFill>
        <p:spPr>
          <a:xfrm>
            <a:off x="0" y="0"/>
            <a:ext cx="99061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"/>
          <p:cNvPicPr/>
          <p:nvPr/>
        </p:nvPicPr>
        <p:blipFill>
          <a:blip r:embed="rId1"/>
          <a:srcRect l="0" t="3634" r="0" b="0"/>
          <a:stretch/>
        </p:blipFill>
        <p:spPr>
          <a:xfrm>
            <a:off x="0" y="-30240"/>
            <a:ext cx="990612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Рисунок 1" descr=""/>
          <p:cNvPicPr/>
          <p:nvPr/>
        </p:nvPicPr>
        <p:blipFill>
          <a:blip r:embed="rId1"/>
          <a:stretch/>
        </p:blipFill>
        <p:spPr>
          <a:xfrm>
            <a:off x="952560" y="0"/>
            <a:ext cx="809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Рисунок 4" descr=""/>
          <p:cNvPicPr/>
          <p:nvPr/>
        </p:nvPicPr>
        <p:blipFill>
          <a:blip r:embed="rId1"/>
          <a:srcRect l="2885" t="0" r="2885" b="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5"/>
          <p:cNvSpPr/>
          <p:nvPr/>
        </p:nvSpPr>
        <p:spPr>
          <a:xfrm>
            <a:off x="345960" y="60922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кабрь  1968 г.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Рисунок 7" descr=""/>
          <p:cNvPicPr/>
          <p:nvPr/>
        </p:nvPicPr>
        <p:blipFill>
          <a:blip r:embed="rId1"/>
          <a:srcRect l="2857" t="4238" r="0" b="4238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7"/>
          <p:cNvSpPr/>
          <p:nvPr/>
        </p:nvSpPr>
        <p:spPr>
          <a:xfrm>
            <a:off x="7332840" y="2592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нварь 1969 г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rcRect l="5828" t="0" r="3885" b="0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4"/>
          <p:cNvSpPr/>
          <p:nvPr/>
        </p:nvSpPr>
        <p:spPr>
          <a:xfrm>
            <a:off x="5064120" y="3292560"/>
            <a:ext cx="48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 2-й погранзаставы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ижне-Михайловская)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ший лейтенант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 И. Стрельников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4"/>
          <p:cNvSpPr/>
          <p:nvPr/>
        </p:nvSpPr>
        <p:spPr>
          <a:xfrm>
            <a:off x="6105600" y="386712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ший лейтенант политотдела погранотряда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йневич Н. 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772" name="Picture 5" descr=""/>
          <p:cNvPicPr/>
          <p:nvPr/>
        </p:nvPicPr>
        <p:blipFill>
          <a:blip r:embed="rId1"/>
          <a:srcRect l="1016" t="910" r="0" b="910"/>
          <a:stretch/>
        </p:blipFill>
        <p:spPr>
          <a:xfrm>
            <a:off x="7920" y="0"/>
            <a:ext cx="57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4" descr=""/>
          <p:cNvPicPr/>
          <p:nvPr/>
        </p:nvPicPr>
        <p:blipFill>
          <a:blip r:embed="rId1"/>
          <a:srcRect l="0" t="2029" r="2420" b="2029"/>
          <a:stretch/>
        </p:blipFill>
        <p:spPr>
          <a:xfrm>
            <a:off x="0" y="0"/>
            <a:ext cx="5911920" cy="685800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8"/>
          <p:cNvSpPr/>
          <p:nvPr/>
        </p:nvSpPr>
        <p:spPr>
          <a:xfrm>
            <a:off x="6689880" y="4005360"/>
            <a:ext cx="25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ядовой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Петров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Рисунок 1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Рисунок 17" descr=""/>
          <p:cNvPicPr/>
          <p:nvPr/>
        </p:nvPicPr>
        <p:blipFill>
          <a:blip r:embed="rId1"/>
          <a:stretch/>
        </p:blipFill>
        <p:spPr>
          <a:xfrm>
            <a:off x="0" y="-123840"/>
            <a:ext cx="990612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2:00:53Z</dcterms:created>
  <dc:creator>User</dc:creator>
  <dc:description/>
  <dc:language>en-US</dc:language>
  <cp:lastModifiedBy>User</cp:lastModifiedBy>
  <dcterms:modified xsi:type="dcterms:W3CDTF">2015-04-30T03:54:33Z</dcterms:modified>
  <cp:revision>33</cp:revision>
  <dc:subject/>
  <dc:title>Слайд 1</dc:title>
</cp:coreProperties>
</file>