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E2C2-73A6-4240-8702-A50E4099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4D1-EFA1-40D7-ADBF-8B65DD6C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F13E-CA13-4505-88DB-9F905299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DB1-C86E-4E87-AA1E-826371E1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FAE4-B4A0-426A-A889-B0BAB893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96C-B394-439A-82BD-7C1220D6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ED5C-1F35-430D-8C27-6F48002D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EB32-96BE-4D54-9A69-C22E844D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69AF-9EAB-421A-82F6-C732FE12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6B6B-648C-4A23-B55B-2CA0291E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7174-E154-4AA3-AD29-19FDBDEF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B08C-20E3-4F4A-BBE6-1789BD1F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5089-0905-4DE9-8123-296125F86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од воинской славы - Малгоб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нгиева 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-ца 2а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Малгобек - город воинской славы (Малгобек, Россия)"/>
          <p:cNvPicPr/>
          <p:nvPr/>
        </p:nvPicPr>
        <p:blipFill>
          <a:blip r:embed="rId1"/>
          <a:stretch/>
        </p:blipFill>
        <p:spPr>
          <a:xfrm>
            <a:off x="0" y="0"/>
            <a:ext cx="85726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  мужество, стойкость и массовый героизм Указом Президента Российской Федерации 8 октября 2007 года Малгобеку присвоено почетное звание «Город воинской славы»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Реферат Малгобек"/>
          <p:cNvPicPr/>
          <p:nvPr/>
        </p:nvPicPr>
        <p:blipFill>
          <a:blip r:embed="rId1"/>
          <a:stretch/>
        </p:blipFill>
        <p:spPr>
          <a:xfrm>
            <a:off x="2190600" y="2271600"/>
            <a:ext cx="47628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ременные улицы и скверы  Малгоб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14680" y="196200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57150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image101610044.jpg (599×387)"/>
          <p:cNvPicPr/>
          <p:nvPr/>
        </p:nvPicPr>
        <p:blipFill>
          <a:blip r:embed="rId1"/>
          <a:stretch/>
        </p:blipFill>
        <p:spPr>
          <a:xfrm>
            <a:off x="1828800" y="685800"/>
            <a:ext cx="570564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од Малгобек расположен в Предкавказье, в 30-е гды возник на южном склоне Терского хребт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Малгоб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ется вторым по территории населённым пунктом Республики Ингушетии, здесь проживает более 48 тыс. человек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розные годы Великой      Отечественной войны нефтяники Малгобека работали с особым энтузиаз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месте с жителями Малгобека, прифронтовых сел Сагопши, Инарки, Пседах они принимали активное участие в создании оборонительных сооружений в начале 1942 года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начала Великой Отечественной войны многие малгобекчане ушли на фронт защищать Родину, а оставшиеся жители – труженики тыла круглосуточно работали на нужды фронта, добывали нефть, очень нужную для обороны стран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аг стремительно продвигался к Кавказу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штабах нашей армии велась напряжённая работа по составлению планов обороны нефтяных районов Кавказа от приближающегося противника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том 1942 года германские войска в ходе ожесточенных боев подошли к нефтяным районам Чечено-Ингушетии у города Малгобек.  Более четырёх месяцев длились ожесточённые бои под Малгобеком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ход Малгобекской оборонительной операции оказал очень серьезное влияние на результаты боевых действий на всем Закавказском фронте. В этой операции наши войска нанесли поражение первой танковой армии и сорвали план гитлеровского командования по захвату Грозненского и Бакинского нефтяных район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4392720" y="310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жно отметить и то, что в Малгобеке добывалась высококачественная нефть – одна из лучших в СССР, и она шла исключительно на производство топлива для самолётов. Вот поэтому-то враг и рвался к Малгобек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гобек, а затем Грозный с его богатыми залежами нефти, а следом Баку с неисчерпаемыми запасами – всё это делало Кавказ для гитлеровской Германии жизненно необходимой ему территорией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нно нефтяной фактор придаёт главному направлению вражеского удара в 1942 году Малгобек – Грозный – Баку такое исключительно важное стратегическое значение во всей битве за Кавказ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ыдержка из БСЭ, 1954 г.) «…в ходе Малгобекской оборонительной операции войска Закавказского фронта активной и упорной борьбой не только сорвали захватнические планы врага на Кавказе, но и не позволили ему осуществить переброску сил с Кавказа под Сталинград, что явилось одним из условий для последующего полного разгрома немецко-фашистских войск в Сталинградской битве»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января 1943 г. – освобождение г. Малгобек от немецко-фашистских войск. Эти дни навсегда вошли в историю города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глубоким уважением вспоминают малгобекчане имена тех, кто сражался за наш город, за нефтяные промыс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вшим защитникам Малгобека В.А.Этушу, В.И.Филиппову, М.В.Владимову, Л.Г.Цирульникову, П.В.Карпунину, П.С.Бецкому, М.Г.Зеленюк, И.М.Лапшову присвоено звание «Почётный гражданин г.Малгобек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  мужество, стойкость и массовый героизм Указом Президента Российской Федерации 8 октября 2007 года Малгобеку присвоено почетное звание «Город воинской славы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вязи с этим знаменательным событием 9 мая 2010 года состоялось торжественное открытие стелы в сквере Воинской славы города Малгобек. В канун празднования 65-летия Великой Победы в ВО войны (1945-2010гг), произведена реконструкция городского сквера.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9 памятников, стел и обелисков на братских могилах, памятные исторические места напоминают о героическом прошлом г. Малгобе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них памятник – мемориал   «Защитникам Малгобека» с захоронениями советских воинов  (800чел.)  в городском парке им. Серго Орджоникидз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ядом расположен музей боевой и трудовой славы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городском сквере  «Воинской славы» находятся: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ник с именами погибших малгобекчан в годы ВО войны, с вечным огнем (реставрированный в апреле 2010г.)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ла в честь присвоения Малгобеку  почетного звания «Город воинской славы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мориальная доска: герои России.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ный знак «Труженикам тыла  в годы ВО войны (1941-1945гг.)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огие улицы города носят имена героев – прославленных ветеранов Великой Отечественной войны – защитников Малгобека.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Информационная Россия ВКонтакте"/>
          <p:cNvPicPr/>
          <p:nvPr/>
        </p:nvPicPr>
        <p:blipFill>
          <a:blip r:embed="rId1"/>
          <a:stretch/>
        </p:blipFill>
        <p:spPr>
          <a:xfrm>
            <a:off x="152280" y="609480"/>
            <a:ext cx="85726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Малгобек в Великой Отечественной войне - Светлана Леонидовна…"/>
          <p:cNvPicPr/>
          <p:nvPr/>
        </p:nvPicPr>
        <p:blipFill>
          <a:blip r:embed="rId1"/>
          <a:stretch/>
        </p:blipFill>
        <p:spPr>
          <a:xfrm>
            <a:off x="990720" y="914400"/>
            <a:ext cx="6667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11:29:51Z</dcterms:created>
  <dc:creator>Гемодиализ</dc:creator>
  <dc:description/>
  <dc:language>en-US</dc:language>
  <cp:lastModifiedBy>OAA</cp:lastModifiedBy>
  <dcterms:modified xsi:type="dcterms:W3CDTF">2015-04-27T13:18:2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