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1CA-C0DC-4515-9744-F03790B1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5B1-C886-4CF2-904D-58463065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016-7B6B-4C8E-8DA3-0B87B906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837-6945-407A-933D-8DE96B89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BAC-DA92-4946-A579-2AB51DC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2EA-80DF-40A7-B6E2-371C7DA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E99-21BE-475F-813C-E05999C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C46-CB3F-409D-B704-ACA20F27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641-9D36-4074-AA63-F01EAC28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A70-A421-4D63-A6F7-9B5428E7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1F4-BB92-4EA7-95B0-9E0443F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82C-8C87-4994-A87A-55B04BF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D26-5E02-4C66-A62A-FFF6C77B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 воинской славы - Малгоб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гиева 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-ца 2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Малгобек - город воинской славы (Малгобек, Россия)"/>
          <p:cNvPicPr/>
          <p:nvPr/>
        </p:nvPicPr>
        <p:blipFill>
          <a:blip r:embed="rId1"/>
          <a:stretch/>
        </p:blipFill>
        <p:spPr>
          <a:xfrm>
            <a:off x="0" y="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  мужество, стойкость и массовый героизм Указом Президента Российской Федерации 8 октября 2007 года Малгобеку присвоено почетное звание «Город воинской славы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Реферат Малгобек"/>
          <p:cNvPicPr/>
          <p:nvPr/>
        </p:nvPicPr>
        <p:blipFill>
          <a:blip r:embed="rId1"/>
          <a:stretch/>
        </p:blipFill>
        <p:spPr>
          <a:xfrm>
            <a:off x="2190600" y="2271600"/>
            <a:ext cx="4762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 улицы и скверы  Малгоб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14680" y="19620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mage101610044.jpg (599×387)"/>
          <p:cNvPicPr/>
          <p:nvPr/>
        </p:nvPicPr>
        <p:blipFill>
          <a:blip r:embed="rId1"/>
          <a:stretch/>
        </p:blipFill>
        <p:spPr>
          <a:xfrm>
            <a:off x="1828800" y="685800"/>
            <a:ext cx="57056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Малгобек расположен в Предкавказье, в 30-е гды возник на южном склоне Терского хреб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Малгоб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вторым по территории населённым пунктом Республики Ингушетии, здесь проживает более 48 тыс. человек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розные годы Великой      Отечественной войны нефтяники Малгобека работали с особым энтузиа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с жителями Малгобека, прифронтовых сел Сагопши, Инарки, Пседах они принимали активное участие в создании оборонительных сооружений в начале 1942 года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начала Великой Отечественной войны многие малгобекчане ушли на фронт защищать Родину, а оставшиеся жители – труженики тыла круглосуточно работали на нужды фронта, добывали нефть, очень нужную для обороны ст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аг стремительно продвигался к Кавказу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штабах нашей армии велась напряжённая работа по составлению планов обороны нефтяных районов Кавказа от приближающегося противник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том 1942 года германские войска в ходе ожесточенных боев подошли к нефтяным районам Чечено-Ингушетии у города Малгобек.  Более четырёх месяцев длились ожесточённые бои под Малгобеком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 Малгобекской оборонительной операции оказал очень серьезное влияние на результаты боевых действий на всем Закавказском фронте. В этой операции наши войска нанесли поражение первой танковой армии и сорвали план гитлеровского командования по захвату Грозненского и Бакинского нефтяных район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39272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 отметить и то, что в Малгобеке добывалась высококачественная нефть – одна из лучших в СССР, и она шла исключительно на производство топлива для самолётов. Вот поэтому-то враг и рвался к Малгобек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гобек, а затем Грозный с его богатыми залежами нефти, а следом Баку с неисчерпаемыми запасами – всё это делало Кавказ для гитлеровской Германии жизненно необходимой ему территорией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но нефтяной фактор придаёт главному направлению вражеского удара в 1942 году Малгобек – Грозный – Баку такое исключительно важное стратегическое значение во всей битве за Кавк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держка из БСЭ, 1954 г.) «…в ходе Малгобекской оборонительной операции войска Закавказского фронта активной и упорной борьбой не только сорвали захватнические планы врага на Кавказе, но и не позволили ему осуществить переброску сил с Кавказа под Сталинград, что явилось одним из условий для последующего полного разгрома немецко-фашистских войск в Сталинградской битве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января 1943 г. – освобождение г. Малгобек от немецко-фашистских войск. Эти дни навсегда вошли в историю город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глубоким уважением вспоминают малгобекчане имена тех, кто сражался за наш город, за нефтяные промыс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вшим защитникам Малгобека В.А.Этушу, В.И.Филиппову, М.В.Владимову, Л.Г.Цирульникову, П.В.Карпунину, П.С.Бецкому, М.Г.Зеленюк, И.М.Лапшову присвоено звание «Почётный гражданин г.Малгобек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  мужество, стойкость и массовый героизм Указом Президента Российской Федерации 8 октября 2007 года Малгобеку присвоено почетное звание «Город воинской слав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вязи с этим знаменательным событием 9 мая 2010 года состоялось торжественное открытие стелы в сквере Воинской славы города Малгобек. В канун празднования 65-летия Великой Победы в ВО войны (1945-2010гг), произведена реконструкция городского сквера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памятников, стел и обелисков на братских могилах, памятные исторические места напоминают о героическом прошлом г. Малгобе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них памятник – мемориал   «Защитникам Малгобека» с захоронениями советских воинов  (800чел.)  в городском парке им. Серго Орджоникидз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ом расположен музей боевой и трудовой слав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родском сквере  «Воинской славы» находятся: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ик с именами погибших малгобекчан в годы ВО войны, с вечным огнем (реставрированный в апреле 2010г.)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а в честь присвоения Малгобеку  почетного звания «Город воинской славы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мориальная доска: герои Росси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ный знак «Труженикам тыла  в годы ВО войны (1941-1945гг.)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улицы города носят имена героев – прославленных ветеранов Великой Отечественной войны – защитников Малгобека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Информационная Россия ВКонтакте"/>
          <p:cNvPicPr/>
          <p:nvPr/>
        </p:nvPicPr>
        <p:blipFill>
          <a:blip r:embed="rId1"/>
          <a:stretch/>
        </p:blipFill>
        <p:spPr>
          <a:xfrm>
            <a:off x="152280" y="609480"/>
            <a:ext cx="8572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Малгобек в Великой Отечественной войне - Светлана Леонидовна…"/>
          <p:cNvPicPr/>
          <p:nvPr/>
        </p:nvPicPr>
        <p:blipFill>
          <a:blip r:embed="rId1"/>
          <a:stretch/>
        </p:blipFill>
        <p:spPr>
          <a:xfrm>
            <a:off x="990720" y="914400"/>
            <a:ext cx="6667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1:29:51Z</dcterms:created>
  <dc:creator>Гемодиализ</dc:creator>
  <dc:description/>
  <dc:language>en-US</dc:language>
  <cp:lastModifiedBy>OAA</cp:lastModifiedBy>
  <dcterms:modified xsi:type="dcterms:W3CDTF">2015-04-27T13:18:2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