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4ED-FC41-46EF-97F0-929A6898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353-526C-418D-8CFA-2FF96869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5FD-3AC3-4FBB-874A-261C4EF4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755-9DD7-48F7-B233-11DB6176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9851-735B-4911-8702-B7A216EE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EA0-8C03-40A9-9145-7665EE7D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A1C-C56A-41E0-AF27-C1D1112C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F039-9B85-4231-9E1D-5F189CF9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CE8-F4FA-43D1-BD5E-76F5F56A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1AF-854D-4A53-8052-FB89F52A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491-34DA-491A-86EC-9E0F7523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4354-6C3C-4474-B3C0-D577F7D4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A404-4EF9-42BF-8E93-DBEE89EED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Мой прадедушка </a:t>
            </a:r>
            <a:br>
              <a:rPr sz="3600"/>
            </a:b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Целиков </a:t>
            </a:r>
            <a:br>
              <a:rPr sz="3600"/>
            </a:b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Николай Григорь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00600" y="5105160"/>
            <a:ext cx="4038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ила ученица 5б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БОУ СОШ «Центр образования» пос. Варламово м.р. Сызранский Сама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аранова М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Военный биле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67816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Целиков Николай Григо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(1916-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Старш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то 1945года. Гер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3352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Биограф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 рождения село Кузькино Шигон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йбышевской области. Образование 4 класса Осно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жданская специальность– шоф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ван на действительную военную службу 20 октября 19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937 года по 1940 – служил в 18 танковой бриг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ван по мобилизации Шигонским РВК в июне 1942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42- стрелковая дивизия, с октября 1942 по июнь 1943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5 стрелковая дивизия (старшина саперной ро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июня 1943 по май1946 – 218 стрелковая дивизия (стар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офер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овал  в боях на территории Чехословакии, Польш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мании. Дошел до Бер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Орден Красной звез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гражден 14.09.194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алете крупных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иации против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асал хозя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тальона, своеврем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ставлял проду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тания на передов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нию фрон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дохновлял бойцов сво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а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32767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Медаль «За отваг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гражден 09.12.19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ноября 1943 года обоз поп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 лобовой обстр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ртиллерийского,  пулемет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гня и окружения тан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ивника. Он не ушел с ли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гня до тех пор, пока не выв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подводы из- под обстр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когда последняя под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азалась без ездов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дедушка под шкв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гнем фашистов сам вывел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 доставил весь груз к ме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2043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Медаль за «Боевые заслуг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381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гражден 30.09.19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августе 194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 непрерыв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гнем против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евременно доставля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ередн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бходимый материал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укты питания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йцов сап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221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Сандомирский плацдарм (Польш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21067200">
            <a:off x="684360" y="1287360"/>
            <a:ext cx="4116240" cy="3745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 rot="752400">
            <a:off x="3886200" y="2666520"/>
            <a:ext cx="487692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9T07:57:11Z</dcterms:created>
  <dc:creator>Библиотека</dc:creator>
  <dc:description/>
  <dc:language>en-US</dc:language>
  <cp:lastModifiedBy>М.видео</cp:lastModifiedBy>
  <dcterms:modified xsi:type="dcterms:W3CDTF">2015-04-30T14:24:3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