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FBC-99AF-4DAB-B658-277B851D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79F-CE6E-40C8-B220-7208ECB8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1EC-7F32-4A5E-B569-DEA6E45D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472-8BCD-40C3-826C-938D373A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9C76-B5DE-4A8D-A530-9146E203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356F-797A-42F3-9FB3-935CE748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49DB-F06C-4A0E-9C34-0E4B5C52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CE48-1B5D-452B-B91D-1B9C33EB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23C5-F630-4050-890C-38B15CE4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DB53-0377-4FA6-9D45-E06F2065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7C41-7290-4EAD-A0ED-8C81D47D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4A0-0A07-40D4-90B0-3C219CC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CBB8-9346-4539-B881-90FA64A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C941-2397-4AE6-A114-44EAA05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38EF-A419-4517-B5B5-6FD91171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209B-76B4-4507-A403-0C6D3B54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D793-22AF-4033-BEC7-D8F07901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524A-0227-40D3-BCCE-8E349CA9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4A92-EBD7-467D-A57E-E73452F4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0EA9-805A-496C-961B-C5E89EE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513B-603D-4C88-A8E0-AF0DF1A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2F74-6F84-4872-9919-2C322C6F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38A-CFD5-4A53-941A-F4462156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2E16-0663-4450-B8AD-1D76831B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BCF9-D35A-4783-9BC2-EE253A7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2D8D-77AA-4505-A70A-2108E02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602B-19D2-4A62-991A-274573B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2733-FFA3-44B4-BF47-DF685A01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4668-5B19-42CA-839A-6F234B06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5230-010E-4066-A029-43D6EA28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B39A-2169-4E75-AD0F-D6376D9A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231D-4B47-41C6-AF67-5710A7E4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05706-F7CD-4CCB-8BE0-710C1784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421-5B65-470B-9CA1-5FA5710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C8DD-22BB-4B07-BE69-DF3178E9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641F-E720-4218-A822-825D3A88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EABE-A299-45C2-94CE-D7544CED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FE81-2B4D-49E9-8670-6B5CFCFC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CD57-80E5-488C-BBA2-C96A51B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781E-D3FD-474E-BC23-D3A0A05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A77D-A78F-456E-8D75-2DF2DAD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1E69-494E-446D-8A25-E53133B4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2183-C65B-4955-AC2B-F34D7F1E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A35C-F1B5-4E43-80B5-F70ABBA4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085-4EEF-4FD0-81F2-D89124F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57828-0F8F-4298-BBA0-5BCF07CA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63F5-9154-44F2-8841-8806E189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B25E-7A2A-4229-9EFF-B8A3268A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E14A-FC73-4BE2-92AD-E4027AA2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6A4B-A315-4181-86F5-C14DAF4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CF8C-6385-40A1-8F96-76D612B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1E73-3866-49F1-B469-C99B745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92C6-FF1E-4E73-A3FC-B1FAF3D2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39D8-A2AC-4E43-A7E3-D5AA31A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1C4D4-D766-41A1-A79F-24B854DD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F4E-0C11-4A70-9A14-D4E319C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685B-1CEA-47BD-86CF-079293B2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69682-BDAC-4779-ACC3-D8AE90FE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7676-53B7-4BBC-B9CD-FE019FC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B3629-80D6-411C-8D50-5FEFE561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CFFD-773D-4476-AE8B-F4ECE32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B138-6939-45C4-8D0F-2D0DB51B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E5FA-7B11-4BD9-830E-A459BD4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7C7A-D121-4731-9862-8E7CBE5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ABB7-1408-45D0-BBBC-2E26717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04894-D7BD-4B1E-B5D9-116F887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D44-07BA-4567-B902-4832E7D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11B0C-74FF-4F5A-B128-71F4D08B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EF66D-2C53-4FCA-B5CE-6B706221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59667-82CF-47F0-8F1F-A4D993F4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F7D7F-8C7E-48E8-B74B-B8ABBCA2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917AB-3FAA-41FD-A553-E8F347D2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F80F-57F4-45E8-8ED7-CDBBC8A6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1FC23-26F7-469D-9805-C123E4CC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7866E-8BCB-45E8-9563-DCDD829B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FBF4D-3130-4E46-985A-10B588D9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C0B26-1BAD-43A1-B794-96F24039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256-0020-4704-9C89-A4E9122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CFDEC-A9FD-4577-8093-58BA2E2D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21A5-8E25-4121-9294-73538769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6531-63DB-4E45-8DCD-EAD06D54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54ECD-1015-4E1F-AC53-7D104CEC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EBAC-AFEF-41EF-A95C-FC08478D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5BD-C038-4F13-8DF9-69F5AACB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6577-F1D7-4A4D-9F65-C767E0C2A77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BB03-0C5E-469B-9FD5-FE70E68542E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9350-3C42-4FE1-B1FA-D927F43D052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DDC5-A7D5-482F-A3DC-AC3F3BE3652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9F88-478E-4984-92BF-C62BDF7697F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6198-F6DF-4F1C-970C-B92DB12B538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4A06-0522-416F-96AE-2C13E2CE982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http://glodealer.com/sites/default/files/sale/1-6/skidki-Kingisepp-137025750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МОУ &quot;СОШ 40 С УГЛУБЛЕННЫМ ИЗУЧЕНИЕМ ОТДЕЛЬНЫХ ПР... - Образование - Презентации онлайн - PPTonline.ru"/>
          <p:cNvPicPr/>
          <p:nvPr/>
        </p:nvPicPr>
        <p:blipFill>
          <a:blip r:embed="rId2"/>
          <a:stretch/>
        </p:blipFill>
        <p:spPr>
          <a:xfrm>
            <a:off x="4214880" y="292896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1eeff"/>
                </a:solidFill>
                <a:uFillTx/>
                <a:latin typeface="Verdana"/>
              </a:rPr>
              <a:t>Я тебя люблю </a:t>
            </a:r>
            <a:br>
              <a:rPr sz="4000"/>
            </a:br>
            <a:r>
              <a:rPr b="1" i="1" lang="ru-RU" sz="4000" spc="-1" strike="noStrike" u="sng">
                <a:solidFill>
                  <a:srgbClr val="c1eeff"/>
                </a:solidFill>
                <a:uFillTx/>
                <a:latin typeface="Verdana"/>
              </a:rPr>
              <a:t>           мой класс!!! </a:t>
            </a:r>
            <a:br>
              <a:rPr sz="4000"/>
            </a:br>
            <a:r>
              <a:rPr b="1" i="1" lang="ru-RU" sz="4000" spc="-1" strike="noStrike" u="sng">
                <a:solidFill>
                  <a:srgbClr val="c1eeff"/>
                </a:solidFill>
                <a:uFillTx/>
                <a:latin typeface="Verdana"/>
              </a:rPr>
              <a:t>     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84" name="Picture 2" descr="Привет Пипл. - Анекдоты про школу."/>
          <p:cNvPicPr/>
          <p:nvPr/>
        </p:nvPicPr>
        <p:blipFill>
          <a:blip r:embed="rId1"/>
          <a:stretch/>
        </p:blipFill>
        <p:spPr>
          <a:xfrm>
            <a:off x="2714760" y="2000160"/>
            <a:ext cx="60958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14800" y="5000760"/>
            <a:ext cx="5718240" cy="13809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у выполнила ученица 5 «в» класс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лкова Дарья                                               Преподаватель  Ольга Михайлов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43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Verdana"/>
              </a:rPr>
              <a:t>«О нас и о нашем классе»</a:t>
            </a:r>
            <a:endParaRPr b="0" lang="en-US" sz="38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72" name="Picture 4" descr="Презентация класса в стихах универсальные формы"/>
          <p:cNvPicPr/>
          <p:nvPr/>
        </p:nvPicPr>
        <p:blipFill>
          <a:blip r:embed="rId1"/>
          <a:stretch/>
        </p:blipFill>
        <p:spPr>
          <a:xfrm>
            <a:off x="1214280" y="1071720"/>
            <a:ext cx="464364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777240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Жил да был 5 класс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Может слышали про нас?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Это Маша, это Люба,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     это Коля, и Пашок …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Сразу всех не сосчитать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Мы умеем рисовать.</a:t>
            </a:r>
            <a:br>
              <a:rPr sz="4000"/>
            </a:br>
            <a:r>
              <a:rPr b="0" lang="ru-RU" sz="3600" spc="-1" strike="noStrike">
                <a:solidFill>
                  <a:srgbClr val="c1eeff"/>
                </a:solidFill>
                <a:latin typeface="Verdana"/>
              </a:rPr>
              <a:t>Любим мы играть , учиться </a:t>
            </a:r>
            <a:br>
              <a:rPr sz="3600"/>
            </a:br>
            <a:r>
              <a:rPr b="0" lang="ru-RU" sz="3600" spc="-1" strike="noStrike">
                <a:solidFill>
                  <a:srgbClr val="c1eeff"/>
                </a:solidFill>
                <a:latin typeface="Verdana"/>
              </a:rPr>
              <a:t>И конечно побесится!!!!!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аш класс не самый большой в школе. Нас 25 человек . Все мы разные , и у каждого свои интересы, привычки, характер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И нас объединяет одно –мы одноклассники!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75" name="Picture 2" descr="День знаний"/>
          <p:cNvPicPr/>
          <p:nvPr/>
        </p:nvPicPr>
        <p:blipFill>
          <a:blip r:embed="rId1"/>
          <a:stretch/>
        </p:blipFill>
        <p:spPr>
          <a:xfrm>
            <a:off x="5715000" y="42148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Педагог от Бога."/>
          <p:cNvPicPr/>
          <p:nvPr/>
        </p:nvPicPr>
        <p:blipFill>
          <a:blip r:embed="rId1"/>
          <a:stretch/>
        </p:blipFill>
        <p:spPr>
          <a:xfrm>
            <a:off x="642960" y="214200"/>
            <a:ext cx="79786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ам весело на переменах! 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Мы иногда играем в шахматы, в шашки , бегаем ,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и просто разговариваем.</a:t>
            </a: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914040" y="3285720"/>
            <a:ext cx="6800760" cy="3070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www.region-tver.ru/www/news/2014/4/y28223245186_a.jpg"/>
          <p:cNvPicPr/>
          <p:nvPr/>
        </p:nvPicPr>
        <p:blipFill>
          <a:blip r:embed="rId2"/>
          <a:stretch/>
        </p:blipFill>
        <p:spPr>
          <a:xfrm>
            <a:off x="1428840" y="3029040"/>
            <a:ext cx="60008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Увлечений у нас много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екоторые мои одноклассники ходят в разные кружки: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танцы, рисование , спортивные секции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Так же в свободное время мы любим : играть в компьютерные игры , гулять на улице , читать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едавно некоторые ученики из нашего класса  ездили на квн. Наша команда называлась «Конкретно чистые!» Она была самой весёлой! 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     И мы занили 1 место!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 Я люблю свой класс!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Программа для скачивания файлов. В первую очередь оптимизирована под - 24 Ноября 2013 - Blog - Azikil"/>
          <p:cNvPicPr/>
          <p:nvPr/>
        </p:nvPicPr>
        <p:blipFill>
          <a:blip r:embed="rId1"/>
          <a:stretch/>
        </p:blipFill>
        <p:spPr>
          <a:xfrm>
            <a:off x="928800" y="177840"/>
            <a:ext cx="61434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6:37:17Z</dcterms:created>
  <dc:creator>sega</dc:creator>
  <dc:description/>
  <dc:language>en-US</dc:language>
  <cp:lastModifiedBy>Биология</cp:lastModifiedBy>
  <dcterms:modified xsi:type="dcterms:W3CDTF">2015-04-30T08:00:02Z</dcterms:modified>
  <cp:revision>10</cp:revision>
  <dc:subject/>
  <dc:title>Слайд 1</dc:title>
</cp:coreProperties>
</file>